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A09-8AFD-4D9D-A152-D1F395A0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D0E-647C-4B4E-9CFA-ED66F46A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FF8-EC97-476C-993D-3B1FD865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F08-7433-4FC1-AC1E-D2ADF522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AB1D-40C8-42D9-9BA7-E83A4B67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3061-81DB-4488-AD56-1E6403E8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DE7F-8EEE-4984-BD89-49E62BA4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3E02-2334-4F5F-8C95-6E2900C6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76C2-1393-4336-AA66-3D238AFD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1DBC-75A2-486B-9405-12E772ED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E39F-5B5A-42E0-A6B4-D3F14768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E3FE-CCCE-4841-9759-B26EDC29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B9E1-4384-444D-816D-52732FB7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E7A7-C543-4DF2-921A-B5A3DAAF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118B-5E2A-4979-B197-95F425B3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0109-9E04-4A1F-A7E5-CE62AB51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93B5-F176-4810-BD5D-4DC72F15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E4B2-DDF7-47FA-BA10-3F39B6FF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F90AE-271B-4654-8F3A-89ABF652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FDF66-BA0D-4713-B2B8-4857A42F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90FF-B68B-46F2-90D3-2AFE9682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86074-0A7E-49B9-BCFA-A29CF40C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125-8142-4002-BF4E-E9936E7F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4A3F5-2173-453E-88B2-DBF4C402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84AC-DFB8-4E39-BE56-ECAB8B9B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98D04-D594-4E34-BC04-2C71291E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61690-AD78-4031-BE2B-0C1A0A98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187DF-642D-475B-AA95-2EEF21DD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C8216-8D56-48DC-A786-158A6405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1D709-98B9-4D8B-99CA-1C78D0D1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B1D2D-5DC7-4C63-B89C-559384E5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9022F-7EB6-4D5D-A3B1-6F5A4159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BBC4D-E2B4-4000-BC15-6EE358A6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110-CF19-4A0B-A7EE-DFB15D7A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C971F-0A9A-41F4-A813-80D1A0BF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DEC77-583F-4910-B41E-1FFCDD0C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6AE74-A7A8-4CDA-9BA5-E897B3FC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160FE-AA2A-41F3-A8B0-66FD3103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CF88F-9CFC-4743-986A-309219DE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2E816-BA28-4504-A1F9-B4AAB61C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FD24F-910E-4103-BE38-C6D123DB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77F94-92E4-4ED0-A2A5-FA3FC2AD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90444-DB98-417B-B3C5-216DD3F2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82396-806A-49CB-BAFE-BA8B5B9E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837-DA1B-4D08-A271-B73D3848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EFAA8-080B-4C75-9F46-41E8F446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F812C-723F-4C3F-AD62-AF47A2C4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2BD06-6389-45DA-9692-C360BC29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04C95-FBFC-439E-AED9-F3211CF8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7A82A-293A-483C-AD59-EC5AE836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D73AD-C9A8-4539-AA7A-31B3C184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7B4D2-22AD-40C3-8BFD-F05BD298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78465-5C56-4491-B9BE-0DA76376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ABAC0-0539-454C-92D7-B12E53CB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FF7C4-95A3-4749-93B0-58CBA2B1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6FC-9B8B-4B9F-A9A4-28D88FF6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0F051-7FD5-4DCB-92B1-9A7AC4EF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326D2-1D19-4DA0-92F0-A381B754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46F5F-C375-4589-8A4D-688E970F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6F6ED-0B39-4519-A2C9-DDDCE99E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4961C-FDAD-4EEF-BBC6-3D085CE3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904FA-EC50-4B2C-A87D-30E50CA2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10ADC-D3A8-48E7-A323-CB3958AA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0B261-2E58-4A1F-8753-8AC7BCC6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009C5-6710-478C-992A-956330EA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FB6E0-3F98-4CCB-ABC9-01439CFA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C98-06CC-4F3A-BA6B-442FDD9B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78F43-1368-4B02-B62D-D3E49FE2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C4148-0D56-47DB-86B3-99DFF301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A0BBF-00AA-4B55-B2F6-82619E85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F7505-AAE6-44F7-8DC1-6A45262B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128A0-3BC5-419B-9EFE-E4DB16F0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5FC52-1AC7-485A-AF57-B05DFCAB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91C82-BE2A-428A-9066-AD72A58A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2B9B5-CA37-4A53-8168-2307FF1A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33031-D4BD-49AB-BC2A-EE4A0F34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AEE49-4DBA-4AD3-BB02-9A673114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813-7740-4137-B000-861851EC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13B1E-2C75-4C37-918F-6E556709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5F714-2BB2-4CC2-89FF-E1123B79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EBAE7-E045-4314-AECC-C43C6777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56B43-E10E-4ECC-AD3C-D849185B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98022-8FE4-4E62-A541-726E6D37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D6F55-3906-48C1-9241-75D0F80C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99FDA-8506-477B-A951-33A51A54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E8B7B-0279-4026-A007-9365832D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7B163-7D8D-4CE1-940B-CA11989B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08455-BC9E-4384-96A1-A6B9EC18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24E-B706-4905-9C79-634A7515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4F197-17DF-458D-864B-0620C869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72B41-236C-4332-8A8B-A554828E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E18DD-7375-4CF8-AED2-A7682E48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34CFB-36D9-41E9-9825-1737D59B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D665D-0719-4AAD-B8C0-91E914C4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174F0-5625-40B1-A46D-4A9345D9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B56E0-4FC1-455C-958B-28EB428D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51EE-7D26-4FFC-B037-2980DA9BE157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DC28-C5BF-495B-845A-8DFC1B78783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18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119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20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22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5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26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7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28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9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0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66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67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8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9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0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1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2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3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4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5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6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79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4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15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216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219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8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29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5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36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1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C11A-51BD-48C3-8458-06200003651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8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9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652C-A11A-47B3-8001-AC590A687D8C}" type="slidenum">
              <a:rPr b="0" lang="uk-U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B29D-C89E-48C4-AC69-E3CD0E730016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0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9EE8-9EAA-44D0-A4BF-A8E2CA953A1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480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481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482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484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7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488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89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490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91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492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3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4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5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6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0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1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2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3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4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5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6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7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0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1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2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4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5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6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1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2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3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4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5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6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7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28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529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0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1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2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3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4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5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6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7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8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9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0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41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7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8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9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0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1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2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3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4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5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6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7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8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9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0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1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2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3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4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5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6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7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8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9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0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1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2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3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4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5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6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77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578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80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581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90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591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7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598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custGeom>
                  <a:avLst/>
                  <a:gdLst>
                    <a:gd name="textAreaLeft" fmla="*/ 0 w 255960"/>
                    <a:gd name="textAreaRight" fmla="*/ 256320 w 2559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72800"/>
                    <a:gd name="textAreaBottom" fmla="*/ 172800 h 17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9F05-E746-4369-A68F-289A1FB9981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4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5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0864-AD03-4E16-BDC6-91164453E4A4}" type="slidenum">
              <a:rPr b="0" lang="uk-U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26920" y="4581360"/>
            <a:ext cx="7772400" cy="1470240"/>
          </a:xfrm>
          <a:prstGeom prst="rect">
            <a:avLst/>
          </a:prstGeom>
          <a:gradFill rotWithShape="0">
            <a:gsLst>
              <a:gs pos="0">
                <a:srgbClr val="5e1800"/>
              </a:gs>
              <a:gs pos="50000">
                <a:srgbClr val="cc3300"/>
              </a:gs>
              <a:gs pos="100000">
                <a:srgbClr val="5e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dfd293"/>
                </a:solidFill>
                <a:latin typeface="Arial"/>
              </a:rPr>
              <a:t>ПІДГОТУВАЛИ </a:t>
            </a:r>
            <a:br>
              <a:rPr sz="4000"/>
            </a:br>
            <a:r>
              <a:rPr b="0" lang="uk-UA" sz="4000" spc="-1" strike="noStrike">
                <a:solidFill>
                  <a:srgbClr val="dfd293"/>
                </a:solidFill>
                <a:latin typeface="Arial"/>
              </a:rPr>
              <a:t>УЧНІ 11 КЛАСУ</a:t>
            </a:r>
            <a:br>
              <a:rPr sz="4000"/>
            </a:br>
            <a:r>
              <a:rPr b="0" lang="uk-UA" sz="4000" spc="-1" strike="noStrike">
                <a:solidFill>
                  <a:srgbClr val="dfd293"/>
                </a:solidFill>
                <a:latin typeface="Arial"/>
              </a:rPr>
              <a:t>СТІЛЬСЬКОГО НВК</a:t>
            </a:r>
            <a:br>
              <a:rPr sz="4000"/>
            </a:br>
            <a:r>
              <a:rPr b="0" lang="uk-UA" sz="2000" spc="-1" strike="noStrike">
                <a:solidFill>
                  <a:srgbClr val="dfd293"/>
                </a:solidFill>
                <a:latin typeface="Arial"/>
              </a:rPr>
              <a:t>КЕРІВНИК ГРУПИ ВЧ. ФІЗИКИ МИХАЙЛИШИН С.С.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1258920" y="177300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ТЕПЕР Я ЗНАЮ 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ЯК ВИГЛЯДА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АТ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WordArt 4"/>
          <p:cNvSpPr txBox="1"/>
          <p:nvPr/>
        </p:nvSpPr>
        <p:spPr>
          <a:xfrm>
            <a:off x="611280" y="260280"/>
            <a:ext cx="7848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ІЯ НАУКОВОГО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ЕКТ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7" name="WordArt 5"/>
          <p:cNvSpPr txBox="1"/>
          <p:nvPr/>
        </p:nvSpPr>
        <p:spPr>
          <a:xfrm>
            <a:off x="4643280" y="3716280"/>
            <a:ext cx="385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РНЕСТ  РЕЗЕРФОРД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6600"/>
                </a:solidFill>
                <a:latin typeface="Arial"/>
              </a:rPr>
              <a:t>ТЕПЕР Я ЗНАЮ ,</a:t>
            </a:r>
            <a:br>
              <a:rPr sz="4000"/>
            </a:br>
            <a:r>
              <a:rPr b="1" lang="uk-UA" sz="4000" spc="-1" strike="noStrike">
                <a:solidFill>
                  <a:srgbClr val="ff6600"/>
                </a:solidFill>
                <a:latin typeface="Arial"/>
              </a:rPr>
              <a:t>ЯК ВИГЛЯДАЄ АТОМ 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4" name="WordArt 4"/>
          <p:cNvSpPr txBox="1"/>
          <p:nvPr/>
        </p:nvSpPr>
        <p:spPr>
          <a:xfrm>
            <a:off x="2268360" y="1557360"/>
            <a:ext cx="482472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РНЕСТ  РЕЗЕРФОРД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5" name="Picture 5" descr="82507AB6"/>
          <p:cNvPicPr/>
          <p:nvPr/>
        </p:nvPicPr>
        <p:blipFill>
          <a:blip r:embed="rId1"/>
          <a:stretch/>
        </p:blipFill>
        <p:spPr>
          <a:xfrm>
            <a:off x="4716360" y="2565360"/>
            <a:ext cx="3600720" cy="3095640"/>
          </a:xfrm>
          <a:prstGeom prst="rect">
            <a:avLst/>
          </a:prstGeom>
          <a:ln w="0">
            <a:noFill/>
          </a:ln>
        </p:spPr>
      </p:pic>
      <p:sp>
        <p:nvSpPr>
          <p:cNvPr id="756" name="WordArt 6"/>
          <p:cNvSpPr txBox="1"/>
          <p:nvPr/>
        </p:nvSpPr>
        <p:spPr>
          <a:xfrm>
            <a:off x="1123920" y="3170160"/>
            <a:ext cx="337680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АНЕТАРНА МОД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АЛЬФА- ЧАСТИНКИ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ВИРІШИЛИ ПРОБЛЕМУ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БУДОВИ АТОМ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758" name="Picture 4" descr="AD8598B0"/>
          <p:cNvPicPr/>
          <p:nvPr/>
        </p:nvPicPr>
        <p:blipFill>
          <a:blip r:embed="rId1"/>
          <a:srcRect l="0" t="0" r="-48" b="0"/>
          <a:stretch/>
        </p:blipFill>
        <p:spPr>
          <a:xfrm>
            <a:off x="1768320" y="2492280"/>
            <a:ext cx="5607360" cy="2521080"/>
          </a:xfrm>
          <a:prstGeom prst="rect">
            <a:avLst/>
          </a:prstGeom>
          <a:ln w="0">
            <a:noFill/>
          </a:ln>
        </p:spPr>
      </p:pic>
      <p:sp>
        <p:nvSpPr>
          <p:cNvPr id="759" name="WordArt 5"/>
          <p:cNvSpPr txBox="1"/>
          <p:nvPr/>
        </p:nvSpPr>
        <p:spPr>
          <a:xfrm>
            <a:off x="2268360" y="5143680"/>
            <a:ext cx="514368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СЛІД НАЙКРАЩ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КСПЕРИМЕНТАТОРА В СВІТІ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bbd71"/>
                </a:solidFill>
                <a:latin typeface="Arial"/>
              </a:rPr>
              <a:t>ПРОБЛЕМА ВИРІШЕНА 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gradFill rotWithShape="0">
            <a:gsLst>
              <a:gs pos="0">
                <a:srgbClr val="f8a500"/>
              </a:gs>
              <a:gs pos="100000">
                <a:srgbClr val="734c00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АТОМ СКЛАДАЄТЬСЯ З </a:t>
            </a: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ПОЗИТИВНОГО ЯДРА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, РОЗМІРИ ЯКОГО НАБАГАТО МЕНШІ ЗА РОЗМІРИ АТО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НАВКОЛО ЯДРА РУХАЮТЬСЯ </a:t>
            </a:r>
            <a:r>
              <a:rPr b="0" lang="uk-UA" sz="2400" spc="-1" strike="noStrike">
                <a:solidFill>
                  <a:srgbClr val="ff0066"/>
                </a:solidFill>
                <a:latin typeface="Tahoma"/>
              </a:rPr>
              <a:t>ЕЛЕКТРОНИ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, УТВОРЮЮЧИ ЕЛЕКТРОННУ ОБОЛОНКУ АТОМ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АРЯД ЯДРА ДОРІВНЮЄ ЗА ЗНАЧЕННЯМ СУМАРН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АРЯДУ ВСІХ ЕЛЕКТРОНІ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У ЯДРІ ЗОСЕРЕДЖЕНА МАЙЖЕ ВСЯ МАСА АТ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(99,95 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66"/>
                </a:solidFill>
                <a:latin typeface="Tahoma"/>
              </a:rPr>
              <a:t>ЕЛЕКТРОНИ РУХАЮТЬСЯ НАВКОЛО ЯДРА ТА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66"/>
                </a:solidFill>
                <a:latin typeface="Tahoma"/>
              </a:rPr>
              <a:t>САМО,ЯК І ПЛАНЕТИ НАВКОЛО СОНЦЯ 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2" name="Picture 4" descr="9AF08862"/>
          <p:cNvPicPr/>
          <p:nvPr/>
        </p:nvPicPr>
        <p:blipFill>
          <a:blip r:embed="rId2"/>
          <a:srcRect l="0" t="0" r="91" b="-1056"/>
          <a:stretch/>
        </p:blipFill>
        <p:spPr>
          <a:xfrm>
            <a:off x="6912000" y="5013360"/>
            <a:ext cx="2232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fd293"/>
                </a:solidFill>
                <a:latin typeface="Arial"/>
              </a:rPr>
              <a:t>СВІТ НЕВПІЗНАННИЙ …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pSp>
        <p:nvGrpSpPr>
          <p:cNvPr id="764" name="Diagram 5"/>
          <p:cNvGrpSpPr/>
          <p:nvPr/>
        </p:nvGrpSpPr>
        <p:grpSpPr>
          <a:xfrm>
            <a:off x="2643120" y="1935000"/>
            <a:ext cx="3858840" cy="3858840"/>
            <a:chOff x="2643120" y="1935000"/>
            <a:chExt cx="3858840" cy="3858840"/>
          </a:xfrm>
        </p:grpSpPr>
        <p:sp>
          <p:nvSpPr>
            <p:cNvPr id="765" name="_s1028"/>
            <p:cNvSpPr/>
            <p:nvPr/>
          </p:nvSpPr>
          <p:spPr>
            <a:xfrm>
              <a:off x="3260880" y="1935000"/>
              <a:ext cx="2624040" cy="262368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3680"/>
                <a:gd name="textAreaBottom" fmla="*/ 2624040 h 262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_s1029"/>
            <p:cNvSpPr/>
            <p:nvPr/>
          </p:nvSpPr>
          <p:spPr>
            <a:xfrm rot="5400000">
              <a:off x="3877920" y="2552040"/>
              <a:ext cx="2624040" cy="262404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4040"/>
                <a:gd name="textAreaBottom" fmla="*/ 2624400 h 26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_s1030"/>
            <p:cNvSpPr/>
            <p:nvPr/>
          </p:nvSpPr>
          <p:spPr>
            <a:xfrm rot="10800000">
              <a:off x="3260520" y="3170160"/>
              <a:ext cx="2624040" cy="262368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3680"/>
                <a:gd name="textAreaBottom" fmla="*/ 2624040 h 262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_s1031"/>
            <p:cNvSpPr/>
            <p:nvPr/>
          </p:nvSpPr>
          <p:spPr>
            <a:xfrm rot="16200000">
              <a:off x="2643120" y="2552040"/>
              <a:ext cx="2624040" cy="262404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4040"/>
                <a:gd name="textAreaBottom" fmla="*/ 2624400 h 26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_s1032"/>
            <p:cNvSpPr/>
            <p:nvPr/>
          </p:nvSpPr>
          <p:spPr>
            <a:xfrm>
              <a:off x="5270400" y="2176200"/>
              <a:ext cx="98928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АТО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НЕПОДІЛЬНИ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_s1033"/>
            <p:cNvSpPr/>
            <p:nvPr/>
          </p:nvSpPr>
          <p:spPr>
            <a:xfrm>
              <a:off x="2887560" y="4563720"/>
              <a:ext cx="98928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АТОМ ВЖЕ НЕ Є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НЕПОДІЛЬНИ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_s1034"/>
            <p:cNvSpPr/>
            <p:nvPr/>
          </p:nvSpPr>
          <p:spPr>
            <a:xfrm>
              <a:off x="2884320" y="2179440"/>
              <a:ext cx="98928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АТО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МАЄ СКЛАДН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БУДОВ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_s1035"/>
            <p:cNvSpPr/>
            <p:nvPr/>
          </p:nvSpPr>
          <p:spPr>
            <a:xfrm>
              <a:off x="5272200" y="4560840"/>
              <a:ext cx="98892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МІЖ МОЛЕКУЛА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І АТОМА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ВІДМІННОСТ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НЕ ІСНУЄ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73" name="Picture 16" descr=""/>
            <p:cNvPicPr/>
            <p:nvPr/>
          </p:nvPicPr>
          <p:blipFill>
            <a:blip r:embed="rId1"/>
            <a:srcRect l="-3824" t="658" r="0" b="21"/>
            <a:stretch/>
          </p:blipFill>
          <p:spPr>
            <a:xfrm>
              <a:off x="3780000" y="3068280"/>
              <a:ext cx="1584000" cy="15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bbd71"/>
                </a:solidFill>
                <a:latin typeface="Arial"/>
              </a:rPr>
              <a:t>АТОМ НЕВИЧЕРПНИ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gradFill rotWithShape="0">
            <a:gsLst>
              <a:gs pos="0">
                <a:srgbClr val="655734"/>
              </a:gs>
              <a:gs pos="100000">
                <a:srgbClr val="dbbd71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ТЕРМІН ВИКОНАННЯ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: (3-5) УРОКІ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АКТУАЛЬНІСТЬ ПРОЕКТУ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Tahoma"/>
              </a:rPr>
              <a:t>УСВІДОМЛЕННЯ БУДОВИ МАТЕРІЇ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Tahoma"/>
              </a:rPr>
              <a:t>ПОЯСНЕННЯ ЯВИЩ ВСЕСВІТ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Tahoma"/>
              </a:rPr>
              <a:t>ЧИ МОЖНА ЗНИЩИТИ СВІТ, РОЛЬ ЛЮДИНИ В ЦЬОМУ ПРОЦЕСІ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dbbd71"/>
                </a:solidFill>
                <a:latin typeface="Arial"/>
              </a:rPr>
              <a:t>БЕРЕЖІТЬ АТОМ!</a:t>
            </a:r>
            <a:br>
              <a:rPr sz="4000"/>
            </a:br>
            <a:r>
              <a:rPr b="0" lang="uk-UA" sz="4000" spc="-1" strike="noStrike">
                <a:solidFill>
                  <a:srgbClr val="dbbd71"/>
                </a:solidFill>
                <a:latin typeface="Arial"/>
              </a:rPr>
              <a:t>ЦИМ МИ ВРЯТУЄМО СВІ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МЕТА  ПРОЕКТУ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НАВЧИТИ УЧНІВ САМОСТІЙНО ЗДОБУВАТИ ЗНАННЯ , ВМІТИ ВЕСТИ ДИСКУСІЇ НА ГЛОБАЛЬНІ ПРОБЛЕМИ СУЧАСНОСТІ, ВИЗНАЧАТИ БУДОВУ АТОМА БУДЬ ЯКОГО ХІМІЧНОГО ЕЛЕМЕНТА , КРАЩЕ ЗРОЗУМІТИ ПОХОДЖЕННЯ СВІТУ, ВИСВІТЛЮВАТИ СУЧАСНУ БУДОВУ АТО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12929"/>
                </a:solidFill>
                <a:latin typeface="Arial"/>
              </a:rPr>
              <a:t>ПРОБЛЕМА ПРОЕКТУ :</a:t>
            </a:r>
            <a:br>
              <a:rPr sz="4000"/>
            </a:br>
            <a:r>
              <a:rPr b="1" lang="uk-UA" sz="4000" spc="-1" strike="noStrike">
                <a:solidFill>
                  <a:srgbClr val="d12929"/>
                </a:solidFill>
                <a:latin typeface="Arial"/>
              </a:rPr>
              <a:t>ЧИ Є АТОМ НЕВИЧЕРПНИМ 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НАШІ ЗАВДАННЯ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6600"/>
                </a:solidFill>
                <a:latin typeface="Verdana"/>
              </a:rPr>
              <a:t>ВІД КЛАСИЧНИХ УЯВЛЕНЬ ПРО БУДОВУ АТОМА ПРИЙТИ ДО СУЧАСНОЇ БУДОВИ АТОМ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6600"/>
                </a:solidFill>
                <a:latin typeface="Verdana"/>
              </a:rPr>
              <a:t>ВИКОРИСТОВУЮЧИ ТЕХНОЛОГІ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6600"/>
                </a:solidFill>
                <a:latin typeface="Verdana"/>
              </a:rPr>
              <a:t>,, </a:t>
            </a: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КОЛО  ІДЕЙ</a:t>
            </a:r>
            <a:r>
              <a:rPr b="0" lang="uk-UA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ВИКОНАННЮ ПЕРЕДУЄ ДУМКА,</a:t>
            </a:r>
            <a:br>
              <a:rPr sz="2800"/>
            </a:b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ТОЧНОМУ РОЗРАХУНКУ-</a:t>
            </a:r>
            <a:br>
              <a:rPr sz="2800"/>
            </a:b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ФАНТАЗІЯ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ЕТАПИ ПРОЕКТ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ІД ДЕМОКРІТА(АРІСТОТЕЛЯ)  ДО   РЕЗЕРФОР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1. ІДЕЇ ДЕМОКРІ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2. ФАНАТИЗМ  ДАЛЬТО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3. ДОСЛІДИ ТОМСО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4. ГЕНІАЛЬНІСТЬ РЕЗЕРФОР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12929"/>
                </a:solidFill>
                <a:latin typeface="Arial"/>
              </a:rPr>
              <a:t>НАУКОВИЙ СИМПОЗІУМ</a:t>
            </a:r>
            <a:br>
              <a:rPr sz="4000"/>
            </a:b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gradFill rotWithShape="0">
            <a:gsLst>
              <a:gs pos="0">
                <a:srgbClr val="475a59"/>
              </a:gs>
              <a:gs pos="50000">
                <a:srgbClr val="9ac2c0"/>
              </a:gs>
              <a:gs pos="100000">
                <a:srgbClr val="475a5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ДЕМОКРІТ                            ДАЛЬТОН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ТОМСОН                       РЕЗЕРФОРД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WordArt 4"/>
          <p:cNvSpPr txBox="1"/>
          <p:nvPr/>
        </p:nvSpPr>
        <p:spPr>
          <a:xfrm>
            <a:off x="2700360" y="907920"/>
            <a:ext cx="395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ЛО  ІДЕ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9" name="Picture 5" descr="B176B5B6"/>
          <p:cNvPicPr/>
          <p:nvPr/>
        </p:nvPicPr>
        <p:blipFill>
          <a:blip r:embed="rId2">
            <a:lum bright="-6000"/>
          </a:blip>
          <a:srcRect l="0" t="0" r="148" b="0"/>
          <a:stretch/>
        </p:blipFill>
        <p:spPr>
          <a:xfrm>
            <a:off x="1042920" y="2565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6" descr="EA94C334"/>
          <p:cNvPicPr/>
          <p:nvPr/>
        </p:nvPicPr>
        <p:blipFill>
          <a:blip r:embed="rId3"/>
          <a:stretch/>
        </p:blipFill>
        <p:spPr>
          <a:xfrm>
            <a:off x="7093080" y="2349360"/>
            <a:ext cx="1028520" cy="11430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" descr="B1D4F362"/>
          <p:cNvPicPr/>
          <p:nvPr/>
        </p:nvPicPr>
        <p:blipFill>
          <a:blip r:embed="rId4"/>
          <a:stretch/>
        </p:blipFill>
        <p:spPr>
          <a:xfrm>
            <a:off x="1619280" y="4508640"/>
            <a:ext cx="1096920" cy="11998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0" descr="271CB0D2"/>
          <p:cNvPicPr/>
          <p:nvPr/>
        </p:nvPicPr>
        <p:blipFill>
          <a:blip r:embed="rId5"/>
          <a:srcRect l="867" t="0" r="2579" b="2654"/>
          <a:stretch/>
        </p:blipFill>
        <p:spPr>
          <a:xfrm>
            <a:off x="6588000" y="4221000"/>
            <a:ext cx="1270080" cy="1254240"/>
          </a:xfrm>
          <a:prstGeom prst="rect">
            <a:avLst/>
          </a:prstGeom>
          <a:ln w="0">
            <a:noFill/>
          </a:ln>
        </p:spPr>
      </p:pic>
      <p:sp>
        <p:nvSpPr>
          <p:cNvPr id="743" name="WordArt 11"/>
          <p:cNvSpPr txBox="1"/>
          <p:nvPr/>
        </p:nvSpPr>
        <p:spPr>
          <a:xfrm>
            <a:off x="3114720" y="2857680"/>
            <a:ext cx="2914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ЦІ БУДОВИ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ТОМА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ffff"/>
                </a:solidFill>
                <a:latin typeface="Tahoma"/>
              </a:rPr>
              <a:t>АТОМ – ОЗНАЧАЄ НЕПОДІЛЬНИЙ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50752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СЕ ,ЩО ІСНУЄ НАВКОЛО ,СКЛАДАЄТЬСЯ З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АТОМІВ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І ПОРОЖНЕЧІ.ЦІ ЧАСТИНКИ ЯКІСНО НЕ ВІДРІЗНЯЮТЬСЯ МІЖ СОБО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АТОМИ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ВІДРІЗНЯЮТЬСЯ ТІЛЬКИ ВЕЛИЧИНОЮ І ФОРМОЮ,ПОЗБАВЛЕНІ ВНУТРІШНЬОЇ БУДОВИ І Є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НЕПОДІЛЬН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АТОМИ МАЮТЬ ВАГУ.ЖОДЕН З АТОМІВ НЕ МОЖЕ ЩЕЗНУТИ, АБО З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ЯВИТИСЬ З НІЧОГ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АТОМИ НЕСОТВОРИМІ І НЕРОЗРУШИ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ДЕМОКРІТ НЕ ПРИЗНАВАВ ІСНУВАННЯ НЕМАТЕРІАЛЬНИХ ОБ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ЄКТІ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66"/>
                </a:solidFill>
                <a:latin typeface="Tahoma"/>
              </a:rPr>
              <a:t>ГЕНІАЛЬНІ ЗДОГАДКИ ВКАЗАЛИ НАУЦІ ШЛЯХ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WordArt 4"/>
          <p:cNvSpPr txBox="1"/>
          <p:nvPr/>
        </p:nvSpPr>
        <p:spPr>
          <a:xfrm>
            <a:off x="2411280" y="1557360"/>
            <a:ext cx="396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МОКРІ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994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МОЛЕКУЛЯРНОЇ ГІПОТЕЗИ НЕ ІСНУЄ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4365720"/>
          </a:xfrm>
          <a:prstGeom prst="rect">
            <a:avLst/>
          </a:prstGeom>
          <a:gradFill rotWithShape="0">
            <a:gsLst>
              <a:gs pos="0">
                <a:srgbClr val="734c00"/>
              </a:gs>
              <a:gs pos="100000">
                <a:srgbClr val="f8a5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АТОМИ РІЗНИХ ХІМІЧНИХ ЕЛЕМЕНТІВ МАЮТЬ РІЗНУ ВАГУ І МОЖНА ВИЗНАЧИТИ ЦЮ АТОМНУ ВАГУ ПО ВІДНОСНІЙ КІЛЬКОСТІ ПРОСТОЇ РЕЧОВИНИ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АЛЬТОН ВИРАХУВАВ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АТОМНУ ВАГУ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АТОМІВ І СКЛАДНИХ З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ЄДНАНЬ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ЯКІСНОЇ ВІДМІННОСТІ МІЖ АТОМАМИ І МОЛЕКУЛАМИ НЕ ІСНУЄ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РОСТІ РЕЧОВИНИ ВЗАГАЛІ НЕ МОЖУТЬ СКЛАДАТИСЯ З МОЛЕКУЛ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66"/>
                </a:solidFill>
                <a:latin typeface="Tahoma"/>
              </a:rPr>
              <a:t>ЕКСПЕРИМЕНТ ПОВ</a:t>
            </a: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’</a:t>
            </a:r>
            <a:r>
              <a:rPr b="1" lang="uk-UA" sz="2000" spc="-1" strike="noStrike">
                <a:solidFill>
                  <a:srgbClr val="ff0066"/>
                </a:solidFill>
                <a:latin typeface="Tahoma"/>
              </a:rPr>
              <a:t>ЯЗАНО З АТОМІСТИКОЮ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WordArt 4"/>
          <p:cNvSpPr txBox="1"/>
          <p:nvPr/>
        </p:nvSpPr>
        <p:spPr>
          <a:xfrm>
            <a:off x="2771640" y="333360"/>
            <a:ext cx="367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ЖОН ДАЛЬТОН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bbd71"/>
                </a:solidFill>
                <a:latin typeface="Arial"/>
              </a:rPr>
              <a:t>АТОМ – ЦЕ Ж ТАК ПРОСТО,</a:t>
            </a:r>
            <a:br>
              <a:rPr sz="3600"/>
            </a:br>
            <a:r>
              <a:rPr b="1" lang="uk-UA" sz="3600" spc="-1" strike="noStrike">
                <a:solidFill>
                  <a:srgbClr val="dbbd71"/>
                </a:solidFill>
                <a:latin typeface="Arial"/>
              </a:rPr>
              <a:t>ЯК ПИРІГ З РОДЗИНКАМИ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8435880" cy="3854160"/>
          </a:xfrm>
          <a:prstGeom prst="rect">
            <a:avLst/>
          </a:prstGeom>
          <a:gradFill rotWithShape="0">
            <a:gsLst>
              <a:gs pos="0">
                <a:srgbClr val="f8a500"/>
              </a:gs>
              <a:gs pos="50000">
                <a:srgbClr val="734c00"/>
              </a:gs>
              <a:gs pos="100000">
                <a:srgbClr val="f8a5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 АТОМІВ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МОЖУТЬ ВИЛІТАТИ МАЛЕСЕНЬКІ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ВІД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ЄМНО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ЗАРЯДЖЕНІ ЧАСТИНКИ . </a:t>
            </a:r>
            <a:r>
              <a:rPr b="1" lang="uk-UA" sz="1800" spc="-1" strike="noStrike">
                <a:solidFill>
                  <a:srgbClr val="ff0066"/>
                </a:solidFill>
                <a:latin typeface="Tahoma"/>
              </a:rPr>
              <a:t>ЦЕ ЕЛЕКТРО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66"/>
                </a:solidFill>
                <a:latin typeface="Tahoma"/>
              </a:rPr>
              <a:t>АТОМ ВЖЕ НЕ Є НЕПОДІЛЬНИМ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ДО СКЛАДУ АТОМА ВХОДЯТЬ ТАКОЖ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ПОЗИТИВНО </a:t>
            </a: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ЗАРЯДЖЕНІ ЧАСТИНКИ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АТОМ СКЛАДАЄТЬСЯ З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ПОЗИТИВНОГО ЗАРЯДУ</a:t>
            </a: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, ЯКИЙ РІВНОМІРНО РОЗПОДІЛЕНИЙ ПО ВСІЙ СФЕРІ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В СЕРЕДИНІ СФЕРИ ЗНАХОДЯТЬСЯ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ВІД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ЄМНО ЗАРЯДЖЕНІ</a:t>
            </a: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 ЕЛЕКТРОНИ , ЯКІ РОЗМІЩЕНІ ТАК САМО , ЯК І ІЗЮМИНКИ В КЕКСІ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66"/>
                </a:solidFill>
                <a:latin typeface="Tahoma"/>
              </a:rPr>
              <a:t>ІДЕЯ ПРО ПОДІЛ ЕЛЕКТРОНІВ В АТОМІ – НАЙНОВІШ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66"/>
                </a:solidFill>
                <a:latin typeface="Tahoma"/>
              </a:rPr>
              <a:t>                                    </a:t>
            </a:r>
            <a:r>
              <a:rPr b="1" lang="uk-UA" sz="1800" spc="-1" strike="noStrike">
                <a:solidFill>
                  <a:srgbClr val="ff0066"/>
                </a:solidFill>
                <a:latin typeface="Tahoma"/>
              </a:rPr>
              <a:t>ТЕОРІЯ 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WordArt 4"/>
          <p:cNvSpPr txBox="1"/>
          <p:nvPr/>
        </p:nvSpPr>
        <p:spPr>
          <a:xfrm>
            <a:off x="2411280" y="1484280"/>
            <a:ext cx="4321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ЖОЗЕФ  ТОМСОН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20:04:35Z</dcterms:created>
  <dc:creator>User</dc:creator>
  <dc:description/>
  <dc:language>en-US</dc:language>
  <cp:lastModifiedBy>User</cp:lastModifiedBy>
  <dcterms:modified xsi:type="dcterms:W3CDTF">2014-08-24T19:40:08Z</dcterms:modified>
  <cp:revision>31</cp:revision>
  <dc:subject/>
  <dc:title>ПІДГОТУВАЛИ  УЧНІ 11 КЛАСУ СТІЛЬСЬКОЇ ЗОШ І-ІІІ СТ. КЕРІВНИК ГРУПИ ВЧ. ФІЗИКИ МИХАЙЛИШИН С.С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15000000000001024140</vt:lpwstr>
  </property>
</Properties>
</file>