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717-9710-4CD6-9495-8CCA2D40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9A8-1BBD-4A9D-94B4-890788D2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50D-B20B-4AFC-BB68-A592A324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AE1-B656-48D3-8354-B7CFD3B5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2133-6A66-4959-86CA-7402846F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E3F-7539-4426-9BA6-F8844DE2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5336-3E65-4300-9151-E84A90CF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111A-CF9E-4EA3-9C2A-91992705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5C2D-59C9-4C01-92CD-7324F013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E0FD-6E25-4FA6-87B3-D183E5D0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6569-5F5E-4BCD-938B-C5E4A9BB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E08-228E-4B2D-9E87-A891E6DD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76BA-D17C-4414-8953-F5E9D9B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D6A5-5095-4138-97B6-39E56E73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F621-8B8A-40D9-B176-DE2AC766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1C96-B120-4F1F-B622-47BBC017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5BBF-7316-4551-9085-9DFBA49F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5022-46C4-4980-9D3F-9758DA6C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DBCB-53BA-4910-95F5-E4CB23D3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3E4D-C27A-4B9E-A175-B2D7F3B6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B382-E118-41E0-9C0B-74188D5F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8E16-7984-4593-B3A2-774FAD27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B70-1C16-44AC-B550-7BEA3D41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8A03-F5E9-4EBD-9DC2-46195344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157A4-6DD2-48A6-95EC-D5CA95F3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63E49-9ADE-4B56-AFC9-CEF8A081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297F-32CE-474A-82F4-D13002E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B4D0-A333-4233-AF32-D57C15C7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88D2-A9B1-406B-BCF6-BE588589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827E8-4677-4979-8FD5-2971245A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6C688-9C0E-4D5D-A75D-DAB6749D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A410-D191-4FD3-82CE-4FFB926B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A6CD0-D742-48BA-9125-7868E115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30B-1749-4356-B4B4-5A9A79A3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98889-6EFC-4328-804E-2C6D90B5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55E1-5F0C-4E9D-B704-49C1A69A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17BDF-60CA-41C2-9974-7BC961C9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E787E-8D36-40D1-BFA8-0548E925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EE6E0-788B-47DA-B4A3-C871CAB4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99FA-1D75-4968-BA51-D1518E5D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D3501-CD14-4D2F-A92D-4A86ED24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BC13-FA1B-424C-83E8-C6778EA0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29F3B-3035-40AF-B493-BC17379E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44504-39F2-423D-A674-6E887652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075-1670-4DC6-B9A4-775C9F01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959EF-8F45-4BE1-B32D-381D69B9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BDEE4-7072-4BB8-AA58-61FDF43B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6732-6E21-4155-94CA-5D5CFDCC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CFBA-D10D-4440-AAA9-F7EF97F8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9EBA-4144-4BF4-8AE8-0DE23B8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63AB-1CC2-4742-9CC6-9E323D50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A0B08-8BBE-4CD5-A9B3-B7033D45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E37D-116D-4E07-B370-ECAEAADF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89A76-D1D0-48ED-B09F-A2964DF8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65354-DE7A-44E2-B6F1-FA0E91A3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6E1-5C30-4401-89A8-02E0D7D6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51992-421E-426F-BA32-F5E79C9D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D005-83A3-4BAD-A577-A288A871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0B350-CDD5-474D-94DC-80B0D6AE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24E2A-7514-49C8-82B6-980BF186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535B-879B-49CA-AD4E-D1C1B177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D1458-0D9B-4BE5-AD72-A2FDE6F4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2E99F-939F-45DB-8CB3-51E1983A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7B127-D2AF-4EB9-B55B-E1F634B3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AE643-F988-41DF-A20F-5BB3727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E828-6C7C-493B-A1FB-447A43C7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EEF-915F-4E05-9473-7394DCD5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D80C1-73D5-4090-B6E8-DE6F0490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A715A-578A-4D5F-A869-8623A641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21D86-1CF2-4EA1-A19B-158425A5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FC2F-B0C1-4C6B-86E5-A00F6261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F04A4-273C-466B-8FC9-6C2F19FB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287D3-5D98-49AF-89B1-319C96E0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DBB7F-CA3C-494C-9195-95DA65C1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F37A5-4DD3-41D0-9B92-800D4960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7D101-59BA-48D2-AA18-8D6056C4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C66FC-F756-44D5-AA22-0245B41B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424-CCA4-40DA-8BFF-DF077EF5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EC512-3C9D-44A9-AFF2-2455595E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C8641-2D59-42F9-BE2B-43DAE679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05935-5AC9-456B-B4E0-D666D0AC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B0A08-4DFE-4612-BA49-B09A664A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E985D-CE7B-4C16-83D6-9B00B0BA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46377-F563-4043-8C7B-A6C19E29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0C702-77C3-4171-BB01-DE166F38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EDD39-67D3-41B1-8BC0-9EC11850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79982-4B43-46C4-B539-ACA196ED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8EB46-DCD5-4BED-80B5-85B5CCF3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8D5-9DCD-4556-B190-EAAE4B3E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93219-947A-4E3A-9A7B-4C4D5990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9CF96-6F95-465D-8C84-4BA799A8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0AC0B-5E29-4513-B9D8-7F4B8496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E46F1-47D9-4195-88BB-D1C16E0C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FC80A-389B-4F48-A1A9-640625CD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B17B2-0F27-4FF0-891D-8CD949D2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06C49-3AEC-4EC1-A2A2-286A084F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A5FC-BB0C-4F48-9528-1FF9909AE82A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8C0E-B94A-4FBF-9F59-9BA4B047F0F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18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19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20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22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26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28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9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0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6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67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8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9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0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1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2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3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4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5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79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5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16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19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29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5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36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D165-8151-46F6-822B-E83A831EB55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8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9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2ED0-F9BA-451B-B28C-DBAD336479AC}" type="slidenum">
              <a:rPr b="0" lang="uk-U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27E2-DAD6-4AB6-8BCF-527F33621A52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0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1485-7ECD-4889-A111-57CA8D5F724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480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481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482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484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7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88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89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90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91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92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5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6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7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28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529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0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1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2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3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4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5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6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7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8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9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0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41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8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9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0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1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2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3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77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578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80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581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0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591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7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598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0C52-C575-4DB3-82FA-31D308ECD0A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4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5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124F-3D07-4473-A194-EBB4D9F5292C}" type="slidenum">
              <a:rPr b="0" lang="uk-U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26920" y="4581360"/>
            <a:ext cx="7772400" cy="1470240"/>
          </a:xfrm>
          <a:prstGeom prst="rect">
            <a:avLst/>
          </a:prstGeom>
          <a:gradFill rotWithShape="0">
            <a:gsLst>
              <a:gs pos="0">
                <a:srgbClr val="5e1800"/>
              </a:gs>
              <a:gs pos="50000">
                <a:srgbClr val="cc3300"/>
              </a:gs>
              <a:gs pos="100000">
                <a:srgbClr val="5e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dfd293"/>
                </a:solidFill>
                <a:latin typeface="Arial"/>
              </a:rPr>
              <a:t>ПІДГОТУВАЛИ </a:t>
            </a:r>
            <a:br>
              <a:rPr sz="4000"/>
            </a:br>
            <a:r>
              <a:rPr b="0" lang="uk-UA" sz="4000" spc="-1" strike="noStrike">
                <a:solidFill>
                  <a:srgbClr val="dfd293"/>
                </a:solidFill>
                <a:latin typeface="Arial"/>
              </a:rPr>
              <a:t>УЧНІ 11 КЛАСУ</a:t>
            </a:r>
            <a:br>
              <a:rPr sz="4000"/>
            </a:br>
            <a:r>
              <a:rPr b="0" lang="uk-UA" sz="4000" spc="-1" strike="noStrike">
                <a:solidFill>
                  <a:srgbClr val="dfd293"/>
                </a:solidFill>
                <a:latin typeface="Arial"/>
              </a:rPr>
              <a:t>СТІЛЬСЬКОГО НВК</a:t>
            </a:r>
            <a:br>
              <a:rPr sz="4000"/>
            </a:br>
            <a:r>
              <a:rPr b="0" lang="uk-UA" sz="2000" spc="-1" strike="noStrike">
                <a:solidFill>
                  <a:srgbClr val="dfd293"/>
                </a:solidFill>
                <a:latin typeface="Arial"/>
              </a:rPr>
              <a:t>КЕРІВНИК ГРУПИ ВЧ. ФІЗИКИ МИХАЙЛИШИН С.С.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258920" y="1773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ТЕПЕР Я ЗНАЮ 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ЯК ВИГЛЯДА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А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WordArt 4"/>
          <p:cNvSpPr txBox="1"/>
          <p:nvPr/>
        </p:nvSpPr>
        <p:spPr>
          <a:xfrm>
            <a:off x="611280" y="260280"/>
            <a:ext cx="7848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ІЯ НАУКОВОГО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7" name="WordArt 5"/>
          <p:cNvSpPr txBox="1"/>
          <p:nvPr/>
        </p:nvSpPr>
        <p:spPr>
          <a:xfrm>
            <a:off x="4643280" y="3716280"/>
            <a:ext cx="385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РНЕСТ  РЕЗЕРФОРД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6600"/>
                </a:solidFill>
                <a:latin typeface="Arial"/>
              </a:rPr>
              <a:t>ТЕПЕР Я ЗНАЮ ,</a:t>
            </a:r>
            <a:br>
              <a:rPr sz="4000"/>
            </a:br>
            <a:r>
              <a:rPr b="1" lang="uk-UA" sz="4000" spc="-1" strike="noStrike">
                <a:solidFill>
                  <a:srgbClr val="ff6600"/>
                </a:solidFill>
                <a:latin typeface="Arial"/>
              </a:rPr>
              <a:t>ЯК ВИГЛЯДАЄ АТОМ 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4" name="WordArt 4"/>
          <p:cNvSpPr txBox="1"/>
          <p:nvPr/>
        </p:nvSpPr>
        <p:spPr>
          <a:xfrm>
            <a:off x="2268360" y="1557360"/>
            <a:ext cx="48247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РНЕСТ  РЕЗЕРФОР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5" name="Picture 5" descr="82507AB6"/>
          <p:cNvPicPr/>
          <p:nvPr/>
        </p:nvPicPr>
        <p:blipFill>
          <a:blip r:embed="rId1"/>
          <a:stretch/>
        </p:blipFill>
        <p:spPr>
          <a:xfrm>
            <a:off x="4716360" y="2565360"/>
            <a:ext cx="3600720" cy="3095640"/>
          </a:xfrm>
          <a:prstGeom prst="rect">
            <a:avLst/>
          </a:prstGeom>
          <a:ln w="0">
            <a:noFill/>
          </a:ln>
        </p:spPr>
      </p:pic>
      <p:sp>
        <p:nvSpPr>
          <p:cNvPr id="756" name="WordArt 6"/>
          <p:cNvSpPr txBox="1"/>
          <p:nvPr/>
        </p:nvSpPr>
        <p:spPr>
          <a:xfrm>
            <a:off x="1123920" y="3170160"/>
            <a:ext cx="337680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ЕТАРНА МОД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АЛЬФА- ЧАСТИНКИ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ВИРІШИЛИ ПРОБЛЕМУ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БУДОВИ АТОМ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758" name="Picture 4" descr="AD8598B0"/>
          <p:cNvPicPr/>
          <p:nvPr/>
        </p:nvPicPr>
        <p:blipFill>
          <a:blip r:embed="rId1"/>
          <a:srcRect l="0" t="0" r="-48" b="0"/>
          <a:stretch/>
        </p:blipFill>
        <p:spPr>
          <a:xfrm>
            <a:off x="1768320" y="2492280"/>
            <a:ext cx="5607360" cy="2521080"/>
          </a:xfrm>
          <a:prstGeom prst="rect">
            <a:avLst/>
          </a:prstGeom>
          <a:ln w="0">
            <a:noFill/>
          </a:ln>
        </p:spPr>
      </p:pic>
      <p:sp>
        <p:nvSpPr>
          <p:cNvPr id="759" name="WordArt 5"/>
          <p:cNvSpPr txBox="1"/>
          <p:nvPr/>
        </p:nvSpPr>
        <p:spPr>
          <a:xfrm>
            <a:off x="2268360" y="5143680"/>
            <a:ext cx="514368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СЛІД НАЙКРАЩ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КСПЕРИМЕНТАТОРА В СВІТІ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bbd71"/>
                </a:solidFill>
                <a:latin typeface="Arial"/>
              </a:rPr>
              <a:t>ПРОБЛЕМА ВИРІШЕНА 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f8a500"/>
              </a:gs>
              <a:gs pos="100000">
                <a:srgbClr val="734c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АТОМ СКЛАДАЄТЬСЯ З </a:t>
            </a: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ПОЗИТИВНОГО ЯДРА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, РОЗМІРИ ЯКОГО НАБАГАТО МЕНШІ ЗА РОЗМІРИ АТО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АВКОЛО ЯДРА РУХАЮТЬСЯ </a:t>
            </a:r>
            <a:r>
              <a:rPr b="0" lang="uk-UA" sz="2400" spc="-1" strike="noStrike">
                <a:solidFill>
                  <a:srgbClr val="ff0066"/>
                </a:solidFill>
                <a:latin typeface="Tahoma"/>
              </a:rPr>
              <a:t>ЕЛЕКТРОНИ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, УТВОРЮЮЧИ ЕЛЕКТРОННУ ОБОЛОНКУ АТОМ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АРЯД ЯДРА ДОРІВНЮЄ ЗА ЗНАЧЕННЯМ СУМАРН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АРЯДУ ВСІХ ЕЛЕКТРОН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У ЯДРІ ЗОСЕРЕДЖЕНА МАЙЖЕ ВСЯ МАСА АТ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(99,95 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ЕЛЕКТРОНИ РУХАЮТЬСЯ НАВКОЛО ЯДРА ТА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САМО,ЯК І ПЛАНЕТИ НАВКОЛО СОНЦЯ 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2" name="Picture 4" descr="9AF08862"/>
          <p:cNvPicPr/>
          <p:nvPr/>
        </p:nvPicPr>
        <p:blipFill>
          <a:blip r:embed="rId2"/>
          <a:srcRect l="0" t="0" r="91" b="-1056"/>
          <a:stretch/>
        </p:blipFill>
        <p:spPr>
          <a:xfrm>
            <a:off x="6912000" y="5013360"/>
            <a:ext cx="2232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fd293"/>
                </a:solidFill>
                <a:latin typeface="Arial"/>
              </a:rPr>
              <a:t>СВІТ НЕВПІЗНАННИЙ …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764" name="Diagram 5"/>
          <p:cNvGrpSpPr/>
          <p:nvPr/>
        </p:nvGrpSpPr>
        <p:grpSpPr>
          <a:xfrm>
            <a:off x="2643120" y="1935000"/>
            <a:ext cx="3858840" cy="3858840"/>
            <a:chOff x="2643120" y="1935000"/>
            <a:chExt cx="3858840" cy="3858840"/>
          </a:xfrm>
        </p:grpSpPr>
        <p:sp>
          <p:nvSpPr>
            <p:cNvPr id="765" name="_s1028"/>
            <p:cNvSpPr/>
            <p:nvPr/>
          </p:nvSpPr>
          <p:spPr>
            <a:xfrm>
              <a:off x="3260880" y="1935000"/>
              <a:ext cx="2624040" cy="262368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3680"/>
                <a:gd name="textAreaBottom" fmla="*/ 2624040 h 262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_s1029"/>
            <p:cNvSpPr/>
            <p:nvPr/>
          </p:nvSpPr>
          <p:spPr>
            <a:xfrm rot="5400000">
              <a:off x="3877920" y="255204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_s1030"/>
            <p:cNvSpPr/>
            <p:nvPr/>
          </p:nvSpPr>
          <p:spPr>
            <a:xfrm rot="10800000">
              <a:off x="3260520" y="3170160"/>
              <a:ext cx="2624040" cy="262368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3680"/>
                <a:gd name="textAreaBottom" fmla="*/ 2624040 h 262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_s1031"/>
            <p:cNvSpPr/>
            <p:nvPr/>
          </p:nvSpPr>
          <p:spPr>
            <a:xfrm rot="16200000">
              <a:off x="2643120" y="255204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_s1032"/>
            <p:cNvSpPr/>
            <p:nvPr/>
          </p:nvSpPr>
          <p:spPr>
            <a:xfrm>
              <a:off x="5270400" y="2176200"/>
              <a:ext cx="98928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АТО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НЕПОДІЛЬН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_s1033"/>
            <p:cNvSpPr/>
            <p:nvPr/>
          </p:nvSpPr>
          <p:spPr>
            <a:xfrm>
              <a:off x="2887560" y="456372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АТОМ ВЖЕ НЕ Є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НЕПОДІЛЬНИ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_s1034"/>
            <p:cNvSpPr/>
            <p:nvPr/>
          </p:nvSpPr>
          <p:spPr>
            <a:xfrm>
              <a:off x="2884320" y="2179440"/>
              <a:ext cx="98928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АТО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МАЄ СКЛАДН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БУДОВ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_s1035"/>
            <p:cNvSpPr/>
            <p:nvPr/>
          </p:nvSpPr>
          <p:spPr>
            <a:xfrm>
              <a:off x="5272200" y="4560840"/>
              <a:ext cx="98892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МІЖ МОЛЕКУЛ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І АТОМ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ВІДМІННОСТ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НЕ ІСНУЄ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3" name="Picture 16" descr=""/>
            <p:cNvPicPr/>
            <p:nvPr/>
          </p:nvPicPr>
          <p:blipFill>
            <a:blip r:embed="rId1"/>
            <a:srcRect l="-3824" t="658" r="0" b="21"/>
            <a:stretch/>
          </p:blipFill>
          <p:spPr>
            <a:xfrm>
              <a:off x="3780000" y="3068280"/>
              <a:ext cx="1584000" cy="15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bbd71"/>
                </a:solidFill>
                <a:latin typeface="Arial"/>
              </a:rPr>
              <a:t>АТОМ НЕВИЧЕРПНИ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655734"/>
              </a:gs>
              <a:gs pos="100000">
                <a:srgbClr val="dbbd7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ТЕРМІН ВИКОНАННЯ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: (3-5) УРОКІ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АКТУАЛЬНІСТЬ ПРОЕКТУ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Tahoma"/>
              </a:rPr>
              <a:t>УСВІДОМЛЕННЯ БУДОВИ МАТЕРІЇ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Tahoma"/>
              </a:rPr>
              <a:t>ПОЯСНЕННЯ ЯВИЩ ВСЕСВІТ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Tahoma"/>
              </a:rPr>
              <a:t>ЧИ МОЖНА ЗНИЩИТИ СВІТ, РОЛЬ ЛЮДИНИ В ЦЬОМУ ПРОЦЕСІ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БЕРЕЖІТЬ АТОМ!</a:t>
            </a:r>
            <a:br>
              <a:rPr sz="4000"/>
            </a:b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ЦИМ МИ ВРЯТУЄМО СВІ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МЕТА  ПРОЕКТУ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АВЧИТИ УЧНІВ САМОСТІЙНО ЗДОБУВАТИ ЗНАННЯ , ВМІТИ ВЕСТИ ДИСКУСІЇ НА ГЛОБАЛЬНІ ПРОБЛЕМИ СУЧАСНОСТІ, ВИЗНАЧАТИ БУДОВУ АТОМА БУДЬ ЯКОГО ХІМІЧНОГО ЕЛЕМЕНТА , КРАЩЕ ЗРОЗУМІТИ ПОХОДЖЕННЯ СВІТУ, ВИСВІТЛЮВАТИ СУЧАСНУ БУДОВУ АТО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12929"/>
                </a:solidFill>
                <a:latin typeface="Arial"/>
              </a:rPr>
              <a:t>ПРОБЛЕМА ПРОЕКТУ :</a:t>
            </a:r>
            <a:br>
              <a:rPr sz="4000"/>
            </a:br>
            <a:r>
              <a:rPr b="1" lang="uk-UA" sz="4000" spc="-1" strike="noStrike">
                <a:solidFill>
                  <a:srgbClr val="d12929"/>
                </a:solidFill>
                <a:latin typeface="Arial"/>
              </a:rPr>
              <a:t>ЧИ Є АТОМ НЕВИЧЕРПНИМ 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НАШІ ЗАВДАННЯ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Verdana"/>
              </a:rPr>
              <a:t>ВІД КЛАСИЧНИХ УЯВЛЕНЬ ПРО БУДОВУ АТОМА ПРИЙТИ ДО СУЧАСНОЇ БУДОВИ АТОМ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Verdana"/>
              </a:rPr>
              <a:t>ВИКОРИСТОВУЮЧИ ТЕХНОЛОГІ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Verdana"/>
              </a:rPr>
              <a:t>,, </a:t>
            </a: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КОЛО  ІДЕЙ</a:t>
            </a:r>
            <a:r>
              <a:rPr b="0" lang="uk-UA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ВИКОНАННЮ ПЕРЕДУЄ ДУМКА,</a:t>
            </a:r>
            <a:br>
              <a:rPr sz="2800"/>
            </a:b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ТОЧНОМУ РОЗРАХУНКУ-</a:t>
            </a:r>
            <a:br>
              <a:rPr sz="2800"/>
            </a:b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ФАНТАЗІ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ЕТАПИ ПРОЕКТ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ІД ДЕМОКРІТА(АРІСТОТЕЛЯ)  ДО   РЕЗЕРФОР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1. ІДЕЇ ДЕМОКРІ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2. ФАНАТИЗМ  ДАЛЬТ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3. ДОСЛІДИ ТОМС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4. ГЕНІАЛЬНІСТЬ РЕЗЕРФОР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12929"/>
                </a:solidFill>
                <a:latin typeface="Arial"/>
              </a:rPr>
              <a:t>НАУКОВИЙ СИМПОЗІУМ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gradFill rotWithShape="0">
            <a:gsLst>
              <a:gs pos="0">
                <a:srgbClr val="475a59"/>
              </a:gs>
              <a:gs pos="50000">
                <a:srgbClr val="9ac2c0"/>
              </a:gs>
              <a:gs pos="100000">
                <a:srgbClr val="475a5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ДЕМОКРІТ                            ДАЛЬТОН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ТОМСОН                       РЕЗЕРФОРД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WordArt 4"/>
          <p:cNvSpPr txBox="1"/>
          <p:nvPr/>
        </p:nvSpPr>
        <p:spPr>
          <a:xfrm>
            <a:off x="2700360" y="907920"/>
            <a:ext cx="395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О  ІД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9" name="Picture 5" descr="B176B5B6"/>
          <p:cNvPicPr/>
          <p:nvPr/>
        </p:nvPicPr>
        <p:blipFill>
          <a:blip r:embed="rId2">
            <a:lum bright="-6000"/>
          </a:blip>
          <a:srcRect l="0" t="0" r="148" b="0"/>
          <a:stretch/>
        </p:blipFill>
        <p:spPr>
          <a:xfrm>
            <a:off x="1042920" y="2565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EA94C334"/>
          <p:cNvPicPr/>
          <p:nvPr/>
        </p:nvPicPr>
        <p:blipFill>
          <a:blip r:embed="rId3"/>
          <a:stretch/>
        </p:blipFill>
        <p:spPr>
          <a:xfrm>
            <a:off x="7093080" y="2349360"/>
            <a:ext cx="1028520" cy="11430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" descr="B1D4F362"/>
          <p:cNvPicPr/>
          <p:nvPr/>
        </p:nvPicPr>
        <p:blipFill>
          <a:blip r:embed="rId4"/>
          <a:stretch/>
        </p:blipFill>
        <p:spPr>
          <a:xfrm>
            <a:off x="1619280" y="4508640"/>
            <a:ext cx="1096920" cy="11998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" descr="271CB0D2"/>
          <p:cNvPicPr/>
          <p:nvPr/>
        </p:nvPicPr>
        <p:blipFill>
          <a:blip r:embed="rId5"/>
          <a:srcRect l="867" t="0" r="2579" b="2654"/>
          <a:stretch/>
        </p:blipFill>
        <p:spPr>
          <a:xfrm>
            <a:off x="6588000" y="4221000"/>
            <a:ext cx="1270080" cy="1254240"/>
          </a:xfrm>
          <a:prstGeom prst="rect">
            <a:avLst/>
          </a:prstGeom>
          <a:ln w="0">
            <a:noFill/>
          </a:ln>
        </p:spPr>
      </p:pic>
      <p:sp>
        <p:nvSpPr>
          <p:cNvPr id="743" name="WordArt 11"/>
          <p:cNvSpPr txBox="1"/>
          <p:nvPr/>
        </p:nvSpPr>
        <p:spPr>
          <a:xfrm>
            <a:off x="3114720" y="2857680"/>
            <a:ext cx="2914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ЦІ БУДОВ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ТОМА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АТОМ – ОЗНАЧАЄ НЕПОДІЛЬНИЙ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50752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СЕ ,ЩО ІСНУЄ НАВКОЛО ,СКЛАДАЄТЬСЯ З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АТОМІВ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І ПОРОЖНЕЧІ.ЦІ ЧАСТИНКИ ЯКІСНО НЕ ВІДРІЗНЯЮТЬСЯ МІЖ СОБО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АТОМИ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ВІДРІЗНЯЮТЬСЯ ТІЛЬКИ ВЕЛИЧИНОЮ І ФОРМОЮ,ПОЗБАВЛЕНІ ВНУТРІШНЬОЇ БУДОВИ І Є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НЕПОДІЛЬН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АТОМИ МАЮТЬ ВАГУ.ЖОДЕН З АТОМІВ НЕ МОЖЕ ЩЕЗНУТИ, АБО З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ЯВИТИСЬ З НІЧ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АТОМИ НЕСОТВОРИМІ І НЕРОЗРУШИ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ДЕМОКРІТ НЕ ПРИЗНАВАВ ІСНУВАННЯ НЕМАТЕРІАЛЬНИХ ОБ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ЄКТІ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66"/>
                </a:solidFill>
                <a:latin typeface="Tahoma"/>
              </a:rPr>
              <a:t>ГЕНІАЛЬНІ ЗДОГАДКИ ВКАЗАЛИ НАУЦІ ШЛЯХ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WordArt 4"/>
          <p:cNvSpPr txBox="1"/>
          <p:nvPr/>
        </p:nvSpPr>
        <p:spPr>
          <a:xfrm>
            <a:off x="2411280" y="1557360"/>
            <a:ext cx="39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МОКРІ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94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МОЛЕКУЛЯРНОЇ ГІПОТЕЗИ НЕ ІСНУЄ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4365720"/>
          </a:xfrm>
          <a:prstGeom prst="rect">
            <a:avLst/>
          </a:prstGeom>
          <a:gradFill rotWithShape="0">
            <a:gsLst>
              <a:gs pos="0">
                <a:srgbClr val="734c00"/>
              </a:gs>
              <a:gs pos="100000">
                <a:srgbClr val="f8a5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АТОМИ РІЗНИХ ХІМІЧНИХ ЕЛЕМЕНТІВ МАЮТЬ РІЗНУ ВАГУ І МОЖНА ВИЗНАЧИТИ ЦЮ АТОМНУ ВАГУ ПО ВІДНОСНІЙ КІЛЬКОСТІ ПРОСТОЇ РЕЧОВИНИ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АЛЬТОН ВИРАХУВАВ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АТОМНУ ВАГУ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АТОМІВ І СКЛАДНИХ З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ЄДНАН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ІСНОЇ ВІДМІННОСТІ МІЖ АТОМАМИ І МОЛЕКУЛАМИ НЕ ІСНУЄ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РОСТІ РЕЧОВИНИ ВЗАГАЛІ НЕ МОЖУТЬ СКЛАДАТИСЯ З МОЛЕКУЛ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66"/>
                </a:solidFill>
                <a:latin typeface="Tahoma"/>
              </a:rPr>
              <a:t>ЕКСПЕРИМЕНТ ПОВ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2000" spc="-1" strike="noStrike">
                <a:solidFill>
                  <a:srgbClr val="ff0066"/>
                </a:solidFill>
                <a:latin typeface="Tahoma"/>
              </a:rPr>
              <a:t>ЯЗАНО З АТОМІСТИКОЮ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WordArt 4"/>
          <p:cNvSpPr txBox="1"/>
          <p:nvPr/>
        </p:nvSpPr>
        <p:spPr>
          <a:xfrm>
            <a:off x="2771640" y="333360"/>
            <a:ext cx="367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ЖОН ДАЛЬТО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bbd71"/>
                </a:solidFill>
                <a:latin typeface="Arial"/>
              </a:rPr>
              <a:t>АТОМ – ЦЕ Ж ТАК ПРОСТО,</a:t>
            </a:r>
            <a:br>
              <a:rPr sz="3600"/>
            </a:br>
            <a:r>
              <a:rPr b="1" lang="uk-UA" sz="3600" spc="-1" strike="noStrike">
                <a:solidFill>
                  <a:srgbClr val="dbbd71"/>
                </a:solidFill>
                <a:latin typeface="Arial"/>
              </a:rPr>
              <a:t>ЯК ПИРІГ З РОДЗИНКАМИ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8435880" cy="3854160"/>
          </a:xfrm>
          <a:prstGeom prst="rect">
            <a:avLst/>
          </a:prstGeom>
          <a:gradFill rotWithShape="0">
            <a:gsLst>
              <a:gs pos="0">
                <a:srgbClr val="f8a500"/>
              </a:gs>
              <a:gs pos="50000">
                <a:srgbClr val="734c00"/>
              </a:gs>
              <a:gs pos="100000">
                <a:srgbClr val="f8a5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 АТОМІВ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МОЖУТЬ ВИЛІТАТИ МАЛЕСЕНЬКІ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ІД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ЄМНО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ЗАРЯДЖЕНІ ЧАСТИНКИ . </a:t>
            </a: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ЦЕ ЕЛЕКТРО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АТОМ ВЖЕ НЕ Є НЕПОДІЛЬНИМ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ДО СКЛАДУ АТОМА ВХОДЯТЬ ТАКОЖ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ОЗИТИВНО 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ЗАРЯДЖЕНІ ЧАСТИНКИ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АТОМ СКЛАДАЄТЬСЯ З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ОЗИТИВНОГО ЗАРЯДУ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, ЯКИЙ РІВНОМІРНО РОЗПОДІЛЕНИЙ ПО ВСІЙ СФЕРІ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В СЕРЕДИНІ СФЕРИ ЗНАХОДЯТЬСЯ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ІД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ЄМНО ЗАРЯДЖЕНІ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 ЕЛЕКТРОНИ , ЯКІ РОЗМІЩЕНІ ТАК САМО , ЯК І ІЗЮМИНКИ В КЕКСІ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ІДЕЯ ПРО ПОДІЛ ЕЛЕКТРОНІВ В АТОМІ – НАЙНОВІ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                                    </a:t>
            </a:r>
            <a:r>
              <a:rPr b="1" lang="uk-UA" sz="1800" spc="-1" strike="noStrike">
                <a:solidFill>
                  <a:srgbClr val="ff0066"/>
                </a:solidFill>
                <a:latin typeface="Tahoma"/>
              </a:rPr>
              <a:t>ТЕОРІЯ 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WordArt 4"/>
          <p:cNvSpPr txBox="1"/>
          <p:nvPr/>
        </p:nvSpPr>
        <p:spPr>
          <a:xfrm>
            <a:off x="2411280" y="1484280"/>
            <a:ext cx="432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ЖОЗЕФ  ТОМСО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0:04:35Z</dcterms:created>
  <dc:creator>User</dc:creator>
  <dc:description/>
  <dc:language>en-US</dc:language>
  <cp:lastModifiedBy>User</cp:lastModifiedBy>
  <dcterms:modified xsi:type="dcterms:W3CDTF">2014-08-24T19:40:08Z</dcterms:modified>
  <cp:revision>31</cp:revision>
  <dc:subject/>
  <dc:title>ПІДГОТУВАЛИ  УЧНІ 11 КЛАСУ СТІЛЬСЬКОЇ ЗОШ І-ІІІ СТ. КЕРІВНИК ГРУПИ ВЧ. ФІЗИКИ МИХАЙЛИШИН С.С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5000000000001024140</vt:lpwstr>
  </property>
</Properties>
</file>