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359-6D1D-4FD5-9786-1C58FECD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590-F8EA-4C89-9FF7-C313724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9E2-BC6B-4AE1-8731-43F1964B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5F1-BC7B-4AAC-A101-F1DCC117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C86-ED3D-40E0-870F-0AFCD2E5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5F7-98EF-4740-99F0-41C5A45B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252-7D22-405A-BAA8-2445D19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5DD-7F83-4E1F-8DB1-87EA914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AD4-7A79-4885-8020-8B90ADD9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5CF-75F4-4964-A6DF-9D40AF9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754-BC78-4DBA-BC57-55B788D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A24-7A7E-46FD-8875-D9D5B3E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94F-DB1A-469B-BC31-CAF760E43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3680" y="1914480"/>
            <a:ext cx="8289720" cy="179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4.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Опір першої лампи - 10 Ом, другої - 15 Ом. Покази вольтметра – 12 В. Знайдіть силу струму, що проходить через кожну лампу і через реост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8. Параллельное соединение проводников. Принципиальная схема. Монтажная схема."/>
          <p:cNvPicPr/>
          <p:nvPr/>
        </p:nvPicPr>
        <p:blipFill>
          <a:blip r:embed="rId1"/>
          <a:stretch/>
        </p:blipFill>
        <p:spPr>
          <a:xfrm>
            <a:off x="1042920" y="2349360"/>
            <a:ext cx="712008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5.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Три провідники опором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2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6 Ом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єднані паралельно. Стрілка амперметра А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показує 2А. Знайдіть покази інших прилад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t2.gstatic.com/images?q=tbn:ANd9GcTd-uICe65-HAAz11vxO3qIejz3jluvuxLiXnar9Ri0NX98SzUWLGFn0zFzLg"/>
          <p:cNvPicPr/>
          <p:nvPr/>
        </p:nvPicPr>
        <p:blipFill>
          <a:blip r:embed="rId1"/>
          <a:stretch/>
        </p:blipFill>
        <p:spPr>
          <a:xfrm>
            <a:off x="1908000" y="2349360"/>
            <a:ext cx="54007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Які типи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ь зображено на малюнку? В чому переваги паралельного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ня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Применение последовательного и параллельного соединений."/>
          <p:cNvPicPr/>
          <p:nvPr/>
        </p:nvPicPr>
        <p:blipFill>
          <a:blip r:embed="rId1"/>
          <a:stretch/>
        </p:blipFill>
        <p:spPr>
          <a:xfrm>
            <a:off x="1619280" y="1844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Так можна виготовити гірлянду з паралельним з</a:t>
            </a:r>
            <a:r>
              <a:rPr b="0" lang="en-US" sz="40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єднанням лам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elektrikaetoprosto.narod.ru/u/parallelsoed.jpg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ламп в люстр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ре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2.gstatic.com/images?q=tbn:ANd9GcTiNKtYqhHl9-vqcsn6KK5GBg5lAg_MEMN3ypVWLfLmLy0zW2r5G8boyl57"/>
          <p:cNvPicPr/>
          <p:nvPr/>
        </p:nvPicPr>
        <p:blipFill>
          <a:blip r:embed="rId1"/>
          <a:stretch/>
        </p:blipFill>
        <p:spPr>
          <a:xfrm>
            <a:off x="324000" y="2421000"/>
            <a:ext cx="421776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go-radio.ru/images/r-parall.png"/>
          <p:cNvPicPr/>
          <p:nvPr/>
        </p:nvPicPr>
        <p:blipFill>
          <a:blip r:embed="rId2"/>
          <a:stretch/>
        </p:blipFill>
        <p:spPr>
          <a:xfrm>
            <a:off x="5580000" y="2205000"/>
            <a:ext cx="2828880" cy="13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do.gendocs.ru/pars_docs/tw_refs/5/4746/4746_html_6618c5ec.png"/>
          <p:cNvPicPr/>
          <p:nvPr/>
        </p:nvPicPr>
        <p:blipFill>
          <a:blip r:embed="rId3"/>
          <a:stretch/>
        </p:blipFill>
        <p:spPr>
          <a:xfrm>
            <a:off x="5076720" y="3860640"/>
            <a:ext cx="36925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гальванічних елемен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конденса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sxemotehnika.ru/images/stories/Parallel'noe-soedinenie-elementov.jpg"/>
          <p:cNvPicPr/>
          <p:nvPr/>
        </p:nvPicPr>
        <p:blipFill>
          <a:blip r:embed="rId1"/>
          <a:stretch/>
        </p:blipFill>
        <p:spPr>
          <a:xfrm>
            <a:off x="179280" y="2565360"/>
            <a:ext cx="3965760" cy="24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lectricalschool.info/uploads/posts/2010-09/1284018289_3.jpg"/>
          <p:cNvPicPr/>
          <p:nvPr/>
        </p:nvPicPr>
        <p:blipFill>
          <a:blip r:embed="rId2"/>
          <a:stretch/>
        </p:blipFill>
        <p:spPr>
          <a:xfrm>
            <a:off x="5796000" y="2276640"/>
            <a:ext cx="2887560" cy="201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ens.tpu.ru/POSOBIE_FIS_KUSN/%DD%EB%E5%EA%F2%F0%EE%F1%F2%E0%F2%E8%EA%E0.%20%CF%EE%F1%F2%EE%FF%ED%ED%FB%E9%20%D2%EE%EA/05_f/046.png"/>
          <p:cNvPicPr/>
          <p:nvPr/>
        </p:nvPicPr>
        <p:blipFill>
          <a:blip r:embed="rId3"/>
          <a:stretch/>
        </p:blipFill>
        <p:spPr>
          <a:xfrm>
            <a:off x="4716360" y="4437000"/>
            <a:ext cx="3629160" cy="20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Dokyment\ТАНЯ\Паралельне з'еднання\Пар з'єдн фото\IMG_20121125_141643.jpg"/>
          <p:cNvPicPr/>
          <p:nvPr/>
        </p:nvPicPr>
        <p:blipFill>
          <a:blip r:embed="rId4"/>
          <a:stretch/>
        </p:blipFill>
        <p:spPr>
          <a:xfrm>
            <a:off x="1692360" y="5157720"/>
            <a:ext cx="1655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Вольтметр підключають паралельно до ділянки, на якій вимірюють напру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6840" y="1916280"/>
            <a:ext cx="7931160" cy="420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Serg\Downloads\images.jpg"/>
          <p:cNvPicPr/>
          <p:nvPr/>
        </p:nvPicPr>
        <p:blipFill>
          <a:blip r:embed="rId2"/>
          <a:stretch/>
        </p:blipFill>
        <p:spPr>
          <a:xfrm>
            <a:off x="2050920" y="2637000"/>
            <a:ext cx="4829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Як 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єднані лампи і чим відрізняються ці кола? Знайдіть загальний опір ділянок, якщо опір кожної лампи 30 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okyment\ТАНЯ\Паралельне з'еднання\Пар з'єдн фото\IMG_20121125_141622.jpg"/>
          <p:cNvPicPr/>
          <p:nvPr/>
        </p:nvPicPr>
        <p:blipFill>
          <a:blip r:embed="rId1"/>
          <a:stretch/>
        </p:blipFill>
        <p:spPr>
          <a:xfrm>
            <a:off x="324000" y="1844640"/>
            <a:ext cx="429084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Dokyment\ТАНЯ\Паралельне з'еднання\Пар з'єдн фото\IMG_20121125_141628.jpg"/>
          <p:cNvPicPr/>
          <p:nvPr/>
        </p:nvPicPr>
        <p:blipFill>
          <a:blip r:embed="rId2"/>
          <a:stretch/>
        </p:blipFill>
        <p:spPr>
          <a:xfrm>
            <a:off x="4932360" y="2852640"/>
            <a:ext cx="399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дача №2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Як 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днані лампи? Зобразіть цю ділянку на схемі. Знайдіть напругу на першій лампі, якщо на  другій вона дорівнює 3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Пример соединения."/>
          <p:cNvPicPr/>
          <p:nvPr/>
        </p:nvPicPr>
        <p:blipFill>
          <a:blip r:embed="rId1"/>
          <a:stretch/>
        </p:blipFill>
        <p:spPr>
          <a:xfrm>
            <a:off x="1979640" y="2349360"/>
            <a:ext cx="5178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3440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дача №3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)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5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4А, І=?;    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   б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6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5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0 Ом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8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0"/>
          <p:cNvGrpSpPr/>
          <p:nvPr/>
        </p:nvGrpSpPr>
        <p:grpSpPr>
          <a:xfrm>
            <a:off x="539640" y="2924280"/>
            <a:ext cx="8228160" cy="2259360"/>
            <a:chOff x="539640" y="2924280"/>
            <a:chExt cx="8228160" cy="2259360"/>
          </a:xfrm>
        </p:grpSpPr>
        <p:grpSp>
          <p:nvGrpSpPr>
            <p:cNvPr id="70" name="Group 39"/>
            <p:cNvGrpSpPr/>
            <p:nvPr/>
          </p:nvGrpSpPr>
          <p:grpSpPr>
            <a:xfrm>
              <a:off x="539640" y="3489840"/>
              <a:ext cx="8228160" cy="1693800"/>
              <a:chOff x="539640" y="3489840"/>
              <a:chExt cx="8228160" cy="1693800"/>
            </a:xfrm>
          </p:grpSpPr>
          <p:sp>
            <p:nvSpPr>
              <p:cNvPr id="71" name="Text Box 13"/>
              <p:cNvSpPr/>
              <p:nvPr/>
            </p:nvSpPr>
            <p:spPr>
              <a:xfrm>
                <a:off x="1384920" y="4167720"/>
                <a:ext cx="16866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 Box 16"/>
              <p:cNvSpPr/>
              <p:nvPr/>
            </p:nvSpPr>
            <p:spPr>
              <a:xfrm>
                <a:off x="6656040" y="4167720"/>
                <a:ext cx="16909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Line 21"/>
              <p:cNvSpPr/>
              <p:nvPr/>
            </p:nvSpPr>
            <p:spPr>
              <a:xfrm>
                <a:off x="8767800" y="3489840"/>
                <a:ext cx="0" cy="11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4" name="Group 38"/>
              <p:cNvGrpSpPr/>
              <p:nvPr/>
            </p:nvGrpSpPr>
            <p:grpSpPr>
              <a:xfrm>
                <a:off x="539640" y="3927600"/>
                <a:ext cx="8227080" cy="1256040"/>
                <a:chOff x="539640" y="3927600"/>
                <a:chExt cx="8227080" cy="1256040"/>
              </a:xfrm>
            </p:grpSpPr>
            <p:sp>
              <p:nvSpPr>
                <p:cNvPr id="75" name="Line 5"/>
                <p:cNvSpPr/>
                <p:nvPr/>
              </p:nvSpPr>
              <p:spPr>
                <a:xfrm>
                  <a:off x="539640" y="4606920"/>
                  <a:ext cx="211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>
                  <a:off x="265104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>
                  <a:off x="2651040" y="4154760"/>
                  <a:ext cx="126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8"/>
                <p:cNvSpPr/>
                <p:nvPr/>
              </p:nvSpPr>
              <p:spPr>
                <a:xfrm>
                  <a:off x="3916800" y="3927600"/>
                  <a:ext cx="23180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9"/>
                <p:cNvSpPr/>
                <p:nvPr/>
              </p:nvSpPr>
              <p:spPr>
                <a:xfrm>
                  <a:off x="6235200" y="415476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10"/>
                <p:cNvSpPr/>
                <p:nvPr/>
              </p:nvSpPr>
              <p:spPr>
                <a:xfrm>
                  <a:off x="6235200" y="495864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11"/>
                <p:cNvSpPr/>
                <p:nvPr/>
              </p:nvSpPr>
              <p:spPr>
                <a:xfrm>
                  <a:off x="708408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Text Box 14"/>
                <p:cNvSpPr/>
                <p:nvPr/>
              </p:nvSpPr>
              <p:spPr>
                <a:xfrm>
                  <a:off x="4127040" y="392760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Line 22"/>
                <p:cNvSpPr/>
                <p:nvPr/>
              </p:nvSpPr>
              <p:spPr>
                <a:xfrm>
                  <a:off x="7080480" y="4606920"/>
                  <a:ext cx="168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24"/>
                <p:cNvSpPr/>
                <p:nvPr/>
              </p:nvSpPr>
              <p:spPr>
                <a:xfrm>
                  <a:off x="2651040" y="4958640"/>
                  <a:ext cx="126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Rectangle 25"/>
                <p:cNvSpPr/>
                <p:nvPr/>
              </p:nvSpPr>
              <p:spPr>
                <a:xfrm>
                  <a:off x="3913560" y="4731480"/>
                  <a:ext cx="23216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4127040" y="473148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ru-RU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Group 29"/>
            <p:cNvGrpSpPr/>
            <p:nvPr/>
          </p:nvGrpSpPr>
          <p:grpSpPr>
            <a:xfrm>
              <a:off x="539640" y="2924280"/>
              <a:ext cx="8227800" cy="1695240"/>
              <a:chOff x="539640" y="2924280"/>
              <a:chExt cx="8227800" cy="1695240"/>
            </a:xfrm>
          </p:grpSpPr>
          <p:sp>
            <p:nvSpPr>
              <p:cNvPr id="88" name="Line 30"/>
              <p:cNvSpPr/>
              <p:nvPr/>
            </p:nvSpPr>
            <p:spPr>
              <a:xfrm>
                <a:off x="539640" y="3489120"/>
                <a:ext cx="274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31"/>
              <p:cNvSpPr/>
              <p:nvPr/>
            </p:nvSpPr>
            <p:spPr>
              <a:xfrm>
                <a:off x="539640" y="3489120"/>
                <a:ext cx="0" cy="11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32"/>
              <p:cNvSpPr/>
              <p:nvPr/>
            </p:nvSpPr>
            <p:spPr>
              <a:xfrm>
                <a:off x="3282480" y="3263400"/>
                <a:ext cx="0" cy="33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3492720" y="3036960"/>
                <a:ext cx="0" cy="82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3492720" y="3489120"/>
                <a:ext cx="527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35"/>
              <p:cNvSpPr/>
              <p:nvPr/>
            </p:nvSpPr>
            <p:spPr>
              <a:xfrm>
                <a:off x="3071160" y="3036960"/>
                <a:ext cx="1477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36"/>
              <p:cNvSpPr/>
              <p:nvPr/>
            </p:nvSpPr>
            <p:spPr>
              <a:xfrm>
                <a:off x="2016720" y="2924280"/>
                <a:ext cx="16873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9:16:01Z</dcterms:created>
  <dc:creator>Serg</dc:creator>
  <dc:description/>
  <dc:language>en-US</dc:language>
  <cp:lastModifiedBy>Admin</cp:lastModifiedBy>
  <dcterms:modified xsi:type="dcterms:W3CDTF">2014-06-01T07:41:19Z</dcterms:modified>
  <cp:revision>2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6000000000001024140</vt:lpwstr>
  </property>
</Properties>
</file>