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368-82E4-4FFC-82B8-7059279FD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C506-1FDB-4BAF-B8DB-686FEF08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309D-ED88-4852-8A8B-BD0C3ACE5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98B-0FBF-42AF-92C6-415F95C8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2C38-03F8-499B-8240-662313DA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EDF8-45D5-4E2E-BBA7-61279266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18C4-609E-477E-BEF9-FE2824A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8835-5A4C-409E-97B4-116E03EE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F08D-4480-4580-997E-FD086749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D5E-E813-4723-B4B4-8F08AB78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7810-FA9E-41E0-8FC9-B425E8E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433-98D2-442A-B7CF-AC2493D7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9109-2140-4E00-BAC7-2176BDF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FFBA-D23E-4337-9D18-5B258DC1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8DBD-797D-4195-9D0B-D44DF75B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8252-B1BF-4399-8A2D-A3D9A835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3DB8-D312-4591-988A-73D24F11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BC5-4627-40C9-A38B-67C3B0F6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248-1C31-4B95-8D49-CC21AC27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62EC-B759-465D-8B9A-F4606D90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DBE-A1BF-486A-AB61-7CEF5C04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6F9-ADDF-4946-871F-3268A0F6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789-0EB6-47DD-9FE2-47D2EB1D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187-964C-447F-BA8A-F3BB37B5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74E5-19BB-462D-9BB4-6C4337C550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AB86-2003-4273-8810-79759755E51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Тема: «Властивості поверхні рідини. Поверхневий натяг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971640" y="2421000"/>
            <a:ext cx="3624120" cy="4032360"/>
          </a:xfrm>
          <a:prstGeom prst="rect">
            <a:avLst/>
          </a:prstGeom>
          <a:ln w="0">
            <a:noFill/>
          </a:ln>
          <a:effectLst>
            <a:outerShdw dist="109184" dir="19471693" blurRad="0" rotWithShape="0">
              <a:srgbClr val="808080"/>
            </a:outerShdw>
          </a:effectLst>
        </p:spPr>
      </p:pic>
      <p:sp>
        <p:nvSpPr>
          <p:cNvPr id="97" name=""/>
          <p:cNvSpPr txBox="1"/>
          <p:nvPr/>
        </p:nvSpPr>
        <p:spPr>
          <a:xfrm>
            <a:off x="4787640" y="270792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Р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КЕЛЬ Як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лліч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(1894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952), ро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йс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ь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й ф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ик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оретик.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Праці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електронній теорії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тал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ів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кінетичної теорії рідин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ядерної фізики тощо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4365720"/>
            <a:ext cx="3384720" cy="2492280"/>
          </a:xfrm>
          <a:prstGeom prst="rect">
            <a:avLst/>
          </a:prstGeom>
          <a:ln w="0">
            <a:noFill/>
          </a:ln>
          <a:effectLst>
            <a:outerShdw dist="99192" dir="19218056" blurRad="0" rotWithShape="0">
              <a:srgbClr val="808080"/>
            </a:outerShdw>
          </a:effectLst>
        </p:spPr>
      </p:pic>
      <p:pic>
        <p:nvPicPr>
          <p:cNvPr id="131" name="" descr=""/>
          <p:cNvPicPr/>
          <p:nvPr/>
        </p:nvPicPr>
        <p:blipFill>
          <a:blip r:embed="rId2">
            <a:lum bright="18000"/>
          </a:blip>
          <a:srcRect l="-2019" t="0" r="0" b="13"/>
          <a:stretch/>
        </p:blipFill>
        <p:spPr>
          <a:xfrm>
            <a:off x="5076720" y="1484280"/>
            <a:ext cx="3600720" cy="2665440"/>
          </a:xfrm>
          <a:prstGeom prst="rect">
            <a:avLst/>
          </a:prstGeom>
          <a:ln w="0">
            <a:noFill/>
          </a:ln>
          <a:effectLst>
            <a:outerShdw dist="71785" dir="18900000" blurRad="0" rotWithShape="0">
              <a:srgbClr val="808080"/>
            </a:outerShdw>
          </a:effectLst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39640" y="2133720"/>
            <a:ext cx="4176720" cy="4248000"/>
          </a:xfrm>
          <a:prstGeom prst="rect">
            <a:avLst/>
          </a:prstGeom>
          <a:ln w="0">
            <a:noFill/>
          </a:ln>
          <a:effectLst>
            <a:outerShdw dist="99192" dir="19218056" blurRad="0" rotWithShape="0">
              <a:srgbClr val="808080"/>
            </a:outerShdw>
          </a:effectLst>
        </p:spPr>
      </p:pic>
      <p:sp>
        <p:nvSpPr>
          <p:cNvPr id="133" name=""/>
          <p:cNvSpPr txBox="1"/>
          <p:nvPr/>
        </p:nvSpPr>
        <p:spPr>
          <a:xfrm>
            <a:off x="699840" y="88920"/>
            <a:ext cx="77468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Прокоментуйте зображенн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78920" y="2060640"/>
            <a:ext cx="44290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Мал.1 Павук - водомір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л.2 Вода у невагомості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60640" y="4300560"/>
            <a:ext cx="377028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Мал.3 Скріпка на поверхні вод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5636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§ 20 прочитат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класти блок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записати блок у зошит з теорії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повідомлення про прояви поверхневого натягу рідини у    повсякденному житті</a:t>
            </a: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*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Тема: «Властивості поверхні рідини. Поверхневий натяг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87280" y="2565000"/>
            <a:ext cx="377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Епіграф</a:t>
            </a:r>
            <a:r>
              <a:rPr b="0" lang="uk-UA" sz="2400" spc="-1" strike="noStrike">
                <a:solidFill>
                  <a:srgbClr val="003366"/>
                </a:solidFill>
                <a:latin typeface="Arial"/>
              </a:rPr>
              <a:t>: « В науці потрібне уявлення. Вона не вичерпується цілком ні математикою, ні логікою, в ній є щось від красоти та поезії.»                 Марія Мітчелл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73360" y="2636640"/>
            <a:ext cx="3770280" cy="372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0000" y="2708280"/>
            <a:ext cx="3025800" cy="309564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1 група. Описати поведінку поверхні    вод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22" b="11"/>
          <a:stretch/>
        </p:blipFill>
        <p:spPr>
          <a:xfrm>
            <a:off x="1403280" y="3068640"/>
            <a:ext cx="3095640" cy="3025800"/>
          </a:xfrm>
          <a:prstGeom prst="rect">
            <a:avLst/>
          </a:prstGeom>
          <a:ln w="0">
            <a:noFill/>
          </a:ln>
          <a:effectLst>
            <a:outerShdw dist="99192" dir="18581945" blurRad="0" rotWithShape="0">
              <a:srgbClr val="808080"/>
            </a:outerShdw>
          </a:effectLst>
        </p:spPr>
      </p:pic>
      <p:sp>
        <p:nvSpPr>
          <p:cNvPr id="10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0" t="0" r="32" b="-904"/>
          <a:stretch/>
        </p:blipFill>
        <p:spPr>
          <a:xfrm>
            <a:off x="5292720" y="3068640"/>
            <a:ext cx="3193920" cy="3097080"/>
          </a:xfrm>
          <a:prstGeom prst="rect">
            <a:avLst/>
          </a:prstGeom>
          <a:ln w="0">
            <a:noFill/>
          </a:ln>
          <a:effectLst>
            <a:outerShdw dist="99192" dir="18581945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2 група. Описати форму краплі на поверхні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-31"/>
          <a:stretch/>
        </p:blipFill>
        <p:spPr>
          <a:xfrm>
            <a:off x="1979640" y="2565360"/>
            <a:ext cx="5832360" cy="331308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3 група. Описати поведінку тіла на поверхні вод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20" b="-1400"/>
          <a:stretch/>
        </p:blipFill>
        <p:spPr>
          <a:xfrm>
            <a:off x="2340000" y="2492280"/>
            <a:ext cx="5111640" cy="3816360"/>
          </a:xfrm>
          <a:prstGeom prst="rect">
            <a:avLst/>
          </a:prstGeom>
          <a:ln w="0">
            <a:noFill/>
          </a:ln>
          <a:effectLst>
            <a:outerShdw dist="81185" dir="1927803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55720" y="433440"/>
            <a:ext cx="7723800" cy="13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4 група. Сили поверхневого натягу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3565440" cy="3240360"/>
          </a:xfrm>
          <a:prstGeom prst="rect">
            <a:avLst/>
          </a:prstGeom>
          <a:ln w="0">
            <a:noFill/>
          </a:ln>
          <a:effectLst>
            <a:outerShdw dist="96762" dir="20206406" blurRad="0" rotWithShape="0">
              <a:srgbClr val="808080"/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48360" y="2852640"/>
            <a:ext cx="3744720" cy="3240360"/>
          </a:xfrm>
          <a:prstGeom prst="rect">
            <a:avLst/>
          </a:prstGeom>
          <a:ln w="0">
            <a:noFill/>
          </a:ln>
          <a:effectLst>
            <a:outerShdw dist="113502" dir="20006097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99280" y="54828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5 група. Сили поверхневого натягу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-11" b="0"/>
          <a:stretch/>
        </p:blipFill>
        <p:spPr>
          <a:xfrm>
            <a:off x="971640" y="2997360"/>
            <a:ext cx="3024000" cy="3024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311640" cy="3024000"/>
          </a:xfrm>
          <a:prstGeom prst="rect">
            <a:avLst/>
          </a:prstGeom>
          <a:ln w="0">
            <a:noFill/>
          </a:ln>
          <a:effectLst>
            <a:outerShdw dist="109184" dir="19471693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006666"/>
                </a:solidFill>
                <a:uFillTx/>
                <a:latin typeface="Arial"/>
              </a:rPr>
              <a:t>6 група. Способи зміни поверхневого натягу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66"/>
                </a:solidFill>
                <a:latin typeface="Arial"/>
              </a:rPr>
              <a:t>Піс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3068640"/>
            <a:ext cx="3600720" cy="29512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292720" y="2997360"/>
            <a:ext cx="3530520" cy="3024000"/>
          </a:xfrm>
          <a:prstGeom prst="rect">
            <a:avLst/>
          </a:prstGeom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66160" y="364320"/>
            <a:ext cx="7715880" cy="14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6666"/>
                </a:solidFill>
                <a:uFillTx/>
                <a:latin typeface="Arial"/>
              </a:rPr>
              <a:t>Пояснення утворення поверхневого шару рідини на основі молекулярних уявлень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-109" t="-1904" r="-44" b="0"/>
          <a:stretch/>
        </p:blipFill>
        <p:spPr>
          <a:xfrm>
            <a:off x="2411280" y="2637000"/>
            <a:ext cx="4465800" cy="34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08:14:30Z</dcterms:created>
  <dc:creator>САША</dc:creator>
  <dc:description/>
  <dc:language>en-US</dc:language>
  <cp:lastModifiedBy>САША</cp:lastModifiedBy>
  <dcterms:modified xsi:type="dcterms:W3CDTF">2008-10-19T11:17:17Z</dcterms:modified>
  <cp:revision>13</cp:revision>
  <dc:subject/>
  <dc:title>Тема: «Властивості поверхні рідини. Поверхневий натяг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804000000000001024140</vt:lpwstr>
  </property>
</Properties>
</file>