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36C-E2DD-4C3B-9D3B-75EA3CE6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E54-2C8F-49E8-9942-764E2867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667-6C69-475A-8395-42B238BA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2B1-D627-4FB7-8FF1-85141981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5504-B151-4F09-B532-6DE7A555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9F43-1D46-4DCC-A330-C06225CA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DA7E-334B-4E41-98BC-D832D9E6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CC6C-1DC5-4238-B8BD-9B96F8AB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001-FB96-45F9-9F24-326FDF89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C69D-10D8-45B6-81C5-75D33920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07DB-E4E3-430A-869B-C8549B00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FBF-2CF5-4125-AC7E-13A8233A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EE96-1BEA-4DFA-8C93-6188A554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85B0-AB20-4809-B0AB-D9CDDF41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08D0-E13E-4569-AF28-31115698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9CE0-F4DC-48FD-A539-06AFE9A3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B9D6-FF13-4521-90A1-D3D6FA01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3A1-1F5F-4E76-A015-130C6136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7DA-62D8-4E09-ACA3-8DAF0CB2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443-A015-43E1-868A-F7CFFE9D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123-C1F0-4A35-9726-F620C501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98A-F4FE-4A83-97F7-465CAA32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AC8-CE52-4A27-8D00-4E92A264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B82-3552-41C4-9042-7151B40C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659F-5951-4445-98A3-FEA77800E2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C6D6-7B5B-4D56-958B-6B2A23E73A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Тема: «Властивості поверхні рідини. Поверхневий натяг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3624120" cy="4032360"/>
          </a:xfrm>
          <a:prstGeom prst="rect">
            <a:avLst/>
          </a:prstGeom>
          <a:ln w="0">
            <a:noFill/>
          </a:ln>
          <a:effectLst>
            <a:outerShdw dist="109184" dir="19471693" blurRad="0" rotWithShape="0">
              <a:srgbClr val="808080"/>
            </a:outerShdw>
          </a:effectLst>
        </p:spPr>
      </p:pic>
      <p:sp>
        <p:nvSpPr>
          <p:cNvPr id="97" name=""/>
          <p:cNvSpPr txBox="1"/>
          <p:nvPr/>
        </p:nvSpPr>
        <p:spPr>
          <a:xfrm>
            <a:off x="4787640" y="270792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Р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КЕЛЬ Як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лліч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1894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952), рос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йс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й ф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ик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оретик.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Праці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електронній теорії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ал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кінетичної теорії рідин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ядерної фізики тощо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4365720"/>
            <a:ext cx="3384720" cy="2492280"/>
          </a:xfrm>
          <a:prstGeom prst="rect">
            <a:avLst/>
          </a:prstGeom>
          <a:ln w="0">
            <a:noFill/>
          </a:ln>
          <a:effectLst>
            <a:outerShdw dist="99192" dir="19218056" blurRad="0" rotWithShape="0">
              <a:srgbClr val="808080"/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2">
            <a:lum bright="18000"/>
          </a:blip>
          <a:srcRect l="-2019" t="0" r="0" b="13"/>
          <a:stretch/>
        </p:blipFill>
        <p:spPr>
          <a:xfrm>
            <a:off x="5076720" y="1484280"/>
            <a:ext cx="3600720" cy="266544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808080"/>
            </a:outerShdw>
          </a:effectLst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4176720" cy="4248000"/>
          </a:xfrm>
          <a:prstGeom prst="rect">
            <a:avLst/>
          </a:prstGeom>
          <a:ln w="0">
            <a:noFill/>
          </a:ln>
          <a:effectLst>
            <a:outerShdw dist="99192" dir="19218056" blurRad="0" rotWithShape="0">
              <a:srgbClr val="808080"/>
            </a:outerShdw>
          </a:effectLst>
        </p:spPr>
      </p:pic>
      <p:sp>
        <p:nvSpPr>
          <p:cNvPr id="133" name=""/>
          <p:cNvSpPr txBox="1"/>
          <p:nvPr/>
        </p:nvSpPr>
        <p:spPr>
          <a:xfrm>
            <a:off x="699840" y="88920"/>
            <a:ext cx="77468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Прокоментуйте зображенн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8920" y="2060640"/>
            <a:ext cx="442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Мал.1 Павук - водомір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ал.2 Вода у невагомост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60640" y="4300560"/>
            <a:ext cx="377028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ал.3 Скріпка на поверхні вод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636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§ 20 прочита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класти блок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записати блок у зошит з теорії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дготувати повідомлення про прояви поверхневого натягу рідини у    повсякденному житті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Тема: «Властивості поверхні рідини. Поверхневий натяг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256500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Епіграф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: « В науці потрібне уявлення. Вона не вичерпується цілком ні математикою, ні логікою, в ній є щось від красоти та поезії.»                 Марія Мітчелл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73360" y="263664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80000" y="2708280"/>
            <a:ext cx="3025800" cy="3095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6666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1 група. Описати поведінку поверхні    вод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22" b="11"/>
          <a:stretch/>
        </p:blipFill>
        <p:spPr>
          <a:xfrm>
            <a:off x="1403280" y="3068640"/>
            <a:ext cx="3095640" cy="3025800"/>
          </a:xfrm>
          <a:prstGeom prst="rect">
            <a:avLst/>
          </a:prstGeom>
          <a:ln w="0">
            <a:noFill/>
          </a:ln>
          <a:effectLst>
            <a:outerShdw dist="99192" dir="18581945" blurRad="0" rotWithShape="0">
              <a:srgbClr val="808080"/>
            </a:outerShdw>
          </a:effectLst>
        </p:spPr>
      </p:pic>
      <p:sp>
        <p:nvSpPr>
          <p:cNvPr id="10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0" r="32" b="-904"/>
          <a:stretch/>
        </p:blipFill>
        <p:spPr>
          <a:xfrm>
            <a:off x="5292720" y="3068640"/>
            <a:ext cx="3193920" cy="3097080"/>
          </a:xfrm>
          <a:prstGeom prst="rect">
            <a:avLst/>
          </a:prstGeom>
          <a:ln w="0">
            <a:noFill/>
          </a:ln>
          <a:effectLst>
            <a:outerShdw dist="99192" dir="18581945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2 група. Описати форму краплі на поверхні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-31"/>
          <a:stretch/>
        </p:blipFill>
        <p:spPr>
          <a:xfrm>
            <a:off x="1979640" y="2565360"/>
            <a:ext cx="5832360" cy="3313080"/>
          </a:xfrm>
          <a:prstGeom prst="rect">
            <a:avLst/>
          </a:prstGeom>
          <a:ln w="0">
            <a:noFill/>
          </a:ln>
          <a:effectLst>
            <a:outerShdw dist="81185" dir="1927803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3 група. Описати поведінку тіла на поверхні вод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20" b="-1400"/>
          <a:stretch/>
        </p:blipFill>
        <p:spPr>
          <a:xfrm>
            <a:off x="2340000" y="2492280"/>
            <a:ext cx="5111640" cy="3816360"/>
          </a:xfrm>
          <a:prstGeom prst="rect">
            <a:avLst/>
          </a:prstGeom>
          <a:ln w="0">
            <a:noFill/>
          </a:ln>
          <a:effectLst>
            <a:outerShdw dist="81185" dir="1927803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55720" y="433440"/>
            <a:ext cx="7723800" cy="13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4 група. Сили поверхневого натяг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3565440" cy="3240360"/>
          </a:xfrm>
          <a:prstGeom prst="rect">
            <a:avLst/>
          </a:prstGeom>
          <a:ln w="0">
            <a:noFill/>
          </a:ln>
          <a:effectLst>
            <a:outerShdw dist="96762" dir="20206406" blurRad="0" rotWithShape="0">
              <a:srgbClr val="808080"/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3744720" cy="3240360"/>
          </a:xfrm>
          <a:prstGeom prst="rect">
            <a:avLst/>
          </a:prstGeom>
          <a:ln w="0">
            <a:noFill/>
          </a:ln>
          <a:effectLst>
            <a:outerShdw dist="113502" dir="20006097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9928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5 група. Сили поверхневого натягу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-11" b="0"/>
          <a:stretch/>
        </p:blipFill>
        <p:spPr>
          <a:xfrm>
            <a:off x="971640" y="2997360"/>
            <a:ext cx="3024000" cy="302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311640" cy="3024000"/>
          </a:xfrm>
          <a:prstGeom prst="rect">
            <a:avLst/>
          </a:prstGeom>
          <a:ln w="0">
            <a:noFill/>
          </a:ln>
          <a:effectLst>
            <a:outerShdw dist="109184" dir="19471693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6 група. Способи зміни поверхневого натягу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3600720" cy="2951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530520" cy="3024000"/>
          </a:xfrm>
          <a:prstGeom prst="rect">
            <a:avLst/>
          </a:prstGeom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66160" y="364320"/>
            <a:ext cx="7715880" cy="14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6666"/>
                </a:solidFill>
                <a:uFillTx/>
                <a:latin typeface="Arial"/>
              </a:rPr>
              <a:t>Пояснення утворення поверхневого шару рідини на основі молекулярних уявлень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-109" t="-1904" r="-44" b="0"/>
          <a:stretch/>
        </p:blipFill>
        <p:spPr>
          <a:xfrm>
            <a:off x="2411280" y="2637000"/>
            <a:ext cx="4465800" cy="34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8:14:30Z</dcterms:created>
  <dc:creator>САША</dc:creator>
  <dc:description/>
  <dc:language>en-US</dc:language>
  <cp:lastModifiedBy>САША</cp:lastModifiedBy>
  <dcterms:modified xsi:type="dcterms:W3CDTF">2008-10-19T11:17:17Z</dcterms:modified>
  <cp:revision>13</cp:revision>
  <dc:subject/>
  <dc:title>Тема: «Властивості поверхні рідини. Поверхневий натяг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4000000000001024140</vt:lpwstr>
  </property>
</Properties>
</file>