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4C50-D015-4812-8502-8A0C4543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2465-42C0-4ECA-98FE-6520D3D5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22B8-459A-4537-B1EE-B9BA0A86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E4FC-0CFB-43CE-93FB-DE07917D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FC1B-0DBA-4A8C-9BE4-D4D553CE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1788-5CED-4FEE-AA86-EDEC2B5C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D6D8-916E-4998-9E1E-CD8A76F8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A27A-4A7F-4068-96D6-B97D5CE0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2734-17D5-4D1E-8B02-D710CAED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6939-D994-4F68-9A6B-A630452B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48E0-4583-4A56-95CF-7EED0CE9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6963-8B79-48C7-861E-479CC8B7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61E0-4470-4CD5-A5FA-C7E68E94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3734-701C-4FCD-B64C-0A1090A1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DB8E-549B-48EC-BC17-450664B2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47D1-13BB-40B9-9075-FBCDEC2D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565E-553B-4540-A591-72FD849B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53F2-627A-4502-9B75-AD418F44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6421-1E4E-43B2-B723-37CA29C5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AC85-82AD-4931-AEEB-8D439B3E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2AA4-880F-43EA-B0C8-90441A63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64A7-7001-4613-873F-ECFA9036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C381-715B-4F4E-9FF3-B7C15D61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DF95-AE07-42C9-9519-10D96D7A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01E9-8ACD-40FB-89D0-FCF284DB943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0675-F520-47A5-A73D-F19A9726582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Тема: «Властивості поверхні рідини. Поверхневий натяг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37720" y="2361960"/>
            <a:ext cx="3770280" cy="3724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71640" y="2421000"/>
            <a:ext cx="3624120" cy="4032360"/>
          </a:xfrm>
          <a:prstGeom prst="rect">
            <a:avLst/>
          </a:prstGeom>
          <a:ln w="0">
            <a:noFill/>
          </a:ln>
          <a:effectLst>
            <a:outerShdw dist="109184" dir="19471693" blurRad="0" rotWithShape="0">
              <a:srgbClr val="808080"/>
            </a:outerShdw>
          </a:effectLst>
        </p:spPr>
      </p:pic>
      <p:sp>
        <p:nvSpPr>
          <p:cNvPr id="97" name=""/>
          <p:cNvSpPr txBox="1"/>
          <p:nvPr/>
        </p:nvSpPr>
        <p:spPr>
          <a:xfrm>
            <a:off x="4787640" y="270792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Р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КЕЛЬ Як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і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Ілліч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1894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952), рос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і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йс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ь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ий ф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і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ик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еоретик. 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Праці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 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електронній теорії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етал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ів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кінетичної теорії рідин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ядерної фізики тощо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76720" y="4365720"/>
            <a:ext cx="3384720" cy="2492280"/>
          </a:xfrm>
          <a:prstGeom prst="rect">
            <a:avLst/>
          </a:prstGeom>
          <a:ln w="0">
            <a:noFill/>
          </a:ln>
          <a:effectLst>
            <a:outerShdw dist="99192" dir="19218056" blurRad="0" rotWithShape="0">
              <a:srgbClr val="808080"/>
            </a:outerShdw>
          </a:effectLst>
        </p:spPr>
      </p:pic>
      <p:pic>
        <p:nvPicPr>
          <p:cNvPr id="131" name="" descr=""/>
          <p:cNvPicPr/>
          <p:nvPr/>
        </p:nvPicPr>
        <p:blipFill>
          <a:blip r:embed="rId2">
            <a:lum bright="18000"/>
          </a:blip>
          <a:srcRect l="-2019" t="0" r="0" b="13"/>
          <a:stretch/>
        </p:blipFill>
        <p:spPr>
          <a:xfrm>
            <a:off x="5076720" y="1484280"/>
            <a:ext cx="3600720" cy="2665440"/>
          </a:xfrm>
          <a:prstGeom prst="rect">
            <a:avLst/>
          </a:prstGeom>
          <a:ln w="0">
            <a:noFill/>
          </a:ln>
          <a:effectLst>
            <a:outerShdw dist="71785" dir="18900000" blurRad="0" rotWithShape="0">
              <a:srgbClr val="808080"/>
            </a:outerShdw>
          </a:effectLst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39640" y="2133720"/>
            <a:ext cx="4176720" cy="4248000"/>
          </a:xfrm>
          <a:prstGeom prst="rect">
            <a:avLst/>
          </a:prstGeom>
          <a:ln w="0">
            <a:noFill/>
          </a:ln>
          <a:effectLst>
            <a:outerShdw dist="99192" dir="19218056" blurRad="0" rotWithShape="0">
              <a:srgbClr val="808080"/>
            </a:outerShdw>
          </a:effectLst>
        </p:spPr>
      </p:pic>
      <p:sp>
        <p:nvSpPr>
          <p:cNvPr id="133" name=""/>
          <p:cNvSpPr txBox="1"/>
          <p:nvPr/>
        </p:nvSpPr>
        <p:spPr>
          <a:xfrm>
            <a:off x="699840" y="88920"/>
            <a:ext cx="774684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6666"/>
                </a:solidFill>
                <a:uFillTx/>
                <a:latin typeface="Arial"/>
              </a:rPr>
              <a:t>Прокоментуйте зображенн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78920" y="2060640"/>
            <a:ext cx="4429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Мал.1 Павук - водомір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Мал.2 Вода у невагомості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760640" y="4300560"/>
            <a:ext cx="377028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Мал.3 Скріпка на поверхні вод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5636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6666"/>
                </a:solidFill>
                <a:uFillTx/>
                <a:latin typeface="Arial"/>
              </a:rPr>
              <a:t>Домашнє завда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§ 20 прочитат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скласти блок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записати блок у зошит з теорії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Підготувати повідомлення про прояви поверхневого натягу рідини у    повсякденному житті</a:t>
            </a: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*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Тема: «Властивості поверхні рідини. Поверхневий натяг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187280" y="2565000"/>
            <a:ext cx="377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Епіграф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: « В науці потрібне уявлення. Вона не вичерпується цілком ні математикою, ні логікою, в ній є щось від красоти та поезії.»                 Марія Мітчелл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73360" y="2636640"/>
            <a:ext cx="3770280" cy="372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580000" y="2708280"/>
            <a:ext cx="3025800" cy="30956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6666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uk-UA" sz="3200" spc="-1" strike="noStrike" u="sng">
                <a:solidFill>
                  <a:srgbClr val="006666"/>
                </a:solidFill>
                <a:uFillTx/>
                <a:latin typeface="Arial"/>
              </a:rPr>
              <a:t>1 група. Описати поведінку поверхні    води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Д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22" b="11"/>
          <a:stretch/>
        </p:blipFill>
        <p:spPr>
          <a:xfrm>
            <a:off x="1403280" y="3068640"/>
            <a:ext cx="3095640" cy="3025800"/>
          </a:xfrm>
          <a:prstGeom prst="rect">
            <a:avLst/>
          </a:prstGeom>
          <a:ln w="0">
            <a:noFill/>
          </a:ln>
          <a:effectLst>
            <a:outerShdw dist="99192" dir="18581945" blurRad="0" rotWithShape="0">
              <a:srgbClr val="808080"/>
            </a:outerShdw>
          </a:effectLst>
        </p:spPr>
      </p:pic>
      <p:sp>
        <p:nvSpPr>
          <p:cNvPr id="105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Післ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0" t="0" r="32" b="-904"/>
          <a:stretch/>
        </p:blipFill>
        <p:spPr>
          <a:xfrm>
            <a:off x="5292720" y="3068640"/>
            <a:ext cx="3193920" cy="3097080"/>
          </a:xfrm>
          <a:prstGeom prst="rect">
            <a:avLst/>
          </a:prstGeom>
          <a:ln w="0">
            <a:noFill/>
          </a:ln>
          <a:effectLst>
            <a:outerShdw dist="99192" dir="18581945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6666"/>
                </a:solidFill>
                <a:uFillTx/>
                <a:latin typeface="Arial"/>
              </a:rPr>
              <a:t>2 група. Описати форму краплі на поверхні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-31"/>
          <a:stretch/>
        </p:blipFill>
        <p:spPr>
          <a:xfrm>
            <a:off x="1979640" y="2565360"/>
            <a:ext cx="5832360" cy="3313080"/>
          </a:xfrm>
          <a:prstGeom prst="rect">
            <a:avLst/>
          </a:prstGeom>
          <a:ln w="0">
            <a:noFill/>
          </a:ln>
          <a:effectLst>
            <a:outerShdw dist="81185" dir="19278031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6666"/>
                </a:solidFill>
                <a:uFillTx/>
                <a:latin typeface="Arial"/>
              </a:rPr>
              <a:t>3 група. Описати поведінку тіла на поверхні води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20" b="-1400"/>
          <a:stretch/>
        </p:blipFill>
        <p:spPr>
          <a:xfrm>
            <a:off x="2340000" y="2492280"/>
            <a:ext cx="5111640" cy="3816360"/>
          </a:xfrm>
          <a:prstGeom prst="rect">
            <a:avLst/>
          </a:prstGeom>
          <a:ln w="0">
            <a:noFill/>
          </a:ln>
          <a:effectLst>
            <a:outerShdw dist="81185" dir="19278031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55720" y="433440"/>
            <a:ext cx="7723800" cy="13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6666"/>
                </a:solidFill>
                <a:uFillTx/>
                <a:latin typeface="Arial"/>
              </a:rPr>
              <a:t>4 група. Сили поверхневого натягу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Післ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Д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3565440" cy="3240360"/>
          </a:xfrm>
          <a:prstGeom prst="rect">
            <a:avLst/>
          </a:prstGeom>
          <a:ln w="0">
            <a:noFill/>
          </a:ln>
          <a:effectLst>
            <a:outerShdw dist="96762" dir="20206406" blurRad="0" rotWithShape="0">
              <a:srgbClr val="808080"/>
            </a:outerShdw>
          </a:effectLst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148360" y="2852640"/>
            <a:ext cx="3744720" cy="3240360"/>
          </a:xfrm>
          <a:prstGeom prst="rect">
            <a:avLst/>
          </a:prstGeom>
          <a:ln w="0">
            <a:noFill/>
          </a:ln>
          <a:effectLst>
            <a:outerShdw dist="113502" dir="20006097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99280" y="548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6666"/>
                </a:solidFill>
                <a:uFillTx/>
                <a:latin typeface="Arial"/>
              </a:rPr>
              <a:t>5 група. Сили поверхневого натягу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Д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Післ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-11" b="0"/>
          <a:stretch/>
        </p:blipFill>
        <p:spPr>
          <a:xfrm>
            <a:off x="971640" y="2997360"/>
            <a:ext cx="3024000" cy="3024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92720" y="2997360"/>
            <a:ext cx="3311640" cy="3024000"/>
          </a:xfrm>
          <a:prstGeom prst="rect">
            <a:avLst/>
          </a:prstGeom>
          <a:ln w="0">
            <a:noFill/>
          </a:ln>
          <a:effectLst>
            <a:outerShdw dist="109184" dir="19471693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6666"/>
                </a:solidFill>
                <a:uFillTx/>
                <a:latin typeface="Arial"/>
              </a:rPr>
              <a:t>6 група. Способи зміни поверхневого натягу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Д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Післ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26920" y="3068640"/>
            <a:ext cx="3600720" cy="29512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292720" y="2997360"/>
            <a:ext cx="3530520" cy="3024000"/>
          </a:xfrm>
          <a:prstGeom prst="rect">
            <a:avLst/>
          </a:prstGeom>
          <a:ln w="0">
            <a:noFill/>
          </a:ln>
          <a:effectLst>
            <a:outerShdw dist="91658" dir="19582341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66160" y="364320"/>
            <a:ext cx="7715880" cy="14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6666"/>
                </a:solidFill>
                <a:uFillTx/>
                <a:latin typeface="Arial"/>
              </a:rPr>
              <a:t>Пояснення утворення поверхневого шару рідини на основі молекулярних уявлень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-109" t="-1904" r="-44" b="0"/>
          <a:stretch/>
        </p:blipFill>
        <p:spPr>
          <a:xfrm>
            <a:off x="2411280" y="2637000"/>
            <a:ext cx="4465800" cy="345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08:14:30Z</dcterms:created>
  <dc:creator>САША</dc:creator>
  <dc:description/>
  <dc:language>en-US</dc:language>
  <cp:lastModifiedBy>САША</cp:lastModifiedBy>
  <dcterms:modified xsi:type="dcterms:W3CDTF">2008-10-19T11:17:17Z</dcterms:modified>
  <cp:revision>13</cp:revision>
  <dc:subject/>
  <dc:title>Тема: «Властивості поверхні рідини. Поверхневий натяг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804000000000001024140</vt:lpwstr>
  </property>
</Properties>
</file>