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23.png" ContentType="image/png"/>
  <Override PartName="/ppt/media/image8.jpeg" ContentType="image/jpeg"/>
  <Override PartName="/ppt/media/image37.jpeg" ContentType="image/jpeg"/>
  <Override PartName="/ppt/media/image30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AD3-9402-4282-AC43-C9B63534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1A6-E105-4595-B2F5-D9319EC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22510-082A-49B6-9079-A0BBD36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AC0A2-993E-46AD-A94A-20AB2E7E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D5CB4-C709-4EC6-9C89-8426FC4D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3BF0F-1738-46DE-B804-4106FF42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67A00-08B8-422F-96A7-F9DB48B0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80CE1-7DB1-47E4-A566-45813C8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F9009-1236-44BA-9F3A-D8414B3E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59CBE-8B0B-427B-94FD-78D0C09B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A4466-990D-47A0-8474-EF054C49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35962-D17B-4AF1-AC76-2ECD5B10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41D-52CA-4234-94DB-F69CD1C2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EE844-D669-4378-8A69-E7411D13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E5DA8-91A1-4C86-B694-A0D69C6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911AB-7640-47C7-BEBE-3757754F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44F8F-C2E8-4151-8CA7-C8E13B3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20037-2412-4681-A4F1-FAADA546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6590E-21DF-47F9-9ACA-0A766E3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603B9-6A60-4C6C-A26C-04E38C3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9D13C-4512-47E3-A35C-ADA52DF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DFAC7-BE4B-44E6-9BE2-4A871776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DA601-3F91-41CF-B6D3-DA6C8D73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432-8044-4303-9150-58441696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0F1B2-5638-4783-97B3-7A266F51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23B7-22E3-4E1D-9311-7C77A9B5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5723-DA42-462A-93A1-45A23326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4E24-BC10-481C-9C68-2A6DE58E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B498-953C-431A-B336-D1280285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2380-6B80-430F-98A0-1535751B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E0BB-4B1F-4E1C-A8C6-028A9DED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B530-C9C0-40D8-8D22-15AB5EE3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6F5-45A8-4FC1-9C4E-840A2C7B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2959-887F-4416-8BA2-5CFB3A7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A6C9-C234-4A91-9FA9-CD9D0CEC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4AE-760D-4F59-90A0-75016A65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E30C-E5B4-474E-88DF-423B5EE8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E41F-8C87-46CE-BCB3-4E31251F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C894-ACFE-4CF6-A0F9-9E30029C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25E7-1722-4173-AD7F-9EBFADA6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D5C9-365A-4E88-A206-6AB66FD2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67CFC-303C-4AEC-8850-EF1CB648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5762-1AFF-4EF4-8FB4-40005345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5B4-47AD-4FC2-B18E-F5655C0C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61B3-271D-4861-B456-4FC0C089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1E1F-464E-41AC-B402-C459F29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E23C-32CA-48BA-8E75-3EE4112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0312-95D6-49D8-80A0-1E2221AC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4A76-8645-4963-ABE4-814C355F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7710-7490-40C9-BF7C-2D56884C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C547-E664-448F-B93E-6D1432FD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89DE2-3E0B-4E31-ABB8-8BC5CC51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741E-8BA4-4CF8-80D0-FFB014F1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FD8AF-8CD0-42CD-BB60-EB9E3396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AA6-84A8-42B9-8297-B6121CA4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95E92-1FFA-474B-ABC1-168801C2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BDA3-248A-41B6-B098-C6A1D760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BDC2-DDD2-4ECF-B521-D690B171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93134-3A8F-4E0D-84B9-9EE65EB3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776F-74AE-48C3-979F-967F6DB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5D16-9D9E-4046-A07F-9DDA0D67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0B35C-BC0E-4FE1-B588-BD38A038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4F6D-46F8-4E5C-8A84-D20EA83B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27573-EFDD-4171-BD86-7E08E38F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61B2A-4EEF-4E0E-AF3B-D94CD3B3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7D6-BD52-4188-A2B5-417E5479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84B1E-632C-4222-9D61-66762382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3CA55-63E1-4C16-ACD8-F16EEE55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4E76-43E9-4D91-8D4A-A4EDB26A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F5DA3-4F30-4085-A051-1A3861C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9F663-7126-45AC-AEF7-D2361E4D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BE0C6-BA0D-40D6-8539-5ACE08B8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61544-FFC2-4C11-8B39-DA128E8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FC116-B8C3-4A5D-A68D-D7CC80FB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55637-80CA-40BC-B89B-2229FA6C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074A2-C4BB-4256-9C4B-E1A587AE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33F-B67A-4FB2-863F-DD9EAD6E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AEBE3-E55F-4666-82D2-BE286288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EB024-1228-40EC-A9DB-2C8349D9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2384A-7571-49A3-929C-9BB2926C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3808E-33C0-4868-9F86-8520F30E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7397-02FB-4960-A255-3520DBE5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694FA-7F6E-4DCC-BBDB-5846EF7B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6667B-D064-4969-AD2D-3BF4E41D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317D9-E44C-4578-93BA-55D8E65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838F-79E6-4D0A-B4EF-B18C86FE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B92C-8E4E-47C8-B570-53DFEC9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392-597F-4967-A40B-839374A5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23356-079D-46DF-864F-E0370A5E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352E-09E3-4C86-9F06-F7F71C0C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E17F1-D65D-45C0-A915-141F3D00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AE23D-E960-413D-90B6-5A06F665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71D89-1439-401B-8367-BDB2588C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C3EF2-38DA-416D-A8C2-E470F853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20F49-64AF-4F34-8996-D0FE966B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129D6-5A85-42D7-9565-46BA448D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A9520-6265-489B-8A8D-E51945C6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564D3-BBA3-4A80-B3DE-B3690A92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421-D263-42FB-BF72-F57B359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5E0B3-B8B8-45CB-BB17-008475D7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AA66D-E134-4B1B-BDBB-E549B342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9F7CA-793F-4F07-ADD0-EAAB880A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E026E-3618-4A72-9397-B58406DD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030D0-CBF9-4EB8-A340-D5135CEA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EC58E-B06C-42F1-BD9F-EEF5C134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A31E3-EB43-4317-8E20-0F35EAA7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2DBE-85DD-4FCC-B929-9BB2827D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4FC32-0781-4771-8215-2C9F7BF3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54F4-04DF-4BE3-942D-B6A5AB2A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A49-1718-4670-A351-115A44B0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F92F3-ED79-4226-9355-EC50D19D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AE72-DFF2-49CD-BA82-7C08E8A4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DE504-AD43-45D0-A204-668D4E3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48F7B-7E57-401E-95A8-A9621FF1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F77D1-FC34-4B0A-8F8E-F281013A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4FA09-A64D-44FA-A6BC-1B7D9911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63306-F474-4B12-8403-66602759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BBFC9-B624-4596-8345-B5488FD5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1F69B-48FF-4985-A3B4-E22D28DC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0740B-C540-4954-BADA-0236D34B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D69B-60EE-4BAB-825B-E3121D52B97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6498-2E83-4ED8-ABE3-75E278BEC20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3829-57EB-4474-AC43-5094E68785D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3F27-F7DF-4115-92B3-ABB078DD9A3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692F-AA4F-4CA3-A5AD-F3FC4242526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E79C-905C-4D78-9EFC-C2DDF5412A5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13A0-DD85-48AB-8AC2-7A4871B7212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222-0B3E-41F9-A149-1FB57F7E418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349C-88B8-4CB6-8AFD-AD711DABC45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4015-7F98-4C9E-B758-AC9A5C0B0BD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6"/>
          <p:cNvSpPr txBox="1"/>
          <p:nvPr/>
        </p:nvSpPr>
        <p:spPr>
          <a:xfrm>
            <a:off x="971640" y="907920"/>
            <a:ext cx="709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eb966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Тема: </a:t>
            </a:r>
            <a:endParaRPr b="1" lang="en-US" sz="1800" spc="1" strike="noStrike">
              <a:ln w="12600">
                <a:solidFill>
                  <a:srgbClr val="ceb966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eb966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Фізика як природнича наука </a:t>
            </a:r>
            <a:endParaRPr b="1" lang="en-US" sz="1800" spc="1" strike="noStrike">
              <a:ln w="12600">
                <a:solidFill>
                  <a:srgbClr val="ceb966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900000" y="2349360"/>
            <a:ext cx="531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Фізика — наука про прир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.  Фізичні тіла та фізичні явищ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3.   Роль фізики в житті людини, у розвитку науки і техніки. Досягнення сучасної фізичної на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8" descr="D:\2 Мама\фізика картинки\42.jpg"/>
          <p:cNvPicPr/>
          <p:nvPr/>
        </p:nvPicPr>
        <p:blipFill>
          <a:blip r:embed="rId2"/>
          <a:stretch/>
        </p:blipFill>
        <p:spPr>
          <a:xfrm>
            <a:off x="5938920" y="2286000"/>
            <a:ext cx="2948040" cy="3976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9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D:\2 Мама\фізика картинки\45.jpg"/>
          <p:cNvPicPr/>
          <p:nvPr/>
        </p:nvPicPr>
        <p:blipFill>
          <a:blip r:embed="rId2"/>
          <a:stretch/>
        </p:blipFill>
        <p:spPr>
          <a:xfrm>
            <a:off x="857160" y="285840"/>
            <a:ext cx="5572080" cy="63151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"/>
          <p:cNvSpPr/>
          <p:nvPr/>
        </p:nvSpPr>
        <p:spPr>
          <a:xfrm>
            <a:off x="1428840" y="1022040"/>
            <a:ext cx="414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Указ короле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Я, королева Молекула, підсумовуючи все раніше сказане, наказу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1) Закони Фізики виконувати завжд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2) всім учням школи вивчати ці закони, щоб вміти їх використовув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3) всі, хто не захочуть вивчити закони фізики будуть покарані –  її закони перестануть працювати у  непідходящий ч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Під цим підписую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  </a:t>
            </a: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Я, королева Молекула</a:t>
            </a:r>
            <a:r>
              <a:rPr b="0" lang="uk-UA" sz="2000" spc="-1" strike="noStrike">
                <a:solidFill>
                  <a:srgbClr val="ffffff"/>
                </a:solidFill>
                <a:latin typeface="Arlekino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8" descr="D:\2 Мама\фізика картинки\42.jpg"/>
          <p:cNvPicPr/>
          <p:nvPr/>
        </p:nvPicPr>
        <p:blipFill>
          <a:blip r:embed="rId3"/>
          <a:stretch/>
        </p:blipFill>
        <p:spPr>
          <a:xfrm>
            <a:off x="6195960" y="2357280"/>
            <a:ext cx="2948040" cy="3976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755640" y="2133720"/>
            <a:ext cx="77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ведіть приклади явищ приро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ведіть приклади фізичних ті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Що розуміють під фізичним явище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ому фізику вважають основою техні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і сучасні досягнення науки та техніки стали можливими завдяки успіхам фіз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539640" y="4437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Фізичним тіл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ивають будь-який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Речов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це те, з чого складаються фізичні ті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Матеріє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ивають усе, що існує у Всесвіт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04046E-006 L 0.00399 -0.61341 E">
                                      <p:cBhvr>
                                        <p:cTn id="401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"/>
          <p:cNvSpPr/>
          <p:nvPr/>
        </p:nvSpPr>
        <p:spPr>
          <a:xfrm>
            <a:off x="428760" y="4009680"/>
            <a:ext cx="771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    Виберіть з перерахованих прикладів фізичні явищ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ень, годинник, кипіння води, бетон, падіння сірника, грім, горіння сір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500040" y="2142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    Виберіть з перерахованих прикладів тіла і речови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, граніт, крапля води, повітря в камері м'яча, молоко, гранітна плита, ру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:\2 Мама\фізика картинки\0_8a3e4_a1a56737_XXS.gif"/>
          <p:cNvPicPr/>
          <p:nvPr/>
        </p:nvPicPr>
        <p:blipFill>
          <a:blip r:embed="rId2"/>
          <a:stretch/>
        </p:blipFill>
        <p:spPr>
          <a:xfrm>
            <a:off x="7000920" y="22147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23640" y="4076640"/>
            <a:ext cx="8358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Домашнє завданн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6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 вивчити за конспектом; заповнити таблицю фізичних явищ (2-3 приклади кожного типу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2"/>
          <a:srcRect l="0" t="0" r="88" b="0"/>
          <a:stretch/>
        </p:blipFill>
        <p:spPr>
          <a:xfrm>
            <a:off x="2411280" y="981000"/>
            <a:ext cx="3673440" cy="254340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</p:spTree>
  </p:cSld>
  <p:transition>
    <p:cover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40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45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дзаголовок 2"/>
          <p:cNvSpPr/>
          <p:nvPr/>
        </p:nvSpPr>
        <p:spPr>
          <a:xfrm>
            <a:off x="395280" y="5445000"/>
            <a:ext cx="82868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Фізика вивчає найзагальніші закономірності явищ природи, властивості та будову матерії, закони її ру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Природа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- це весь матеріальний сві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2"/>
          <a:srcRect l="0" t="0" r="-7" b="79"/>
          <a:stretch/>
        </p:blipFill>
        <p:spPr>
          <a:xfrm>
            <a:off x="684360" y="1052640"/>
            <a:ext cx="5111640" cy="343044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16" name="Picture 6" descr=""/>
          <p:cNvPicPr/>
          <p:nvPr/>
        </p:nvPicPr>
        <p:blipFill>
          <a:blip r:embed="rId3"/>
          <a:stretch/>
        </p:blipFill>
        <p:spPr>
          <a:xfrm>
            <a:off x="3492360" y="2041560"/>
            <a:ext cx="4843440" cy="349416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17" name="Picture 7" descr=""/>
          <p:cNvPicPr/>
          <p:nvPr/>
        </p:nvPicPr>
        <p:blipFill>
          <a:blip r:embed="rId4"/>
          <a:stretch/>
        </p:blipFill>
        <p:spPr>
          <a:xfrm>
            <a:off x="3419640" y="981000"/>
            <a:ext cx="4660560" cy="349740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18" name="Picture 8" descr=""/>
          <p:cNvPicPr/>
          <p:nvPr/>
        </p:nvPicPr>
        <p:blipFill>
          <a:blip r:embed="rId5"/>
          <a:srcRect l="0" t="0" r="79" b="-31"/>
          <a:stretch/>
        </p:blipFill>
        <p:spPr>
          <a:xfrm>
            <a:off x="1116000" y="2368440"/>
            <a:ext cx="4680000" cy="326412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</p:spTree>
  </p:cSld>
  <p:transition>
    <p:cover dir="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180"/>
                            </p:stCondLst>
                            <p:childTnLst>
                              <p:par>
                                <p:cTn id="10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16667E-006 2.42775E-006 L -0.00416 -0.57942 E">
                                      <p:cBhvr>
                                        <p:cTn id="107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611280" y="765000"/>
            <a:ext cx="8325720" cy="4678200"/>
            <a:chOff x="611280" y="765000"/>
            <a:chExt cx="8325720" cy="4678200"/>
          </a:xfrm>
        </p:grpSpPr>
        <p:cxnSp>
          <p:nvCxnSpPr>
            <p:cNvPr id="420" name="_s180228"/>
            <p:cNvCxnSpPr>
              <a:stCxn id="421" idx="0"/>
              <a:endCxn id="422" idx="2"/>
            </p:cNvCxnSpPr>
            <p:nvPr/>
          </p:nvCxnSpPr>
          <p:spPr>
            <a:xfrm flipV="1" rot="16200000">
              <a:off x="2517120" y="1984320"/>
              <a:ext cx="713520" cy="1164240"/>
            </a:xfrm>
            <a:prstGeom prst="bentConnector3">
              <a:avLst>
                <a:gd name="adj1" fmla="val 1595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23" name="_s180229"/>
            <p:cNvCxnSpPr>
              <a:stCxn id="424" idx="0"/>
              <a:endCxn id="425" idx="2"/>
            </p:cNvCxnSpPr>
            <p:nvPr/>
          </p:nvCxnSpPr>
          <p:spPr>
            <a:xfrm flipV="1" rot="16200000">
              <a:off x="7320240" y="2300760"/>
              <a:ext cx="718560" cy="81576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26" name="_s180230"/>
            <p:cNvCxnSpPr>
              <a:stCxn id="427" idx="0"/>
              <a:endCxn id="425" idx="2"/>
            </p:cNvCxnSpPr>
            <p:nvPr/>
          </p:nvCxnSpPr>
          <p:spPr>
            <a:xfrm flipH="1" flipV="1" rot="5400000">
              <a:off x="6103440" y="3123000"/>
              <a:ext cx="1942200" cy="395280"/>
            </a:xfrm>
            <a:prstGeom prst="bentConnector3">
              <a:avLst>
                <a:gd name="adj1" fmla="val 587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28" name="_s180231"/>
            <p:cNvCxnSpPr>
              <a:stCxn id="429" idx="0"/>
              <a:endCxn id="425" idx="2"/>
            </p:cNvCxnSpPr>
            <p:nvPr/>
          </p:nvCxnSpPr>
          <p:spPr>
            <a:xfrm flipH="1" flipV="1" rot="5400000">
              <a:off x="5958360" y="1826640"/>
              <a:ext cx="790920" cy="1836720"/>
            </a:xfrm>
            <a:prstGeom prst="bentConnector3">
              <a:avLst>
                <a:gd name="adj1" fmla="val 1448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0" name="_s180232"/>
            <p:cNvCxnSpPr>
              <a:stCxn id="431" idx="0"/>
              <a:endCxn id="422" idx="2"/>
            </p:cNvCxnSpPr>
            <p:nvPr/>
          </p:nvCxnSpPr>
          <p:spPr>
            <a:xfrm flipV="1" rot="16200000">
              <a:off x="1947960" y="2553480"/>
              <a:ext cx="2298960" cy="1611720"/>
            </a:xfrm>
            <a:prstGeom prst="bentConnector3">
              <a:avLst>
                <a:gd name="adj1" fmla="val 496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2" name="_s180233"/>
            <p:cNvCxnSpPr>
              <a:stCxn id="433" idx="0"/>
              <a:endCxn id="422" idx="2"/>
            </p:cNvCxnSpPr>
            <p:nvPr/>
          </p:nvCxnSpPr>
          <p:spPr>
            <a:xfrm flipH="1" flipV="1" rot="5400000">
              <a:off x="692640" y="2836440"/>
              <a:ext cx="2226240" cy="973080"/>
            </a:xfrm>
            <a:prstGeom prst="bentConnector3">
              <a:avLst>
                <a:gd name="adj1" fmla="val 512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4" name="_s180234"/>
            <p:cNvCxnSpPr/>
            <p:nvPr/>
          </p:nvCxnSpPr>
          <p:spPr>
            <a:xfrm flipV="1">
              <a:off x="1692360" y="1987920"/>
              <a:ext cx="602640" cy="12589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5" name="_s180235"/>
            <p:cNvCxnSpPr>
              <a:stCxn id="425" idx="0"/>
              <a:endCxn id="436" idx="2"/>
            </p:cNvCxnSpPr>
            <p:nvPr/>
          </p:nvCxnSpPr>
          <p:spPr>
            <a:xfrm flipV="1" rot="16200000">
              <a:off x="5460840" y="-39240"/>
              <a:ext cx="429480" cy="3192480"/>
            </a:xfrm>
            <a:prstGeom prst="bentConnector3">
              <a:avLst>
                <a:gd name="adj1" fmla="val 2659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7" name="_s180236"/>
            <p:cNvCxnSpPr>
              <a:stCxn id="422" idx="2"/>
            </p:cNvCxnSpPr>
            <p:nvPr/>
          </p:nvCxnSpPr>
          <p:spPr>
            <a:xfrm flipH="1" flipV="1" rot="5400000">
              <a:off x="2888280" y="1031400"/>
              <a:ext cx="582480" cy="1775520"/>
            </a:xfrm>
            <a:prstGeom prst="bentConnector4">
              <a:avLst>
                <a:gd name="adj1" fmla="val 85157"/>
                <a:gd name="adj2" fmla="val -81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36" name="_s180237"/>
            <p:cNvSpPr/>
            <p:nvPr/>
          </p:nvSpPr>
          <p:spPr>
            <a:xfrm>
              <a:off x="2916000" y="765000"/>
              <a:ext cx="2327040" cy="57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Cambria"/>
                </a:rPr>
                <a:t>Матерія</a:t>
              </a:r>
              <a:r>
                <a:rPr b="0" lang="uk-UA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_s180238"/>
            <p:cNvSpPr/>
            <p:nvPr/>
          </p:nvSpPr>
          <p:spPr>
            <a:xfrm>
              <a:off x="1402920" y="1771920"/>
              <a:ext cx="1778040" cy="438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6b47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Речови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_s180239"/>
            <p:cNvSpPr/>
            <p:nvPr/>
          </p:nvSpPr>
          <p:spPr>
            <a:xfrm>
              <a:off x="6587640" y="1771920"/>
              <a:ext cx="1368360" cy="57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b9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Пол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_s180240"/>
            <p:cNvSpPr/>
            <p:nvPr/>
          </p:nvSpPr>
          <p:spPr>
            <a:xfrm>
              <a:off x="611280" y="2852280"/>
              <a:ext cx="1296360" cy="726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Тверд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ті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_s180241"/>
            <p:cNvSpPr/>
            <p:nvPr/>
          </p:nvSpPr>
          <p:spPr>
            <a:xfrm>
              <a:off x="611280" y="4436280"/>
              <a:ext cx="1415880" cy="100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Рідин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_s180242"/>
            <p:cNvSpPr/>
            <p:nvPr/>
          </p:nvSpPr>
          <p:spPr>
            <a:xfrm>
              <a:off x="3058560" y="4508640"/>
              <a:ext cx="1689480" cy="930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Плазм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_s180243"/>
            <p:cNvSpPr/>
            <p:nvPr/>
          </p:nvSpPr>
          <p:spPr>
            <a:xfrm>
              <a:off x="4427280" y="3140280"/>
              <a:ext cx="2016720" cy="93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b966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Гравітацій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_s180244"/>
            <p:cNvSpPr/>
            <p:nvPr/>
          </p:nvSpPr>
          <p:spPr>
            <a:xfrm>
              <a:off x="5725080" y="4291920"/>
              <a:ext cx="2302920" cy="8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b966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Магніт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_s180245"/>
            <p:cNvSpPr/>
            <p:nvPr/>
          </p:nvSpPr>
          <p:spPr>
            <a:xfrm>
              <a:off x="7236000" y="3067920"/>
              <a:ext cx="1701000" cy="790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b966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Електрич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_s180246"/>
            <p:cNvSpPr/>
            <p:nvPr/>
          </p:nvSpPr>
          <p:spPr>
            <a:xfrm>
              <a:off x="2556000" y="2923560"/>
              <a:ext cx="1800360" cy="722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Газоподіб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ті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39"/>
          <p:cNvSpPr/>
          <p:nvPr/>
        </p:nvSpPr>
        <p:spPr>
          <a:xfrm rot="20721600">
            <a:off x="2336760" y="3841920"/>
            <a:ext cx="1152720" cy="5760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40"/>
          <p:cNvSpPr/>
          <p:nvPr/>
        </p:nvSpPr>
        <p:spPr>
          <a:xfrm rot="17967600">
            <a:off x="2699640" y="4653360"/>
            <a:ext cx="1152360" cy="5763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43"/>
          <p:cNvSpPr/>
          <p:nvPr/>
        </p:nvSpPr>
        <p:spPr>
          <a:xfrm rot="11833200">
            <a:off x="5866920" y="4149000"/>
            <a:ext cx="115272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42"/>
          <p:cNvSpPr/>
          <p:nvPr/>
        </p:nvSpPr>
        <p:spPr>
          <a:xfrm rot="9940200">
            <a:off x="5866920" y="2997360"/>
            <a:ext cx="1152720" cy="5760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44"/>
          <p:cNvSpPr/>
          <p:nvPr/>
        </p:nvSpPr>
        <p:spPr>
          <a:xfrm rot="15874200">
            <a:off x="4283640" y="4796280"/>
            <a:ext cx="1152360" cy="5763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38"/>
          <p:cNvSpPr/>
          <p:nvPr/>
        </p:nvSpPr>
        <p:spPr>
          <a:xfrm rot="1548000">
            <a:off x="2585520" y="2787480"/>
            <a:ext cx="936720" cy="576360"/>
          </a:xfrm>
          <a:prstGeom prst="rightArrow">
            <a:avLst>
              <a:gd name="adj1" fmla="val 50000"/>
              <a:gd name="adj2" fmla="val 40631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28" descr=""/>
          <p:cNvPicPr/>
          <p:nvPr/>
        </p:nvPicPr>
        <p:blipFill>
          <a:blip r:embed="rId2"/>
          <a:stretch/>
        </p:blipFill>
        <p:spPr>
          <a:xfrm>
            <a:off x="1403280" y="515772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9" descr=""/>
          <p:cNvPicPr/>
          <p:nvPr/>
        </p:nvPicPr>
        <p:blipFill>
          <a:blip r:embed="rId3"/>
          <a:stretch/>
        </p:blipFill>
        <p:spPr>
          <a:xfrm>
            <a:off x="4067280" y="5084640"/>
            <a:ext cx="2016000" cy="1370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"/>
          <p:cNvPicPr/>
          <p:nvPr/>
        </p:nvPicPr>
        <p:blipFill>
          <a:blip r:embed="rId4"/>
          <a:srcRect l="0" t="0" r="-221" b="0"/>
          <a:stretch/>
        </p:blipFill>
        <p:spPr>
          <a:xfrm>
            <a:off x="468360" y="3284640"/>
            <a:ext cx="1955880" cy="16095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"/>
          <p:cNvPicPr/>
          <p:nvPr/>
        </p:nvPicPr>
        <p:blipFill>
          <a:blip r:embed="rId5"/>
          <a:srcRect l="0" t="0" r="0" b="-391"/>
          <a:stretch/>
        </p:blipFill>
        <p:spPr>
          <a:xfrm>
            <a:off x="1476360" y="1557360"/>
            <a:ext cx="1379520" cy="1655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6" descr=""/>
          <p:cNvPicPr/>
          <p:nvPr/>
        </p:nvPicPr>
        <p:blipFill>
          <a:blip r:embed="rId6"/>
          <a:stretch/>
        </p:blipFill>
        <p:spPr>
          <a:xfrm>
            <a:off x="6732720" y="1557360"/>
            <a:ext cx="1709640" cy="1871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0" descr=""/>
          <p:cNvPicPr/>
          <p:nvPr/>
        </p:nvPicPr>
        <p:blipFill>
          <a:blip r:embed="rId7"/>
          <a:stretch/>
        </p:blipFill>
        <p:spPr>
          <a:xfrm>
            <a:off x="6948360" y="4365720"/>
            <a:ext cx="1836720" cy="191592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2" descr=""/>
          <p:cNvPicPr/>
          <p:nvPr/>
        </p:nvPicPr>
        <p:blipFill>
          <a:blip r:embed="rId8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4" descr=""/>
          <p:cNvPicPr/>
          <p:nvPr/>
        </p:nvPicPr>
        <p:blipFill>
          <a:blip r:embed="rId9"/>
          <a:stretch/>
        </p:blipFill>
        <p:spPr>
          <a:xfrm>
            <a:off x="3429000" y="1989000"/>
            <a:ext cx="2467080" cy="25196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1"/>
          <p:cNvSpPr/>
          <p:nvPr/>
        </p:nvSpPr>
        <p:spPr>
          <a:xfrm>
            <a:off x="3635280" y="24922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2"/>
          <p:cNvSpPr/>
          <p:nvPr/>
        </p:nvSpPr>
        <p:spPr>
          <a:xfrm>
            <a:off x="1547640" y="278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і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3"/>
          <p:cNvSpPr/>
          <p:nvPr/>
        </p:nvSpPr>
        <p:spPr>
          <a:xfrm>
            <a:off x="7164360" y="29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імі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4"/>
          <p:cNvSpPr/>
          <p:nvPr/>
        </p:nvSpPr>
        <p:spPr>
          <a:xfrm>
            <a:off x="539640" y="450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строномі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5"/>
          <p:cNvSpPr/>
          <p:nvPr/>
        </p:nvSpPr>
        <p:spPr>
          <a:xfrm>
            <a:off x="1476360" y="6165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еографі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6"/>
          <p:cNvSpPr/>
          <p:nvPr/>
        </p:nvSpPr>
        <p:spPr>
          <a:xfrm>
            <a:off x="4284720" y="566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7"/>
          <p:cNvSpPr/>
          <p:nvPr/>
        </p:nvSpPr>
        <p:spPr>
          <a:xfrm>
            <a:off x="6948360" y="5734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еологі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7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2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2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7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700"/>
                            </p:stCondLst>
                            <p:childTnLst>
                              <p:par>
                                <p:cTn id="1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700"/>
                            </p:stCondLst>
                            <p:childTnLst>
                              <p:par>
                                <p:cTn id="1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700"/>
                            </p:stCondLst>
                            <p:childTnLst>
                              <p:par>
                                <p:cTn id="1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700"/>
                            </p:stCondLst>
                            <p:childTnLst>
                              <p:par>
                                <p:cTn id="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700"/>
                            </p:stCondLst>
                            <p:childTnLst>
                              <p:par>
                                <p:cTn id="2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6" descr=""/>
          <p:cNvPicPr/>
          <p:nvPr/>
        </p:nvPicPr>
        <p:blipFill>
          <a:blip r:embed="rId2"/>
          <a:srcRect l="0" t="0" r="85" b="0"/>
          <a:stretch/>
        </p:blipFill>
        <p:spPr>
          <a:xfrm>
            <a:off x="3059280" y="2708280"/>
            <a:ext cx="2376360" cy="181764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61" name="Picture 25" descr=""/>
          <p:cNvPicPr/>
          <p:nvPr/>
        </p:nvPicPr>
        <p:blipFill>
          <a:blip r:embed="rId3"/>
          <a:srcRect l="0" t="0" r="30" b="-89"/>
          <a:stretch/>
        </p:blipFill>
        <p:spPr>
          <a:xfrm>
            <a:off x="3059280" y="2708280"/>
            <a:ext cx="2232000" cy="189540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62" name="Picture 24" descr=""/>
          <p:cNvPicPr/>
          <p:nvPr/>
        </p:nvPicPr>
        <p:blipFill>
          <a:blip r:embed="rId4"/>
          <a:stretch/>
        </p:blipFill>
        <p:spPr>
          <a:xfrm>
            <a:off x="3203640" y="2565360"/>
            <a:ext cx="2232000" cy="200520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63" name="Picture 23" descr=""/>
          <p:cNvPicPr/>
          <p:nvPr/>
        </p:nvPicPr>
        <p:blipFill>
          <a:blip r:embed="rId5"/>
          <a:stretch/>
        </p:blipFill>
        <p:spPr>
          <a:xfrm>
            <a:off x="3059280" y="2637000"/>
            <a:ext cx="2303280" cy="188748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64" name="Picture 2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2016000" cy="190656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sp>
        <p:nvSpPr>
          <p:cNvPr id="46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12"/>
          <p:cNvSpPr/>
          <p:nvPr/>
        </p:nvSpPr>
        <p:spPr>
          <a:xfrm>
            <a:off x="642960" y="35712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Явища природ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все, що відбувається в природ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31" descr=""/>
          <p:cNvPicPr/>
          <p:nvPr/>
        </p:nvPicPr>
        <p:blipFill>
          <a:blip r:embed="rId7"/>
          <a:stretch/>
        </p:blipFill>
        <p:spPr>
          <a:xfrm>
            <a:off x="3348000" y="2565360"/>
            <a:ext cx="1946160" cy="190332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grpSp>
        <p:nvGrpSpPr>
          <p:cNvPr id="469" name=""/>
          <p:cNvGrpSpPr/>
          <p:nvPr/>
        </p:nvGrpSpPr>
        <p:grpSpPr>
          <a:xfrm>
            <a:off x="1618920" y="2220480"/>
            <a:ext cx="5321520" cy="2718720"/>
            <a:chOff x="1618920" y="2220480"/>
            <a:chExt cx="5321520" cy="2718720"/>
          </a:xfrm>
        </p:grpSpPr>
        <p:sp>
          <p:nvSpPr>
            <p:cNvPr id="470" name="_s25630"/>
            <p:cNvSpPr/>
            <p:nvPr/>
          </p:nvSpPr>
          <p:spPr>
            <a:xfrm flipH="1" flipV="1">
              <a:off x="3009960" y="3166560"/>
              <a:ext cx="641880" cy="27396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_s25629"/>
            <p:cNvSpPr/>
            <p:nvPr/>
          </p:nvSpPr>
          <p:spPr>
            <a:xfrm>
              <a:off x="3639240" y="4512600"/>
              <a:ext cx="1473840" cy="426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Хіміч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_s25622"/>
            <p:cNvSpPr/>
            <p:nvPr/>
          </p:nvSpPr>
          <p:spPr>
            <a:xfrm flipH="1">
              <a:off x="2918880" y="3819960"/>
              <a:ext cx="794160" cy="32724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_s25621"/>
            <p:cNvSpPr/>
            <p:nvPr/>
          </p:nvSpPr>
          <p:spPr>
            <a:xfrm>
              <a:off x="1692720" y="2806200"/>
              <a:ext cx="1473120" cy="4266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Світлов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_s25620"/>
            <p:cNvSpPr/>
            <p:nvPr/>
          </p:nvSpPr>
          <p:spPr>
            <a:xfrm>
              <a:off x="4362120" y="3978720"/>
              <a:ext cx="1800" cy="54972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_s25619"/>
            <p:cNvSpPr/>
            <p:nvPr/>
          </p:nvSpPr>
          <p:spPr>
            <a:xfrm>
              <a:off x="1618920" y="4033080"/>
              <a:ext cx="1473120" cy="4057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Магніт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_s25618"/>
            <p:cNvSpPr/>
            <p:nvPr/>
          </p:nvSpPr>
          <p:spPr>
            <a:xfrm>
              <a:off x="4865400" y="3819960"/>
              <a:ext cx="641880" cy="27252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_s25617"/>
            <p:cNvSpPr/>
            <p:nvPr/>
          </p:nvSpPr>
          <p:spPr>
            <a:xfrm>
              <a:off x="5466600" y="3983400"/>
              <a:ext cx="1473840" cy="4219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Електрич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_s25616"/>
            <p:cNvSpPr/>
            <p:nvPr/>
          </p:nvSpPr>
          <p:spPr>
            <a:xfrm flipV="1">
              <a:off x="4939200" y="3071880"/>
              <a:ext cx="637560" cy="27396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_s25615"/>
            <p:cNvSpPr/>
            <p:nvPr/>
          </p:nvSpPr>
          <p:spPr>
            <a:xfrm>
              <a:off x="5442840" y="2806200"/>
              <a:ext cx="1473120" cy="40248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Теплов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_s25614"/>
            <p:cNvSpPr/>
            <p:nvPr/>
          </p:nvSpPr>
          <p:spPr>
            <a:xfrm flipV="1">
              <a:off x="4288320" y="2621160"/>
              <a:ext cx="0" cy="54684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_s25613"/>
            <p:cNvSpPr/>
            <p:nvPr/>
          </p:nvSpPr>
          <p:spPr>
            <a:xfrm>
              <a:off x="3552480" y="2220480"/>
              <a:ext cx="1473120" cy="40248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Механіч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_s25612"/>
            <p:cNvSpPr/>
            <p:nvPr/>
          </p:nvSpPr>
          <p:spPr>
            <a:xfrm>
              <a:off x="3552480" y="3168720"/>
              <a:ext cx="1473120" cy="81000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Фізичні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явищ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1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2.42775E-006 L 0.0158 0.32509 E">
                                      <p:cBhvr>
                                        <p:cTn id="236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1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10405E-006 L -0.28351 -0.14913 E">
                                      <p:cBhvr>
                                        <p:cTn id="243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1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-0.29115 0.21919 E">
                                      <p:cBhvr>
                                        <p:cTn id="250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1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42775E-006 L 0.32691 0.23167 E">
                                      <p:cBhvr>
                                        <p:cTn id="257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5087E-006 L 0.35833 -0.19029 E">
                                      <p:cBhvr>
                                        <p:cTn id="26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1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79769E-006 L 0.03559 -0.26844 E">
                                      <p:cBhvr>
                                        <p:cTn id="27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3"/>
          <p:cNvSpPr/>
          <p:nvPr/>
        </p:nvSpPr>
        <p:spPr>
          <a:xfrm>
            <a:off x="714240" y="35712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'язок фізики з іншими нау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2" descr="http://gomeofan.files.wordpress.com/2009/12/d0b2d180d0b5d0b4-d0b8-d0bed182d0bad0b0d0b7-d0bed182-d0bfd180d0b8d0b2d0b8d0b2d0bed0ba.jpg"/>
          <p:cNvPicPr/>
          <p:nvPr/>
        </p:nvPicPr>
        <p:blipFill>
          <a:blip r:embed="rId2"/>
          <a:stretch/>
        </p:blipFill>
        <p:spPr>
          <a:xfrm>
            <a:off x="357120" y="1357200"/>
            <a:ext cx="3286080" cy="2070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D:\2 Мама\фізика картинки\44.jpg"/>
          <p:cNvPicPr/>
          <p:nvPr/>
        </p:nvPicPr>
        <p:blipFill>
          <a:blip r:embed="rId3"/>
          <a:stretch/>
        </p:blipFill>
        <p:spPr>
          <a:xfrm>
            <a:off x="4429080" y="3714840"/>
            <a:ext cx="4264200" cy="2844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D:\2 Мама\фізика картинки\45.jpg"/>
          <p:cNvPicPr/>
          <p:nvPr/>
        </p:nvPicPr>
        <p:blipFill>
          <a:blip r:embed="rId4"/>
          <a:stretch/>
        </p:blipFill>
        <p:spPr>
          <a:xfrm>
            <a:off x="428760" y="4643280"/>
            <a:ext cx="3571920" cy="1785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D:\2 Мама\фізика картинки\46.jpg"/>
          <p:cNvPicPr/>
          <p:nvPr/>
        </p:nvPicPr>
        <p:blipFill>
          <a:blip r:embed="rId5"/>
          <a:stretch/>
        </p:blipFill>
        <p:spPr>
          <a:xfrm>
            <a:off x="4357800" y="500040"/>
            <a:ext cx="4087800" cy="304956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0"/>
          <p:cNvSpPr/>
          <p:nvPr/>
        </p:nvSpPr>
        <p:spPr>
          <a:xfrm>
            <a:off x="785880" y="357192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ізика у  професії ліка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Прямоугольник 1"/>
          <p:cNvSpPr/>
          <p:nvPr/>
        </p:nvSpPr>
        <p:spPr>
          <a:xfrm>
            <a:off x="1384560" y="571680"/>
            <a:ext cx="47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ізика у  професії шофе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3" descr="D:\2 Мама\фізика картинки\47.jpg"/>
          <p:cNvPicPr/>
          <p:nvPr/>
        </p:nvPicPr>
        <p:blipFill>
          <a:blip r:embed="rId2"/>
          <a:stretch/>
        </p:blipFill>
        <p:spPr>
          <a:xfrm>
            <a:off x="857160" y="1857240"/>
            <a:ext cx="2524320" cy="3441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D:\2 Мама\фізика картинки\48.jpg"/>
          <p:cNvPicPr/>
          <p:nvPr/>
        </p:nvPicPr>
        <p:blipFill>
          <a:blip r:embed="rId3"/>
          <a:stretch/>
        </p:blipFill>
        <p:spPr>
          <a:xfrm>
            <a:off x="4643280" y="500040"/>
            <a:ext cx="3929400" cy="2946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D:\2 Мама\фізика картинки\49.jpg"/>
          <p:cNvPicPr/>
          <p:nvPr/>
        </p:nvPicPr>
        <p:blipFill>
          <a:blip r:embed="rId4"/>
          <a:stretch/>
        </p:blipFill>
        <p:spPr>
          <a:xfrm>
            <a:off x="4429080" y="3786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D:\2 Мама\фізика картинки\43.jpg"/>
          <p:cNvPicPr/>
          <p:nvPr/>
        </p:nvPicPr>
        <p:blipFill>
          <a:blip r:embed="rId2"/>
          <a:srcRect l="0" t="0" r="92" b="0"/>
          <a:stretch/>
        </p:blipFill>
        <p:spPr>
          <a:xfrm>
            <a:off x="357120" y="3143160"/>
            <a:ext cx="3125880" cy="3467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D:\2 Мама\фізика картинки\44.jpg"/>
          <p:cNvPicPr/>
          <p:nvPr/>
        </p:nvPicPr>
        <p:blipFill>
          <a:blip r:embed="rId3"/>
          <a:stretch/>
        </p:blipFill>
        <p:spPr>
          <a:xfrm>
            <a:off x="4143240" y="400068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D:\2 Мама\фізика картинки\44.jpg"/>
          <p:cNvPicPr/>
          <p:nvPr/>
        </p:nvPicPr>
        <p:blipFill>
          <a:blip r:embed="rId4"/>
          <a:stretch/>
        </p:blipFill>
        <p:spPr>
          <a:xfrm>
            <a:off x="4000680" y="571680"/>
            <a:ext cx="4127400" cy="30952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6"/>
          <p:cNvSpPr/>
          <p:nvPr/>
        </p:nvSpPr>
        <p:spPr>
          <a:xfrm>
            <a:off x="785880" y="642960"/>
            <a:ext cx="27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ізика у спорт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D:\2 Мама\фізика картинки\44.gif"/>
          <p:cNvPicPr/>
          <p:nvPr/>
        </p:nvPicPr>
        <p:blipFill>
          <a:blip r:embed="rId2"/>
          <a:stretch/>
        </p:blipFill>
        <p:spPr>
          <a:xfrm>
            <a:off x="642960" y="2214720"/>
            <a:ext cx="2886120" cy="4147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D:\2 Мама\фізика картинки\44.gif"/>
          <p:cNvPicPr/>
          <p:nvPr/>
        </p:nvPicPr>
        <p:blipFill>
          <a:blip r:embed="rId3"/>
          <a:stretch/>
        </p:blipFill>
        <p:spPr>
          <a:xfrm>
            <a:off x="4000680" y="3000240"/>
            <a:ext cx="4916160" cy="3357720"/>
          </a:xfrm>
          <a:prstGeom prst="rect">
            <a:avLst/>
          </a:prstGeom>
          <a:ln w="0">
            <a:noFill/>
          </a:ln>
        </p:spPr>
      </p:pic>
      <p:sp>
        <p:nvSpPr>
          <p:cNvPr id="499" name="TextBox 4"/>
          <p:cNvSpPr/>
          <p:nvPr/>
        </p:nvSpPr>
        <p:spPr>
          <a:xfrm>
            <a:off x="785880" y="78588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ізика у біолог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5"/>
          <p:cNvSpPr/>
          <p:nvPr/>
        </p:nvSpPr>
        <p:spPr>
          <a:xfrm>
            <a:off x="4786200" y="164304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ізика у побу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532080" y="-313200"/>
            <a:ext cx="80794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королева Молекула, підсумовуючи все раніше сказане, наказую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Закони Фізики виконувати завжд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всім учням школи вивчати ці закони, щоб вміти їх використовуват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всі, хто не захочуть вивчити закони фізики будуть покарані </a:t>
            </a:r>
            <a:r>
              <a:rPr b="0" lang="uk-UA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ізика сама відомстить їм у непідходящий час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 цим підписуюсь. Я, королева Молекул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4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12T07:16:14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2d000000000001024140</vt:lpwstr>
  </property>
  <property fmtid="{D5CDD505-2E9C-101B-9397-08002B2CF9AE}" pid="3" name="PPT_Export_sFileName">
    <vt:lpwstr>D:\Электронный конструктор урока\Уроки\Урок 01 Физика наука про природу и физические явления\P-Урок 01 Физика наука про природу и физические явления.Ppt</vt:lpwstr>
  </property>
</Properties>
</file>