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23.png" ContentType="image/png"/>
  <Override PartName="/ppt/media/image8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C8D-210F-4796-9241-937CC020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1AA-AC52-48EA-A0F7-DBF92B5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EC488-2EA4-4019-830E-EB3E309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12D6C-03EE-48D1-B3C0-CEBBF66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AE025-38E6-4347-A345-B59613AC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1910-3FA8-4777-875C-4B22811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0A7BC-6759-428C-92A3-C7C01D3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D5635-9BE8-43D9-B34B-2872193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8EE7F-EDFE-45FD-8ADF-6C99B5B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00E36-649D-4056-862C-DF845512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2039A-AFA4-4AFF-BEA1-307B7DA8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FB2D5-1CC9-43DB-8E3E-7F1A3813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A1B-109B-462D-AC5E-286B8FD1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2114C-F1B3-42A8-A3D7-60EDF3C1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5FBF7-6621-4F29-8D80-EEA9019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63CCF-AB57-40FD-896F-54DAC81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4B610-3DC7-4780-9713-9326CDD2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A7D13-4A67-49B2-AAB3-02AFA09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B8FF9-FDE0-44B9-AAB8-F2D1A4F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ABB7-A755-4A69-92D7-098E9C4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60E4A-587F-4558-A0C9-409D1E6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31A3-0DF6-48F9-AA18-01CEB293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E214C-9E54-4BFD-9E8F-E80E0FE2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2FF-13CA-4C50-A94B-67383FEA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5E37B-A9F1-4973-A8CC-B4004137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66D-84D5-4CA0-967A-4DA10F08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2D2-D587-4AED-B9F1-ADB40AA4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F2C-251D-472B-BBB8-8F0184E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030F-1C0B-4C27-A2C3-D46C7FD6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9BD-C7E9-41AA-93A4-B7248F37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A675-614E-4364-92CD-7F6704B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620E-809E-420E-B507-D6BB684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634-563C-4B90-9042-F818700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00C-E2E2-4814-A8FF-1203443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8C0E-9462-4860-8B0C-0CC6C78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BDE0-6220-410F-9ED2-07051FC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912-1045-4DD5-B958-345A3279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98A-9C52-48F3-90CC-687590EF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F7C4-E86B-489E-B942-E9D3842C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53C5-4DAD-47D5-A549-FEA8645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D120-B1ED-413A-AB34-3FAB743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3D97-3D5D-47F8-BE80-267F7766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D5D8-C13D-4455-BB6E-01B7838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E62-7707-4CF1-A59F-98EB9FB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6B97-3AF1-4561-BCEF-1169C869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83F4-ED35-4328-961A-7344E9E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F238-0F9F-4838-8A9C-2D7B9F48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BB75-886C-46D0-BE09-F0C8767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121D4-A1D6-4482-AF3C-3E1F20C3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C261-0824-42D4-8F2A-4CE2B05F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4C16-0C39-4B13-AB89-4E48EAB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E739-F982-48E6-BA01-86A28B32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83EF-35AA-40DB-8EC4-D2E4E8A3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36D73-59DC-41F6-A56D-D2D4D20D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BE5-88D6-4A4C-ACE0-2CCCE56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BA27-BD76-4EF7-93E3-F44E8E7F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0AAF-C2DB-4FC3-8F83-990E2816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B376-7E81-4FEB-BF84-5946FE09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B349-B869-4731-9D71-4C2124C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2FEA-0557-4056-BDA2-1A51DF6A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FFE9B-CF6F-4854-B5CE-8A6B730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B39F-2FE4-44F7-8C40-923F1BD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3C07-E8AF-4C3C-8FD3-379D4E0A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03C7-BCDE-4ABA-B04F-5C708AFE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77F9-7063-4EAD-B8B5-0970E24C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651-99E2-4988-94C9-36814A0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567A-45EA-4A79-B250-01E5A135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993B-B096-4D86-97E4-E32A72D7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6172-1A03-422A-A2AD-999D9F5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847A-C84E-4993-8924-0FE1B76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F893-61AA-4B52-A9A6-6D727E2A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E127-4396-4BFE-B49C-52580D9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01A5-8962-44F6-85F6-7C480E27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B533-D64B-4402-8A0B-BAC7AB4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F64F-73D7-428E-B2F0-26FA94C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8D9C-4E28-4EDA-BC03-E89E78FC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5E2-E2AA-4DFE-81E6-7B37680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DB3C-3E2F-49D5-B3DC-D9507233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A2200-6EEB-47F8-BF40-92CC11CD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E55C-8A40-47BF-A802-86A8ED3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D6E19-1014-4ADC-BA6D-A3B4F8AD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D10EF-DD30-4928-B51F-09F2ABF2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6130-6F8F-44FB-A4CA-4F86888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24DC9-7258-4DA6-B31E-7D25A46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CE88F-A5BB-4337-B082-81997BC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55EE-9875-48ED-93CB-0247977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28E2-1977-4DCA-90C4-01279C92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957-2FDA-46F3-A8B5-989E38A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F294-89A8-475A-B0CD-20DF08B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495C-BDEB-4959-A950-C5178C80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EBDA-9037-411A-A844-0BA1AC28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9AAC-BB3C-4EA8-BAF4-BB72BF0C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8493-0738-4D03-96DD-458B277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EA76-BF77-4488-AD4E-9FEE8A46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BBF1-04AD-4A7E-B64C-945A3F9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BEBE8-C281-4E2C-BCED-7082BFB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59EE-C89A-4283-BF68-66C9204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78F68-E2F9-48A0-B11A-4DE2CB8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8BB-68B6-4B3C-8D9E-C0053C6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F84C-50BC-44BF-831D-72A9BE6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1070C-87E2-4952-8803-785998B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20B6-196C-4392-8467-0CD9E04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FA67C-B1C1-4114-9A23-454E7B1A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0819-8E25-4C73-892C-72AB2A6F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2DE2-24FB-41DB-A55F-97AD176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1BF0-260B-4D7C-A709-4CE95F15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CDDEE-7F1B-4054-ABD4-E513637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6CE22-D3E8-4B5D-9D6E-A64F5884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10E3-AF41-4521-9780-49A5BDF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686-3315-4A6D-A5B8-D18E24F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F676-CE8F-47F3-8D77-9BFD91B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0471-62DF-4933-A6D1-243DDA8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7E5BB-71BB-41F7-9261-70BF2445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B1D18-EC0B-4951-BB63-958190A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5F0B-5585-464A-84A6-DA1475ED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16830-9B9F-43E6-9EAE-A1403D2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5F73-7595-40D2-8915-19A8D4F1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9A71B-6AB8-46B7-8019-EEAC23F5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0644C-E0E1-433A-80EB-C74D58C0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92FE0-4063-4D96-A001-4487D92D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3F7-975C-4D65-9226-80AA3DC0F30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8BA-266F-4997-82B8-B61A81B5859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3218-7BF5-4649-B92F-47B6BC38F59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DF5-3F30-4E03-8745-9F54830C579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6CB4-5A1B-4516-A471-4F1337AB319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70AB-FAAE-44F8-998B-C033DB22F1C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2B6F-269D-4F9B-8DC9-D6311C72F5C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D68-118C-42A7-90BA-B779F0B4718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7C1F-71F4-487A-9BA3-1B852566755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5D3-D0B9-4C8D-8B3C-01F6001AF40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6"/>
          <p:cNvSpPr txBox="1"/>
          <p:nvPr/>
        </p:nvSpPr>
        <p:spPr>
          <a:xfrm>
            <a:off x="971640" y="907920"/>
            <a:ext cx="709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eb966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Тема: </a:t>
            </a:r>
            <a:endParaRPr b="1" lang="en-US" sz="1800" spc="1" strike="noStrike">
              <a:ln w="12600">
                <a:solidFill>
                  <a:srgbClr val="ceb966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eb966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Фізика як природнича наука </a:t>
            </a:r>
            <a:endParaRPr b="1" lang="en-US" sz="1800" spc="1" strike="noStrike">
              <a:ln w="12600">
                <a:solidFill>
                  <a:srgbClr val="ceb966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900000" y="2349360"/>
            <a:ext cx="531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Фізика — наука про прир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 Фізичні тіла та фізичні явищ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.   Роль фізики в житті людини, у розвитку науки і техніки. Досягнення сучасної фізичної на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8" descr="D:\2 Мама\фізика картинки\42.jpg"/>
          <p:cNvPicPr/>
          <p:nvPr/>
        </p:nvPicPr>
        <p:blipFill>
          <a:blip r:embed="rId2"/>
          <a:stretch/>
        </p:blipFill>
        <p:spPr>
          <a:xfrm>
            <a:off x="5938920" y="2286000"/>
            <a:ext cx="2948040" cy="3976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9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D:\2 Мама\фізика картинки\45.jpg"/>
          <p:cNvPicPr/>
          <p:nvPr/>
        </p:nvPicPr>
        <p:blipFill>
          <a:blip r:embed="rId2"/>
          <a:stretch/>
        </p:blipFill>
        <p:spPr>
          <a:xfrm>
            <a:off x="857160" y="285840"/>
            <a:ext cx="5572080" cy="63151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1428840" y="1022040"/>
            <a:ext cx="414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Указ короле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Я, королева Молекула, підсумовуючи все раніше сказане, наказу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1) Закони Фізики виконувати завжд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2) всім учням школи вивчати ці закони, щоб вміти їх використову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3) всі, хто не захочуть вивчити закони фізики будуть покарані –  її закони перестануть працювати у  непідходящий 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Під цим підписую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d0d0d"/>
                </a:solidFill>
                <a:latin typeface="Arlekino"/>
                <a:ea typeface="Times New Roman"/>
              </a:rPr>
              <a:t>Я, королева Молекула</a:t>
            </a:r>
            <a:r>
              <a:rPr b="0" lang="uk-UA" sz="2000" spc="-1" strike="noStrike">
                <a:solidFill>
                  <a:srgbClr val="ffffff"/>
                </a:solidFill>
                <a:latin typeface="Arlekino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8" descr="D:\2 Мама\фізика картинки\42.jpg"/>
          <p:cNvPicPr/>
          <p:nvPr/>
        </p:nvPicPr>
        <p:blipFill>
          <a:blip r:embed="rId3"/>
          <a:stretch/>
        </p:blipFill>
        <p:spPr>
          <a:xfrm>
            <a:off x="6195960" y="2357280"/>
            <a:ext cx="2948040" cy="3976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755640" y="213372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ведіть приклади явищ приро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ведіть приклади фізичних ті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Що розуміють під фізичним явище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ому фізику вважають основою техні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714240" algn="just">
              <a:buClr>
                <a:srgbClr val="ffffff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 сучасні досягнення науки та техніки стали можливими завдяки успіхам фіз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539640" y="4437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Фізичним тіл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ивають будь-яки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Речов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це те, з чого складаються фізичні ті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Матеріє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ивають усе, що існує у Всесві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00399 -0.61341 E">
                                      <p:cBhvr>
                                        <p:cTn id="401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28760" y="400968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    Виберіть з перерахованих прикладів фізичні явищ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ень, годинник, кипіння води, бетон, падіння сірника, грім, горіння сір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500040" y="2142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    Виберіть з перерахованих прикладів тіла і речови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, граніт, крапля води, повітря в камері м'яча, молоко, гранітна плита, ру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:\2 Мама\фізика картинки\0_8a3e4_a1a56737_XXS.gif"/>
          <p:cNvPicPr/>
          <p:nvPr/>
        </p:nvPicPr>
        <p:blipFill>
          <a:blip r:embed="rId2"/>
          <a:stretch/>
        </p:blipFill>
        <p:spPr>
          <a:xfrm>
            <a:off x="7000920" y="22147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23640" y="4076640"/>
            <a:ext cx="8358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омашнє завдан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6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 вивчити за конспектом; заповнити таблицю фізичних явищ (2-3 приклади кожного типу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5" descr=""/>
          <p:cNvPicPr/>
          <p:nvPr/>
        </p:nvPicPr>
        <p:blipFill>
          <a:blip r:embed="rId2"/>
          <a:srcRect l="0" t="0" r="88" b="0"/>
          <a:stretch/>
        </p:blipFill>
        <p:spPr>
          <a:xfrm>
            <a:off x="2411280" y="981000"/>
            <a:ext cx="3673440" cy="2543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</p:spTree>
  </p:cSld>
  <p:transition>
    <p:cover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40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45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дзаголовок 2"/>
          <p:cNvSpPr/>
          <p:nvPr/>
        </p:nvSpPr>
        <p:spPr>
          <a:xfrm>
            <a:off x="395280" y="5445000"/>
            <a:ext cx="8286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ізика вивчає найзагальніші закономірності явищ природи, властивості та будову матерії, закони її р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Times New Roman"/>
              </a:rPr>
              <a:t>Природа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це весь матеріальний сві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2"/>
          <a:srcRect l="0" t="0" r="-7" b="79"/>
          <a:stretch/>
        </p:blipFill>
        <p:spPr>
          <a:xfrm>
            <a:off x="684360" y="1052640"/>
            <a:ext cx="5111640" cy="343044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6" name="Picture 6" descr=""/>
          <p:cNvPicPr/>
          <p:nvPr/>
        </p:nvPicPr>
        <p:blipFill>
          <a:blip r:embed="rId3"/>
          <a:stretch/>
        </p:blipFill>
        <p:spPr>
          <a:xfrm>
            <a:off x="3492360" y="2041560"/>
            <a:ext cx="4843440" cy="349416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7" name="Picture 7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4660560" cy="3497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18" name="Picture 8" descr=""/>
          <p:cNvPicPr/>
          <p:nvPr/>
        </p:nvPicPr>
        <p:blipFill>
          <a:blip r:embed="rId5"/>
          <a:srcRect l="0" t="0" r="79" b="-31"/>
          <a:stretch/>
        </p:blipFill>
        <p:spPr>
          <a:xfrm>
            <a:off x="1116000" y="2368440"/>
            <a:ext cx="4680000" cy="326412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</p:spTree>
  </p:cSld>
  <p:transition>
    <p:cover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180"/>
                            </p:stCondLst>
                            <p:childTnLst>
                              <p:par>
                                <p:cTn id="10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2.42775E-006 L -0.00416 -0.57942 E">
                                      <p:cBhvr>
                                        <p:cTn id="107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611280" y="765000"/>
            <a:ext cx="8325720" cy="4678200"/>
            <a:chOff x="611280" y="765000"/>
            <a:chExt cx="8325720" cy="4678200"/>
          </a:xfrm>
        </p:grpSpPr>
        <p:cxnSp>
          <p:nvCxnSpPr>
            <p:cNvPr id="420" name="_s180228"/>
            <p:cNvCxnSpPr>
              <a:stCxn id="421" idx="0"/>
              <a:endCxn id="422" idx="2"/>
            </p:cNvCxnSpPr>
            <p:nvPr/>
          </p:nvCxnSpPr>
          <p:spPr>
            <a:xfrm flipV="1" rot="16200000">
              <a:off x="2517120" y="1984320"/>
              <a:ext cx="713520" cy="1164240"/>
            </a:xfrm>
            <a:prstGeom prst="bentConnector3">
              <a:avLst>
                <a:gd name="adj1" fmla="val 1595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3" name="_s180229"/>
            <p:cNvCxnSpPr>
              <a:stCxn id="424" idx="0"/>
              <a:endCxn id="425" idx="2"/>
            </p:cNvCxnSpPr>
            <p:nvPr/>
          </p:nvCxnSpPr>
          <p:spPr>
            <a:xfrm flipV="1" rot="16200000">
              <a:off x="7320240" y="2300760"/>
              <a:ext cx="718560" cy="81576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6" name="_s180230"/>
            <p:cNvCxnSpPr>
              <a:stCxn id="427" idx="0"/>
              <a:endCxn id="425" idx="2"/>
            </p:cNvCxnSpPr>
            <p:nvPr/>
          </p:nvCxnSpPr>
          <p:spPr>
            <a:xfrm flipH="1" flipV="1" rot="5400000">
              <a:off x="6103440" y="3123000"/>
              <a:ext cx="1942200" cy="395280"/>
            </a:xfrm>
            <a:prstGeom prst="bentConnector3">
              <a:avLst>
                <a:gd name="adj1" fmla="val 587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28" name="_s180231"/>
            <p:cNvCxnSpPr>
              <a:stCxn id="429" idx="0"/>
              <a:endCxn id="425" idx="2"/>
            </p:cNvCxnSpPr>
            <p:nvPr/>
          </p:nvCxnSpPr>
          <p:spPr>
            <a:xfrm flipH="1" flipV="1" rot="5400000">
              <a:off x="5958360" y="1826640"/>
              <a:ext cx="790920" cy="1836720"/>
            </a:xfrm>
            <a:prstGeom prst="bentConnector3">
              <a:avLst>
                <a:gd name="adj1" fmla="val 1448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0" name="_s180232"/>
            <p:cNvCxnSpPr>
              <a:stCxn id="431" idx="0"/>
              <a:endCxn id="422" idx="2"/>
            </p:cNvCxnSpPr>
            <p:nvPr/>
          </p:nvCxnSpPr>
          <p:spPr>
            <a:xfrm flipV="1" rot="16200000">
              <a:off x="1947960" y="2553480"/>
              <a:ext cx="2298960" cy="1611720"/>
            </a:xfrm>
            <a:prstGeom prst="bentConnector3">
              <a:avLst>
                <a:gd name="adj1" fmla="val 496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2" name="_s180233"/>
            <p:cNvCxnSpPr>
              <a:stCxn id="433" idx="0"/>
              <a:endCxn id="422" idx="2"/>
            </p:cNvCxnSpPr>
            <p:nvPr/>
          </p:nvCxnSpPr>
          <p:spPr>
            <a:xfrm flipH="1" flipV="1" rot="5400000">
              <a:off x="692640" y="2836440"/>
              <a:ext cx="2226240" cy="973080"/>
            </a:xfrm>
            <a:prstGeom prst="bentConnector3">
              <a:avLst>
                <a:gd name="adj1" fmla="val 512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4" name="_s180234"/>
            <p:cNvCxnSpPr/>
            <p:nvPr/>
          </p:nvCxnSpPr>
          <p:spPr>
            <a:xfrm flipV="1">
              <a:off x="1692360" y="1987920"/>
              <a:ext cx="602640" cy="1258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5" name="_s180235"/>
            <p:cNvCxnSpPr>
              <a:stCxn id="425" idx="0"/>
              <a:endCxn id="436" idx="2"/>
            </p:cNvCxnSpPr>
            <p:nvPr/>
          </p:nvCxnSpPr>
          <p:spPr>
            <a:xfrm flipV="1" rot="16200000">
              <a:off x="5460840" y="-39240"/>
              <a:ext cx="429480" cy="3192480"/>
            </a:xfrm>
            <a:prstGeom prst="bentConnector3">
              <a:avLst>
                <a:gd name="adj1" fmla="val 2659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7" name="_s180236"/>
            <p:cNvCxnSpPr>
              <a:stCxn id="422" idx="2"/>
            </p:cNvCxnSpPr>
            <p:nvPr/>
          </p:nvCxnSpPr>
          <p:spPr>
            <a:xfrm flipH="1" flipV="1" rot="5400000">
              <a:off x="2888280" y="1031400"/>
              <a:ext cx="582480" cy="1775520"/>
            </a:xfrm>
            <a:prstGeom prst="bentConnector4">
              <a:avLst>
                <a:gd name="adj1" fmla="val 85157"/>
                <a:gd name="adj2" fmla="val -81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36" name="_s180237"/>
            <p:cNvSpPr/>
            <p:nvPr/>
          </p:nvSpPr>
          <p:spPr>
            <a:xfrm>
              <a:off x="2916000" y="765000"/>
              <a:ext cx="2327040" cy="57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ambria"/>
                </a:rPr>
                <a:t>Матерія</a:t>
              </a:r>
              <a:r>
                <a:rPr b="0" lang="uk-UA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_s180238"/>
            <p:cNvSpPr/>
            <p:nvPr/>
          </p:nvSpPr>
          <p:spPr>
            <a:xfrm>
              <a:off x="1402920" y="1771920"/>
              <a:ext cx="1778040" cy="438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6b47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Речов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80239"/>
            <p:cNvSpPr/>
            <p:nvPr/>
          </p:nvSpPr>
          <p:spPr>
            <a:xfrm>
              <a:off x="6587640" y="1771920"/>
              <a:ext cx="1368360" cy="57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Пол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_s180240"/>
            <p:cNvSpPr/>
            <p:nvPr/>
          </p:nvSpPr>
          <p:spPr>
            <a:xfrm>
              <a:off x="611280" y="2852280"/>
              <a:ext cx="1296360" cy="726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верд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і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_s180241"/>
            <p:cNvSpPr/>
            <p:nvPr/>
          </p:nvSpPr>
          <p:spPr>
            <a:xfrm>
              <a:off x="611280" y="4436280"/>
              <a:ext cx="1415880" cy="100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Рідин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_s180242"/>
            <p:cNvSpPr/>
            <p:nvPr/>
          </p:nvSpPr>
          <p:spPr>
            <a:xfrm>
              <a:off x="3058560" y="4508640"/>
              <a:ext cx="1689480" cy="930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Плаз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80243"/>
            <p:cNvSpPr/>
            <p:nvPr/>
          </p:nvSpPr>
          <p:spPr>
            <a:xfrm>
              <a:off x="4427280" y="3140280"/>
              <a:ext cx="2016720" cy="93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Гравітацій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_s180244"/>
            <p:cNvSpPr/>
            <p:nvPr/>
          </p:nvSpPr>
          <p:spPr>
            <a:xfrm>
              <a:off x="5725080" y="4291920"/>
              <a:ext cx="2302920" cy="8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Магніт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_s180245"/>
            <p:cNvSpPr/>
            <p:nvPr/>
          </p:nvSpPr>
          <p:spPr>
            <a:xfrm>
              <a:off x="7236000" y="3067920"/>
              <a:ext cx="1701000" cy="79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eb966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Електрич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80246"/>
            <p:cNvSpPr/>
            <p:nvPr/>
          </p:nvSpPr>
          <p:spPr>
            <a:xfrm>
              <a:off x="2556000" y="2923560"/>
              <a:ext cx="1800360" cy="72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932968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Газоподіб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uk-UA" sz="2400" spc="-1" strike="noStrike">
                  <a:solidFill>
                    <a:srgbClr val="000000"/>
                  </a:solidFill>
                  <a:latin typeface="Cambria"/>
                </a:rPr>
                <a:t>ті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39"/>
          <p:cNvSpPr/>
          <p:nvPr/>
        </p:nvSpPr>
        <p:spPr>
          <a:xfrm rot="20721600">
            <a:off x="2336760" y="3841920"/>
            <a:ext cx="1152720" cy="57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40"/>
          <p:cNvSpPr/>
          <p:nvPr/>
        </p:nvSpPr>
        <p:spPr>
          <a:xfrm rot="17967600">
            <a:off x="2699640" y="4653360"/>
            <a:ext cx="1152360" cy="576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43"/>
          <p:cNvSpPr/>
          <p:nvPr/>
        </p:nvSpPr>
        <p:spPr>
          <a:xfrm rot="11833200">
            <a:off x="5866920" y="4149000"/>
            <a:ext cx="115272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42"/>
          <p:cNvSpPr/>
          <p:nvPr/>
        </p:nvSpPr>
        <p:spPr>
          <a:xfrm rot="9940200">
            <a:off x="5866920" y="2997360"/>
            <a:ext cx="1152720" cy="5760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44"/>
          <p:cNvSpPr/>
          <p:nvPr/>
        </p:nvSpPr>
        <p:spPr>
          <a:xfrm rot="15874200">
            <a:off x="4283640" y="4796280"/>
            <a:ext cx="1152360" cy="5763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38"/>
          <p:cNvSpPr/>
          <p:nvPr/>
        </p:nvSpPr>
        <p:spPr>
          <a:xfrm rot="1548000">
            <a:off x="2585520" y="2787480"/>
            <a:ext cx="936720" cy="576360"/>
          </a:xfrm>
          <a:prstGeom prst="rightArrow">
            <a:avLst>
              <a:gd name="adj1" fmla="val 50000"/>
              <a:gd name="adj2" fmla="val 40631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28" descr=""/>
          <p:cNvPicPr/>
          <p:nvPr/>
        </p:nvPicPr>
        <p:blipFill>
          <a:blip r:embed="rId2"/>
          <a:stretch/>
        </p:blipFill>
        <p:spPr>
          <a:xfrm>
            <a:off x="1403280" y="515772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9" descr=""/>
          <p:cNvPicPr/>
          <p:nvPr/>
        </p:nvPicPr>
        <p:blipFill>
          <a:blip r:embed="rId3"/>
          <a:stretch/>
        </p:blipFill>
        <p:spPr>
          <a:xfrm>
            <a:off x="4067280" y="5084640"/>
            <a:ext cx="2016000" cy="1370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"/>
          <p:cNvPicPr/>
          <p:nvPr/>
        </p:nvPicPr>
        <p:blipFill>
          <a:blip r:embed="rId4"/>
          <a:srcRect l="0" t="0" r="-221" b="0"/>
          <a:stretch/>
        </p:blipFill>
        <p:spPr>
          <a:xfrm>
            <a:off x="468360" y="3284640"/>
            <a:ext cx="1955880" cy="1609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"/>
          <p:cNvPicPr/>
          <p:nvPr/>
        </p:nvPicPr>
        <p:blipFill>
          <a:blip r:embed="rId5"/>
          <a:srcRect l="0" t="0" r="0" b="-391"/>
          <a:stretch/>
        </p:blipFill>
        <p:spPr>
          <a:xfrm>
            <a:off x="1476360" y="1557360"/>
            <a:ext cx="1379520" cy="1655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6" descr=""/>
          <p:cNvPicPr/>
          <p:nvPr/>
        </p:nvPicPr>
        <p:blipFill>
          <a:blip r:embed="rId6"/>
          <a:stretch/>
        </p:blipFill>
        <p:spPr>
          <a:xfrm>
            <a:off x="6732720" y="1557360"/>
            <a:ext cx="1709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0" descr=""/>
          <p:cNvPicPr/>
          <p:nvPr/>
        </p:nvPicPr>
        <p:blipFill>
          <a:blip r:embed="rId7"/>
          <a:stretch/>
        </p:blipFill>
        <p:spPr>
          <a:xfrm>
            <a:off x="6948360" y="4365720"/>
            <a:ext cx="1836720" cy="191592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2" descr=""/>
          <p:cNvPicPr/>
          <p:nvPr/>
        </p:nvPicPr>
        <p:blipFill>
          <a:blip r:embed="rId8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4" descr=""/>
          <p:cNvPicPr/>
          <p:nvPr/>
        </p:nvPicPr>
        <p:blipFill>
          <a:blip r:embed="rId9"/>
          <a:stretch/>
        </p:blipFill>
        <p:spPr>
          <a:xfrm>
            <a:off x="3429000" y="1989000"/>
            <a:ext cx="2467080" cy="25196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1"/>
          <p:cNvSpPr/>
          <p:nvPr/>
        </p:nvSpPr>
        <p:spPr>
          <a:xfrm>
            <a:off x="3635280" y="2492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2"/>
          <p:cNvSpPr/>
          <p:nvPr/>
        </p:nvSpPr>
        <p:spPr>
          <a:xfrm>
            <a:off x="1547640" y="27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і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7164360" y="29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ім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4"/>
          <p:cNvSpPr/>
          <p:nvPr/>
        </p:nvSpPr>
        <p:spPr>
          <a:xfrm>
            <a:off x="539640" y="450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строном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147636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еограф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6"/>
          <p:cNvSpPr/>
          <p:nvPr/>
        </p:nvSpPr>
        <p:spPr>
          <a:xfrm>
            <a:off x="4284720" y="566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ологі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7"/>
          <p:cNvSpPr/>
          <p:nvPr/>
        </p:nvSpPr>
        <p:spPr>
          <a:xfrm>
            <a:off x="6948360" y="573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ологі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7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7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2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7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7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700"/>
                            </p:stCondLst>
                            <p:childTnLst>
                              <p:par>
                                <p:cTn id="1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700"/>
                            </p:stCondLst>
                            <p:childTnLst>
                              <p:par>
                                <p:cTn id="1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700"/>
                            </p:stCondLst>
                            <p:childTnLst>
                              <p:par>
                                <p:cTn id="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700"/>
                            </p:stCondLst>
                            <p:childTnLst>
                              <p:par>
                                <p:cTn id="2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6" descr=""/>
          <p:cNvPicPr/>
          <p:nvPr/>
        </p:nvPicPr>
        <p:blipFill>
          <a:blip r:embed="rId2"/>
          <a:srcRect l="0" t="0" r="85" b="0"/>
          <a:stretch/>
        </p:blipFill>
        <p:spPr>
          <a:xfrm>
            <a:off x="3059280" y="2708280"/>
            <a:ext cx="2376360" cy="181764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1" name="Picture 25" descr=""/>
          <p:cNvPicPr/>
          <p:nvPr/>
        </p:nvPicPr>
        <p:blipFill>
          <a:blip r:embed="rId3"/>
          <a:srcRect l="0" t="0" r="30" b="-89"/>
          <a:stretch/>
        </p:blipFill>
        <p:spPr>
          <a:xfrm>
            <a:off x="3059280" y="2708280"/>
            <a:ext cx="2232000" cy="18954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2" name="Picture 24" descr=""/>
          <p:cNvPicPr/>
          <p:nvPr/>
        </p:nvPicPr>
        <p:blipFill>
          <a:blip r:embed="rId4"/>
          <a:stretch/>
        </p:blipFill>
        <p:spPr>
          <a:xfrm>
            <a:off x="3203640" y="2565360"/>
            <a:ext cx="2232000" cy="200520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3" name="Picture 23" descr=""/>
          <p:cNvPicPr/>
          <p:nvPr/>
        </p:nvPicPr>
        <p:blipFill>
          <a:blip r:embed="rId5"/>
          <a:stretch/>
        </p:blipFill>
        <p:spPr>
          <a:xfrm>
            <a:off x="3059280" y="2637000"/>
            <a:ext cx="2303280" cy="188748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pic>
        <p:nvPicPr>
          <p:cNvPr id="464" name="Picture 2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2016000" cy="190656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sp>
        <p:nvSpPr>
          <p:cNvPr id="46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642960" y="3571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Явища природ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все, що відбувається в природ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1" descr=""/>
          <p:cNvPicPr/>
          <p:nvPr/>
        </p:nvPicPr>
        <p:blipFill>
          <a:blip r:embed="rId7"/>
          <a:stretch/>
        </p:blipFill>
        <p:spPr>
          <a:xfrm>
            <a:off x="3348000" y="2565360"/>
            <a:ext cx="1946160" cy="1903320"/>
          </a:xfrm>
          <a:prstGeom prst="rect">
            <a:avLst/>
          </a:prstGeom>
          <a:ln w="38160">
            <a:solidFill>
              <a:srgbClr val="ceb966"/>
            </a:solidFill>
            <a:miter/>
          </a:ln>
        </p:spPr>
      </p:pic>
      <p:grpSp>
        <p:nvGrpSpPr>
          <p:cNvPr id="469" name=""/>
          <p:cNvGrpSpPr/>
          <p:nvPr/>
        </p:nvGrpSpPr>
        <p:grpSpPr>
          <a:xfrm>
            <a:off x="1618920" y="2220480"/>
            <a:ext cx="5321520" cy="2718720"/>
            <a:chOff x="1618920" y="2220480"/>
            <a:chExt cx="5321520" cy="2718720"/>
          </a:xfrm>
        </p:grpSpPr>
        <p:sp>
          <p:nvSpPr>
            <p:cNvPr id="470" name="_s25630"/>
            <p:cNvSpPr/>
            <p:nvPr/>
          </p:nvSpPr>
          <p:spPr>
            <a:xfrm flipH="1" flipV="1">
              <a:off x="3009960" y="3166560"/>
              <a:ext cx="641880" cy="27396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_s25629"/>
            <p:cNvSpPr/>
            <p:nvPr/>
          </p:nvSpPr>
          <p:spPr>
            <a:xfrm>
              <a:off x="3639240" y="4512600"/>
              <a:ext cx="1473840" cy="426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Хім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_s25622"/>
            <p:cNvSpPr/>
            <p:nvPr/>
          </p:nvSpPr>
          <p:spPr>
            <a:xfrm flipH="1">
              <a:off x="2918880" y="3819960"/>
              <a:ext cx="794160" cy="32724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_s25621"/>
            <p:cNvSpPr/>
            <p:nvPr/>
          </p:nvSpPr>
          <p:spPr>
            <a:xfrm>
              <a:off x="1692720" y="2806200"/>
              <a:ext cx="1473120" cy="4266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Світлов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_s25620"/>
            <p:cNvSpPr/>
            <p:nvPr/>
          </p:nvSpPr>
          <p:spPr>
            <a:xfrm>
              <a:off x="4362120" y="3978720"/>
              <a:ext cx="1800" cy="54972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_s25619"/>
            <p:cNvSpPr/>
            <p:nvPr/>
          </p:nvSpPr>
          <p:spPr>
            <a:xfrm>
              <a:off x="1618920" y="4033080"/>
              <a:ext cx="1473120" cy="4057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Магніт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_s25618"/>
            <p:cNvSpPr/>
            <p:nvPr/>
          </p:nvSpPr>
          <p:spPr>
            <a:xfrm>
              <a:off x="4865400" y="3819960"/>
              <a:ext cx="641880" cy="27252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_s25617"/>
            <p:cNvSpPr/>
            <p:nvPr/>
          </p:nvSpPr>
          <p:spPr>
            <a:xfrm>
              <a:off x="5466600" y="3983400"/>
              <a:ext cx="1473840" cy="4219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Електри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_s25616"/>
            <p:cNvSpPr/>
            <p:nvPr/>
          </p:nvSpPr>
          <p:spPr>
            <a:xfrm flipV="1">
              <a:off x="4939200" y="3071880"/>
              <a:ext cx="637560" cy="27396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_s25615"/>
            <p:cNvSpPr/>
            <p:nvPr/>
          </p:nvSpPr>
          <p:spPr>
            <a:xfrm>
              <a:off x="5442840" y="2806200"/>
              <a:ext cx="1473120" cy="4024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Теплов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_s25614"/>
            <p:cNvSpPr/>
            <p:nvPr/>
          </p:nvSpPr>
          <p:spPr>
            <a:xfrm flipV="1">
              <a:off x="4288320" y="2621160"/>
              <a:ext cx="0" cy="54684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_s25613"/>
            <p:cNvSpPr/>
            <p:nvPr/>
          </p:nvSpPr>
          <p:spPr>
            <a:xfrm>
              <a:off x="3552480" y="2220480"/>
              <a:ext cx="1473120" cy="4024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Механ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_s25612"/>
            <p:cNvSpPr/>
            <p:nvPr/>
          </p:nvSpPr>
          <p:spPr>
            <a:xfrm>
              <a:off x="3552480" y="3168720"/>
              <a:ext cx="1473120" cy="81000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Фізичні</a:t>
              </a: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явищ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2.42775E-006 L 0.0158 0.32509 E">
                                      <p:cBhvr>
                                        <p:cTn id="23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1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10405E-006 L -0.28351 -0.14913 E">
                                      <p:cBhvr>
                                        <p:cTn id="243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1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-0.29115 0.21919 E">
                                      <p:cBhvr>
                                        <p:cTn id="250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1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42775E-006 L 0.32691 0.23167 E">
                                      <p:cBhvr>
                                        <p:cTn id="257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0.35833 -0.19029 E">
                                      <p:cBhvr>
                                        <p:cTn id="26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1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79769E-006 L 0.03559 -0.26844 E">
                                      <p:cBhvr>
                                        <p:cTn id="27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3"/>
          <p:cNvSpPr/>
          <p:nvPr/>
        </p:nvSpPr>
        <p:spPr>
          <a:xfrm>
            <a:off x="714240" y="35712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'язок фізики з іншими нау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2" descr="http://gomeofan.files.wordpress.com/2009/12/d0b2d180d0b5d0b4-d0b8-d0bed182d0bad0b0d0b7-d0bed182-d0bfd180d0b8d0b2d0b8d0b2d0bed0ba.jpg"/>
          <p:cNvPicPr/>
          <p:nvPr/>
        </p:nvPicPr>
        <p:blipFill>
          <a:blip r:embed="rId2"/>
          <a:stretch/>
        </p:blipFill>
        <p:spPr>
          <a:xfrm>
            <a:off x="357120" y="1357200"/>
            <a:ext cx="3286080" cy="2070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D:\2 Мама\фізика картинки\44.jpg"/>
          <p:cNvPicPr/>
          <p:nvPr/>
        </p:nvPicPr>
        <p:blipFill>
          <a:blip r:embed="rId3"/>
          <a:stretch/>
        </p:blipFill>
        <p:spPr>
          <a:xfrm>
            <a:off x="4429080" y="3714840"/>
            <a:ext cx="4264200" cy="2844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D:\2 Мама\фізика картинки\45.jpg"/>
          <p:cNvPicPr/>
          <p:nvPr/>
        </p:nvPicPr>
        <p:blipFill>
          <a:blip r:embed="rId4"/>
          <a:stretch/>
        </p:blipFill>
        <p:spPr>
          <a:xfrm>
            <a:off x="428760" y="4643280"/>
            <a:ext cx="3571920" cy="1785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D:\2 Мама\фізика картинки\46.jpg"/>
          <p:cNvPicPr/>
          <p:nvPr/>
        </p:nvPicPr>
        <p:blipFill>
          <a:blip r:embed="rId5"/>
          <a:stretch/>
        </p:blipFill>
        <p:spPr>
          <a:xfrm>
            <a:off x="4357800" y="500040"/>
            <a:ext cx="4087800" cy="3049560"/>
          </a:xfrm>
          <a:prstGeom prst="rect">
            <a:avLst/>
          </a:prstGeom>
          <a:ln w="0">
            <a:noFill/>
          </a:ln>
        </p:spPr>
      </p:pic>
      <p:sp>
        <p:nvSpPr>
          <p:cNvPr id="488" name="TextBox 10"/>
          <p:cNvSpPr/>
          <p:nvPr/>
        </p:nvSpPr>
        <p:spPr>
          <a:xfrm>
            <a:off x="785880" y="35719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 професії лік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1"/>
          <p:cNvSpPr/>
          <p:nvPr/>
        </p:nvSpPr>
        <p:spPr>
          <a:xfrm>
            <a:off x="1384560" y="571680"/>
            <a:ext cx="47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ізика у  професії шоф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3" descr="D:\2 Мама\фізика картинки\47.jpg"/>
          <p:cNvPicPr/>
          <p:nvPr/>
        </p:nvPicPr>
        <p:blipFill>
          <a:blip r:embed="rId2"/>
          <a:stretch/>
        </p:blipFill>
        <p:spPr>
          <a:xfrm>
            <a:off x="857160" y="1857240"/>
            <a:ext cx="2524320" cy="3441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D:\2 Мама\фізика картинки\48.jpg"/>
          <p:cNvPicPr/>
          <p:nvPr/>
        </p:nvPicPr>
        <p:blipFill>
          <a:blip r:embed="rId3"/>
          <a:stretch/>
        </p:blipFill>
        <p:spPr>
          <a:xfrm>
            <a:off x="4643280" y="500040"/>
            <a:ext cx="3929400" cy="2946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D:\2 Мама\фізика картинки\49.jpg"/>
          <p:cNvPicPr/>
          <p:nvPr/>
        </p:nvPicPr>
        <p:blipFill>
          <a:blip r:embed="rId4"/>
          <a:stretch/>
        </p:blipFill>
        <p:spPr>
          <a:xfrm>
            <a:off x="4429080" y="3786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D:\2 Мама\фізика картинки\43.jpg"/>
          <p:cNvPicPr/>
          <p:nvPr/>
        </p:nvPicPr>
        <p:blipFill>
          <a:blip r:embed="rId2"/>
          <a:srcRect l="0" t="0" r="92" b="0"/>
          <a:stretch/>
        </p:blipFill>
        <p:spPr>
          <a:xfrm>
            <a:off x="357120" y="3143160"/>
            <a:ext cx="3125880" cy="3467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D:\2 Мама\фізика картинки\44.jpg"/>
          <p:cNvPicPr/>
          <p:nvPr/>
        </p:nvPicPr>
        <p:blipFill>
          <a:blip r:embed="rId3"/>
          <a:stretch/>
        </p:blipFill>
        <p:spPr>
          <a:xfrm>
            <a:off x="4143240" y="400068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D:\2 Мама\фізика картинки\44.jpg"/>
          <p:cNvPicPr/>
          <p:nvPr/>
        </p:nvPicPr>
        <p:blipFill>
          <a:blip r:embed="rId4"/>
          <a:stretch/>
        </p:blipFill>
        <p:spPr>
          <a:xfrm>
            <a:off x="4000680" y="571680"/>
            <a:ext cx="4127400" cy="30952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6"/>
          <p:cNvSpPr/>
          <p:nvPr/>
        </p:nvSpPr>
        <p:spPr>
          <a:xfrm>
            <a:off x="785880" y="642960"/>
            <a:ext cx="27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спор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D:\2 Мама\фізика картинки\44.gif"/>
          <p:cNvPicPr/>
          <p:nvPr/>
        </p:nvPicPr>
        <p:blipFill>
          <a:blip r:embed="rId2"/>
          <a:stretch/>
        </p:blipFill>
        <p:spPr>
          <a:xfrm>
            <a:off x="642960" y="2214720"/>
            <a:ext cx="2886120" cy="4147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D:\2 Мама\фізика картинки\44.gif"/>
          <p:cNvPicPr/>
          <p:nvPr/>
        </p:nvPicPr>
        <p:blipFill>
          <a:blip r:embed="rId3"/>
          <a:stretch/>
        </p:blipFill>
        <p:spPr>
          <a:xfrm>
            <a:off x="4000680" y="3000240"/>
            <a:ext cx="4916160" cy="33577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785880" y="78588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біолог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4786200" y="164304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ізика у побу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532080" y="-313200"/>
            <a:ext cx="80794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, королева Молекула, підсумовуючи все раніше сказане, наказую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Закони Фізики виконувати завжд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всім учням школи вивчати ці закони, щоб вміти їх використовува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всі, хто не захочуть вивчити закони фізики будуть покарані </a:t>
            </a:r>
            <a:r>
              <a:rPr b="0" lang="uk-UA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ізика сама відомстить їм у непідходящий час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 цим підписуюсь. Я, королева Молекул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4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5-12T07:16:14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2d000000000001024140</vt:lpwstr>
  </property>
  <property fmtid="{D5CDD505-2E9C-101B-9397-08002B2CF9AE}" pid="3" name="PPT_Export_sFileName">
    <vt:lpwstr>D:\Электронный конструктор урока\Уроки\Урок 01 Физика наука про природу и физические явления\P-Урок 01 Физика наука про природу и физические явления.Ppt</vt:lpwstr>
  </property>
</Properties>
</file>