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E693-E3C4-4C11-A456-2A0516D1F2B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EE8E-43D7-4CE6-90A3-254B2D93AD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D674-68FF-4932-A38A-5D4BC36D9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FB38-5B26-4559-976F-1FC22398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4AF0-8CB6-4347-98F2-5340FC097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4F58-BEC4-40FE-9D5E-4F129DA10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31B80-0228-4771-BD60-DFC0D0420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9A5F-1309-4B41-A168-E44643E6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112D4-B5AB-4219-85B1-22F9A74D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A6AB-C570-444D-997B-C611F6E8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479D-9447-4D91-91A1-FBD36E5E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4499-FF3C-47B6-8A7E-0DEB9174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FD61-F5FB-440F-8367-B410A950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DF2C-1505-4B20-9704-190F3BE2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CB14-7B33-493E-AB10-732D2216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DDFD-3277-4D8A-9224-267C93B6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E7F5-0DEE-4257-9038-00E7A0A9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67F2-096A-4B25-BA5E-D9C5FB5CA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1B2C-51B2-44DA-80A3-B8AD894BB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71579-D8B2-410A-BDF1-54830A0BD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B315F-09E4-4C64-B1F7-604605DD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A8FAE-9FAA-437C-A06C-7E314CFE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84972-BEB0-4BAD-832A-CDB306CD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83E8D-C02C-4D38-BB98-C6A45C9A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1D66-3D45-41E7-A5DF-AEE2EEB0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3DAEE-3712-408D-9C10-FB764BC1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15A18-FF73-4FA0-9966-04F2922F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FFAF3-8095-4938-AC6E-E992D44A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B9D8B-5D9A-4ABD-B43F-1CA4A0D9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E25AA-015A-416D-BE08-09754157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3215A-09EF-425B-9DF9-A109B4582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6F693-37A4-44A9-A7B3-97E207069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E90C9-DD09-4338-AB79-B74CA2E4D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7831F-5C12-44B2-8F2C-DF7544D1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A7F8D-4B85-427B-BF44-56FCF9C9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19BB-12EB-4BD9-B0C4-124555E9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03106-75B1-4FBB-8612-D9CF6164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FE4AB-E880-46DF-A47F-04015011D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D772C-3977-477D-8A63-FE5FE9A4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A6DB8-47CD-4E5C-924D-09A07EAF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DF6F8-519F-405B-ADD6-62455416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A3065-DA08-4C58-8A38-7BD3F1E4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7815D-6351-4E7B-BAE2-66D1BF6C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E3895-0ECB-4DAB-9A9F-4C2E667E8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AACE3-D7D9-4342-8E38-3DF067D89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E668-E224-4E97-8FC2-169FD41E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F5E8-78BF-4CA5-8C8B-4A6C9502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0016-1FD2-4590-B900-4E8BA06B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1B47-89BD-466B-ACBA-3C7A725F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10A6-D05D-474D-ACC4-DFB8A646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AAB4-3571-4AC4-B7D2-1AEEB765D3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AAD0-E58E-4FE4-B880-89C4003AC86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3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2FAB-2B86-41A4-9FA4-E810D4CFDD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33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72AE-8A9D-42EC-B281-FD3B4D4C321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e5ffff"/>
                </a:solidFill>
                <a:latin typeface="Tahoma"/>
              </a:rPr>
              <a:t>Тиск. </a:t>
            </a:r>
            <a:br>
              <a:rPr sz="6000"/>
            </a:br>
            <a:r>
              <a:rPr b="1" i="1" lang="uk-UA" sz="6000" spc="-1" strike="noStrike">
                <a:solidFill>
                  <a:srgbClr val="e5ffff"/>
                </a:solidFill>
                <a:latin typeface="Tahoma"/>
              </a:rPr>
              <a:t>Сила тиску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77360" y="713880"/>
            <a:ext cx="86662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ісля вивчення теми ми будемо знат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66"/>
                </a:solidFill>
                <a:latin typeface="Arial"/>
              </a:rPr>
              <a:t>Визначення тиску та сили тис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66"/>
                </a:solidFill>
                <a:latin typeface="Arial"/>
              </a:rPr>
              <a:t>Позначення тиску та сили тис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66"/>
                </a:solidFill>
                <a:latin typeface="Arial"/>
              </a:rPr>
              <a:t>Одиниці вимірювання тис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66"/>
                </a:solidFill>
                <a:latin typeface="Arial"/>
              </a:rPr>
              <a:t>Від чого і як залежить тис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66"/>
                </a:solidFill>
                <a:latin typeface="Arial"/>
              </a:rPr>
              <a:t>Як застосовувати знання про тиск для пояснення явищ оточуючого світу  та розв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ffff66"/>
                </a:solidFill>
                <a:latin typeface="Arial"/>
              </a:rPr>
              <a:t>язування зада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2d2d8a"/>
                </a:solidFill>
                <a:latin typeface="Arial"/>
              </a:rPr>
              <a:t>Чому на лижах легше іти по снігу, ніж без них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7" descr="np10"/>
          <p:cNvPicPr/>
          <p:nvPr/>
        </p:nvPicPr>
        <p:blipFill>
          <a:blip r:embed="rId1"/>
          <a:srcRect l="0" t="0" r="155" b="0"/>
          <a:stretch/>
        </p:blipFill>
        <p:spPr>
          <a:xfrm>
            <a:off x="500040" y="1601640"/>
            <a:ext cx="3857760" cy="3498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91" name="Picture 8" descr="np20"/>
          <p:cNvPicPr/>
          <p:nvPr/>
        </p:nvPicPr>
        <p:blipFill>
          <a:blip r:embed="rId2"/>
          <a:stretch/>
        </p:blipFill>
        <p:spPr>
          <a:xfrm>
            <a:off x="4714920" y="2500200"/>
            <a:ext cx="4222800" cy="3500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p:transition>
    <p:dissolv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cc00"/>
                </a:solidFill>
                <a:latin typeface="Tahoma"/>
              </a:rPr>
              <a:t>Результат дії сили залежить від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5840" y="714240"/>
            <a:ext cx="8640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Значення сили прямопропорцій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Площі опори, перпендикулярно якій діє сила, оберненопропорцій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785880" y="2500200"/>
            <a:ext cx="3311280" cy="12636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"/>
          <p:cNvPicPr/>
          <p:nvPr/>
        </p:nvPicPr>
        <p:blipFill>
          <a:blip r:embed="rId2"/>
          <a:stretch/>
        </p:blipFill>
        <p:spPr>
          <a:xfrm>
            <a:off x="5643720" y="2571840"/>
            <a:ext cx="1726920" cy="1285920"/>
          </a:xfrm>
          <a:prstGeom prst="rect">
            <a:avLst/>
          </a:prstGeom>
          <a:ln w="0">
            <a:noFill/>
          </a:ln>
        </p:spPr>
      </p:pic>
      <p:sp>
        <p:nvSpPr>
          <p:cNvPr id="196" name="TextBox 8"/>
          <p:cNvSpPr/>
          <p:nvPr/>
        </p:nvSpPr>
        <p:spPr>
          <a:xfrm>
            <a:off x="214200" y="4500720"/>
            <a:ext cx="8786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Тиск – це фізична величина, яка дорівнює відношенню сили, що діє перпендикулярно до поверхні, до площі цієї поверхн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23640" y="549000"/>
            <a:ext cx="852156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cc00"/>
                </a:solidFill>
                <a:latin typeface="Tahoma"/>
              </a:rPr>
              <a:t>Силу, яка діє перпендикулярно до поверхні, називають силою тиску на цю поверхню і позначають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F</a:t>
            </a:r>
            <a:r>
              <a:rPr b="0" lang="uk-UA" sz="4000" spc="-1" strike="noStrike" baseline="-25000">
                <a:solidFill>
                  <a:srgbClr val="ffcc00"/>
                </a:solidFill>
                <a:latin typeface="Tahoma"/>
              </a:rPr>
              <a:t>т</a:t>
            </a:r>
            <a:r>
              <a:rPr b="0" lang="uk-UA" sz="40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333399"/>
                </a:solidFill>
                <a:latin typeface="Arial"/>
              </a:rPr>
              <a:t>Одиниця вимірювання тиску в системі С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3499920"/>
            <a:ext cx="83628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1 Паскаль – це такий тиск, що його чинить сила 1 Н на поверхню площею 1 м</a:t>
            </a:r>
            <a:r>
              <a:rPr b="0" lang="uk-UA" sz="32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 перпендикулярно до цієї площ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8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1368360" cy="10684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"/>
          <p:cNvPicPr/>
          <p:nvPr/>
        </p:nvPicPr>
        <p:blipFill>
          <a:blip r:embed="rId2"/>
          <a:stretch/>
        </p:blipFill>
        <p:spPr>
          <a:xfrm>
            <a:off x="4284720" y="1887480"/>
            <a:ext cx="3600360" cy="1155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99"/>
                </a:solidFill>
                <a:latin typeface="Arial"/>
              </a:rPr>
              <a:t>Блез Паскаль (1623 – 166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images1"/>
          <p:cNvPicPr/>
          <p:nvPr/>
        </p:nvPicPr>
        <p:blipFill>
          <a:blip r:embed="rId1"/>
          <a:stretch/>
        </p:blipFill>
        <p:spPr>
          <a:xfrm>
            <a:off x="250920" y="1413000"/>
            <a:ext cx="3116160" cy="381636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5"/>
          <p:cNvSpPr/>
          <p:nvPr/>
        </p:nvSpPr>
        <p:spPr>
          <a:xfrm>
            <a:off x="3564000" y="1413000"/>
            <a:ext cx="5329080" cy="51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Блез Паскаль не лише чудов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фізик, але й видатний винахідник 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математик. У 16 років він дові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теорему Паскаля”, у 18 років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винайшов рахувальну машин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за допомогою якої наві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необізнана з правил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арифметики людина могла 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виконувати 4 арифметичні дії. Ві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виготовив 50 моделей, з яких кож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наступна була кращою 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попередню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 Його вважа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найвидатніш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математиком свого ча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8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39640" y="25992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иск в 1 Па малий. На практиці застосовують кратні одиниц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 гектопаскаль = 100 Па = 1 г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 кілопаскаль = 1000 Па = 1 к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 мегапаскаль = 1000000 Па = 1 М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5075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Тиск кінчика жала оси   -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,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Тиск колеса легкового                                         автомобіля на дорогу         -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5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Нормальний атмосферний                                               тиск                                         -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5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Тиск трактора на грунт          -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Тиск фундаменту                                                 Останкінської телевежі                                                    на грунт                                  -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2,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Безымянный5"/>
          <p:cNvPicPr/>
          <p:nvPr/>
        </p:nvPicPr>
        <p:blipFill>
          <a:blip r:embed="rId1"/>
          <a:stretch/>
        </p:blipFill>
        <p:spPr>
          <a:xfrm>
            <a:off x="7308720" y="189000"/>
            <a:ext cx="1008360" cy="784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014_04s"/>
          <p:cNvPicPr/>
          <p:nvPr/>
        </p:nvPicPr>
        <p:blipFill>
          <a:blip r:embed="rId2"/>
          <a:stretch/>
        </p:blipFill>
        <p:spPr>
          <a:xfrm>
            <a:off x="7164360" y="1341360"/>
            <a:ext cx="1270080" cy="9525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014_05s"/>
          <p:cNvPicPr/>
          <p:nvPr/>
        </p:nvPicPr>
        <p:blipFill>
          <a:blip r:embed="rId3"/>
          <a:stretch/>
        </p:blipFill>
        <p:spPr>
          <a:xfrm>
            <a:off x="7093080" y="2565360"/>
            <a:ext cx="1341360" cy="10065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014_06s"/>
          <p:cNvPicPr/>
          <p:nvPr/>
        </p:nvPicPr>
        <p:blipFill>
          <a:blip r:embed="rId4"/>
          <a:stretch/>
        </p:blipFill>
        <p:spPr>
          <a:xfrm>
            <a:off x="7093080" y="3645000"/>
            <a:ext cx="1366560" cy="11746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014_03s"/>
          <p:cNvPicPr/>
          <p:nvPr/>
        </p:nvPicPr>
        <p:blipFill>
          <a:blip r:embed="rId5"/>
          <a:stretch/>
        </p:blipFill>
        <p:spPr>
          <a:xfrm>
            <a:off x="7164360" y="4869000"/>
            <a:ext cx="1270080" cy="1676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9:18:20Z</dcterms:created>
  <dc:creator>Natalia</dc:creator>
  <dc:description/>
  <dc:language>en-US</dc:language>
  <cp:lastModifiedBy>Serg</cp:lastModifiedBy>
  <dcterms:modified xsi:type="dcterms:W3CDTF">2012-11-12T22:06:37Z</dcterms:modified>
  <cp:revision>2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e06000000000001024140</vt:lpwstr>
  </property>
</Properties>
</file>