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A00-866B-4FAD-81EE-249738ABA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21DE-4F42-4C33-B254-0B418AD0B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30F-4150-4A65-A988-E1D82A07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0D2-C3D2-48E3-895F-B50E9AA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830-2695-4FA3-A516-6FF9AD83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852-565D-4BAE-9F48-17E736A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38FE-6ABD-411D-B08D-74B28055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29BE-A767-4C0C-9E97-6FB38958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AAB6-47FA-44F5-8435-1966415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D89-9732-4579-B9C6-7ADE90BD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D87-7EB3-431B-A5CF-9622206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CFA-9B5C-4136-960E-CB3708C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BB2-B3CB-49ED-9BBB-5DAB8B4D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800-0D69-465F-9F29-4BFABBBE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2FDC-53A5-4E9B-83D1-015F58F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9975-30C7-497B-B18A-942C407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F17D-B264-49DE-81A5-11E02251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BD27-C960-4A30-ADDD-DF8102CD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F4F-AD37-4E4E-A516-86233329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AA1C-514F-42E3-B778-4480E267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79A0-1916-4002-9F9C-71DF6097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0D7E-DA7B-4805-A373-119285C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5C23-74D9-4C0E-BCC5-F3C4DEFF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53DB-B3E9-460E-B136-FB37D75F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BCC-DFA6-4E65-8253-288B372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2A6B-2F24-493A-A177-ACC7F7DB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5688-C536-4577-A66F-D1748B1B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32BE-5061-45AD-B64F-3C17FE7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2A7D-B9A3-49A1-B818-EFB276B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9384-1BBD-41DA-BA9F-EE70194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AD52-1026-45DD-A3AB-655642CF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8CD5-392A-44E6-89C5-18FD5F31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D49C-6589-4F08-B230-8BB3AA8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EE52-65BD-4AC4-8BD6-674561E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4BEF-A3C0-44D5-9DFD-0F73F7B2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1A5-471F-4A14-B962-99EE57A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0762-B3B9-48B3-B10A-B80A4296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44F7-C4B2-4971-A914-0C09AD6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8622-7F13-4EB9-A979-7AD6F69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B642-ECCD-4627-83B2-B21232C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BCBE-CC05-4739-881C-A077A33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30A0-19F2-45BA-B7DE-A56D088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1362-7187-4D24-8162-8898589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1D37-DFAB-4AE7-91D4-FFABFEAA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20E8-9057-4C59-BB4E-7F3AC81B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48C-719D-4E8C-A200-542AFB51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9EA-76AA-491C-89B2-A1A0095F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8C3-0DB0-4057-A998-B13CFB3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730-6D6F-4EEB-A6AB-C5E3133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895-D399-439E-B015-617DE0E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D94-113A-457C-8595-E0FEE714D0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9D9-8897-4829-A2E5-0A63D04B1CC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B9B3-E9DA-4169-806E-7032864435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C08-4BF8-48EE-B6B6-58E6AE6E81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7888320" cy="1206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ли учні 8-Б клас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Бондар Даниїл та Прилипко Володимир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39720" y="20001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234936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Фізик бачить те, що бачать всі: речі і явища. Він також, як і всі, дивується красою і величчю миру. Але, крім того, він бачить ще і закономірності подій и явищ. Фізик має дар розуміння явищ природи, він знає мову природи. І світ стає набагато прекрасніш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Вислів одного з вчителів фіз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011 (1)"/>
          <p:cNvPicPr/>
          <p:nvPr/>
        </p:nvPicPr>
        <p:blipFill>
          <a:blip r:embed="rId1"/>
          <a:stretch/>
        </p:blipFill>
        <p:spPr>
          <a:xfrm>
            <a:off x="2052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Еверест – це меж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49334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onstantia"/>
              </a:rPr>
              <a:t>Для Землі – так! Для Землі критична висота гір – 30 км. Якби земні гори були б вищими, то тиск біля підніжжя гори був би настільки великим, що породи плавилися б, а висота гори у такий спосіб зменшувалася до критичної. У реальності ж висота гір ніде не досягає критичного значення через вплив навколишнього середовища – вивітрювання, вологості тощ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-8f908"/>
          <p:cNvPicPr/>
          <p:nvPr/>
        </p:nvPicPr>
        <p:blipFill>
          <a:blip r:embed="rId1"/>
          <a:stretch/>
        </p:blipFill>
        <p:spPr>
          <a:xfrm>
            <a:off x="-304920" y="-2365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5" descr=""/>
          <p:cNvPicPr/>
          <p:nvPr/>
        </p:nvPicPr>
        <p:blipFill>
          <a:blip r:embed="rId2"/>
          <a:stretch/>
        </p:blipFill>
        <p:spPr>
          <a:xfrm>
            <a:off x="1847880" y="66600"/>
            <a:ext cx="781380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v20"/>
          <p:cNvPicPr/>
          <p:nvPr/>
        </p:nvPicPr>
        <p:blipFill>
          <a:blip r:embed="rId1"/>
          <a:srcRect l="0" t="0" r="-44" b="0"/>
          <a:stretch/>
        </p:blipFill>
        <p:spPr>
          <a:xfrm>
            <a:off x="1943280" y="906480"/>
            <a:ext cx="7200720" cy="595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v10"/>
          <p:cNvPicPr/>
          <p:nvPr/>
        </p:nvPicPr>
        <p:blipFill>
          <a:blip r:embed="rId2"/>
          <a:stretch/>
        </p:blipFill>
        <p:spPr>
          <a:xfrm>
            <a:off x="0" y="4076640"/>
            <a:ext cx="327672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24000" y="0"/>
            <a:ext cx="86439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onstantia"/>
              </a:rPr>
              <a:t>Чому дерева не ростуть дуже високо</a:t>
            </a:r>
            <a:r>
              <a:rPr b="1" lang="ru-RU" sz="3600" spc="-1" strike="noStrike">
                <a:solidFill>
                  <a:srgbClr val="80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156520" cy="12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726000" cy="277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3"/>
          <a:stretch/>
        </p:blipFill>
        <p:spPr>
          <a:xfrm>
            <a:off x="5275440" y="1413000"/>
            <a:ext cx="3011400" cy="22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2825640" y="3933720"/>
            <a:ext cx="4699080" cy="2635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Що б робив комар, якби не його гострий хобот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05440" cy="42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3743280" cy="372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434952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2520" y="609480"/>
            <a:ext cx="8894880" cy="151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2516040" y="2225520"/>
            <a:ext cx="4399200" cy="408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7:16:10Z</dcterms:created>
  <dc:creator>User</dc:creator>
  <dc:description/>
  <dc:language>en-US</dc:language>
  <cp:lastModifiedBy>SERG</cp:lastModifiedBy>
  <dcterms:modified xsi:type="dcterms:W3CDTF">2014-03-26T06:04:14Z</dcterms:modified>
  <cp:revision>28</cp:revision>
  <dc:subject/>
  <dc:title>Розумна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b000000000001024140</vt:lpwstr>
  </property>
</Properties>
</file>