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2733-7034-42DD-8B82-629B7D0CA0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8FCF-356A-40F5-9DD3-6EEBF640E62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DEC-F3F2-48C9-B9B3-3665EF0F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8CA-5BF5-4150-BC4E-7B7055BA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47A3-2D82-4781-9E5D-96EE88F7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AB9A-E92F-429E-96AF-4A292C8C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EA24-A440-4A16-AAD0-F20804AA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C3AA-D804-4535-8D93-C5495B31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8195-DA6A-407B-9FAF-407D360E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DF2B-8E42-4E23-A085-4A139A89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829A-147A-465F-9CB7-941DEF0E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C29C-FB67-4AA8-9A14-DB85AB99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ED42-EBBE-4213-80E4-C8E168CB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8BA-C1D5-4904-A638-D61391D1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A972-7FD0-413A-90E4-E3FFA095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C50B-7FD1-490A-BF6F-CCDDBDAE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1684-A0A5-4EF9-8D11-5AB71146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0681-1849-4065-B3F0-09E448B8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72DE-FA35-4949-8262-3D7B2E78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F549-4C60-4EDC-BE66-C79E484E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BAC-0CF6-4319-A1CC-D3DF69AE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1F9-1C27-4190-8CBD-9B8BA24C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45E-0540-43A8-9C5E-9CA39C7C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78D-5BA6-48FF-8937-99BBF18E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C93-9674-42F1-BDEA-604AFA81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293-948C-447F-A211-21F8804B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E1DD-8280-450D-9846-5ABAA9268E3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146A-F1E3-4645-A47D-382947D1F03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4" descr=""/>
          <p:cNvPicPr/>
          <p:nvPr/>
        </p:nvPicPr>
        <p:blipFill>
          <a:blip r:embed="rId2"/>
          <a:stretch/>
        </p:blipFill>
        <p:spPr>
          <a:xfrm>
            <a:off x="444600" y="573120"/>
            <a:ext cx="8620200" cy="366408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6300720" y="5445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Times New Roman"/>
              </a:rPr>
              <a:t>Над проектом працювала  учениц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18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ffff00"/>
                </a:solidFill>
                <a:latin typeface="Times New Roman"/>
              </a:rPr>
              <a:t>класу Івахова Ольг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 rot="21410400">
            <a:off x="302760" y="1123920"/>
            <a:ext cx="8712360" cy="50418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108000" y="11592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ск можна збільшувати завдяки зменшенню площі поверхні. Це використовується в техніці при виготовленні інструментів (зубило, свердло, різець й т. п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 rot="21206400">
            <a:off x="755640" y="1484280"/>
            <a:ext cx="4176720" cy="439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 rot="520200">
            <a:off x="4932000" y="1483920"/>
            <a:ext cx="4032360" cy="43862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250920" y="189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і різальні інструменти - ножі, ножиці, різці - мають ріжучу частину дуже малої площі, що забезпечує створення значного тиску, необхідного  для р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ізанн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 rot="21359400">
            <a:off x="610920" y="1052640"/>
            <a:ext cx="8137440" cy="5472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250920" y="260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оща кінця вістря швацької голки становить всього лише 0,001 мм2. Тому для проколювання щільної тканини достатньо навіть незначної си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 rot="20368800">
            <a:off x="337680" y="873000"/>
            <a:ext cx="3810240" cy="324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 rot="1729800">
            <a:off x="4635000" y="1593720"/>
            <a:ext cx="3333960" cy="26132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47520" y="4802040"/>
            <a:ext cx="467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им менша площа дотику, тим  б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ільший тис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87200" y="51148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Тому голка легко пронизує шкіру,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а лопата з легкістю входить в зем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7:21:22Z</dcterms:created>
  <dc:creator>admin</dc:creator>
  <dc:description/>
  <dc:language>en-US</dc:language>
  <cp:lastModifiedBy>Admin</cp:lastModifiedBy>
  <dcterms:modified xsi:type="dcterms:W3CDTF">2014-03-27T06:33:01Z</dcterms:modified>
  <cp:revision>2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0c000000000001024140</vt:lpwstr>
  </property>
</Properties>
</file>