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FA1-C37E-4D3C-8B3F-635545DB91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131-AEDE-4610-AFD2-A6827E5AC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670-44C9-40D6-B458-A5711333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92F-97F7-4E5F-8535-CC893AF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590-4100-441A-9632-2F2EF1C9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8E0-0B33-46F2-91A8-5466690C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961-BF5D-4E4B-9250-F8FF589B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BB2F-99D3-47C1-AF6B-A1349027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8B1-CFCF-4705-AEB3-371C60FC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2A96-F69C-4C3B-AD9C-F01CCC0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771D-A245-4E9D-801D-CD22B97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B395-E1F0-4C5A-B6E4-FA88410F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CBA7-0C2D-4396-A513-7BBE018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DA2-AE78-4C8F-AEF2-D716B74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C75F-EE8D-450C-803C-CD759B3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91C-32F6-400B-B839-D3883B9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8F41-F4B9-4E9A-A5CD-78C7F7A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B64-36F2-47B8-8864-DC91BBC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FD16-A484-4904-954C-A464641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6E16-D85F-4579-95C6-0CDEBF80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DEC2-1CF6-4A2C-B6C2-B37C66F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9CEE-828C-448A-9E0D-E81A6C64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3AE2-5A17-4DC0-AD61-A3F2F439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656E-ABB9-4CB9-81F2-190BA47A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A07-E67C-448F-9790-E2A7C71B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7931-A228-4113-A37D-6B60B34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B526-6CAE-4796-A062-E3EB4C8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C92A-AAD5-40D5-B794-43778BE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1504-A190-4B57-923C-A8C89F8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63D3-7791-43B4-AEEB-E82AD91D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C814-F484-4471-9C6D-027B6794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4524-675D-4224-83B4-D506B2B3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1ABD-C742-4A5E-91CC-652FA75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BF49-18BA-4481-A2E1-1CA8DB39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D427-F8F5-48E8-B22C-98D4F90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891-1265-48B1-886F-C616AF79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B11E-734F-4F7F-B0D3-E07CB204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F268-FADD-46EA-8AEF-66D1E89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B459-344F-4549-AA2E-313177C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D618-3238-4A98-BF53-D86AB4E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B690-8EF2-4F0E-95ED-8E43955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40E7-BE35-42EA-962E-E4965AE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39CE-B160-45E0-95C8-7D4FCD93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05D5-0379-455F-A162-1F68020C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B1FC-B997-4844-B342-556B65A2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CF5-E94F-4909-AF81-3DBBA7C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3FA-F425-4F26-A9B0-D62F03BD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53B-0F99-4BC7-B02F-8B0FD9D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CCC-FA2C-4C2F-9F1D-AA3240F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4D2-DDFE-459C-A3C8-5430838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BDCA-A796-41FF-981F-36B4BD5FD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F9BE-6436-4135-A975-03F9FCB765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242-9664-4A93-A6AA-8359B03F9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37F8-F959-4A7A-B97F-3EACCEEAD4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Тиск. </a:t>
            </a:r>
            <a:br>
              <a:rPr sz="6000"/>
            </a:b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7360" y="713880"/>
            <a:ext cx="8666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вивчення теми ми будемо зна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о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Одиниці вимірювання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ід чого і як залежить ти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к застосовувати знання про тиск для пояснення явищ оточуючого світу  та розв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зування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d2d8a"/>
                </a:solidFill>
                <a:latin typeface="Arial"/>
              </a:rPr>
              <a:t>Чому на лижах легше іти по снігу, ніж без н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np10"/>
          <p:cNvPicPr/>
          <p:nvPr/>
        </p:nvPicPr>
        <p:blipFill>
          <a:blip r:embed="rId1"/>
          <a:srcRect l="0" t="0" r="155" b="0"/>
          <a:stretch/>
        </p:blipFill>
        <p:spPr>
          <a:xfrm>
            <a:off x="500040" y="1601640"/>
            <a:ext cx="3857760" cy="349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1" name="Picture 8" descr="np20"/>
          <p:cNvPicPr/>
          <p:nvPr/>
        </p:nvPicPr>
        <p:blipFill>
          <a:blip r:embed="rId2"/>
          <a:stretch/>
        </p:blipFill>
        <p:spPr>
          <a:xfrm>
            <a:off x="4714920" y="2500200"/>
            <a:ext cx="4222800" cy="3500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4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прям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, обернен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643720" y="2571840"/>
            <a:ext cx="172692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214200" y="4500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Тиск – це фізична величина, яка дорівнює відношенню сили, що діє перпендикулярно до поверхні, до площі цієї поверх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215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Силу, яка діє перпендикулярно до поверхні, називають силою тиску на цю поверхню і позначають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F</a:t>
            </a:r>
            <a:r>
              <a:rPr b="0" lang="uk-UA" sz="4000" spc="-1" strike="noStrike" baseline="-25000">
                <a:solidFill>
                  <a:srgbClr val="ffcc00"/>
                </a:solidFill>
                <a:latin typeface="Tahoma"/>
              </a:rPr>
              <a:t>т</a:t>
            </a: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4284720" y="188748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лез Паскаль не лише чуд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ик, але й видатний винахідник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. У 16 років він до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теорему Паскаля”, у 18 рокі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найшов рахувальну маш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допомогою якої нав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еобізнана з прав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рифметики людина могла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конувати 4 арифметичні дії. В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готовив 50 моделей, з яких ко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ступна була кращою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передню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Його вваж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йвидатні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ом свого ч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мегапаскаль = 1000000 Па = 1 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трактора на грунт    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фундаменту                                                 Останкінської телевежі                                                    на грунт                                  -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14_03s"/>
          <p:cNvPicPr/>
          <p:nvPr/>
        </p:nvPicPr>
        <p:blipFill>
          <a:blip r:embed="rId5"/>
          <a:stretch/>
        </p:blipFill>
        <p:spPr>
          <a:xfrm>
            <a:off x="7164360" y="486900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Serg</cp:lastModifiedBy>
  <dcterms:modified xsi:type="dcterms:W3CDTF">2012-11-12T22:06:3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6000000000001024140</vt:lpwstr>
  </property>
</Properties>
</file>