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E763-0EE7-4A73-A5B1-0E5AB85DA6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FEF2-0E67-4A68-B690-E30FDB2CA7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F18-2927-4007-AF3B-14505512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DFD-A84E-4D74-9D4B-7F4FE6EF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5EF4-1A1D-4888-8943-23623693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4F5-33D7-4E83-97DE-E2002642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D085-5D0C-484F-9DE9-62CC2A82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A819-4ED1-41FC-93FE-F46E4F14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E336-CC2C-4CB1-AFB0-6797E1F7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8698-B811-4305-9928-F96D812C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128A-FC3D-45D2-9872-E55DADC9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C3BB-1AFD-4B09-AEA1-367B14A9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933F-90F9-4F84-9A2C-49F7CA83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D06-F860-4E71-A4AA-2D37F22E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A8FF-4D2D-42FC-B143-B8BEA126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549A-6766-4839-B83F-EBCA17D0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9C4C-91FB-4762-9C74-7EB8BB31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0B15-A233-442E-9E90-FB0BFFB1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DC67-B441-45AE-96A3-5785E509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975DE-BA53-49F0-BFF8-6F30C990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8ED27-506B-454D-AAEE-F7DB35F3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4342F-E3F6-4F50-872A-CAACA4A4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89641-B030-48B5-9B12-3ED50104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4B7D7-295A-4CA7-8446-4DFD7D1D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207-F9A5-4E57-B465-0A1B0CF0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4960-6D8D-48FA-818A-E2E1EC33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A1128-EB59-4524-987B-1A3FB0C0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BF1E4-591D-4116-A9CE-676DD7D4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6B0FA-E9C7-428E-BC5E-B06D49B2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0587-5D7C-4BF2-AC43-FEB40BD8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11986-D5DB-44E5-B4B8-0E168756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AAAFC-8617-41C4-858B-8EF482ED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28E79-848B-480A-A69B-06574356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743F6-B9C7-4B35-85D6-2239ACBE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FF6AA-858F-4EEC-B376-2AD79EEC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6C4-8665-4CE0-9E47-8E8BF838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0C553-5C2E-4FF4-AFDA-2A29546A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6BCFF-2354-401B-86A5-FB969757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8E7F9-2EC9-4120-BCE0-9F75DDAF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DB8EA-E477-4B33-B1BA-374BCEC7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6888-25DC-4B7B-8EBD-9F508890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DE10A-3419-4E65-8391-F63212C6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D462B-4438-4D27-AF23-47653196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808AC-A2BA-4408-93AA-CD042259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557A1-605F-468F-84F2-48009851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01B-4969-4E9F-9C67-4ACA5B51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B5B-06A0-4D21-B72D-AA7071E8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912-0B48-4065-924D-F69A4AEE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769-EEC9-4E4E-A398-3546B201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C33-7763-4329-B275-37F0C27C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F442-63A2-4107-BE30-6B5859B5BE1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1D07-F1B1-4ACB-AEFC-4C2AB049389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BFCB-71B4-43DD-9E96-227DBE6C760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4227-440A-4FE9-AD1A-B1864884775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7888320" cy="1206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иконали учні 8-Б класу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Бондар Даниїл та Прилипко Володимир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39720" y="200016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2349360"/>
            <a:ext cx="8229600" cy="21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b5395"/>
                </a:solidFill>
                <a:latin typeface="Comic Sans MS"/>
              </a:rPr>
              <a:t>Фізик бачить те, що бачать всі: речі і явища. Він також, як і всі, дивується красою і величчю миру. Але, крім того, він бачить ще і закономірності подій и явищ. Фізик має дар розуміння явищ природи, він знає мову природи. І світ стає набагато прекрасніш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b5395"/>
                </a:solidFill>
                <a:latin typeface="Comic Sans MS"/>
              </a:rPr>
              <a:t>Вислів одного з вчителів фізи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011 (1)"/>
          <p:cNvPicPr/>
          <p:nvPr/>
        </p:nvPicPr>
        <p:blipFill>
          <a:blip r:embed="rId1"/>
          <a:stretch/>
        </p:blipFill>
        <p:spPr>
          <a:xfrm>
            <a:off x="20520" y="0"/>
            <a:ext cx="9298080" cy="6973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60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Еверест – це межа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1280" y="49334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Constantia"/>
              </a:rPr>
              <a:t>Для Землі – так! Для Землі критична висота гір – 30 км. Якби земні гори були б вищими, то тиск біля підніжжя гори був би настільки великим, що породи плавилися б, а висота гори у такий спосіб зменшувалася до критичної. У реальності ж висота гір ніде не досягає критичного значення через вплив навколишнього середовища – вивітрювання, вологості тощ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img-8f908"/>
          <p:cNvPicPr/>
          <p:nvPr/>
        </p:nvPicPr>
        <p:blipFill>
          <a:blip r:embed="rId1"/>
          <a:stretch/>
        </p:blipFill>
        <p:spPr>
          <a:xfrm>
            <a:off x="-304920" y="-23652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5" descr=""/>
          <p:cNvPicPr/>
          <p:nvPr/>
        </p:nvPicPr>
        <p:blipFill>
          <a:blip r:embed="rId2"/>
          <a:stretch/>
        </p:blipFill>
        <p:spPr>
          <a:xfrm>
            <a:off x="1847880" y="66600"/>
            <a:ext cx="7813800" cy="1895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v20"/>
          <p:cNvPicPr/>
          <p:nvPr/>
        </p:nvPicPr>
        <p:blipFill>
          <a:blip r:embed="rId1"/>
          <a:srcRect l="0" t="0" r="-44" b="0"/>
          <a:stretch/>
        </p:blipFill>
        <p:spPr>
          <a:xfrm>
            <a:off x="1943280" y="906480"/>
            <a:ext cx="7200720" cy="5951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v10"/>
          <p:cNvPicPr/>
          <p:nvPr/>
        </p:nvPicPr>
        <p:blipFill>
          <a:blip r:embed="rId2"/>
          <a:stretch/>
        </p:blipFill>
        <p:spPr>
          <a:xfrm>
            <a:off x="0" y="4076640"/>
            <a:ext cx="3276720" cy="2781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24000" y="0"/>
            <a:ext cx="86439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Constantia"/>
              </a:rPr>
              <a:t>Чому дерева не ростуть дуже високо</a:t>
            </a:r>
            <a:r>
              <a:rPr b="1" lang="ru-RU" sz="3600" spc="-1" strike="noStrike">
                <a:solidFill>
                  <a:srgbClr val="800000"/>
                </a:solidFill>
                <a:latin typeface="Constant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156520" cy="1214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726000" cy="2774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"/>
          <p:cNvPicPr/>
          <p:nvPr/>
        </p:nvPicPr>
        <p:blipFill>
          <a:blip r:embed="rId3"/>
          <a:stretch/>
        </p:blipFill>
        <p:spPr>
          <a:xfrm>
            <a:off x="5275440" y="1413000"/>
            <a:ext cx="3011400" cy="2247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"/>
          <p:cNvPicPr/>
          <p:nvPr/>
        </p:nvPicPr>
        <p:blipFill>
          <a:blip r:embed="rId4"/>
          <a:stretch/>
        </p:blipFill>
        <p:spPr>
          <a:xfrm>
            <a:off x="2825640" y="3933720"/>
            <a:ext cx="4699080" cy="2635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Що б робив комар, якби не його гострий хобот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105440" cy="4211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8553240" cy="1384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468360" y="2635200"/>
            <a:ext cx="3743280" cy="3721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4427640" y="2205000"/>
            <a:ext cx="4349520" cy="305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182520" y="609480"/>
            <a:ext cx="8894880" cy="1511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2516040" y="2225520"/>
            <a:ext cx="4399200" cy="4083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07:16:10Z</dcterms:created>
  <dc:creator>User</dc:creator>
  <dc:description/>
  <dc:language>en-US</dc:language>
  <cp:lastModifiedBy>SERG</cp:lastModifiedBy>
  <dcterms:modified xsi:type="dcterms:W3CDTF">2014-03-26T06:04:14Z</dcterms:modified>
  <cp:revision>28</cp:revision>
  <dc:subject/>
  <dc:title>Розумна приро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b000000000001024140</vt:lpwstr>
  </property>
</Properties>
</file>