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16CB-6256-47B8-BC5D-368CD86E3B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868E-3EFD-4262-A766-2DFF4CA8D0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853-693B-4E99-B4A8-DC9057EC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1E5-78F2-4C60-BA4E-DAE1EB3C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034-D57A-4F39-9143-B5A508DA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3D5-56A8-41AC-879C-4282E973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8888-B994-49D7-A981-CA44951B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4208-8D65-4C35-8CB4-7472C1DE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441D-3AC2-47BB-B6F3-64EE2AE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F3A-6013-4FF9-B022-EE954140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338-52AD-406A-A92D-4383676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24D0-026E-4384-B08F-87D2AB7E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D28-7CB3-4CF8-9809-99A8717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F17-891E-4B7C-84C6-0C10D8EA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7FD7-F10D-443F-B5CC-EEE7BB36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5C2E-32E7-425F-8202-255D44FD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7A41-B58D-42F2-9E45-DA6B4ADB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6037-1D23-48B1-A02D-4990BE1A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966B-9151-421E-A6E4-C5D9DF73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9BF-8E50-4255-9DF9-CEF756AB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FCE-69F5-4BA7-887D-D00DAEF1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A35-E659-4313-B78F-4CC56216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C2E-EE3A-4BCA-8D2E-F3C73EC0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C55-F5FB-4152-9C1C-8C2DDA3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A2C-AE93-4145-9552-7811203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80B-0427-4884-B455-0D0B7B8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F0A-EB7D-4503-8361-8B4E00A8816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8058-0983-4E1B-9BA6-36219482DFE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2"/>
          <a:stretch/>
        </p:blipFill>
        <p:spPr>
          <a:xfrm>
            <a:off x="444600" y="573120"/>
            <a:ext cx="8620200" cy="3664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300720" y="544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Над проектом працювала  учениц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класу Івахова Оль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 rot="21410400">
            <a:off x="302760" y="1123920"/>
            <a:ext cx="8712360" cy="5041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ск можна збільшувати завдяки зменшенню площі поверхні. Це використовується в техніці при виготовленні інструментів (зубило, свердло, різець й т. 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 rot="21206400">
            <a:off x="755640" y="1484280"/>
            <a:ext cx="417672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520200">
            <a:off x="4932000" y="1483920"/>
            <a:ext cx="4032360" cy="43862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5092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і різальні інструменти - ножі, ножиці, різці - мають ріжучу частину дуже малої площі, що забезпечує створення значного тиску, необхідного  для р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занн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 rot="21359400">
            <a:off x="610920" y="1052640"/>
            <a:ext cx="8137440" cy="5472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 кінця вістря швацької голки становить всього лише 0,001 мм2. Тому для проколювання щільної тканини достатньо навіть незначної си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 rot="20368800">
            <a:off x="337680" y="873000"/>
            <a:ext cx="3810240" cy="324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 rot="1729800">
            <a:off x="4635000" y="1593720"/>
            <a:ext cx="3333960" cy="2613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47520" y="4802040"/>
            <a:ext cx="46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м менша площа дотику, тим  б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льший т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87200" y="5114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Тому голка легко пронизує шкіру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лопата з легкістю входить в зем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21:22Z</dcterms:created>
  <dc:creator>admin</dc:creator>
  <dc:description/>
  <dc:language>en-US</dc:language>
  <cp:lastModifiedBy>Admin</cp:lastModifiedBy>
  <dcterms:modified xsi:type="dcterms:W3CDTF">2014-03-27T06:33:01Z</dcterms:modified>
  <cp:revision>2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c000000000001024140</vt:lpwstr>
  </property>
</Properties>
</file>