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23.png" ContentType="image/pn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0.png" ContentType="image/png"/>
  <Override PartName="/ppt/media/image16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E0DD-0DDB-404D-8541-05C4C5100A0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7841-015F-4BA7-A0AB-DA89082684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18C0-9834-443D-8D21-F39412B9B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0ADC-946C-4E6F-B577-1059F3FA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8EA1-330D-4240-87DE-1DE648BE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E847-5DFE-4BFE-B713-4E527B3A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CC9D-9452-4BBD-823F-FC9308E5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3422-30B4-4937-BC74-65C9147D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44F0-8575-433A-BBF7-60355A5A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1591-C733-4422-AC6D-8FEB94BD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7AF5-E4C6-4571-AD12-1CBFE8C9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CA6CF-84C8-4718-95E4-E268AB89F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24038-2CAB-424C-B19B-289383C3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325-DE19-4BA4-B29C-29A25F04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CBAF-051B-429C-B179-C1323671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456C-C201-45CB-9469-25434D1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6609-B380-417D-8559-AB8AB5AF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0741-2E3A-454F-9F96-6383FF59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3FBEA-DD1E-4B0D-8B14-88DB9EC3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AF86-1B9F-4913-AE5F-7732684D8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6EC5-897D-4111-A537-0D1C02AD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55DEC-8F46-40F8-93D6-5A4BA5C0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F717E-350A-48DC-B68E-4716D190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F0AA6-E791-44E6-90DC-9CCA4C88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460E-D7E8-4D47-8A9D-2BB5D822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0B510-60D8-42A6-9C83-A944568D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1CE6-2942-42C4-B9B9-0D1085D4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DFC7F-F81C-4B57-B3D4-71B0618B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91ACC-DCBE-4F4B-8D52-669929CF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4FF74-4A3A-4F63-BB16-3DDE811F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5C0A4-74A6-4EDE-888D-54C8740D3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CA1B0-B473-4C66-BC24-86728A498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FB4E0-BC7E-42C7-A86A-54A3E36EC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EE403-37CA-4146-B05E-A89D08AB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E0123-62B3-4A51-A220-9FED516D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6D2-BF57-446E-B7A3-16EC98F20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9E00F-E4F7-47B8-9AB3-81055CDF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C7615-BA5C-40E2-98E2-9C148C00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23383-6EE9-49FC-A5C6-1FF36FA2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29434-A991-4973-B057-11B4C712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74D84-8ED8-406C-B14E-E702D4FC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27438-270D-4A6C-9BA0-16C4CC8F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B0F2-D669-4A72-9056-2A921C18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7B37-5E43-4D11-8627-109D7BD0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DC2F-F558-425C-82E4-7A5EDEAF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6FB8-FB34-4848-9CA6-3113EF8B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0A1D-0138-4938-B37B-661629F8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4F49-725D-43CE-8D85-33C817EB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56DF-AA34-4DFC-BB4E-047E5431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1C8A-92CC-4E01-93E6-A2B1FED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6FFC-4E0E-40EE-8AEC-3A47CB98AD6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425A-E3C8-4ECD-8944-54C80C4245EC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1E06-DC66-4B4A-9EA1-ECCDC91BD3F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3A9E-E773-4DAB-BE1D-6B225E97819C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00040" y="2000160"/>
            <a:ext cx="7888320" cy="12067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Виконали учні 8-Б класу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ffff"/>
                </a:solidFill>
                <a:latin typeface="Constantia"/>
              </a:rPr>
              <a:t>Бондар Даниїл та Прилипко Володимир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639720" y="2000160"/>
            <a:ext cx="7772400" cy="13654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4" descr="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2349360"/>
            <a:ext cx="8229600" cy="21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Фізик бачить те, що бачать всі: речі і явища. Він також, як і всі, дивується красою і величчю миру. Але, крім того, він бачить ще і закономірності подій и явищ. Фізик має дар розуміння явищ природи, він знає мову природи. І світ стає набагато прекрасніш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b5395"/>
                </a:solidFill>
                <a:latin typeface="Comic Sans MS"/>
              </a:rPr>
              <a:t>Вислів одного з вчителів фізики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4" descr="011 (1)"/>
          <p:cNvPicPr/>
          <p:nvPr/>
        </p:nvPicPr>
        <p:blipFill>
          <a:blip r:embed="rId1"/>
          <a:stretch/>
        </p:blipFill>
        <p:spPr>
          <a:xfrm>
            <a:off x="20520" y="0"/>
            <a:ext cx="9298080" cy="69739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604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000" spc="-1" strike="noStrike">
                <a:solidFill>
                  <a:srgbClr val="04617b"/>
                </a:solidFill>
                <a:latin typeface="Calibri"/>
              </a:rPr>
              <a:t>Еверест – це межа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11280" y="493344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Constantia"/>
              </a:rPr>
              <a:t>Для Землі – так! Для Землі критична висота гір – 30 км. Якби земні гори були б вищими, то тиск біля підніжжя гори був би настільки великим, що породи плавилися б, а висота гори у такий спосіб зменшувалася до критичної. У реальності ж висота гір ніде не досягає критичного значення через вплив навколишнього середовища – вивітрювання, вологості тощо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indefinite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img-8f908"/>
          <p:cNvPicPr/>
          <p:nvPr/>
        </p:nvPicPr>
        <p:blipFill>
          <a:blip r:embed="rId1"/>
          <a:stretch/>
        </p:blipFill>
        <p:spPr>
          <a:xfrm>
            <a:off x="-304920" y="-23652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210" name="Rectangle 5" descr=""/>
          <p:cNvPicPr/>
          <p:nvPr/>
        </p:nvPicPr>
        <p:blipFill>
          <a:blip r:embed="rId2"/>
          <a:stretch/>
        </p:blipFill>
        <p:spPr>
          <a:xfrm>
            <a:off x="1847880" y="66600"/>
            <a:ext cx="781380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v20"/>
          <p:cNvPicPr/>
          <p:nvPr/>
        </p:nvPicPr>
        <p:blipFill>
          <a:blip r:embed="rId1"/>
          <a:srcRect l="0" t="0" r="-44" b="0"/>
          <a:stretch/>
        </p:blipFill>
        <p:spPr>
          <a:xfrm>
            <a:off x="1943280" y="906480"/>
            <a:ext cx="7200720" cy="5951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v10"/>
          <p:cNvPicPr/>
          <p:nvPr/>
        </p:nvPicPr>
        <p:blipFill>
          <a:blip r:embed="rId2"/>
          <a:stretch/>
        </p:blipFill>
        <p:spPr>
          <a:xfrm>
            <a:off x="0" y="4076640"/>
            <a:ext cx="3276720" cy="27813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7"/>
          <p:cNvSpPr/>
          <p:nvPr/>
        </p:nvSpPr>
        <p:spPr>
          <a:xfrm>
            <a:off x="324000" y="0"/>
            <a:ext cx="864396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800000"/>
                </a:solidFill>
                <a:latin typeface="Constantia"/>
              </a:rPr>
              <a:t>Чому дерева не ростуть дуже високо</a:t>
            </a:r>
            <a:r>
              <a:rPr b="1" lang="ru-RU" sz="3600" spc="-1" strike="noStrike">
                <a:solidFill>
                  <a:srgbClr val="800000"/>
                </a:solidFill>
                <a:latin typeface="Constanti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212760" y="212760"/>
            <a:ext cx="8156520" cy="1214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9" descr=""/>
          <p:cNvPicPr/>
          <p:nvPr/>
        </p:nvPicPr>
        <p:blipFill>
          <a:blip r:embed="rId2"/>
          <a:stretch/>
        </p:blipFill>
        <p:spPr>
          <a:xfrm>
            <a:off x="395280" y="1413000"/>
            <a:ext cx="3726000" cy="2774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"/>
          <p:cNvPicPr/>
          <p:nvPr/>
        </p:nvPicPr>
        <p:blipFill>
          <a:blip r:embed="rId3"/>
          <a:stretch/>
        </p:blipFill>
        <p:spPr>
          <a:xfrm>
            <a:off x="5275440" y="1413000"/>
            <a:ext cx="3011400" cy="22478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"/>
          <p:cNvPicPr/>
          <p:nvPr/>
        </p:nvPicPr>
        <p:blipFill>
          <a:blip r:embed="rId4"/>
          <a:stretch/>
        </p:blipFill>
        <p:spPr>
          <a:xfrm>
            <a:off x="2825640" y="3933720"/>
            <a:ext cx="4699080" cy="26352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c00000"/>
                </a:solidFill>
                <a:latin typeface="Calibri"/>
              </a:rPr>
              <a:t>Що б робив комар, якби не його гострий хобот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4105440" cy="421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8553240" cy="13845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2"/>
          <a:stretch/>
        </p:blipFill>
        <p:spPr>
          <a:xfrm>
            <a:off x="468360" y="2635200"/>
            <a:ext cx="3743280" cy="37213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"/>
          <p:cNvPicPr/>
          <p:nvPr/>
        </p:nvPicPr>
        <p:blipFill>
          <a:blip r:embed="rId3"/>
          <a:stretch/>
        </p:blipFill>
        <p:spPr>
          <a:xfrm>
            <a:off x="4427640" y="2205000"/>
            <a:ext cx="4349520" cy="3057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Заголовок 1" descr=""/>
          <p:cNvPicPr/>
          <p:nvPr/>
        </p:nvPicPr>
        <p:blipFill>
          <a:blip r:embed="rId1"/>
          <a:stretch/>
        </p:blipFill>
        <p:spPr>
          <a:xfrm>
            <a:off x="182520" y="609480"/>
            <a:ext cx="8894880" cy="1511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2516040" y="2225520"/>
            <a:ext cx="4399200" cy="4083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1T07:16:10Z</dcterms:created>
  <dc:creator>User</dc:creator>
  <dc:description/>
  <dc:language>en-US</dc:language>
  <cp:lastModifiedBy>SERG</cp:lastModifiedBy>
  <dcterms:modified xsi:type="dcterms:W3CDTF">2014-03-26T06:04:14Z</dcterms:modified>
  <cp:revision>28</cp:revision>
  <dc:subject/>
  <dc:title>Розумна приро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b000000000001024140</vt:lpwstr>
  </property>
</Properties>
</file>