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15DB-5832-4EF5-A6AE-E3A8ED1D3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7F9-334E-4A1C-A933-F7A5480638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61D-84AE-409D-8A45-E3CEE346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F71-03E2-453D-8692-134ACE68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EE4-9D0D-484A-8F2C-C1E2C088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DAB-391A-40E5-BCF4-5B3392DA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D1B-E8E2-4EC0-980C-E72E3C45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6F4-0C76-4473-B97F-A2E2040F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5A5-22D7-4B0A-88CC-EBCFD21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E58E-E3DC-435D-9214-97361A9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2926-83EE-433F-8DE2-C2A2C530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9D7B-BD93-4318-B545-BAF265A2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F5B8-9142-45C6-B8E0-C864ACCC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B2A-312A-4C7B-9F8B-F1A3807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1C9-A914-4F0B-8E41-B57A756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969-71EE-4265-A5F9-F632B0C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218-D4E1-4ADE-9846-691E8E2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30D-E2F5-4D07-80A7-D9005CF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B900-F92D-4F58-BCEE-325E173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7EE2-EAC2-41BD-B1D6-0B7BD63F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EC32-9531-4D0D-AAF8-FCA03A7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F70C-17B3-4452-94EF-7D6498D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E9E6-80B9-4600-8B46-3757786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45AC-0CD6-400C-B7D3-4C773CF1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8CB-534A-4285-8F7B-01566CB1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889C-63CE-4F3A-BBD1-83AAD84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ABB1-8160-4CDF-8634-42128B7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D27C-4CF4-4C24-959C-0ABC0A3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B224-61E3-4813-A5D8-8F4020E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C6B5-2918-44E2-9668-6493840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A5C9-186B-4981-A412-4A9F17DE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2B71-BC11-46CA-BD9F-21AAF338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C219-B5CC-4DC4-94AE-9EF90603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68C8-4EB0-477B-BA62-BAEB66C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71CE-346D-4178-ABA4-545E1C9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71F-986E-4297-9325-FB0A62E5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787D-57A3-4C8A-8535-C72CE7B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BCF5-343D-435B-94ED-9B35C03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E2A0-4133-441F-9B67-4345C87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DC0C-EF51-4C47-A2E7-00BF190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1C95-D2D1-4383-ACBD-3DB8AA5B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235F-B1CB-4DB1-B6E9-0361042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BE1C-A3B1-4FB7-8492-15D0534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2B71-91BE-4F06-829E-4E86E234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F695-2C69-4557-B8CB-7D7049C1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C17-B483-4B6F-A7C0-FDC1F08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CC7-CFA5-4287-9319-0A95D03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529-530A-4D9A-829F-AB538B7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9D2-FC28-4FA8-837E-78E1B85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ACD-9625-45BE-8263-44DF5BA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389-60E3-4E87-BAA1-233F366452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CF66-A667-470F-9EF5-915C1552187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DBA-DBF8-4860-8E3B-D75494BAEFA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1B0-9F71-4BC5-91AE-981BF6FEE1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7888320" cy="1206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ли учні 8-Б клас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Бондар Даниїл та Прилипко Володимир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39720" y="20001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234936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Фізик бачить те, що бачать всі: речі і явища. Він також, як і всі, дивується красою і величчю миру. Але, крім того, він бачить ще і закономірності подій и явищ. Фізик має дар розуміння явищ природи, він знає мову природи. І світ стає набагато прекрасніш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Вислів одного з вчителів фіз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011 (1)"/>
          <p:cNvPicPr/>
          <p:nvPr/>
        </p:nvPicPr>
        <p:blipFill>
          <a:blip r:embed="rId1"/>
          <a:stretch/>
        </p:blipFill>
        <p:spPr>
          <a:xfrm>
            <a:off x="2052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Еверест – це меж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49334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onstantia"/>
              </a:rPr>
              <a:t>Для Землі – так! Для Землі критична висота гір – 30 км. Якби земні гори були б вищими, то тиск біля підніжжя гори був би настільки великим, що породи плавилися б, а висота гори у такий спосіб зменшувалася до критичної. У реальності ж висота гір ніде не досягає критичного значення через вплив навколишнього середовища – вивітрювання, вологості тощ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-8f908"/>
          <p:cNvPicPr/>
          <p:nvPr/>
        </p:nvPicPr>
        <p:blipFill>
          <a:blip r:embed="rId1"/>
          <a:stretch/>
        </p:blipFill>
        <p:spPr>
          <a:xfrm>
            <a:off x="-304920" y="-2365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5" descr=""/>
          <p:cNvPicPr/>
          <p:nvPr/>
        </p:nvPicPr>
        <p:blipFill>
          <a:blip r:embed="rId2"/>
          <a:stretch/>
        </p:blipFill>
        <p:spPr>
          <a:xfrm>
            <a:off x="1847880" y="66600"/>
            <a:ext cx="781380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v20"/>
          <p:cNvPicPr/>
          <p:nvPr/>
        </p:nvPicPr>
        <p:blipFill>
          <a:blip r:embed="rId1"/>
          <a:srcRect l="0" t="0" r="-44" b="0"/>
          <a:stretch/>
        </p:blipFill>
        <p:spPr>
          <a:xfrm>
            <a:off x="1943280" y="906480"/>
            <a:ext cx="7200720" cy="595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v10"/>
          <p:cNvPicPr/>
          <p:nvPr/>
        </p:nvPicPr>
        <p:blipFill>
          <a:blip r:embed="rId2"/>
          <a:stretch/>
        </p:blipFill>
        <p:spPr>
          <a:xfrm>
            <a:off x="0" y="4076640"/>
            <a:ext cx="327672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24000" y="0"/>
            <a:ext cx="86439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onstantia"/>
              </a:rPr>
              <a:t>Чому дерева не ростуть дуже високо</a:t>
            </a:r>
            <a:r>
              <a:rPr b="1" lang="ru-RU" sz="3600" spc="-1" strike="noStrike">
                <a:solidFill>
                  <a:srgbClr val="80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156520" cy="12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726000" cy="277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3"/>
          <a:stretch/>
        </p:blipFill>
        <p:spPr>
          <a:xfrm>
            <a:off x="5275440" y="1413000"/>
            <a:ext cx="3011400" cy="22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2825640" y="3933720"/>
            <a:ext cx="4699080" cy="2635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Що б робив комар, якби не його гострий хобот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05440" cy="42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3743280" cy="372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434952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2520" y="609480"/>
            <a:ext cx="8894880" cy="151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2516040" y="2225520"/>
            <a:ext cx="4399200" cy="408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7:16:10Z</dcterms:created>
  <dc:creator>User</dc:creator>
  <dc:description/>
  <dc:language>en-US</dc:language>
  <cp:lastModifiedBy>SERG</cp:lastModifiedBy>
  <dcterms:modified xsi:type="dcterms:W3CDTF">2014-03-26T06:04:14Z</dcterms:modified>
  <cp:revision>28</cp:revision>
  <dc:subject/>
  <dc:title>Розумна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b000000000001024140</vt:lpwstr>
  </property>
</Properties>
</file>