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23.png" ContentType="image/pn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0.png" ContentType="image/png"/>
  <Override PartName="/ppt/media/image16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04AF-2099-4EF8-B12F-7787D0CD4FB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DC2D4-E00A-43B0-A67E-2449B5F0DF3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50FD-A421-4461-BB93-7FE6E4316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4497-0C70-48E7-BE3C-32E3371E9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6275-2BA2-4BF5-B7AE-4D26A736F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5BBE-C842-478C-9C44-FBB080554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9E5C8-3525-48F0-A970-9C39CD3B3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82386-8982-4911-BA85-603085861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D1DE7-F3E9-479F-AF7A-F141CB096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C0D10-DE93-41CB-90A5-7EF82FE25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079FD-3A3A-44A3-93BD-7B9DFAF26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D193A-20A3-4416-BD18-376507CCE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5B94A-0BEF-47CA-8302-769EB535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33AE-282B-4099-92F4-7234AB04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54D9C-F2EE-41BB-A4C0-B66D388D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80CF0-B150-4669-898F-066C458A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52660-F4AD-45B3-B38B-9C09DA9ED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1F975-5FF3-4E20-8E2C-FEDD2E52C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D7E73-A2E3-4E09-B21B-23B066954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8B607-0F1F-4DAB-A5B2-D151F0B45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26ABD-F507-42FD-ACB0-16B17C7D0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8E4A7-672F-4D0F-8013-0BD77FC84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D3016-E975-4C92-9F6D-3674DBFA9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EBEB8-4D1D-44E3-B348-28A546EB8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4BC1-C285-449E-8E0E-E4087D0B7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82C88-D66B-4067-AA0B-3BB04A2C7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C87F8-5F59-4491-BBDF-BDFCC674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D0CAF-E181-4BA7-981C-242AE8D9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9E914-28C5-423A-84F6-D7B96A0C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EB4C1-047B-46A6-B926-0FE47453C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7EE89-CA22-4EB2-BC55-00AEF2231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32E57-7E7F-4DB3-B59D-55A25057E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3AFFE-2B8C-460F-ADA9-5380BB5BE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5E99D-ADC8-4C28-893A-772C063B5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8D46B-4407-408F-A35C-70B0ABC5F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17BA-411C-477E-9214-83F213BE7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48905-78CB-4C75-B703-AA0A0210E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A4114-8B72-477F-9D9D-DB5B6CCB3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6374C-D511-4DD3-B49D-1B02C059A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28E2F-8C44-4D7C-82CA-A6DCD262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675F1-F42F-412C-95F8-7CCCF3B9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F442A-5F4B-4EAB-8B88-125F3B76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677D3-9721-4A82-9C0D-54F7B9954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2FA4A-39BD-4CDA-AF76-0BBDC3636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7090F-8FB6-4E8F-9C90-EE4E74C6D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2093-5D5F-4548-97D5-35E822C0F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0D5C-5322-4338-A2B7-F3306D860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D692-DCFA-48E7-BE66-6AE2B5CC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1D19-563F-4CD8-9877-D0E67007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D3E6-D264-40F3-8A96-C405DE1D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FF683-F5DF-4E05-A480-5DEA73169C0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90EBF-1016-45E2-A6C1-1019AA57391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3D1F8-DB56-468B-BABC-9DCCAB9483F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79D1A-67FD-4AFF-8887-399C1781471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500040" y="2000160"/>
            <a:ext cx="7888320" cy="12067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Виконали учні 8-Б класу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Бондар Даниїл та Прилипко Володимир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639720" y="2000160"/>
            <a:ext cx="7772400" cy="136548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0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457200" y="2349360"/>
            <a:ext cx="8229600" cy="21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b5395"/>
                </a:solidFill>
                <a:latin typeface="Comic Sans MS"/>
              </a:rPr>
              <a:t>Фізик бачить те, що бачать всі: речі і явища. Він також, як і всі, дивується красою і величчю миру. Але, крім того, він бачить ще і закономірності подій и явищ. Фізик має дар розуміння явищ природи, він знає мову природи. І світ стає набагато прекрасніше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b5395"/>
                </a:solidFill>
                <a:latin typeface="Comic Sans MS"/>
              </a:rPr>
              <a:t>Вислів одного з вчителів фізик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in" orient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4" descr="011 (1)"/>
          <p:cNvPicPr/>
          <p:nvPr/>
        </p:nvPicPr>
        <p:blipFill>
          <a:blip r:embed="rId1"/>
          <a:stretch/>
        </p:blipFill>
        <p:spPr>
          <a:xfrm>
            <a:off x="20520" y="0"/>
            <a:ext cx="9298080" cy="69739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604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000" spc="-1" strike="noStrike">
                <a:solidFill>
                  <a:srgbClr val="04617b"/>
                </a:solidFill>
                <a:latin typeface="Calibri"/>
              </a:rPr>
              <a:t>Еверест – це межа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11280" y="493344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Constantia"/>
              </a:rPr>
              <a:t>Для Землі – так! Для Землі критична висота гір – 30 км. Якби земні гори були б вищими, то тиск біля підніжжя гори був би настільки великим, що породи плавилися б, а висота гори у такий спосіб зменшувалася до критичної. У реальності ж висота гір ніде не досягає критичного значення через вплив навколишнього середовища – вивітрювання, вологості тощо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in" orient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indefinite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4" descr="img-8f908"/>
          <p:cNvPicPr/>
          <p:nvPr/>
        </p:nvPicPr>
        <p:blipFill>
          <a:blip r:embed="rId1"/>
          <a:stretch/>
        </p:blipFill>
        <p:spPr>
          <a:xfrm>
            <a:off x="-304920" y="-23652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210" name="Rectangle 5" descr=""/>
          <p:cNvPicPr/>
          <p:nvPr/>
        </p:nvPicPr>
        <p:blipFill>
          <a:blip r:embed="rId2"/>
          <a:stretch/>
        </p:blipFill>
        <p:spPr>
          <a:xfrm>
            <a:off x="1847880" y="66600"/>
            <a:ext cx="7813800" cy="1895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5" descr="v20"/>
          <p:cNvPicPr/>
          <p:nvPr/>
        </p:nvPicPr>
        <p:blipFill>
          <a:blip r:embed="rId1"/>
          <a:srcRect l="0" t="0" r="-44" b="0"/>
          <a:stretch/>
        </p:blipFill>
        <p:spPr>
          <a:xfrm>
            <a:off x="1943280" y="906480"/>
            <a:ext cx="7200720" cy="59515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" descr="v10"/>
          <p:cNvPicPr/>
          <p:nvPr/>
        </p:nvPicPr>
        <p:blipFill>
          <a:blip r:embed="rId2"/>
          <a:stretch/>
        </p:blipFill>
        <p:spPr>
          <a:xfrm>
            <a:off x="0" y="4076640"/>
            <a:ext cx="3276720" cy="278136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7"/>
          <p:cNvSpPr/>
          <p:nvPr/>
        </p:nvSpPr>
        <p:spPr>
          <a:xfrm>
            <a:off x="324000" y="0"/>
            <a:ext cx="864396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800000"/>
                </a:solidFill>
                <a:latin typeface="Constantia"/>
              </a:rPr>
              <a:t>Чому дерева не ростуть дуже високо</a:t>
            </a:r>
            <a:r>
              <a:rPr b="1" lang="ru-RU" sz="3600" spc="-1" strike="noStrike">
                <a:solidFill>
                  <a:srgbClr val="800000"/>
                </a:solidFill>
                <a:latin typeface="Constanti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1" descr=""/>
          <p:cNvPicPr/>
          <p:nvPr/>
        </p:nvPicPr>
        <p:blipFill>
          <a:blip r:embed="rId1"/>
          <a:stretch/>
        </p:blipFill>
        <p:spPr>
          <a:xfrm>
            <a:off x="212760" y="212760"/>
            <a:ext cx="8156520" cy="12142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9" descr=""/>
          <p:cNvPicPr/>
          <p:nvPr/>
        </p:nvPicPr>
        <p:blipFill>
          <a:blip r:embed="rId2"/>
          <a:stretch/>
        </p:blipFill>
        <p:spPr>
          <a:xfrm>
            <a:off x="395280" y="1413000"/>
            <a:ext cx="3726000" cy="27748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"/>
          <p:cNvPicPr/>
          <p:nvPr/>
        </p:nvPicPr>
        <p:blipFill>
          <a:blip r:embed="rId3"/>
          <a:stretch/>
        </p:blipFill>
        <p:spPr>
          <a:xfrm>
            <a:off x="5275440" y="1413000"/>
            <a:ext cx="3011400" cy="22478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2" descr=""/>
          <p:cNvPicPr/>
          <p:nvPr/>
        </p:nvPicPr>
        <p:blipFill>
          <a:blip r:embed="rId4"/>
          <a:stretch/>
        </p:blipFill>
        <p:spPr>
          <a:xfrm>
            <a:off x="2825640" y="3933720"/>
            <a:ext cx="4699080" cy="26352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c00000"/>
                </a:solidFill>
                <a:latin typeface="Calibri"/>
              </a:rPr>
              <a:t>Що б робив комар, якби не його гострий хобот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2411280" y="2205000"/>
            <a:ext cx="4105440" cy="4211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212760" y="706320"/>
            <a:ext cx="8553240" cy="13845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"/>
          <p:cNvPicPr/>
          <p:nvPr/>
        </p:nvPicPr>
        <p:blipFill>
          <a:blip r:embed="rId2"/>
          <a:stretch/>
        </p:blipFill>
        <p:spPr>
          <a:xfrm>
            <a:off x="468360" y="2635200"/>
            <a:ext cx="3743280" cy="37213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"/>
          <p:cNvPicPr/>
          <p:nvPr/>
        </p:nvPicPr>
        <p:blipFill>
          <a:blip r:embed="rId3"/>
          <a:stretch/>
        </p:blipFill>
        <p:spPr>
          <a:xfrm>
            <a:off x="4427640" y="2205000"/>
            <a:ext cx="4349520" cy="30574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1" descr=""/>
          <p:cNvPicPr/>
          <p:nvPr/>
        </p:nvPicPr>
        <p:blipFill>
          <a:blip r:embed="rId1"/>
          <a:stretch/>
        </p:blipFill>
        <p:spPr>
          <a:xfrm>
            <a:off x="182520" y="609480"/>
            <a:ext cx="8894880" cy="15112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"/>
          <p:cNvPicPr/>
          <p:nvPr/>
        </p:nvPicPr>
        <p:blipFill>
          <a:blip r:embed="rId2"/>
          <a:stretch/>
        </p:blipFill>
        <p:spPr>
          <a:xfrm>
            <a:off x="2516040" y="2225520"/>
            <a:ext cx="4399200" cy="40831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1T07:16:10Z</dcterms:created>
  <dc:creator>User</dc:creator>
  <dc:description/>
  <dc:language>en-US</dc:language>
  <cp:lastModifiedBy>SERG</cp:lastModifiedBy>
  <dcterms:modified xsi:type="dcterms:W3CDTF">2014-03-26T06:04:14Z</dcterms:modified>
  <cp:revision>28</cp:revision>
  <dc:subject/>
  <dc:title>Розумна природ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00b000000000001024140</vt:lpwstr>
  </property>
</Properties>
</file>