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557A-E552-429B-B397-0C43B8A46F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B0D8-9531-44EB-84DB-024D8681218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CC73-EB2D-4C63-A0C6-AD0D1B25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5F5-E3C1-4D91-A9F9-BB6E11B0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5D4-CFDB-4FD1-9746-45774E5D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962-8D72-4708-8E60-28AAB117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BE11-3042-4673-8239-43F8F359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5486-9C53-4EB6-BED3-4F7374AA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3FEB-9A7E-40FD-92CF-79185736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F8D2-8973-4615-8B36-88FA4599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0C1C-5A2E-47ED-8888-340430D5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FFF7-9F1A-495F-A0E0-60CDCDD8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DB4A-25EC-49C4-8A68-286FFF97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70A-AAC4-4D77-B402-7DD88FC9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8BEC-99ED-4BE3-BE1F-7E470C62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3BCC-0BDA-4793-BEF8-A46F1BD1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526A-46E2-4716-8FEC-BDFF0684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1534-2EDB-4987-A055-BD2D3358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23B5-2C46-4C8E-868E-9BB7747B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BF3-F265-4B35-927A-E29ABA91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8FD-7238-4802-991A-E0EB4377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72B-43F3-4B80-AD3E-BE47D4A9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E66-F1A0-4494-B657-8F4615BA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869-D7AA-49E7-BD65-96F4279C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184E-7664-4973-8E60-BF61ABD0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D37-8524-43D4-9451-C9F88625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396B-9D63-41BF-B0D2-DE251F98BB7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FAD5-3423-4C32-937D-5DF581B50A1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4" descr=""/>
          <p:cNvPicPr/>
          <p:nvPr/>
        </p:nvPicPr>
        <p:blipFill>
          <a:blip r:embed="rId2"/>
          <a:stretch/>
        </p:blipFill>
        <p:spPr>
          <a:xfrm>
            <a:off x="444600" y="573120"/>
            <a:ext cx="8620200" cy="3664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300720" y="5445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Над проектом працювала  учениц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класу Івахова Ольг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 rot="21410400">
            <a:off x="302760" y="1123920"/>
            <a:ext cx="8712360" cy="50418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108000" y="115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ск можна збільшувати завдяки зменшенню площі поверхні. Це використовується в техніці при виготовленні інструментів (зубило, свердло, різець й т. п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 rot="21206400">
            <a:off x="755640" y="1484280"/>
            <a:ext cx="4176720" cy="439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 rot="520200">
            <a:off x="4932000" y="1483920"/>
            <a:ext cx="4032360" cy="43862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250920" y="18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і різальні інструменти - ножі, ножиці, різці - мають ріжучу частину дуже малої площі, що забезпечує створення значного тиску, необхідного  для р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занн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 rot="21359400">
            <a:off x="610920" y="1052640"/>
            <a:ext cx="8137440" cy="5472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250920" y="260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оща кінця вістря швацької голки становить всього лише 0,001 мм2. Тому для проколювання щільної тканини достатньо навіть незначної си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 rot="20368800">
            <a:off x="337680" y="873000"/>
            <a:ext cx="3810240" cy="324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 rot="1729800">
            <a:off x="4635000" y="1593720"/>
            <a:ext cx="3333960" cy="26132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47520" y="4802040"/>
            <a:ext cx="46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им менша площа дотику, тим  б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льший т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87200" y="51148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Тому голка легко пронизує шкіру,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а лопата з легкістю входить в зем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21:22Z</dcterms:created>
  <dc:creator>admin</dc:creator>
  <dc:description/>
  <dc:language>en-US</dc:language>
  <cp:lastModifiedBy>Admin</cp:lastModifiedBy>
  <dcterms:modified xsi:type="dcterms:W3CDTF">2014-03-27T06:33:01Z</dcterms:modified>
  <cp:revision>2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0c000000000001024140</vt:lpwstr>
  </property>
</Properties>
</file>