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7C2C5-406B-4C7F-AA2E-B4AE3A1CE03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AD72-13F8-4454-A832-4EAAD36C9E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02F-FDD3-49C8-92E7-1C981E77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0839-33C6-49D1-B5B8-029B16C0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78C-47D2-4F12-B078-A7765AED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6F2-C672-482A-9BED-B38C71FE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6DFA-DC88-4286-973F-4442E0417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B6315-F500-4FAE-92C8-20BE5F48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99E9-DC6A-46AF-8D1C-A6FDAACCB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8E77-80B5-4E6E-BE6C-BB74B10D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A5E1A-97B6-4999-9271-4B9EDF55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E16F-FDA2-452C-81B4-F5BE8F13C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E878-9967-447F-80EF-2839F439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8C0A-3F8F-42B3-974A-5BAFB80C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C60A-86A6-4A82-8BD2-085ABABC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862CF-E1FC-4F85-8811-F552EA91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78F5-232D-47EA-8362-54217D46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E495-DE4B-45A1-9ED7-EE919AF06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0B4D-76A6-4B02-9C7D-841319F26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B45AB-9C72-4CBF-B003-6436E5247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7913-818D-464F-A9A7-C534B7CB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DF601-A9B3-4537-80B2-723DABD2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A6068-5A19-4A60-AFDF-8AD7BBF7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5E97A-C56A-4933-8D4D-3C08B4F4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6685-EB58-46A7-8542-F8A4C2C4F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6AB61-093C-40EA-97FC-0FE87FE5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FF9AE-6F6E-4622-B797-AC250F25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9EB49-231F-41B4-811E-EFA02E3A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B35D7-C64E-4C1F-B0C8-4045C1EE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72BF0-F7FA-4C72-8D86-0A9D745E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2C81-FC99-4505-ACF9-FCA04C46C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C5ACC-F3B7-48EC-AF2E-A2C57E88E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5F758-4C8A-4779-A3DA-200FA7473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D6B14-5DF4-4D53-AD4B-8A1A6C01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C60F1-4952-481B-8278-ED3F6E715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B22B-42DD-4C49-9BC4-B1DF7AA3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90CE7-82A1-41BB-B014-09114D6A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F5728-D9A9-48AE-AF23-C7AC918C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04986-50A3-4F8E-BAC7-7ECD64B2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C0D47-9A74-424C-87FC-7849529B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C3936-FB4F-480F-995A-CEAE9597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C8702-65B9-490C-B193-46427998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C6FF-271B-4FB4-A318-21E109B2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79084-476F-46A8-9458-207243F6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BCFE1-C6A0-4889-A274-DE1F8753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B457-2042-423B-A39B-E705F5D3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2B6D-0700-42F2-A201-11FE1F2B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4C3-78AA-4D0F-88E5-AA2A003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9D74-254F-49E7-8CB6-8BBF927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28D9-DB7E-469A-ACBF-16B599A3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C0BF6-F1A0-49FF-AE57-64B9014BD3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3F8-7157-4742-B48C-84CEE15F082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83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957B-834D-4011-B011-A5E4E10260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33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8AFB-E227-4709-A800-66D004E2F7A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Тиск. </a:t>
            </a:r>
            <a:br>
              <a:rPr sz="6000"/>
            </a:br>
            <a:r>
              <a:rPr b="1" i="1" lang="uk-UA" sz="6000" spc="-1" strike="noStrike">
                <a:solidFill>
                  <a:srgbClr val="e5ffff"/>
                </a:solidFill>
                <a:latin typeface="Tahoma"/>
              </a:rPr>
              <a:t>Сила тиску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77360" y="713880"/>
            <a:ext cx="86662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сля вивчення теми ми будемо знат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и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Позначення тиску та сили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Одиниці вимірювання ти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Від чого і як залежить тис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к застосовувати знання про тиск для пояснення явищ оточуючого світу  та розв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66"/>
                </a:solidFill>
                <a:latin typeface="Arial"/>
              </a:rPr>
              <a:t>язування зада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2d2d8a"/>
                </a:solidFill>
                <a:latin typeface="Arial"/>
              </a:rPr>
              <a:t>Чому на лижах легше іти по снігу, ніж без них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7" descr="np10"/>
          <p:cNvPicPr/>
          <p:nvPr/>
        </p:nvPicPr>
        <p:blipFill>
          <a:blip r:embed="rId1"/>
          <a:srcRect l="0" t="0" r="155" b="0"/>
          <a:stretch/>
        </p:blipFill>
        <p:spPr>
          <a:xfrm>
            <a:off x="500040" y="1601640"/>
            <a:ext cx="3857760" cy="34988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91" name="Picture 8" descr="np20"/>
          <p:cNvPicPr/>
          <p:nvPr/>
        </p:nvPicPr>
        <p:blipFill>
          <a:blip r:embed="rId2"/>
          <a:stretch/>
        </p:blipFill>
        <p:spPr>
          <a:xfrm>
            <a:off x="4714920" y="2500200"/>
            <a:ext cx="4222800" cy="350064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</p:spTree>
  </p:cSld>
  <p:transition>
    <p:dissolv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Результат дії сили залежить від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85840" y="714240"/>
            <a:ext cx="864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Значення сили прям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лощі опори, перпендикулярно якій діє сила, оберненопропорцій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785880" y="2500200"/>
            <a:ext cx="3311280" cy="1263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5" descr=""/>
          <p:cNvPicPr/>
          <p:nvPr/>
        </p:nvPicPr>
        <p:blipFill>
          <a:blip r:embed="rId2"/>
          <a:stretch/>
        </p:blipFill>
        <p:spPr>
          <a:xfrm>
            <a:off x="5643720" y="2571840"/>
            <a:ext cx="1726920" cy="1285920"/>
          </a:xfrm>
          <a:prstGeom prst="rect">
            <a:avLst/>
          </a:prstGeom>
          <a:ln w="0">
            <a:noFill/>
          </a:ln>
        </p:spPr>
      </p:pic>
      <p:sp>
        <p:nvSpPr>
          <p:cNvPr id="196" name="TextBox 8"/>
          <p:cNvSpPr/>
          <p:nvPr/>
        </p:nvSpPr>
        <p:spPr>
          <a:xfrm>
            <a:off x="214200" y="4500720"/>
            <a:ext cx="8786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00"/>
                </a:solidFill>
                <a:latin typeface="Arial"/>
              </a:rPr>
              <a:t>Тиск – це фізична величина, яка дорівнює відношенню сили, що діє перпендикулярно до поверхні, до площі цієї поверхн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52156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Силу, яка діє перпендикулярно до поверхні, називають силою тиску на цю поверхню і позначають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F</a:t>
            </a:r>
            <a:r>
              <a:rPr b="0" lang="uk-UA" sz="4000" spc="-1" strike="noStrike" baseline="-25000">
                <a:solidFill>
                  <a:srgbClr val="ffcc00"/>
                </a:solidFill>
                <a:latin typeface="Tahoma"/>
              </a:rPr>
              <a:t>т</a:t>
            </a: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333399"/>
                </a:solidFill>
                <a:latin typeface="Arial"/>
              </a:rPr>
              <a:t>Одиниця вимірювання тиску в системі С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3499920"/>
            <a:ext cx="8362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1 Паскаль – це такий тиск, що його чинить сила 1 Н на поверхню площею 1 м</a:t>
            </a:r>
            <a:r>
              <a:rPr b="0" lang="uk-UA" sz="32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333399"/>
                </a:solidFill>
                <a:latin typeface="Arial"/>
              </a:rPr>
              <a:t> перпендикулярно до цієї площ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1368360" cy="10684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"/>
          <p:cNvPicPr/>
          <p:nvPr/>
        </p:nvPicPr>
        <p:blipFill>
          <a:blip r:embed="rId2"/>
          <a:stretch/>
        </p:blipFill>
        <p:spPr>
          <a:xfrm>
            <a:off x="4284720" y="1887480"/>
            <a:ext cx="3600360" cy="1155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99"/>
                </a:solidFill>
                <a:latin typeface="Arial"/>
              </a:rPr>
              <a:t>Блез Паскаль (1623 – 166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4" descr="images1"/>
          <p:cNvPicPr/>
          <p:nvPr/>
        </p:nvPicPr>
        <p:blipFill>
          <a:blip r:embed="rId1"/>
          <a:stretch/>
        </p:blipFill>
        <p:spPr>
          <a:xfrm>
            <a:off x="250920" y="1413000"/>
            <a:ext cx="3116160" cy="38163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3564000" y="1413000"/>
            <a:ext cx="5329080" cy="51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Блез Паскаль не лише чудо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фізик, але й видатний винахідник і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. У 16 років він дові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теорему Паскаля”, у 18 років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найшов рахувальну машину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за допомогою якої наві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еобізнана з правил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арифметики людина могла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конувати 4 арифметичні дії. Ві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виготовив 50 моделей, з яких кож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ступна була кращою з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передню.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 Його вваж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найвидатніши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математиком свого час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39640" y="25992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Тиск в 1 Па малий. На практиці застосовують кратні одиниці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гектопаскаль = 100 Па = 1 г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кілопаскаль = 1000 Па = 1 к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1 мегапаскаль = 1000000 Па = 1 М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5075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333399"/>
                </a:solidFill>
                <a:latin typeface="Arial"/>
              </a:rPr>
              <a:t>Тиск кінчика жала оси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колеса легкового                                         автомобіля на дорогу         -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Нормальний атмосферний                                               тиск                                         -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трактора на грунт          -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333399"/>
                </a:solidFill>
                <a:latin typeface="Arial"/>
              </a:rPr>
              <a:t>Тиск фундаменту                                                 Останкінської телевежі                                                    на грунт                                  -  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  <a:ea typeface="Arial"/>
              </a:rPr>
              <a:t>2,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Безымянный5"/>
          <p:cNvPicPr/>
          <p:nvPr/>
        </p:nvPicPr>
        <p:blipFill>
          <a:blip r:embed="rId1"/>
          <a:stretch/>
        </p:blipFill>
        <p:spPr>
          <a:xfrm>
            <a:off x="7308720" y="189000"/>
            <a:ext cx="1008360" cy="784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014_04s"/>
          <p:cNvPicPr/>
          <p:nvPr/>
        </p:nvPicPr>
        <p:blipFill>
          <a:blip r:embed="rId2"/>
          <a:stretch/>
        </p:blipFill>
        <p:spPr>
          <a:xfrm>
            <a:off x="7164360" y="1341360"/>
            <a:ext cx="127008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014_05s"/>
          <p:cNvPicPr/>
          <p:nvPr/>
        </p:nvPicPr>
        <p:blipFill>
          <a:blip r:embed="rId3"/>
          <a:stretch/>
        </p:blipFill>
        <p:spPr>
          <a:xfrm>
            <a:off x="7093080" y="2565360"/>
            <a:ext cx="1341360" cy="10065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014_06s"/>
          <p:cNvPicPr/>
          <p:nvPr/>
        </p:nvPicPr>
        <p:blipFill>
          <a:blip r:embed="rId4"/>
          <a:stretch/>
        </p:blipFill>
        <p:spPr>
          <a:xfrm>
            <a:off x="7093080" y="3645000"/>
            <a:ext cx="1366560" cy="11746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014_03s"/>
          <p:cNvPicPr/>
          <p:nvPr/>
        </p:nvPicPr>
        <p:blipFill>
          <a:blip r:embed="rId5"/>
          <a:stretch/>
        </p:blipFill>
        <p:spPr>
          <a:xfrm>
            <a:off x="7164360" y="4869000"/>
            <a:ext cx="1270080" cy="1676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9:18:20Z</dcterms:created>
  <dc:creator>Natalia</dc:creator>
  <dc:description/>
  <dc:language>en-US</dc:language>
  <cp:lastModifiedBy>Serg</cp:lastModifiedBy>
  <dcterms:modified xsi:type="dcterms:W3CDTF">2012-11-12T22:06:37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e06000000000001024140</vt:lpwstr>
  </property>
</Properties>
</file>