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9B83-BC28-45BE-9D1F-395D41DA9C9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05CD-E08F-4B5D-B2B2-E4F41D66DB5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D42-B296-4CF5-8EA9-C7BA613F5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EDB7-1116-404B-AC32-53CD1180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280-CF65-4276-91C2-C439EE4C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656-949C-43DD-997B-2B5EE2F64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7BCF-32C5-4FFA-B7C7-81A607069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9483-D247-47F5-83FA-2A5F8760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58DD-4151-4B54-872C-920728C34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B6D36-8A02-460E-96FC-539C2DFAA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7D680-D630-427E-9E04-C8587919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571E-D200-44AB-B1B8-33D5474E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107-2FE0-41B0-BA76-D8CCACA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3E2E-A303-410E-9947-A843F014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C4E26-7226-492F-ADC1-9CD99BC0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AC00E-ABD6-4F85-94C0-E1D3EEDE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348B4-374E-47F7-A335-3C932F584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6500-9CB6-4951-BCEA-B84E7BAF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B5CC-E6E9-41F6-B785-EFE88589F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673-126B-4FB1-B649-B88DA08DB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778A-4EB9-4981-8416-497E07E5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B1FB-92AF-4B1A-92A8-719A7FDDF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464-F960-449E-A735-F404B8AC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A975-19B6-4A5D-91DA-72E3EA86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C4A6-3285-4739-A722-5AC1110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FF5-B58D-4739-80D6-EEE4E9DE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48544-14EC-41DB-93DF-7906F1647FF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DB31-ACAD-4F73-BBE6-F1BA4BCFE824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4" descr=""/>
          <p:cNvPicPr/>
          <p:nvPr/>
        </p:nvPicPr>
        <p:blipFill>
          <a:blip r:embed="rId2"/>
          <a:stretch/>
        </p:blipFill>
        <p:spPr>
          <a:xfrm>
            <a:off x="444600" y="573120"/>
            <a:ext cx="8620200" cy="36640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300720" y="5445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Над проектом працювала  учениц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8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00"/>
                </a:solidFill>
                <a:latin typeface="Times New Roman"/>
              </a:rPr>
              <a:t>класу Івахова Ольг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 rot="21410400">
            <a:off x="302760" y="1123920"/>
            <a:ext cx="8712360" cy="504180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5"/>
          <p:cNvSpPr/>
          <p:nvPr/>
        </p:nvSpPr>
        <p:spPr>
          <a:xfrm>
            <a:off x="108000" y="115920"/>
            <a:ext cx="89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иск можна збільшувати завдяки зменшенню площі поверхні. Це використовується в техніці при виготовленні інструментів (зубило, свердло, різець й т. п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 rot="21206400">
            <a:off x="755640" y="1484280"/>
            <a:ext cx="4176720" cy="43927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3"/>
          <a:stretch/>
        </p:blipFill>
        <p:spPr>
          <a:xfrm rot="520200">
            <a:off x="4932000" y="1483920"/>
            <a:ext cx="4032360" cy="438624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250920" y="18900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і різальні інструменти - ножі, ножиці, різці - мають ріжучу частину дуже малої площі, що забезпечує створення значного тиску, необхідного  для р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занн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 rot="21359400">
            <a:off x="610920" y="1052640"/>
            <a:ext cx="8137440" cy="5472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2"/>
          <p:cNvSpPr/>
          <p:nvPr/>
        </p:nvSpPr>
        <p:spPr>
          <a:xfrm>
            <a:off x="250920" y="260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оща кінця вістря швацької голки становить всього лише 0,001 мм2. Тому для проколювання щільної тканини достатньо навіть незначної сил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 rot="20368800">
            <a:off x="337680" y="873000"/>
            <a:ext cx="3810240" cy="324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3"/>
          <a:stretch/>
        </p:blipFill>
        <p:spPr>
          <a:xfrm rot="1729800">
            <a:off x="4635000" y="1593720"/>
            <a:ext cx="3333960" cy="26132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47520" y="4802040"/>
            <a:ext cx="467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им менша площа дотику, тим  б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ільший тис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187200" y="511488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Тому голка легко пронизує шкіру,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Times New Roman"/>
              </a:rPr>
              <a:t>а лопата з легкістю входить в земл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9T17:21:22Z</dcterms:created>
  <dc:creator>admin</dc:creator>
  <dc:description/>
  <dc:language>en-US</dc:language>
  <cp:lastModifiedBy>Admin</cp:lastModifiedBy>
  <dcterms:modified xsi:type="dcterms:W3CDTF">2014-03-27T06:33:01Z</dcterms:modified>
  <cp:revision>20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c0c000000000001024140</vt:lpwstr>
  </property>
</Properties>
</file>