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BA57-6A79-4302-B319-16854714F4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79CD-C40C-4933-B4B5-E1DA67B1CE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2BAB-BDE7-4914-AA72-7C94EACA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113-D953-4E0E-BBDC-50ECC5A2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4192-1574-444B-B657-5B82DCBF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C29F-5266-40B0-8647-8EA2C20B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AB1A-F26B-4B76-89D6-53403259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BA8A-3FF8-4212-AF92-965B40CF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E0FC-C958-41F6-83F7-9249F1C4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0C1C-E54D-472B-82DD-72EBBD88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7525-2E8E-4B0F-A3E4-915E077B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325B-FA28-4827-86DD-79B9C59D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FD64-EC2C-4893-8F26-8D4CDC90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F360-EE9E-4D45-8C4E-DE0AB439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27DF-E096-4D93-B635-0E7FF7B5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4D44-6FDF-4E0B-AF10-35BC161D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5D2A-367C-4F2C-9C21-95CC9A31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E900-CBEF-48B0-8708-943900AD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A343-7E8D-49E7-86F4-E858CA02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28C4C-6D08-4554-81EA-7A89B42D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14D3A-3780-4DEB-AD18-1DAF936B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CD0CD-0325-41E9-99B5-825DF5AB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91C21-B6B9-4FBF-B311-05B82B78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E5109-FDCE-4AB5-BDE8-94E02089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4F7-F2D0-40EF-B664-6C2AFCA4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46865-DEF7-4FA9-93A0-948C820F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72B3E-7812-4A14-B6B6-A49D858F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E9991-E1FC-4533-9B46-50C78809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51E14-6F09-405B-8E7E-0764E325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8C6C9-0D34-4384-9A38-726AECEC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5087F-F7AE-4F50-A359-53E5802C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35D27-34EC-465C-AFA7-D535D0A5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E91B4-FD99-4C10-8989-CC2CD006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C9015-7CEE-4567-9796-6748315E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79F49-EE70-4109-9487-6146B1E8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DDAD-7EE0-4EF5-9749-F137E0D9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76EEC-04DF-40BB-A153-C1E93A52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D54DC-758B-4D15-9A52-69D077DD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1E40B-24D5-461C-B15F-5B01360D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5B22D-0E0B-4906-819A-AE4D7F4A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9644D-8BC8-48D6-8E31-5E84A36A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9A7C0-A93F-44E1-8254-DA2B372E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2F6B6-2886-421A-8FB5-ABCCA420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43926-33D8-44A6-A580-AFDC5603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CB7AA-76BA-47B8-83A2-17B71C5F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AD4-76DD-495A-93F2-35EE1DFA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B330-2645-4F7F-8D1E-C3E0D66E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F68A-50E3-4B5A-974A-898F0CE4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C6C0-308C-4D27-B00E-9DD972F5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DF56-8EF3-4E1C-8E5A-FC7007FC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71B2-EA8B-457C-AEA0-3AEF67991C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9176-B927-4523-A102-F76FE7D28FC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1614-7C39-47B5-B2E7-2E1E874808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3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D692-FC86-468D-A262-93F085ED069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e5ffff"/>
                </a:solidFill>
                <a:latin typeface="Tahoma"/>
              </a:rPr>
              <a:t>Тиск. </a:t>
            </a:r>
            <a:br>
              <a:rPr sz="6000"/>
            </a:br>
            <a:r>
              <a:rPr b="1" i="1" lang="uk-UA" sz="6000" spc="-1" strike="noStrike">
                <a:solidFill>
                  <a:srgbClr val="e5ffff"/>
                </a:solidFill>
                <a:latin typeface="Tahoma"/>
              </a:rPr>
              <a:t>Сила тиску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77360" y="713880"/>
            <a:ext cx="86662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сля вивчення теми ми будемо зна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Визначення тиску та сили ти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Позначення тиску та сили ти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Одиниці вимірювання ти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Від чого і як залежить тис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Як застосовувати знання про тиск для пояснення явищ оточуючого світу  та розв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язування зада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2d2d8a"/>
                </a:solidFill>
                <a:latin typeface="Arial"/>
              </a:rPr>
              <a:t>Чому на лижах легше іти по снігу, ніж без ни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" descr="np10"/>
          <p:cNvPicPr/>
          <p:nvPr/>
        </p:nvPicPr>
        <p:blipFill>
          <a:blip r:embed="rId1"/>
          <a:srcRect l="0" t="0" r="155" b="0"/>
          <a:stretch/>
        </p:blipFill>
        <p:spPr>
          <a:xfrm>
            <a:off x="500040" y="1601640"/>
            <a:ext cx="3857760" cy="3498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91" name="Picture 8" descr="np20"/>
          <p:cNvPicPr/>
          <p:nvPr/>
        </p:nvPicPr>
        <p:blipFill>
          <a:blip r:embed="rId2"/>
          <a:stretch/>
        </p:blipFill>
        <p:spPr>
          <a:xfrm>
            <a:off x="4714920" y="2500200"/>
            <a:ext cx="4222800" cy="3500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cc00"/>
                </a:solidFill>
                <a:latin typeface="Tahoma"/>
              </a:rPr>
              <a:t>Результат дії сили залежить від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5840" y="714240"/>
            <a:ext cx="8640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начення сили прямопропорцій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Площі опори, перпендикулярно якій діє сила, оберненопропорцій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785880" y="2500200"/>
            <a:ext cx="3311280" cy="1263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tretch/>
        </p:blipFill>
        <p:spPr>
          <a:xfrm>
            <a:off x="5643720" y="2571840"/>
            <a:ext cx="1726920" cy="12859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8"/>
          <p:cNvSpPr/>
          <p:nvPr/>
        </p:nvSpPr>
        <p:spPr>
          <a:xfrm>
            <a:off x="214200" y="4500720"/>
            <a:ext cx="878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Тиск – це фізична величина, яка дорівнює відношенню сили, що діє перпендикулярно до поверхні, до площі цієї поверхн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5215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cc00"/>
                </a:solidFill>
                <a:latin typeface="Tahoma"/>
              </a:rPr>
              <a:t>Силу, яка діє перпендикулярно до поверхні, називають силою тиску на цю поверхню і позначають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F</a:t>
            </a:r>
            <a:r>
              <a:rPr b="0" lang="uk-UA" sz="4000" spc="-1" strike="noStrike" baseline="-25000">
                <a:solidFill>
                  <a:srgbClr val="ffcc00"/>
                </a:solidFill>
                <a:latin typeface="Tahoma"/>
              </a:rPr>
              <a:t>т</a:t>
            </a:r>
            <a:r>
              <a:rPr b="0" lang="uk-UA" sz="40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Arial"/>
              </a:rPr>
              <a:t>Одиниця вимірювання тиску в системі 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3499920"/>
            <a:ext cx="83628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1 Паскаль – це такий тиск, що його чинить сила 1 Н на поверхню площею 1 м</a:t>
            </a:r>
            <a:r>
              <a:rPr b="0" lang="uk-UA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перпендикулярно до цієї площ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1368360" cy="1068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"/>
          <p:cNvPicPr/>
          <p:nvPr/>
        </p:nvPicPr>
        <p:blipFill>
          <a:blip r:embed="rId2"/>
          <a:stretch/>
        </p:blipFill>
        <p:spPr>
          <a:xfrm>
            <a:off x="4284720" y="1887480"/>
            <a:ext cx="3600360" cy="1155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99"/>
                </a:solidFill>
                <a:latin typeface="Arial"/>
              </a:rPr>
              <a:t>Блез Паскаль (1623 – 166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images1"/>
          <p:cNvPicPr/>
          <p:nvPr/>
        </p:nvPicPr>
        <p:blipFill>
          <a:blip r:embed="rId1"/>
          <a:stretch/>
        </p:blipFill>
        <p:spPr>
          <a:xfrm>
            <a:off x="250920" y="1413000"/>
            <a:ext cx="3116160" cy="38163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3564000" y="1413000"/>
            <a:ext cx="5329080" cy="51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Блез Паскаль не лише чудо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фізик, але й видатний винахідник 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математик. У 16 років він дов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теорему Паскаля”, у 18 років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винайшов рахувальну машин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за допомогою якої наві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необізнана з правил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арифметики людина могла 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виконувати 4 арифметичні дії. Ві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виготовив 50 моделей, з яких кож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наступна була кращою 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попередню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Його вваж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найвидатніш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математиком свого ча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иск в 1 Па малий. На практиці застосовують кратні одини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 гектопаскаль = 100 Па = 1 г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 кілопаскаль = 1000 Па = 1 к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 мегапаскаль = 1000000 Па = 1 М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507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Тиск кінчика жала оси   -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Тиск колеса легкового                                         автомобіля на дорогу         -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Нормальний атмосферний                                               тиск                                         -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Тиск трактора на грунт          -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Тиск фундаменту                                                 Останкінської телевежі                                                    на грунт                                  -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2,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Безымянный5"/>
          <p:cNvPicPr/>
          <p:nvPr/>
        </p:nvPicPr>
        <p:blipFill>
          <a:blip r:embed="rId1"/>
          <a:stretch/>
        </p:blipFill>
        <p:spPr>
          <a:xfrm>
            <a:off x="7308720" y="189000"/>
            <a:ext cx="1008360" cy="784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014_04s"/>
          <p:cNvPicPr/>
          <p:nvPr/>
        </p:nvPicPr>
        <p:blipFill>
          <a:blip r:embed="rId2"/>
          <a:stretch/>
        </p:blipFill>
        <p:spPr>
          <a:xfrm>
            <a:off x="7164360" y="1341360"/>
            <a:ext cx="1270080" cy="952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014_05s"/>
          <p:cNvPicPr/>
          <p:nvPr/>
        </p:nvPicPr>
        <p:blipFill>
          <a:blip r:embed="rId3"/>
          <a:stretch/>
        </p:blipFill>
        <p:spPr>
          <a:xfrm>
            <a:off x="7093080" y="2565360"/>
            <a:ext cx="1341360" cy="1006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014_06s"/>
          <p:cNvPicPr/>
          <p:nvPr/>
        </p:nvPicPr>
        <p:blipFill>
          <a:blip r:embed="rId4"/>
          <a:stretch/>
        </p:blipFill>
        <p:spPr>
          <a:xfrm>
            <a:off x="7093080" y="3645000"/>
            <a:ext cx="1366560" cy="1174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014_03s"/>
          <p:cNvPicPr/>
          <p:nvPr/>
        </p:nvPicPr>
        <p:blipFill>
          <a:blip r:embed="rId5"/>
          <a:stretch/>
        </p:blipFill>
        <p:spPr>
          <a:xfrm>
            <a:off x="7164360" y="4869000"/>
            <a:ext cx="1270080" cy="167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9:18:20Z</dcterms:created>
  <dc:creator>Natalia</dc:creator>
  <dc:description/>
  <dc:language>en-US</dc:language>
  <cp:lastModifiedBy>Serg</cp:lastModifiedBy>
  <dcterms:modified xsi:type="dcterms:W3CDTF">2012-11-12T22:06:37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06000000000001024140</vt:lpwstr>
  </property>
</Properties>
</file>