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0CC7-22F8-47B5-8F3E-5C761AFE75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DDE6-8255-4A0C-930B-CD88ADBDAC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A6B-07DA-4371-8623-2B6D97FF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129-DBCF-4295-A65B-A8128313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171-EDB2-40FE-972E-318D85BE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708-CB79-42F1-814D-33183E68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3A2F-DBAB-4E20-A9B1-C37D4E47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BAC-B474-4043-8B3A-D39F518F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F1F0-C2EC-43F0-9DBE-B219859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5DB1-F69C-4B4C-8E01-10F446E8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FE6F-6431-4552-A5E1-F30AE48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F416-DD99-485A-84A7-4ACBC3D6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6FC8-75EB-46DB-A5AF-9818A31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92C-0CB1-4B52-B06B-D17B0B03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CE61-327E-41BB-AAD8-C812E979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F39-3B50-4E3B-ADBE-1B21440D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FE34-4D10-42DC-A562-26B99D08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E4CD-6C31-4F27-A738-1B5BEFCE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53DA-E387-48C9-9D66-8B3EDE79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750-246F-4C1E-85A4-AE3C2C37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FBD-36B5-4A58-85A0-66A951BE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07D-8EAB-486C-B9B2-AFD6BCD8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D4B-815D-476C-BD2E-A76E7DF2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A88-0216-4F57-86F5-D7F3553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545-65D2-465B-9876-0AE26C9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CA3-4C79-470B-8204-4F38025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E2EB-9C83-4014-BB47-213BE878007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9F84-EB81-4C5B-8BFE-ED7093175FF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2"/>
          <a:stretch/>
        </p:blipFill>
        <p:spPr>
          <a:xfrm>
            <a:off x="444600" y="573120"/>
            <a:ext cx="8620200" cy="3664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300720" y="544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Над проектом працювала  учениц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класу Івахова Оль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 rot="21410400">
            <a:off x="302760" y="1123920"/>
            <a:ext cx="8712360" cy="5041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ск можна збільшувати завдяки зменшенню площі поверхні. Це використовується в техніці при виготовленні інструментів (зубило, свердло, різець й т. 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 rot="21206400">
            <a:off x="755640" y="1484280"/>
            <a:ext cx="417672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520200">
            <a:off x="4932000" y="1483920"/>
            <a:ext cx="4032360" cy="43862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5092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і різальні інструменти - ножі, ножиці, різці - мають ріжучу частину дуже малої площі, що забезпечує створення значного тиску, необхідного  для р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занн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 rot="21359400">
            <a:off x="610920" y="1052640"/>
            <a:ext cx="8137440" cy="5472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50920" y="26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ща кінця вістря швацької голки становить всього лише 0,001 мм2. Тому для проколювання щільної тканини достатньо навіть незначної си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 rot="20368800">
            <a:off x="337680" y="873000"/>
            <a:ext cx="3810240" cy="324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 rot="1729800">
            <a:off x="4635000" y="1593720"/>
            <a:ext cx="3333960" cy="2613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47520" y="4802040"/>
            <a:ext cx="46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им менша площа дотику, тим  б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льший т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87200" y="5114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Тому голка легко пронизує шкіру,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лопата з легкістю входить в зем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21:22Z</dcterms:created>
  <dc:creator>admin</dc:creator>
  <dc:description/>
  <dc:language>en-US</dc:language>
  <cp:lastModifiedBy>Admin</cp:lastModifiedBy>
  <dcterms:modified xsi:type="dcterms:W3CDTF">2014-03-27T06:33:01Z</dcterms:modified>
  <cp:revision>2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c000000000001024140</vt:lpwstr>
  </property>
</Properties>
</file>