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A096-B4CD-4258-AB9D-C47C02E5CF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C1BB-38A7-4C55-A2F7-CC96E6B02B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1CCD-F2F9-4F6A-BB2C-D1408E53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3A4-8BFE-4D86-A98E-51AF98E3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7022-1F23-4BBC-90E5-504D63D2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FBC8-8C2E-4150-A3E7-A0179783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58DD-98AC-4D8B-8CD9-82336D4C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580B-4249-4B15-B004-1F4FFB08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B904-5DBF-4E64-9FD3-517C8C22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0636-A532-4023-A197-C596880D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053C-6F8F-4488-9C7A-15781043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4DBA-9B3F-4E08-9A2C-4C98F5BC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429A-7C7A-4345-A1AB-0D80431E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47CE-DE5F-44E6-ABD5-208944D3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0184-6FD1-473F-B8FB-1F9A1234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9432-B36B-4BE8-B417-D6E6F5BD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AA12-3C83-4A76-BE41-D0EFBCA2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24E9-4611-4D96-A6D9-C202E364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87F4-3E75-42DA-B7AA-C75E7EAE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D86B9-764E-4FF7-B022-4974D6D4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1A4DD-86A6-4727-A85C-1DC2636D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3E9E7-C8D3-489F-8C63-DEACFD17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0CF98-B5AC-43DE-B41B-459840C0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86184-5D85-46BA-B765-C8C54A8A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1003-51E0-4919-B1CF-E6926764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B16AC-F6B9-46C8-BF87-EC7B33AF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F560A-FCBF-4DC7-BB15-DD7D7F90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8C5EF-A2A7-4230-836B-6AEC3C0F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024FD-F080-4FFA-9C82-77D64792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26221-3103-49CF-989B-5DFC6F2E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E3E06-1188-4191-BC9D-BB37C076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BD8EF-AD47-4433-B8D7-D6C69F9D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4BBA6-2609-48BA-B14A-68108767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A5838-0499-4F3D-A83A-D100CF0A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08677-C490-4161-8EC1-159ED82C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D4C5-60D5-4CEA-9EE3-F9B93B7A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8535D-9515-42CD-A1CC-B647CF8E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B3409-36DB-486B-98EB-6D96ECA6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5AAB7-7601-4E31-A121-020EECA7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61727-D2C5-42C7-80AF-4F1629FC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032F5-102B-43B3-83BE-D5CFBE31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B501A-78B6-4003-BDED-F85801D4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27AC9-2D26-4598-A452-1508E503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06213-F56B-4D1F-A1CC-72FA65E0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F26DB-D7B4-44D5-99C5-550D81CE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E639-BFE4-42ED-A27B-B18EBE9F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DCCE-7568-4E00-A83E-C9E10745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3BE-34E0-4801-BAB8-B09A518B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F850-4E31-43FD-B95A-DE5BD19E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8401-C813-49B6-806E-A25FCEF2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9BD0-3FF8-4F8A-99A3-9251691ACB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9F93-781B-4761-B898-47DF91385CB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6D57-DBCA-4B5E-B273-6124E8455B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3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9E4C-57CD-4F39-86F5-D770D537F7A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e5ffff"/>
                </a:solidFill>
                <a:latin typeface="Tahoma"/>
              </a:rPr>
              <a:t>Тиск. </a:t>
            </a:r>
            <a:br>
              <a:rPr sz="6000"/>
            </a:br>
            <a:r>
              <a:rPr b="1" i="1" lang="uk-UA" sz="6000" spc="-1" strike="noStrike">
                <a:solidFill>
                  <a:srgbClr val="e5ffff"/>
                </a:solidFill>
                <a:latin typeface="Tahoma"/>
              </a:rPr>
              <a:t>Сила тиску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77360" y="713880"/>
            <a:ext cx="86662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сля вивчення теми ми будемо зна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Визначення тиску та сили ти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Позначення тиску та сили ти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Одиниці вимірювання ти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Від чого і як залежить тис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Як застосовувати знання про тиск для пояснення явищ оточуючого світу  та розв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язування зада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2d2d8a"/>
                </a:solidFill>
                <a:latin typeface="Arial"/>
              </a:rPr>
              <a:t>Чому на лижах легше іти по снігу, ніж без ни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np10"/>
          <p:cNvPicPr/>
          <p:nvPr/>
        </p:nvPicPr>
        <p:blipFill>
          <a:blip r:embed="rId1"/>
          <a:srcRect l="0" t="0" r="155" b="0"/>
          <a:stretch/>
        </p:blipFill>
        <p:spPr>
          <a:xfrm>
            <a:off x="500040" y="1601640"/>
            <a:ext cx="3857760" cy="3498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91" name="Picture 8" descr="np20"/>
          <p:cNvPicPr/>
          <p:nvPr/>
        </p:nvPicPr>
        <p:blipFill>
          <a:blip r:embed="rId2"/>
          <a:stretch/>
        </p:blipFill>
        <p:spPr>
          <a:xfrm>
            <a:off x="4714920" y="2500200"/>
            <a:ext cx="4222800" cy="3500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00"/>
                </a:solidFill>
                <a:latin typeface="Tahoma"/>
              </a:rPr>
              <a:t>Результат дії сили залежить від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714240"/>
            <a:ext cx="8640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начення сили прямопропорцій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Площі опори, перпендикулярно якій діє сила, оберненопропорцій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785880" y="2500200"/>
            <a:ext cx="3311280" cy="1263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tretch/>
        </p:blipFill>
        <p:spPr>
          <a:xfrm>
            <a:off x="5643720" y="2571840"/>
            <a:ext cx="1726920" cy="12859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8"/>
          <p:cNvSpPr/>
          <p:nvPr/>
        </p:nvSpPr>
        <p:spPr>
          <a:xfrm>
            <a:off x="214200" y="4500720"/>
            <a:ext cx="878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Тиск – це фізична величина, яка дорівнює відношенню сили, що діє перпендикулярно до поверхні, до площі цієї поверхн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5215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00"/>
                </a:solidFill>
                <a:latin typeface="Tahoma"/>
              </a:rPr>
              <a:t>Силу, яка діє перпендикулярно до поверхні, називають силою тиску на цю поверхню і позначають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F</a:t>
            </a:r>
            <a:r>
              <a:rPr b="0" lang="uk-UA" sz="4000" spc="-1" strike="noStrike" baseline="-25000">
                <a:solidFill>
                  <a:srgbClr val="ffcc00"/>
                </a:solidFill>
                <a:latin typeface="Tahoma"/>
              </a:rPr>
              <a:t>т</a:t>
            </a:r>
            <a:r>
              <a:rPr b="0" lang="uk-UA" sz="40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Arial"/>
              </a:rPr>
              <a:t>Одиниця вимірювання тиску в системі 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3499920"/>
            <a:ext cx="83628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1 Паскаль – це такий тиск, що його чинить сила 1 Н на поверхню площею 1 м</a:t>
            </a:r>
            <a:r>
              <a:rPr b="0" lang="uk-UA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перпендикулярно до цієї площ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1368360" cy="1068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"/>
          <p:cNvPicPr/>
          <p:nvPr/>
        </p:nvPicPr>
        <p:blipFill>
          <a:blip r:embed="rId2"/>
          <a:stretch/>
        </p:blipFill>
        <p:spPr>
          <a:xfrm>
            <a:off x="4284720" y="1887480"/>
            <a:ext cx="3600360" cy="1155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99"/>
                </a:solidFill>
                <a:latin typeface="Arial"/>
              </a:rPr>
              <a:t>Блез Паскаль (1623 – 166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images1"/>
          <p:cNvPicPr/>
          <p:nvPr/>
        </p:nvPicPr>
        <p:blipFill>
          <a:blip r:embed="rId1"/>
          <a:stretch/>
        </p:blipFill>
        <p:spPr>
          <a:xfrm>
            <a:off x="250920" y="1413000"/>
            <a:ext cx="3116160" cy="38163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3564000" y="1413000"/>
            <a:ext cx="5329080" cy="51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Блез Паскаль не лише чудо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фізик, але й видатний винахідник 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математик. У 16 років він дов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теорему Паскаля”, у 18 рокі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винайшов рахувальну машин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за допомогою якої наві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необізнана з правил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арифметики людина могла 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виконувати 4 арифметичні дії. В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виготовив 50 моделей, з яких кож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наступна була кращою 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опередню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Його вваж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найвидатніш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математиком свого ча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иск в 1 Па малий. На практиці застосовують кратні одини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 гектопаскаль = 100 Па = 1 г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 кілопаскаль = 1000 Па = 1 к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 мегапаскаль = 1000000 Па = 1 М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Тиск кінчика жала оси   -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Тиск колеса легкового                                         автомобіля на дорогу         -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Нормальний атмосферний                                               тиск                                         -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Тиск трактора на грунт          -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Тиск фундаменту                                                 Останкінської телевежі                                                    на грунт                                  -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,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Безымянный5"/>
          <p:cNvPicPr/>
          <p:nvPr/>
        </p:nvPicPr>
        <p:blipFill>
          <a:blip r:embed="rId1"/>
          <a:stretch/>
        </p:blipFill>
        <p:spPr>
          <a:xfrm>
            <a:off x="7308720" y="189000"/>
            <a:ext cx="1008360" cy="784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014_04s"/>
          <p:cNvPicPr/>
          <p:nvPr/>
        </p:nvPicPr>
        <p:blipFill>
          <a:blip r:embed="rId2"/>
          <a:stretch/>
        </p:blipFill>
        <p:spPr>
          <a:xfrm>
            <a:off x="7164360" y="1341360"/>
            <a:ext cx="1270080" cy="952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014_05s"/>
          <p:cNvPicPr/>
          <p:nvPr/>
        </p:nvPicPr>
        <p:blipFill>
          <a:blip r:embed="rId3"/>
          <a:stretch/>
        </p:blipFill>
        <p:spPr>
          <a:xfrm>
            <a:off x="7093080" y="2565360"/>
            <a:ext cx="1341360" cy="1006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014_06s"/>
          <p:cNvPicPr/>
          <p:nvPr/>
        </p:nvPicPr>
        <p:blipFill>
          <a:blip r:embed="rId4"/>
          <a:stretch/>
        </p:blipFill>
        <p:spPr>
          <a:xfrm>
            <a:off x="7093080" y="3645000"/>
            <a:ext cx="1366560" cy="1174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014_03s"/>
          <p:cNvPicPr/>
          <p:nvPr/>
        </p:nvPicPr>
        <p:blipFill>
          <a:blip r:embed="rId5"/>
          <a:stretch/>
        </p:blipFill>
        <p:spPr>
          <a:xfrm>
            <a:off x="7164360" y="4869000"/>
            <a:ext cx="1270080" cy="167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18:20Z</dcterms:created>
  <dc:creator>Natalia</dc:creator>
  <dc:description/>
  <dc:language>en-US</dc:language>
  <cp:lastModifiedBy>Serg</cp:lastModifiedBy>
  <dcterms:modified xsi:type="dcterms:W3CDTF">2012-11-12T22:06:37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06000000000001024140</vt:lpwstr>
  </property>
</Properties>
</file>