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90E-BFFB-4802-AFD2-647C0801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54F0-26F3-44FE-97FD-06C2E599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C8700-8683-487E-AADA-28888E9C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3481F-6560-4252-818A-6C0EB246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F992E-C2A7-4692-BCCB-1B237471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D0736-A66E-4515-BBF5-59FA708A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7DA5E-3CB1-4144-8228-624041F4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4CE15-06C3-4473-96DD-542E4F98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E4E29-F3AB-47E5-8A26-876F65D2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B31B5-83C4-4F1D-9B5A-421B8C43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B9494-548C-4EA1-8C8B-1BC2ACD8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416D1-BFCC-458E-A9A4-18EFC8F1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CD7B-DF16-448D-B845-320D8E3C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220CD-A81E-4C54-94DF-3C8E758F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87A7E-155C-4329-830A-1AD79E99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0CE28-3566-4198-B689-13F7654E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C2EBB-60FB-4202-AA95-657914E9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2D33D-0E8B-4C53-ABE8-F1838A21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0A188-6396-4DA7-8C1E-E64BA09F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6C8E3-32FE-4D72-94DA-052C974B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D6338-3F64-4F2E-A095-E773B717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91D4A-82A5-4553-B21B-2FF2D729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56A77-8B12-4F5C-B717-49082EDA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492E-368C-4C19-990B-CBE4BD90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02030-96E8-466A-9F34-7381D158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071A1-B142-4840-B6DA-7E5AD395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E5DBB-61BB-4322-A3B4-70C5581D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8DFA3-D687-4CE8-AC5D-A0FD4205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E9D61-8AA9-4D70-B358-D957E304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D4751-5E4D-43D2-8C8E-25AC12C7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75FE1-984F-464A-8D05-A9894FE4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DD36C-F142-4FA4-B79B-56CCAF7A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C9670-2AD7-4215-94A5-FCD79980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6D6E1-7953-4AAE-9F4C-CFE76174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569C-2337-4A35-A6BF-21120978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DDDE4-D552-46EE-813B-18A8F8B6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940C6-5235-4619-8DB1-4B0B32AC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2FA11-57EC-4223-94CE-816F0221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2E87A-EADE-4117-BAA3-F6618632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57A0C-3F04-4A36-93B2-4AB1A0E5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956DE-6B0D-4467-ADFA-A6606134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C1B45-3031-4463-A068-1E16948F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5FBC5-EA4D-4491-B28F-5247B74C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260F2-634C-4A17-B4AF-26747EB2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0191E-00B4-436A-919A-F38018F2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4817-2A51-4376-ACCE-C2BEF80D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F0DCA-960D-4928-B7B0-68D6E242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B013B-2EDB-4CBC-8B9E-A1E17502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80668-29A6-4C31-A2BA-0699DC5C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FB454-FEFE-42CA-806F-EF69F619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208AB-652F-43C0-A0C2-95196C66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5F50-5C27-49D0-AD64-A7E90AB3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3518-7156-47C8-9C13-9D9DB27F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980B-FDDF-421E-ABBE-6D5760F6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4363-3188-4F1C-8E01-20167102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A16C-C6DD-49F8-A896-9A04313C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1E0A-B763-4E0A-9760-CF6DDBDB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99A0-0397-44A1-8E9A-4D4905D7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5B6F-44D3-40A5-BFEB-9AAE89A2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2A3D-93E6-4110-96F1-292AF495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F1B7-32EA-4555-9E44-D8FE4415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2975-E239-4162-8C7E-B8875007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8A162-68DC-4890-BF98-5645569B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9EE9B-720E-40BA-B080-0BD133B8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13F6A-C1C6-43D5-8457-E7713A1E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1411E-AF8D-412F-931B-9FBC5A3B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67352-C8D6-4FA6-BC4F-B21D18B9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4746-ADC1-4254-A672-A374FBFA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AAD1C-994F-41B5-BE1F-B42B6FF0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B4FD6-C396-4003-B43A-2A91274C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43AB6-2EBD-4B7E-987A-B0E5F64B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127DB-038E-4291-A387-867E0BAA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06AFB-B9CD-4F12-899C-3D08C7D6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C49BB-33A3-4115-A9DC-3D71195A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0ADE3-F5A8-4EDF-B414-A41B7FED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9CF50-6325-47C0-8F48-6191DC8F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5D8B3-39DE-4D5F-AB91-CBAECC1D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A2B27-EAB3-4C0B-ABFE-8E5215C8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4E0D-BB04-4026-A3FD-FD93A4C8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91092-8992-4ADA-B61E-6CEF09A7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733E6-62C1-471C-9163-E68374AB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04F9C-6563-4289-BF91-263DDC06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B30E0-F2BC-4CA8-9693-A3B8FA52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7FCA3-D9DD-4156-BD50-8C6D6874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339A3-FB6A-4E24-8BD0-407CB4C2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D7E01-31F9-42C2-AC74-8175E929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EF712-0A0A-4B32-83D6-D558F677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3F0A9-5936-4E16-96B0-67E72620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45949-4B8C-4802-A710-8616197E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4982-1193-4471-8100-4AEB1D71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4E653-F434-448A-9A44-8ADC1624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BBF4A-5850-4BDC-AE84-9D3147DF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0A453-DCF3-46C8-ABDD-8578F3D9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CBA7A-264A-4442-88BF-9AAF4303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0DAC9-A3BF-4D62-AD06-1D556FC0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01045-C990-43AB-9608-5732CF03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91D0A-E9D8-4519-AB50-F26642FF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17137-B1F5-4128-8167-9F4C30D2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FB314-8E16-47D3-B4AE-DB4527AD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5C36E-D285-4856-BDB2-A6D577E8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2A9-7630-441A-9D0D-1DA9332F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F1779-162E-4129-9653-16C09C43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97D2A-490A-48DD-AD2E-E145328B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A7F65-7F15-4BBC-8CF6-16F13757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B5557-EC8F-4EC8-A017-5EC34C1D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FD295-17B5-4A8C-84D7-296E989D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A69E4-45CE-4558-99DB-388D21A0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A9A71-5461-4D0C-BD45-F29B9584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F600F-2CF3-44F1-9FDA-0EC2A28F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F3E57-20E6-4624-AF9D-443B5041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65E49-D303-4C5E-ABF3-F2AD5346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184-86E9-4423-8BA4-927AE719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B6360-DE67-4AF5-870D-02AD6208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F9F9B-F359-4C58-B086-7C0845AD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123FC-F3F5-46E9-B0A1-85364113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81623-A9A3-492B-A562-1541BB98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CB190-588B-4163-B9A2-A22D56A6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613FF-1587-47EE-B659-B173EC84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D0A6C-3244-4B22-AE3A-23FA40A0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CD3DC-42DC-4F90-ADF4-E8E72FB3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2585D-903B-4EB4-8B5F-CECAB0AD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107EB-1275-4AEE-AE7A-F3CB38F5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FC3-96A1-4184-8F2F-E095383B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A084D-BC1F-4F4F-8226-CF58DD2E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4128F-AF60-47C3-BB82-51F46A24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893E9-CB36-4614-BC75-2331B037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F7B95-6B91-4DC6-BC39-932F496A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520FE-9AAC-4A76-BB5B-D3036B23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E445D-9CFE-4246-9CDE-9DA005A0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D2374-C01B-4DA6-8CA3-65BB4512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DACEE-E901-4239-BC89-927E330B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F9198-08F9-44B2-B12F-CF519AC6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E6C66-E914-48FE-87E5-04678050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59EB-F85A-49EF-8FFE-FF2D6954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5FB3B-5967-4F96-82C5-463924E5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4BAFA-1F2D-4AF5-A3C1-9780EC49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B0A51-9006-4CD4-98F1-A9D61BE1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DB5CC-F270-4F67-9D62-98E3FC0F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71C66-DAF1-4BE5-9559-D988A347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6D0B2-4712-4032-93B8-32F5EFD0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20A27-CA9A-461E-8E9A-1F6DC2B7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0E07A-0DFC-4CC1-9FF4-931B67CD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2B211-8789-4A8A-A5EF-D1ECC521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74BBF-0E26-4280-954F-7DE46FF9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5A89-E216-434A-B2BE-EDB5490D3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B24A-D61A-4114-A9F0-E4B4E7167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291E-508F-4F68-A04D-7B51662B6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F9B5-8BB0-4F40-96F6-AE1018255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B0F8-2E6E-4D2A-8EF9-185C1537A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D329-AAE3-46DF-8B3F-A3A700D7D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12DA-492E-4501-8D58-6948372DA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0CFC-2064-4040-8CCA-E65EBD845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7706-AEA1-43E8-B445-5557A8830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1300-E337-4489-9597-03B11ADC0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9F8F-720A-4CBB-AF9F-94B367692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4D1A-24FF-4137-BCF1-1EC725950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Рисунок 3" descr=""/>
          <p:cNvPicPr/>
          <p:nvPr/>
        </p:nvPicPr>
        <p:blipFill>
          <a:blip r:embed="rId1"/>
          <a:stretch/>
        </p:blipFill>
        <p:spPr>
          <a:xfrm>
            <a:off x="1076400" y="1714680"/>
            <a:ext cx="7364160" cy="15858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4200" y="118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ривецька ЗОШ І-ІІ ступен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Рисунок 4" descr=""/>
          <p:cNvPicPr/>
          <p:nvPr/>
        </p:nvPicPr>
        <p:blipFill>
          <a:blip r:embed="rId2"/>
          <a:stretch/>
        </p:blipFill>
        <p:spPr>
          <a:xfrm>
            <a:off x="900000" y="3478320"/>
            <a:ext cx="1560600" cy="5601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00000" y="5221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Вчитель: Горкун Станіслав Степ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Прямоугольник 5" descr=""/>
          <p:cNvPicPr/>
          <p:nvPr/>
        </p:nvPicPr>
        <p:blipFill>
          <a:blip r:embed="rId3"/>
          <a:stretch/>
        </p:blipFill>
        <p:spPr>
          <a:xfrm>
            <a:off x="2627280" y="3303720"/>
            <a:ext cx="45720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65736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іло, розмірами якого в умовах даного завдання можна знехтувати, називають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матеріальною точко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6" name="Group 15"/>
          <p:cNvGrpSpPr/>
          <p:nvPr/>
        </p:nvGrpSpPr>
        <p:grpSpPr>
          <a:xfrm>
            <a:off x="431640" y="2276640"/>
            <a:ext cx="8425080" cy="2889000"/>
            <a:chOff x="431640" y="2276640"/>
            <a:chExt cx="8425080" cy="2889000"/>
          </a:xfrm>
        </p:grpSpPr>
        <p:pic>
          <p:nvPicPr>
            <p:cNvPr id="527" name="Picture 5" descr=""/>
            <p:cNvPicPr/>
            <p:nvPr/>
          </p:nvPicPr>
          <p:blipFill>
            <a:blip r:embed="rId1"/>
            <a:stretch/>
          </p:blipFill>
          <p:spPr>
            <a:xfrm>
              <a:off x="431640" y="2276640"/>
              <a:ext cx="4211640" cy="28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4" descr=""/>
            <p:cNvPicPr/>
            <p:nvPr/>
          </p:nvPicPr>
          <p:blipFill>
            <a:blip r:embed="rId2"/>
            <a:stretch/>
          </p:blipFill>
          <p:spPr>
            <a:xfrm>
              <a:off x="4762440" y="2276640"/>
              <a:ext cx="4094280" cy="287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879280" y="657000"/>
            <a:ext cx="327492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ит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1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Чим тіла, що рухаються, відрізняються від нерухоми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2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 Для чого вибирають тіло відлік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3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 Як впливає вибір тіла відліку на опис механічного рух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4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 Чому не можна описати рух, не вказуючи час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5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 Наведіть приклади прямолінійного й криволінійного рух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6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 Які прилади використовуються для вимірювання шлях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800360" y="441000"/>
            <a:ext cx="5184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вд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503280" y="1482120"/>
            <a:ext cx="56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За заданою траєкторією руху тіла знайдіть його переміщення, якщо початкова точка траєкторії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, а кінцева 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. Завдання розв’яжіть графі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Страницы из Все уроки физики 8 кл для печати"/>
          <p:cNvPicPr/>
          <p:nvPr/>
        </p:nvPicPr>
        <p:blipFill>
          <a:blip r:embed="rId1"/>
          <a:stretch/>
        </p:blipFill>
        <p:spPr>
          <a:xfrm>
            <a:off x="6300720" y="1349280"/>
            <a:ext cx="2519280" cy="175572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6"/>
          <p:cNvSpPr/>
          <p:nvPr/>
        </p:nvSpPr>
        <p:spPr>
          <a:xfrm>
            <a:off x="539640" y="3407040"/>
            <a:ext cx="838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Дівчинка проходить шлях від будинку до школи 250 м, а до музичного театру в тому ж напрямк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670 м. Який шлях проходить дівчинка до музичного театру, якщо вона йде не з будинку, а прямо зі шк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кресліть траєкторію руху, за якого шлях перевищує модуль переміщення в 3 ра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24000" y="512640"/>
            <a:ext cx="316548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ірку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539640" y="1628280"/>
            <a:ext cx="835344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ведіть два-три приклади тіл, відносно яких перебуває у стані спокою й відносно яких рухається земна ку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ведіть приклади руху, коли траєкторія тіла, що рухається, невид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 їдете в школу в автобусі. Назвіть тіла, відносно яких ви перебуваєте в стані спокою, а відносно яких — рухаєте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7840" y="620280"/>
            <a:ext cx="77058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ашнє завдання-1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§ 1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Зб-1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ів1 — № 1.1, 1.4, 1.9, 1.16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ів2 — № 1.18, 1.21, 1.24, 1.29, 1.33, 1.34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ів3 — № 1.36, 1.42, 1.43, 1.46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4" descr="дз"/>
          <p:cNvPicPr/>
          <p:nvPr/>
        </p:nvPicPr>
        <p:blipFill>
          <a:blip r:embed="rId1"/>
          <a:stretch/>
        </p:blipFill>
        <p:spPr>
          <a:xfrm>
            <a:off x="6588000" y="189000"/>
            <a:ext cx="23716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4502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вдання для самостійної робо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719280" y="1413000"/>
            <a:ext cx="79214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очатковий рів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иберіть правильну відповід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Лінію, що описує тіло під час руху, називають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ямою лініє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Б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йденим шлях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В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єкторіє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иберіть правильну відповід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Довжину траєкторії, по якій рухається тіло протягом деякого проміжку часу, називають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йденим шлях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Б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ямою лініє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видкіст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24000" y="512640"/>
            <a:ext cx="842472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ередній рівень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ли говорять про швидкість автомобіля або поїзда, тіло відліку звичайно не вказують. Що мають на увазі в цьому випадку під тілом відліку? Чому ви так вважаєте?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и залежить форма траєкторії від вибору тіла відліку? Наведіть приклади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Достатній рівень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ва автомобілі рухаються по прямолінійному шосе так, що певний час відстань між ними не змінюється. Укажіть, відносно яких тіл протягом цього часу кожний з них перебуває в спокої й відносно яких тіл вони рухаються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ухаються чи перебувають у спокої відносно одне одного пасажири метро, що знаходяться на двох ескалаторах, які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рухаються в одному напрямку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рухаються в різних напрямках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1640" y="333000"/>
            <a:ext cx="8460000" cy="49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исокий рівень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портсмен пропливає водяну доріжку в басейні 4 рази. Визначте шлях і модуль переміщення спортсмена, якщо довжина доріжки в басейні 50 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Автомобіль робить поворот ліворуч по дузі окружності радіусом 30 м. Намалюйте двома різними кольорами траєкторію лівого і правого передніх коліс при такому русі (розміром самих коліс знехтувати). Яке колесо пройшло більший шлях? Наскільки більший? Відстань між передніми колесами дорівнює 2 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457200" y="476280"/>
            <a:ext cx="83628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жере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 Усі уроки фізики. 8 клас./ Кирик Л. А.— Х.: Вид. група «Основа», 2008.— 352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Сай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geoknigi.com, tepka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493560" y="1017720"/>
            <a:ext cx="8229600" cy="2523960"/>
          </a:xfrm>
          <a:prstGeom prst="rect">
            <a:avLst/>
          </a:prstGeom>
          <a:ln w="0">
            <a:noFill/>
          </a:ln>
        </p:spPr>
      </p:pic>
      <p:pic>
        <p:nvPicPr>
          <p:cNvPr id="498" name="Объект 2" descr=""/>
          <p:cNvPicPr/>
          <p:nvPr/>
        </p:nvPicPr>
        <p:blipFill>
          <a:blip r:embed="rId2"/>
          <a:stretch/>
        </p:blipFill>
        <p:spPr>
          <a:xfrm>
            <a:off x="3133800" y="4078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698328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Механічний ру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44000" y="5976720"/>
            <a:ext cx="8820360" cy="9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7" descr=""/>
          <p:cNvPicPr/>
          <p:nvPr/>
        </p:nvPicPr>
        <p:blipFill>
          <a:blip r:embed="rId1"/>
          <a:stretch/>
        </p:blipFill>
        <p:spPr>
          <a:xfrm>
            <a:off x="144360" y="1197000"/>
            <a:ext cx="88203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634920" y="1412640"/>
            <a:ext cx="4645080" cy="15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Механічним рух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ивають зміну з часом положення тіла в просторі відносно інших т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Picture 8" descr=""/>
          <p:cNvPicPr/>
          <p:nvPr/>
        </p:nvPicPr>
        <p:blipFill>
          <a:blip r:embed="rId1"/>
          <a:stretch/>
        </p:blipFill>
        <p:spPr>
          <a:xfrm>
            <a:off x="324000" y="297000"/>
            <a:ext cx="2771640" cy="20523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2771640" cy="20876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6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771640" cy="21639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5" descr=""/>
          <p:cNvPicPr/>
          <p:nvPr/>
        </p:nvPicPr>
        <p:blipFill>
          <a:blip r:embed="rId4"/>
          <a:stretch/>
        </p:blipFill>
        <p:spPr>
          <a:xfrm>
            <a:off x="3095640" y="4473720"/>
            <a:ext cx="2916360" cy="2124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"/>
          <p:cNvPicPr/>
          <p:nvPr/>
        </p:nvPicPr>
        <p:blipFill>
          <a:blip r:embed="rId5"/>
          <a:stretch/>
        </p:blipFill>
        <p:spPr>
          <a:xfrm>
            <a:off x="6012000" y="4473720"/>
            <a:ext cx="280800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риклади руху в природ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Объект 3" descr=""/>
          <p:cNvPicPr/>
          <p:nvPr/>
        </p:nvPicPr>
        <p:blipFill>
          <a:blip r:embed="rId1"/>
          <a:stretch/>
        </p:blipFill>
        <p:spPr>
          <a:xfrm>
            <a:off x="484200" y="3716280"/>
            <a:ext cx="8175600" cy="223200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4" descr=""/>
          <p:cNvPicPr/>
          <p:nvPr/>
        </p:nvPicPr>
        <p:blipFill>
          <a:blip r:embed="rId2"/>
          <a:stretch/>
        </p:blipFill>
        <p:spPr>
          <a:xfrm>
            <a:off x="4211640" y="1881360"/>
            <a:ext cx="4603680" cy="183492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5" descr=""/>
          <p:cNvPicPr/>
          <p:nvPr/>
        </p:nvPicPr>
        <p:blipFill>
          <a:blip r:embed="rId3"/>
          <a:stretch/>
        </p:blipFill>
        <p:spPr>
          <a:xfrm>
            <a:off x="320760" y="1628640"/>
            <a:ext cx="356688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95640" y="333360"/>
            <a:ext cx="4860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ідносність рух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Group 17"/>
          <p:cNvGrpSpPr/>
          <p:nvPr/>
        </p:nvGrpSpPr>
        <p:grpSpPr>
          <a:xfrm>
            <a:off x="1008000" y="1125360"/>
            <a:ext cx="7236000" cy="5351760"/>
            <a:chOff x="1008000" y="1125360"/>
            <a:chExt cx="7236000" cy="5351760"/>
          </a:xfrm>
        </p:grpSpPr>
        <p:pic>
          <p:nvPicPr>
            <p:cNvPr id="514" name="Picture 6" descr=""/>
            <p:cNvPicPr/>
            <p:nvPr/>
          </p:nvPicPr>
          <p:blipFill>
            <a:blip r:embed="rId1"/>
            <a:stretch/>
          </p:blipFill>
          <p:spPr>
            <a:xfrm>
              <a:off x="1008000" y="1144440"/>
              <a:ext cx="3324240" cy="22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5" descr=""/>
            <p:cNvPicPr/>
            <p:nvPr/>
          </p:nvPicPr>
          <p:blipFill>
            <a:blip r:embed="rId2"/>
            <a:stretch/>
          </p:blipFill>
          <p:spPr>
            <a:xfrm>
              <a:off x="4859280" y="1125360"/>
              <a:ext cx="3348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4" descr=""/>
            <p:cNvPicPr/>
            <p:nvPr/>
          </p:nvPicPr>
          <p:blipFill>
            <a:blip r:embed="rId3"/>
            <a:stretch/>
          </p:blipFill>
          <p:spPr>
            <a:xfrm>
              <a:off x="1008000" y="3484440"/>
              <a:ext cx="7236000" cy="299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2168640"/>
            <a:ext cx="3960720" cy="18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інію, уздовж якого рухається тіло, називають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траєкторією рух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і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8" name="Group 11"/>
          <p:cNvGrpSpPr/>
          <p:nvPr/>
        </p:nvGrpSpPr>
        <p:grpSpPr>
          <a:xfrm>
            <a:off x="4284720" y="368280"/>
            <a:ext cx="4535280" cy="5726160"/>
            <a:chOff x="4284720" y="368280"/>
            <a:chExt cx="4535280" cy="5726160"/>
          </a:xfrm>
        </p:grpSpPr>
        <p:pic>
          <p:nvPicPr>
            <p:cNvPr id="519" name="Picture 5" descr=""/>
            <p:cNvPicPr/>
            <p:nvPr/>
          </p:nvPicPr>
          <p:blipFill>
            <a:blip r:embed="rId1"/>
            <a:stretch/>
          </p:blipFill>
          <p:spPr>
            <a:xfrm>
              <a:off x="4284720" y="368280"/>
              <a:ext cx="4535280" cy="24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4" descr=""/>
            <p:cNvPicPr/>
            <p:nvPr/>
          </p:nvPicPr>
          <p:blipFill>
            <a:blip r:embed="rId2"/>
            <a:stretch/>
          </p:blipFill>
          <p:spPr>
            <a:xfrm>
              <a:off x="4284720" y="2914560"/>
              <a:ext cx="4535280" cy="317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вжину траєкторії називають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шлях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ройденим ті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2808360" y="2384280"/>
            <a:ext cx="3527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55640" y="44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ереміщенням тіл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ивають спрямований відрізок, проведений з початкового положення тіла в його положення в даний момент час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Рисунок 1" descr=""/>
          <p:cNvPicPr/>
          <p:nvPr/>
        </p:nvPicPr>
        <p:blipFill>
          <a:blip r:embed="rId1"/>
          <a:stretch/>
        </p:blipFill>
        <p:spPr>
          <a:xfrm>
            <a:off x="1403280" y="1911240"/>
            <a:ext cx="468144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3-07T07:52:30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14000000000001024140</vt:lpwstr>
  </property>
  <property fmtid="{D5CDD505-2E9C-101B-9397-08002B2CF9AE}" pid="3" name="PPT_Export_sFileName">
    <vt:lpwstr>D:\Физика 8 класс\Урок 01 Механическое движение\P-Урок 01 Механическое движение.Ppt</vt:lpwstr>
  </property>
</Properties>
</file>