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image7.jpeg" ContentType="image/jpe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E30D-45B4-4A28-9401-F5063A352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C4C7-0D9E-4811-BA8A-3EFEDBC7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DDFB8-F8CA-45B8-91B3-BC88E7E2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5EB1E-2AA0-40E0-BD91-D2133CCB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615F14-DE89-425A-B1AD-81274362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3887D-9445-481B-B7E2-4800ABBA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3816A8-83B7-4F48-8831-F9EA3395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996505-6810-4963-8348-433630BE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71964-1C3E-4CE0-B1A4-A5304588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8C75F1-EE9A-49B6-B017-423812F16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7893D-03DD-41A3-95D9-FC01916F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786DD-B828-4DA2-B3B5-7B4AC295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5CA4-D359-4DBF-AB82-FB259994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645A2-D0AF-4F35-897E-B913EA71A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089FE-1C3B-42D4-BEE1-B99E41A5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81A10-C865-4645-9BED-B5ECE520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ACFAEA-0667-4AB1-9065-7C0851B8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3B816-1416-46A8-A4F7-0A9D513D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DC074-AB30-4A63-86AC-797CB901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2E21E5-AECF-4F4B-9A4F-D2AD383B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AA7F7-893B-4406-97A1-ED99924E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A9FD6-92FA-492B-9555-A5557C3C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3208C-A729-4D7F-B51D-8B29F0D1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642-C499-4D92-82DB-9A690E03D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8EC555-E71A-48F8-8DD7-D3E5ABDF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E4525-7B2B-4671-8F04-06E7C715A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F52B1-A13A-4258-B2DC-C39AC1D2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81CA1-6284-4409-954E-7D6CB212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3698F-38B1-42CC-970F-56FD237E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1C66F3-4629-4042-AC9A-85A867BF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5EECE-62C6-4F2A-AE26-5D5C844B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80895-5070-403A-B6C2-28E5CFF3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0E1D64-4B71-40BB-9C60-80C49107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057D67-827D-40C7-9716-579E01E6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24986-B9BF-4EEB-8B23-8E8E7FDF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B90BB-C3DD-46C4-8A28-BFF0D2C1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860B88-DDAD-4766-AB71-00E0806AA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CB88E-5F7D-4E51-8FB1-01CE7375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8AAAE-6ABD-41B3-85D1-5D7A66EA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1415D-F014-41E7-AB1A-E05BB402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2B0B0-698C-4AFB-BE41-330CDA34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84F91-ABA9-481C-8DBB-F65D67469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C51A2-4D78-4AD9-B54F-7AEEB5B6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9189A-15E4-414E-ABB1-9BD61948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DF743-321A-47A1-8B53-EF92B679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6F38-00D6-4A1A-899C-042C96E3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3C8B11-2A89-459A-8DA3-807DA76A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AA6A96-6760-414D-9721-3C0863220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D6BE45-6785-42F8-A2B8-C3D652D4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8C524B-15A1-42B6-9E17-868A89BA6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FE8BC-867D-4200-A84A-82538FAFD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2B3D-805E-49D9-A1F5-7F57AE0C8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B460-C8B2-417E-9977-5FC3580A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F800-22A0-4548-A41B-412B84FE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48B1-845C-45E6-8676-80C151F1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1748-DBE3-4A60-BB97-69471E76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F3ED-14D4-485C-9316-D760BDF8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6EA8-3357-47BC-B579-65713FA6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99C6-8225-47F6-844E-9972E35E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C262-E1FF-4C5C-B4B0-5F7DEFEE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666B-ED61-40F4-8CA6-462E6F11A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4369-A45A-4B53-A525-87ACB222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8F77A-4F82-48FC-B062-88CADA31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C64F5-CFF4-46B4-896D-0ED6F91D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9DE57-D575-4416-84D5-F6C63129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FAD05-A2BB-4770-B97E-79D30B38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6B4AC-7D48-4AE9-AEC2-F502F8A6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F91B-3197-4C67-AFC0-EFD21F9D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37F8E-FEBC-4A72-A0F9-574F0C8A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C122F-5111-402A-B741-C84768A9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157E5-5860-417B-9C64-4BB1F2CB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015AB-688F-4B48-8D5E-1E04D7E6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F994C-675F-4AEB-8FF6-256EEDE6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8D84A-A4FD-4F56-A7A9-AA4B1D7EA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FAEC5-99DB-4498-AA51-565B44436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FAE35-B2A2-4A10-964E-A60C7C28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3E9D6-90CB-48CC-B822-382094A6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645EF-024E-4875-87EF-3E8227081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0030-BC40-4327-88D5-D1E3276ED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EF2AE-82F9-49C5-8D8F-08FFD6C2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E02A8-9A03-4B92-AFD6-0C485DCF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9FA6B-476D-4D61-B6C7-231517C98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0CE0B-6700-4EED-99D3-49075F12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1CD43-39C1-4A86-BB87-0F32D7F8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3C192-CD4A-42E1-9B7B-BDDDF96C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3481E-97C2-404A-9882-431F462D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65987-5E1F-459A-85C0-22161C960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0C50E-52E3-483A-9604-8386B5CCE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C6E80-4FB0-4BF1-BF55-5E2D31B10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F30D-2E20-4AC2-89E2-23EB12BFB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6739B-BAED-47A9-A3F9-417ADC90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08704-81D1-4B6F-8224-40E4A73E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E364F-8B18-4791-8867-2D3BAB7E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ECDE6-B3F1-49E9-9779-BDB172FC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C341E-1455-498C-A29A-9B196A8D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96C7E-570D-433F-9882-468C8AFA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1BD75-C90B-4F09-AA24-611B2769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43616-276C-40FB-A1AB-5C1276F5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F11FB-35AD-497E-B322-96358381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4535B-90B9-49F0-AC5F-1D1E3CA5E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23A2-A09E-495B-83A6-B1C4E3EB6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5D263-A50B-445D-AA92-EA8C7FB51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5DC7C-0542-40D2-9E49-CF4F20F8D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8AFB1-449F-474E-A4AF-36232272D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C8E5F-C519-4273-A662-BC873F67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2B7E4-081E-4E92-81C6-233701AD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E57B7F-2C31-4C37-95E4-6C3DE12F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EA50A-5BD6-49F4-8341-4AF85C681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F9B99-8563-493B-A119-C5E15968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C90F8-88B0-4B15-8777-395C32DA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B0AD8-2AAF-4327-9BD8-DBE82A9D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2521-8D8F-4381-B3BC-2584B9DC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0D47F-8EAE-47D0-882D-BB3D2940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BDE4D-608C-47D2-BD70-CFC84E4D7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E91FD-80F9-42C7-89BF-65C1F822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7805C-4048-4EC0-8871-C7BFA510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60B55-7F4A-42AC-89EB-F8F823DD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499F0-13B3-4061-9237-2689EFC8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D9201-C476-480E-BF26-03943328A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A0880-59AB-497A-9C2E-9020465D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63941-47D4-4AF8-85E6-E1C4087C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09960-EEA4-4C1C-AAE7-DFDA0CA6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984B-22E8-4FED-852E-3E1597F2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403F53-369A-4AEA-95C9-2503BFAC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0C93B-AB30-4CE7-9772-DFDD2864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5D928-646D-4C06-8FD9-30E993F3D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BA2E8-F4B2-4E2E-B478-47FCCA0B4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8894D-39D0-4B47-B5AB-7E128F9B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55ADB-16B7-455D-8AD7-B57E5C72A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EB0A6-7023-45F9-B09C-0C0BD321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CD7B7-6262-4A81-AB2C-0078C71E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5F0860-3C4A-4E36-9F21-30D00760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3437A-4F97-4D89-A785-93653AC9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DF96-BB36-48B3-B2D4-018695F0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A9AA2-0002-49A7-853B-05A595DA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1FAC4-8B3A-4EEA-8FD8-91398F2F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2DE18-76AD-4421-BD26-7F6B2778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853DB-1EE5-47A3-B466-8E7E2D88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66BBF-BE7A-4D6F-9FB6-279C3602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1DD0A-B510-4D01-8B1D-23CF5EA6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1C90A-75DD-42AD-A60A-0DD1BC714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20AF07-AB14-475B-B70A-90D708FD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378AB7-DF85-4C2F-AF68-1B2DAF78C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E242C-0AA6-428E-8FC7-E42E4168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9D37-13AD-4445-B7C9-023494FAA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B639-CCCE-46CC-8D27-5F3826EE1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514F-E166-462B-AEE2-6F6056188F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E093-ADFC-434D-A12C-5DFF6BB7A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B0EE8-A5DD-4D7E-AD8E-BEB10ACFAE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1FA5-C056-41F3-99A9-8DBCFB4F6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59D2-2858-4637-B3AC-B9E0F24092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A37C-0CD9-443A-9F6B-75D7B9F13C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A0AA7-D459-4973-8ECE-772492A7B3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2C9B-9BB0-47B1-9BD7-9CE63217E9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7E7F-9F13-4A35-BAE6-E96E707FFD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F3FF-88A8-4C3B-B043-81A70BBB4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Рисунок 3" descr=""/>
          <p:cNvPicPr/>
          <p:nvPr/>
        </p:nvPicPr>
        <p:blipFill>
          <a:blip r:embed="rId1"/>
          <a:stretch/>
        </p:blipFill>
        <p:spPr>
          <a:xfrm>
            <a:off x="1076400" y="1714680"/>
            <a:ext cx="7364160" cy="1585800"/>
          </a:xfrm>
          <a:prstGeom prst="rect">
            <a:avLst/>
          </a:prstGeom>
          <a:ln w="0">
            <a:noFill/>
          </a:ln>
        </p:spPr>
      </p:pic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14200" y="1188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ривецька ЗОШ І-ІІ ступені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Рисунок 4" descr=""/>
          <p:cNvPicPr/>
          <p:nvPr/>
        </p:nvPicPr>
        <p:blipFill>
          <a:blip r:embed="rId2"/>
          <a:stretch/>
        </p:blipFill>
        <p:spPr>
          <a:xfrm>
            <a:off x="900000" y="3478320"/>
            <a:ext cx="1560600" cy="56016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900000" y="52214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898989"/>
                </a:solidFill>
                <a:latin typeface="Calibri"/>
              </a:rPr>
              <a:t>Вчитель: Горкун Станіслав Степанови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6" name="Прямоугольник 5" descr=""/>
          <p:cNvPicPr/>
          <p:nvPr/>
        </p:nvPicPr>
        <p:blipFill>
          <a:blip r:embed="rId3"/>
          <a:stretch/>
        </p:blipFill>
        <p:spPr>
          <a:xfrm>
            <a:off x="2627280" y="3303720"/>
            <a:ext cx="45720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9640" y="657360"/>
            <a:ext cx="77724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іло, розмірами якого в умовах даного завдання можна знехтувати, називають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матеріальною точко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6" name="Group 15"/>
          <p:cNvGrpSpPr/>
          <p:nvPr/>
        </p:nvGrpSpPr>
        <p:grpSpPr>
          <a:xfrm>
            <a:off x="431640" y="2276640"/>
            <a:ext cx="8425080" cy="2889000"/>
            <a:chOff x="431640" y="2276640"/>
            <a:chExt cx="8425080" cy="2889000"/>
          </a:xfrm>
        </p:grpSpPr>
        <p:pic>
          <p:nvPicPr>
            <p:cNvPr id="527" name="Picture 5" descr=""/>
            <p:cNvPicPr/>
            <p:nvPr/>
          </p:nvPicPr>
          <p:blipFill>
            <a:blip r:embed="rId1"/>
            <a:stretch/>
          </p:blipFill>
          <p:spPr>
            <a:xfrm>
              <a:off x="431640" y="2276640"/>
              <a:ext cx="4211640" cy="288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8" name="Picture 4" descr=""/>
            <p:cNvPicPr/>
            <p:nvPr/>
          </p:nvPicPr>
          <p:blipFill>
            <a:blip r:embed="rId2"/>
            <a:stretch/>
          </p:blipFill>
          <p:spPr>
            <a:xfrm>
              <a:off x="4762440" y="2276640"/>
              <a:ext cx="4094280" cy="287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879280" y="657000"/>
            <a:ext cx="327492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ита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820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1. </a:t>
            </a: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Чим тіла, що рухаються, відрізняються від нерухоми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2. </a:t>
            </a: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 Для чого вибирають тіло відлік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3. </a:t>
            </a: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 Як впливає вибір тіла відліку на опис механічного рух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4. </a:t>
            </a: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 Чому не можна описати рух, не вказуючи час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5. </a:t>
            </a: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 Наведіть приклади прямолінійного й криволінійного рухі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Arial"/>
              </a:rPr>
              <a:t>6. </a:t>
            </a: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 Які прилади використовуються для вимірювання шлях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800360" y="441000"/>
            <a:ext cx="518472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вда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503280" y="1482120"/>
            <a:ext cx="565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  <a:ea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За заданою траєкторією руху тіла знайдіть його переміщення, якщо початкова точка траєкторії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, а кінцева —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. Завдання розв’яжіть графіч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4" descr="Страницы из Все уроки физики 8 кл для печати"/>
          <p:cNvPicPr/>
          <p:nvPr/>
        </p:nvPicPr>
        <p:blipFill>
          <a:blip r:embed="rId1"/>
          <a:stretch/>
        </p:blipFill>
        <p:spPr>
          <a:xfrm>
            <a:off x="6300720" y="1349280"/>
            <a:ext cx="2519280" cy="1755720"/>
          </a:xfrm>
          <a:prstGeom prst="rect">
            <a:avLst/>
          </a:prstGeom>
          <a:ln w="0">
            <a:noFill/>
          </a:ln>
        </p:spPr>
      </p:pic>
      <p:sp>
        <p:nvSpPr>
          <p:cNvPr id="534" name="Rectangle 6"/>
          <p:cNvSpPr/>
          <p:nvPr/>
        </p:nvSpPr>
        <p:spPr>
          <a:xfrm>
            <a:off x="539640" y="3407040"/>
            <a:ext cx="838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Дівчинка проходить шлях від будинку до школи 250 м, а до музичного театру в тому ж напрямк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—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670 м. Який шлях проходить дівчинка до музичного театру, якщо вона йде не з будинку, а прямо зі шк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кресліть траєкторію руху, за якого шлях перевищує модуль переміщення в 3 ра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24000" y="512640"/>
            <a:ext cx="316548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мірку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539640" y="1628280"/>
            <a:ext cx="8353440" cy="29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ведіть два-три приклади тіл, відносно яких перебуває у стані спокою й відносно яких рухається земна ку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ведіть приклади руху, коли траєкторія тіла, що рухається, невид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и їдете в школу в автобусі. Назвіть тіла, відносно яких ви перебуваєте в стані спокою, а відносно яких — рухаєте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7840" y="620280"/>
            <a:ext cx="770580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ашнє завдання-1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§ 1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Зб-1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ів1 — № 1.1, 1.4, 1.9, 1.16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ів2 — № 1.18, 1.21, 1.24, 1.29, 1.33, 1.34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ів3 — № 1.36, 1.42, 1.43, 1.46.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8" name="Picture 4" descr="дз"/>
          <p:cNvPicPr/>
          <p:nvPr/>
        </p:nvPicPr>
        <p:blipFill>
          <a:blip r:embed="rId1"/>
          <a:stretch/>
        </p:blipFill>
        <p:spPr>
          <a:xfrm>
            <a:off x="6588000" y="189000"/>
            <a:ext cx="237168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74502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вдання для самостійної робо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719280" y="1413000"/>
            <a:ext cx="7921440" cy="48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Початковий рів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иберіть правильну відповід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Лінію, що описує тіло під час руху, називають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ямою лініє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Б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йденим шлях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В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аєкторіє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иберіть правильну відповід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99"/>
                </a:solidFill>
                <a:latin typeface="Calibri"/>
              </a:rPr>
              <a:t>Довжину траєкторії, по якій рухається тіло протягом деякого проміжку часу, називають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йденим шляхо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Б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ямою лініє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швидкіст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24000" y="512640"/>
            <a:ext cx="842472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ередній рівень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оли говорять про швидкість автомобіля або поїзда, тіло відліку звичайно не вказують. Що мають на увазі в цьому випадку під тілом відліку? Чому ви так вважаєте?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Чи залежить форма траєкторії від вибору тіла відліку? Наведіть приклади.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Достатній рівень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Два автомобілі рухаються по прямолінійному шосе так, що певний час відстань між ними не змінюється. Укажіть, відносно яких тіл протягом цього часу кожний з них перебуває в спокої й відносно яких тіл вони рухаються.</a:t>
            </a: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Рухаються чи перебувають у спокої відносно одне одного пасажири метро, що знаходяться на двох ескалаторах, які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) рухаються в одному напрямку;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рухаються в різних напрямках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31640" y="333000"/>
            <a:ext cx="8460000" cy="49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Високий рівень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портсмен пропливає водяну доріжку в басейні 4 рази. Визначте шлях і модуль переміщення спортсмена, якщо довжина доріжки в басейні 50 м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Автомобіль робить поворот ліворуч по дузі окружності радіусом 30 м. Намалюйте двома різними кольорами траєкторію лівого і правого передніх коліс при такому русі (розміром самих коліс знехтувати). Яке колесо пройшло більший шлях? Наскільки більший? Відстань між передніми колесами дорівнює 2 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457200" y="476280"/>
            <a:ext cx="83628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жерел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 Усі уроки фізики. 8 клас./ Кирик Л. А.— Х.: Вид. група «Основа», 2008.— 352 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Сай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geoknigi.com, tepka.r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Заголовок 1" descr=""/>
          <p:cNvPicPr/>
          <p:nvPr/>
        </p:nvPicPr>
        <p:blipFill>
          <a:blip r:embed="rId1"/>
          <a:stretch/>
        </p:blipFill>
        <p:spPr>
          <a:xfrm>
            <a:off x="493560" y="1017720"/>
            <a:ext cx="8229600" cy="2523960"/>
          </a:xfrm>
          <a:prstGeom prst="rect">
            <a:avLst/>
          </a:prstGeom>
          <a:ln w="0">
            <a:noFill/>
          </a:ln>
        </p:spPr>
      </p:pic>
      <p:pic>
        <p:nvPicPr>
          <p:cNvPr id="498" name="Объект 2" descr=""/>
          <p:cNvPicPr/>
          <p:nvPr/>
        </p:nvPicPr>
        <p:blipFill>
          <a:blip r:embed="rId2"/>
          <a:stretch/>
        </p:blipFill>
        <p:spPr>
          <a:xfrm>
            <a:off x="3133800" y="4078440"/>
            <a:ext cx="8229600" cy="45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698328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Calibri"/>
              </a:rPr>
              <a:t>Механічний ру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44000" y="5976720"/>
            <a:ext cx="8820360" cy="9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Picture 7" descr=""/>
          <p:cNvPicPr/>
          <p:nvPr/>
        </p:nvPicPr>
        <p:blipFill>
          <a:blip r:embed="rId1"/>
          <a:stretch/>
        </p:blipFill>
        <p:spPr>
          <a:xfrm>
            <a:off x="144360" y="1197000"/>
            <a:ext cx="882036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634920" y="1412640"/>
            <a:ext cx="4645080" cy="15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Механічним рух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зивають зміну з часом положення тіла в просторі відносно інших те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3" name="Picture 8" descr=""/>
          <p:cNvPicPr/>
          <p:nvPr/>
        </p:nvPicPr>
        <p:blipFill>
          <a:blip r:embed="rId1"/>
          <a:stretch/>
        </p:blipFill>
        <p:spPr>
          <a:xfrm>
            <a:off x="324000" y="297000"/>
            <a:ext cx="2771640" cy="20523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7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2771640" cy="20876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6" descr=""/>
          <p:cNvPicPr/>
          <p:nvPr/>
        </p:nvPicPr>
        <p:blipFill>
          <a:blip r:embed="rId3"/>
          <a:stretch/>
        </p:blipFill>
        <p:spPr>
          <a:xfrm>
            <a:off x="324000" y="4437000"/>
            <a:ext cx="2771640" cy="21639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5" descr=""/>
          <p:cNvPicPr/>
          <p:nvPr/>
        </p:nvPicPr>
        <p:blipFill>
          <a:blip r:embed="rId4"/>
          <a:stretch/>
        </p:blipFill>
        <p:spPr>
          <a:xfrm>
            <a:off x="3095640" y="4473720"/>
            <a:ext cx="2916360" cy="212400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" descr=""/>
          <p:cNvPicPr/>
          <p:nvPr/>
        </p:nvPicPr>
        <p:blipFill>
          <a:blip r:embed="rId5"/>
          <a:stretch/>
        </p:blipFill>
        <p:spPr>
          <a:xfrm>
            <a:off x="6012000" y="4473720"/>
            <a:ext cx="2808000" cy="21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Приклади руху в природ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Объект 3" descr=""/>
          <p:cNvPicPr/>
          <p:nvPr/>
        </p:nvPicPr>
        <p:blipFill>
          <a:blip r:embed="rId1"/>
          <a:stretch/>
        </p:blipFill>
        <p:spPr>
          <a:xfrm>
            <a:off x="484200" y="3716280"/>
            <a:ext cx="8175600" cy="223200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4" descr=""/>
          <p:cNvPicPr/>
          <p:nvPr/>
        </p:nvPicPr>
        <p:blipFill>
          <a:blip r:embed="rId2"/>
          <a:stretch/>
        </p:blipFill>
        <p:spPr>
          <a:xfrm>
            <a:off x="4211640" y="1881360"/>
            <a:ext cx="4603680" cy="183492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5" descr=""/>
          <p:cNvPicPr/>
          <p:nvPr/>
        </p:nvPicPr>
        <p:blipFill>
          <a:blip r:embed="rId3"/>
          <a:stretch/>
        </p:blipFill>
        <p:spPr>
          <a:xfrm>
            <a:off x="320760" y="1628640"/>
            <a:ext cx="356688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195640" y="333360"/>
            <a:ext cx="48607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ідносність рух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3" name="Group 17"/>
          <p:cNvGrpSpPr/>
          <p:nvPr/>
        </p:nvGrpSpPr>
        <p:grpSpPr>
          <a:xfrm>
            <a:off x="1008000" y="1125360"/>
            <a:ext cx="7236000" cy="5351760"/>
            <a:chOff x="1008000" y="1125360"/>
            <a:chExt cx="7236000" cy="5351760"/>
          </a:xfrm>
        </p:grpSpPr>
        <p:pic>
          <p:nvPicPr>
            <p:cNvPr id="514" name="Picture 6" descr=""/>
            <p:cNvPicPr/>
            <p:nvPr/>
          </p:nvPicPr>
          <p:blipFill>
            <a:blip r:embed="rId1"/>
            <a:stretch/>
          </p:blipFill>
          <p:spPr>
            <a:xfrm>
              <a:off x="1008000" y="1144440"/>
              <a:ext cx="3324240" cy="22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5" descr=""/>
            <p:cNvPicPr/>
            <p:nvPr/>
          </p:nvPicPr>
          <p:blipFill>
            <a:blip r:embed="rId2"/>
            <a:stretch/>
          </p:blipFill>
          <p:spPr>
            <a:xfrm>
              <a:off x="4859280" y="1125360"/>
              <a:ext cx="3348000" cy="228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4" descr=""/>
            <p:cNvPicPr/>
            <p:nvPr/>
          </p:nvPicPr>
          <p:blipFill>
            <a:blip r:embed="rId3"/>
            <a:stretch/>
          </p:blipFill>
          <p:spPr>
            <a:xfrm>
              <a:off x="1008000" y="3484440"/>
              <a:ext cx="7236000" cy="2992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2168640"/>
            <a:ext cx="3960720" cy="18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інію, уздовж якого рухається тіло, називають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траєкторією руху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і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8" name="Group 11"/>
          <p:cNvGrpSpPr/>
          <p:nvPr/>
        </p:nvGrpSpPr>
        <p:grpSpPr>
          <a:xfrm>
            <a:off x="4284720" y="368280"/>
            <a:ext cx="4535280" cy="5726160"/>
            <a:chOff x="4284720" y="368280"/>
            <a:chExt cx="4535280" cy="5726160"/>
          </a:xfrm>
        </p:grpSpPr>
        <p:pic>
          <p:nvPicPr>
            <p:cNvPr id="519" name="Picture 5" descr=""/>
            <p:cNvPicPr/>
            <p:nvPr/>
          </p:nvPicPr>
          <p:blipFill>
            <a:blip r:embed="rId1"/>
            <a:stretch/>
          </p:blipFill>
          <p:spPr>
            <a:xfrm>
              <a:off x="4284720" y="368280"/>
              <a:ext cx="4535280" cy="241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0" name="Picture 4" descr=""/>
            <p:cNvPicPr/>
            <p:nvPr/>
          </p:nvPicPr>
          <p:blipFill>
            <a:blip r:embed="rId2"/>
            <a:stretch/>
          </p:blipFill>
          <p:spPr>
            <a:xfrm>
              <a:off x="4284720" y="2914560"/>
              <a:ext cx="4535280" cy="317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вжину траєкторії називають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шлях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пройденим тіл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4" descr=""/>
          <p:cNvPicPr/>
          <p:nvPr/>
        </p:nvPicPr>
        <p:blipFill>
          <a:blip r:embed="rId1"/>
          <a:stretch/>
        </p:blipFill>
        <p:spPr>
          <a:xfrm>
            <a:off x="2808360" y="2384280"/>
            <a:ext cx="352728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b7ff"/>
            </a:gs>
            <a:gs pos="100000">
              <a:srgbClr val="dddd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55640" y="44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ереміщенням тіл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називають спрямований відрізок, проведений з початкового положення тіла в його положення в даний момент час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Рисунок 1" descr=""/>
          <p:cNvPicPr/>
          <p:nvPr/>
        </p:nvPicPr>
        <p:blipFill>
          <a:blip r:embed="rId1"/>
          <a:stretch/>
        </p:blipFill>
        <p:spPr>
          <a:xfrm>
            <a:off x="1403280" y="1911240"/>
            <a:ext cx="468144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3-07T07:52:30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14000000000001024140</vt:lpwstr>
  </property>
  <property fmtid="{D5CDD505-2E9C-101B-9397-08002B2CF9AE}" pid="3" name="PPT_Export_sFileName">
    <vt:lpwstr>D:\Физика 8 класс\Урок 01 Механическое движение\P-Урок 01 Механическое движение.Ppt</vt:lpwstr>
  </property>
</Properties>
</file>