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7.jpeg" ContentType="image/jpeg"/>
  <Override PartName="/ppt/media/image20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ABC3-6C2F-4611-AB18-15D30382B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A68E-96A7-4991-85B8-E57478E3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0F9762-688A-4016-A01B-906B4269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34E7D5-AC3B-481D-9065-1073C04A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522413-E88A-427C-B252-A3C5AD34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E27EE-3784-40E7-95F8-A09611DF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2759A-9823-4EAE-8554-ED776FD7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7E6E88-22C6-4DA4-9E05-33DDED3D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3D2271-2560-400D-A16E-2B6DE3F1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A00237-0941-4999-9CC2-751268518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4292F7-C3B1-44DD-8D66-BC7FF4C31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DEAB12-7E85-4C6D-AA7F-8E2B1DBE9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9F9C-DB75-4374-AF26-C0DC8F0A0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7D7E14-6188-4676-9932-C0BCB434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B657AC-3E89-4A6B-828B-0C02106A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58B6C4-FF94-49C9-B366-8B549B15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21F9E2-2C2F-4585-9FC6-E4734E70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254590-BB9F-4860-B713-F80FB07D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14DACF-1FE7-444B-AA83-C1E0B6BF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F52A6B-6A84-4CD5-8DAD-92E01788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6FB087-0736-4CD5-A562-AFD78433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C1DD56-DE23-4318-A116-58542453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FFA636-E5AA-4142-A801-46E0D6785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74D6-770C-4687-A212-B71264588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16B4CD-B79A-4B02-B62C-C7A5F73D1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9B2711-10F8-49F9-A8DA-BB8D3CF3E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C12EFD-3BDE-4173-BFDA-A07A452D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D1F2F9-62BB-47B3-B5F7-5527AF16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07F446-BFE2-4EA1-BF30-13C819CF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F1F0F-9118-4915-AA18-2FF4971C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7A5BC2-155B-4B50-8CF5-4EFCCABA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527682-A34F-477F-924A-398FE3E3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78DDC-1CA9-4AE3-8BC1-E72F7B6F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29E22-C9E2-480B-83F4-2B298322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09D6-71B3-4D88-B545-0CA84E9C0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5882A-B0FD-4154-AEF8-BF84BBBE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A10AF-DDCD-4C10-8C6C-EEE6630FA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90595-03CF-4F6D-8149-E810CA377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4EF013-2941-4BF9-AEFF-4C5200E10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5F040A-EFA8-41D5-89B0-6F49EBA1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1B3A7F-4B9B-443A-84F0-EE391EB4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FFB543-11B5-4E61-99D6-2738CE36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5A972F-BD3C-44E3-A671-446CD6AE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DD0293-118D-4217-ADAA-F1E01081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EF92CB-DC4B-45D3-B3E3-1535096B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796D9-6B37-45B4-B1A9-6A2BFBEC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7B39E9-529F-4444-AAAD-5D4625F0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EE5A23-66CE-4771-8757-3C42EF80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F16051-419D-4E18-BB69-B0E0B66F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B5C9CF-3F3B-4CB9-94E5-9BB89C4C5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E57752-CEEF-4302-AEAE-8249EF11B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7CF73-1DCB-4102-B3F9-DCFDD6EC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F488-7907-402D-919A-B2542CA3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F338D-C3F0-4853-8474-E891089A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A31E-90D4-4F42-95BD-1EEB9CE4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76219-4C86-4CD4-B450-5238046B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FD56-CD72-43AB-8330-B911A280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2111-7C0A-42D8-9A5B-9AB27C7F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6F4E-5EE2-4621-974B-78792EFB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191F-4001-4815-8E64-3C25E615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FFAF-0A9A-4103-8D41-B8A89F0C9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B22C-CD2D-432D-AF46-1ACA359CE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2655B-DC41-4EAB-9CF8-EAD41F971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BC984-B6E3-41BA-8259-D2986DCC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EBCFF-7089-4BA0-A5C4-F6303E1E0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239DC-BBE1-4E7C-982B-8CDD45B8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2AE57-38F8-47A3-81C7-13620381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5033-DAB1-487E-A2C0-9FFCC6C3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39651-7167-45C6-8A3C-C1B241EC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BF860-7BE0-4315-95DC-8FA6239F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3F67B-70BC-476E-BBE9-F97D1C1E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52C3C-C01D-425B-A2FE-1894B0F7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E7BD8-BAC2-4929-8B66-4CDFEC50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16EFD-BA2F-4EA8-B389-4497D538C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437D0-F20A-4EDC-92BB-6FE7A8021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8150A-F1EF-4853-B357-5F0BBEC35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F78BF-AF28-4941-A95E-354C893A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C850C-4CC5-4B37-8389-60147DB1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4D6D-E3F6-4FC7-A258-E3D71018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5097B-4204-4D24-B322-38636631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F0D2D-C56D-46A4-9B69-821DF4EE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52605-7CCA-4AE2-AFD9-4C7567D4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293B8-6568-4192-AA58-506D9A65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61115-D39D-46C0-967D-9DA978BA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2CAEC-5715-4374-AA96-025CCC5E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9C809-02C3-4FBC-9267-80E0885D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F42C2-CB95-4664-AA9A-7E3EAB2FE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1E849-ADCA-4B84-BF57-74354D9AF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A8B27-1B42-41B7-B3B7-B8F8B1DFB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E28B-B05E-4437-90AB-AC4FD21D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6ED41-8EAB-46B0-9C05-F165BC80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80259-80BF-46EA-9161-857B39D2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AC20C-FC1A-4BA3-AD56-ABC26D97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04DEF-1D8F-43D7-B628-1EC8D09B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378D8-D194-4EE1-8DA6-9C8F821D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282A9-9EF0-4D9A-9247-63514D9A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9E27C-3FE0-4BC3-9A0D-BBF71B59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7AD6D-D7DD-4518-951D-33F851AD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9E00B-D627-469E-AAA6-C57B7FE3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B2A97-616C-481A-9E28-10AC6A24F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3D16-B494-4A06-8621-C4C8D81C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D47D8-4943-4979-96F0-5D5D02A83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F7CF7-8A1A-4F41-A418-522CBE138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A63D2-F70A-406A-B41D-8A73E7AA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ECB33-9BB3-4788-BAA4-59244725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A093D-404C-460F-B882-15E76C6C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B66B2-E386-43C3-B153-43728EEE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A8D4E-0748-4808-BFE9-192E75B6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693D9-7823-488B-B62E-54103C54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B7F2A-5EA5-460F-B242-230075B5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BCCB8-7CB5-4C01-9BDA-2A4F0447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6BB2-A259-4372-AE82-1DC79EDD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51ACD-9E27-45C4-B0F4-6B7196C6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DABBB-5704-48A4-BF16-975D96C22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ECA1A-5683-4A59-9A72-EAD1E4859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E3E6C-4761-453C-9A9B-6996937DA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DE172-C0A2-4B30-B8E2-A2B04535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507A9-89E1-45FC-AD6B-6E917629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94212-C732-46CE-84BE-84538EED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C7418-4A14-4BE0-8CF3-65286835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6F093-4A10-4C1F-BDD8-A4E634C6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F58D0-9902-4D06-856B-5FDE3723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DD0A-B25F-49B8-8C28-B49CCEBA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0C010-621A-4FB5-B451-F63E4609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F82B4-5906-48C4-AE7D-B4E8D60F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80B72-9B17-45D3-918F-50E9D2C8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8D9FD-B761-48DD-AA0A-8AD8521D6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68A4F-7F1D-470F-91A3-461D6283A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5BD61-5973-4CE6-8625-97B7D3DCB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82507-7C86-40F5-9538-B7B7E3DD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A5F35-97A9-42F4-81E8-B175C781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2CCAE-E637-4B42-AFB3-52A74A45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4650F-0D4F-4B95-A716-281B2D1D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2821-AE0D-4726-B911-31AAF553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2CC79-AB92-44A2-AEF3-F3008B1B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C6DA3-59BF-4CB7-B215-38C9ECCE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29D4E-0476-4FBC-8EBE-89C08EAA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75945-2F53-42F2-A71F-E5F8A5E4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CD4DC-3A4F-473B-A32C-F840ACC0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9FC2A-897A-4BFF-AB26-79E93FFE3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C7E01-CE71-462D-A676-715227026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51F3F4-80D4-4367-A4DA-539422F60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84AC91-73B5-49B8-9757-A1D2CA5E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017CD3-0D39-4F36-90B6-71229FC2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3C4C-8FAE-4C6B-8BFB-77E8A94AD0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B3F2-A52D-41FE-9BC5-92CF73E5E8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C587-DCEC-4A51-9ADB-0667F101AC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325B-BC5B-4950-86BF-4A09C2B80A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D418-F707-48B1-8F81-4D23D041B2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C2D1-A718-45DA-9A2F-DD01338A25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2259-98E9-4059-AEBB-60DAC5523C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2522-0E26-4CF7-AFA8-9412251171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EE21-9621-42A9-849D-491BCE4758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3084-6258-4993-B72E-1099C37312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58EC-209F-46DE-BF7D-3A4466DBB5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5E2A-0C63-4ECD-A5FD-71695277BE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Рисунок 3" descr=""/>
          <p:cNvPicPr/>
          <p:nvPr/>
        </p:nvPicPr>
        <p:blipFill>
          <a:blip r:embed="rId1"/>
          <a:stretch/>
        </p:blipFill>
        <p:spPr>
          <a:xfrm>
            <a:off x="1076400" y="1714680"/>
            <a:ext cx="7364160" cy="158580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14200" y="1188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Кривецька ЗОШ І-ІІ ступен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4" name="Рисунок 4" descr=""/>
          <p:cNvPicPr/>
          <p:nvPr/>
        </p:nvPicPr>
        <p:blipFill>
          <a:blip r:embed="rId2"/>
          <a:stretch/>
        </p:blipFill>
        <p:spPr>
          <a:xfrm>
            <a:off x="900000" y="3478320"/>
            <a:ext cx="1560600" cy="56016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900000" y="52214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98989"/>
                </a:solidFill>
                <a:latin typeface="Calibri"/>
              </a:rPr>
              <a:t>Вчитель: Горкун Станіслав Степ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6" name="Прямоугольник 5" descr=""/>
          <p:cNvPicPr/>
          <p:nvPr/>
        </p:nvPicPr>
        <p:blipFill>
          <a:blip r:embed="rId3"/>
          <a:stretch/>
        </p:blipFill>
        <p:spPr>
          <a:xfrm>
            <a:off x="2627280" y="3303720"/>
            <a:ext cx="457200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9640" y="65736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іло, розмірами якого в умовах даного завдання можна знехтувати, називають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матеріальною точкою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6" name="Group 15"/>
          <p:cNvGrpSpPr/>
          <p:nvPr/>
        </p:nvGrpSpPr>
        <p:grpSpPr>
          <a:xfrm>
            <a:off x="431640" y="2276640"/>
            <a:ext cx="8425080" cy="2889000"/>
            <a:chOff x="431640" y="2276640"/>
            <a:chExt cx="8425080" cy="2889000"/>
          </a:xfrm>
        </p:grpSpPr>
        <p:pic>
          <p:nvPicPr>
            <p:cNvPr id="527" name="Picture 5" descr=""/>
            <p:cNvPicPr/>
            <p:nvPr/>
          </p:nvPicPr>
          <p:blipFill>
            <a:blip r:embed="rId1"/>
            <a:stretch/>
          </p:blipFill>
          <p:spPr>
            <a:xfrm>
              <a:off x="431640" y="2276640"/>
              <a:ext cx="4211640" cy="28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Picture 4" descr=""/>
            <p:cNvPicPr/>
            <p:nvPr/>
          </p:nvPicPr>
          <p:blipFill>
            <a:blip r:embed="rId2"/>
            <a:stretch/>
          </p:blipFill>
          <p:spPr>
            <a:xfrm>
              <a:off x="4762440" y="2276640"/>
              <a:ext cx="4094280" cy="2877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879280" y="657000"/>
            <a:ext cx="3274920" cy="61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итан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820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99"/>
                </a:solidFill>
                <a:latin typeface="Arial"/>
              </a:rPr>
              <a:t>1. </a:t>
            </a:r>
            <a:r>
              <a:rPr b="0" i="1" lang="ru-RU" sz="2400" spc="-1" strike="noStrike">
                <a:solidFill>
                  <a:srgbClr val="cc0099"/>
                </a:solidFill>
                <a:latin typeface="Calibri"/>
              </a:rPr>
              <a:t>Чим тіла, що рухаються, відрізняються від нерухомих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99"/>
                </a:solidFill>
                <a:latin typeface="Arial"/>
              </a:rPr>
              <a:t>2. </a:t>
            </a:r>
            <a:r>
              <a:rPr b="0" i="1" lang="ru-RU" sz="2400" spc="-1" strike="noStrike">
                <a:solidFill>
                  <a:srgbClr val="cc0099"/>
                </a:solidFill>
                <a:latin typeface="Calibri"/>
              </a:rPr>
              <a:t> Для чого вибирають тіло відлік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99"/>
                </a:solidFill>
                <a:latin typeface="Arial"/>
              </a:rPr>
              <a:t>3. </a:t>
            </a:r>
            <a:r>
              <a:rPr b="0" i="1" lang="ru-RU" sz="2400" spc="-1" strike="noStrike">
                <a:solidFill>
                  <a:srgbClr val="cc0099"/>
                </a:solidFill>
                <a:latin typeface="Calibri"/>
              </a:rPr>
              <a:t> Як впливає вибір тіла відліку на опис механічного рух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99"/>
                </a:solidFill>
                <a:latin typeface="Arial"/>
              </a:rPr>
              <a:t>4. </a:t>
            </a:r>
            <a:r>
              <a:rPr b="0" i="1" lang="ru-RU" sz="2400" spc="-1" strike="noStrike">
                <a:solidFill>
                  <a:srgbClr val="cc0099"/>
                </a:solidFill>
                <a:latin typeface="Calibri"/>
              </a:rPr>
              <a:t> Чому не можна описати рух, не вказуючи час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99"/>
                </a:solidFill>
                <a:latin typeface="Arial"/>
              </a:rPr>
              <a:t>5. </a:t>
            </a:r>
            <a:r>
              <a:rPr b="0" i="1" lang="ru-RU" sz="2400" spc="-1" strike="noStrike">
                <a:solidFill>
                  <a:srgbClr val="cc0099"/>
                </a:solidFill>
                <a:latin typeface="Calibri"/>
              </a:rPr>
              <a:t> Наведіть приклади прямолінійного й криволінійного рухі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99"/>
                </a:solidFill>
                <a:latin typeface="Arial"/>
              </a:rPr>
              <a:t>6. </a:t>
            </a:r>
            <a:r>
              <a:rPr b="0" i="1" lang="ru-RU" sz="2400" spc="-1" strike="noStrike">
                <a:solidFill>
                  <a:srgbClr val="cc0099"/>
                </a:solidFill>
                <a:latin typeface="Calibri"/>
              </a:rPr>
              <a:t> Які прилади використовуються для вимірювання шлях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800360" y="441000"/>
            <a:ext cx="5184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вдан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503280" y="1482120"/>
            <a:ext cx="565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  <a:ea typeface="Calibri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За заданою траєкторією руху тіла знайдіть його переміщення, якщо початкова точка траєкторії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, а кінцева —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. Завдання розв’яжіть графіч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4" descr="Страницы из Все уроки физики 8 кл для печати"/>
          <p:cNvPicPr/>
          <p:nvPr/>
        </p:nvPicPr>
        <p:blipFill>
          <a:blip r:embed="rId1"/>
          <a:stretch/>
        </p:blipFill>
        <p:spPr>
          <a:xfrm>
            <a:off x="6300720" y="1349280"/>
            <a:ext cx="2519280" cy="1755720"/>
          </a:xfrm>
          <a:prstGeom prst="rect">
            <a:avLst/>
          </a:prstGeom>
          <a:ln w="0">
            <a:noFill/>
          </a:ln>
        </p:spPr>
      </p:pic>
      <p:sp>
        <p:nvSpPr>
          <p:cNvPr id="534" name="Rectangle 6"/>
          <p:cNvSpPr/>
          <p:nvPr/>
        </p:nvSpPr>
        <p:spPr>
          <a:xfrm>
            <a:off x="539640" y="3407040"/>
            <a:ext cx="838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Дівчинка проходить шлях від будинку до школи 250 м, а до музичного театру в тому ж напрямк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670 м. Який шлях проходить дівчинка до музичного театру, якщо вона йде не з будинку, а прямо зі шко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акресліть траєкторію руху, за якого шлях перевищує модуль переміщення в 3 раз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24000" y="512640"/>
            <a:ext cx="316548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мірку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539640" y="1628280"/>
            <a:ext cx="8353440" cy="29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ведіть два-три приклади тіл, відносно яких перебуває у стані спокою й відносно яких рухається земна кул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ведіть приклади руху, коли траєкторія тіла, що рухається, невиди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и їдете в школу в автобусі. Назвіть тіла, відносно яких ви перебуваєте в стані спокою, а відносно яких — рухаєте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7840" y="620280"/>
            <a:ext cx="770580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машнє завдання-1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§ 1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Зб-1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ів1 — № 1.1, 1.4, 1.9, 1.16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ів2 — № 1.18, 1.21, 1.24, 1.29, 1.33, 1.34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ів3 — № 1.36, 1.42, 1.43, 1.46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Picture 4" descr="дз"/>
          <p:cNvPicPr/>
          <p:nvPr/>
        </p:nvPicPr>
        <p:blipFill>
          <a:blip r:embed="rId1"/>
          <a:stretch/>
        </p:blipFill>
        <p:spPr>
          <a:xfrm>
            <a:off x="6588000" y="189000"/>
            <a:ext cx="237168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26560" y="404280"/>
            <a:ext cx="74502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вдання для самостійної робо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719280" y="1413000"/>
            <a:ext cx="792144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Початковий рівен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иберіть правильну відповід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99"/>
                </a:solidFill>
                <a:latin typeface="Calibri"/>
              </a:rPr>
              <a:t>Лінію, що описує тіло під час руху, називають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А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ямою лініє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Б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йденим шляхо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В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аєкторіє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иберіть правильну відповід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99"/>
                </a:solidFill>
                <a:latin typeface="Calibri"/>
              </a:rPr>
              <a:t>Довжину траєкторії, по якій рухається тіло протягом деякого проміжку часу, називають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йденим шляхо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Б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ямою лініє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видкіст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24000" y="512640"/>
            <a:ext cx="842472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Середній рівень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оли говорять про швидкість автомобіля або поїзда, тіло відліку звичайно не вказують. Що мають на увазі в цьому випадку під тілом відліку? Чому ви так вважаєте?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Чи залежить форма траєкторії від вибору тіла відліку? Наведіть приклади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Достатній рівень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Два автомобілі рухаються по прямолінійному шосе так, що певний час відстань між ними не змінюється. Укажіть, відносно яких тіл протягом цього часу кожний з них перебуває в спокої й відносно яких тіл вони рухаються.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Рухаються чи перебувають у спокої відносно одне одного пасажири метро, що знаходяться на двох ескалаторах, які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рухаються в одному напрямку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рухаються в різних напрямках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31640" y="333000"/>
            <a:ext cx="8460000" cy="49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Високий рівень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портсмен пропливає водяну доріжку в басейні 4 рази. Визначте шлях і модуль переміщення спортсмена, якщо довжина доріжки в басейні 50 м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Автомобіль робить поворот ліворуч по дузі окружності радіусом 30 м. Намалюйте двома різними кольорами траєкторію лівого і правого передніх коліс при такому русі (розміром самих коліс знехтувати). Яке колесо пройшло більший шлях? Наскільки більший? Відстань між передніми колесами дорівнює 2 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457200" y="476280"/>
            <a:ext cx="83628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жерел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 Усі уроки фізики. 8 клас./ Кирик Л. А.— Х.: Вид. група «Основа», 2008.— 352 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Сайт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geoknigi.com, tepka.r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Заголовок 1" descr=""/>
          <p:cNvPicPr/>
          <p:nvPr/>
        </p:nvPicPr>
        <p:blipFill>
          <a:blip r:embed="rId1"/>
          <a:stretch/>
        </p:blipFill>
        <p:spPr>
          <a:xfrm>
            <a:off x="493560" y="1017720"/>
            <a:ext cx="8229600" cy="2523960"/>
          </a:xfrm>
          <a:prstGeom prst="rect">
            <a:avLst/>
          </a:prstGeom>
          <a:ln w="0">
            <a:noFill/>
          </a:ln>
        </p:spPr>
      </p:pic>
      <p:pic>
        <p:nvPicPr>
          <p:cNvPr id="498" name="Объект 2" descr=""/>
          <p:cNvPicPr/>
          <p:nvPr/>
        </p:nvPicPr>
        <p:blipFill>
          <a:blip r:embed="rId2"/>
          <a:stretch/>
        </p:blipFill>
        <p:spPr>
          <a:xfrm>
            <a:off x="3133800" y="4078440"/>
            <a:ext cx="82296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698328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Механічний ру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144000" y="5976720"/>
            <a:ext cx="8820360" cy="9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1" name="Picture 7" descr=""/>
          <p:cNvPicPr/>
          <p:nvPr/>
        </p:nvPicPr>
        <p:blipFill>
          <a:blip r:embed="rId1"/>
          <a:stretch/>
        </p:blipFill>
        <p:spPr>
          <a:xfrm>
            <a:off x="144360" y="1197000"/>
            <a:ext cx="882036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634920" y="1412640"/>
            <a:ext cx="4645080" cy="15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Механічним рухо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зивають зміну з часом положення тіла в просторі відносно інших те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3" name="Picture 8" descr=""/>
          <p:cNvPicPr/>
          <p:nvPr/>
        </p:nvPicPr>
        <p:blipFill>
          <a:blip r:embed="rId1"/>
          <a:stretch/>
        </p:blipFill>
        <p:spPr>
          <a:xfrm>
            <a:off x="324000" y="297000"/>
            <a:ext cx="2771640" cy="20523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7" descr=""/>
          <p:cNvPicPr/>
          <p:nvPr/>
        </p:nvPicPr>
        <p:blipFill>
          <a:blip r:embed="rId2"/>
          <a:stretch/>
        </p:blipFill>
        <p:spPr>
          <a:xfrm>
            <a:off x="324000" y="2349360"/>
            <a:ext cx="2771640" cy="20876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6" descr=""/>
          <p:cNvPicPr/>
          <p:nvPr/>
        </p:nvPicPr>
        <p:blipFill>
          <a:blip r:embed="rId3"/>
          <a:stretch/>
        </p:blipFill>
        <p:spPr>
          <a:xfrm>
            <a:off x="324000" y="4437000"/>
            <a:ext cx="2771640" cy="21639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5" descr=""/>
          <p:cNvPicPr/>
          <p:nvPr/>
        </p:nvPicPr>
        <p:blipFill>
          <a:blip r:embed="rId4"/>
          <a:stretch/>
        </p:blipFill>
        <p:spPr>
          <a:xfrm>
            <a:off x="3095640" y="4473720"/>
            <a:ext cx="2916360" cy="21240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" descr=""/>
          <p:cNvPicPr/>
          <p:nvPr/>
        </p:nvPicPr>
        <p:blipFill>
          <a:blip r:embed="rId5"/>
          <a:stretch/>
        </p:blipFill>
        <p:spPr>
          <a:xfrm>
            <a:off x="6012000" y="4473720"/>
            <a:ext cx="2808000" cy="21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Приклади руху в природ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9" name="Объект 3" descr=""/>
          <p:cNvPicPr/>
          <p:nvPr/>
        </p:nvPicPr>
        <p:blipFill>
          <a:blip r:embed="rId1"/>
          <a:stretch/>
        </p:blipFill>
        <p:spPr>
          <a:xfrm>
            <a:off x="484200" y="3716280"/>
            <a:ext cx="8175600" cy="2232000"/>
          </a:xfrm>
          <a:prstGeom prst="rect">
            <a:avLst/>
          </a:prstGeom>
          <a:ln w="0">
            <a:noFill/>
          </a:ln>
        </p:spPr>
      </p:pic>
      <p:pic>
        <p:nvPicPr>
          <p:cNvPr id="510" name="Рисунок 4" descr=""/>
          <p:cNvPicPr/>
          <p:nvPr/>
        </p:nvPicPr>
        <p:blipFill>
          <a:blip r:embed="rId2"/>
          <a:stretch/>
        </p:blipFill>
        <p:spPr>
          <a:xfrm>
            <a:off x="4211640" y="1881360"/>
            <a:ext cx="4603680" cy="1834920"/>
          </a:xfrm>
          <a:prstGeom prst="rect">
            <a:avLst/>
          </a:prstGeom>
          <a:ln w="0">
            <a:noFill/>
          </a:ln>
        </p:spPr>
      </p:pic>
      <p:pic>
        <p:nvPicPr>
          <p:cNvPr id="511" name="Рисунок 5" descr=""/>
          <p:cNvPicPr/>
          <p:nvPr/>
        </p:nvPicPr>
        <p:blipFill>
          <a:blip r:embed="rId3"/>
          <a:stretch/>
        </p:blipFill>
        <p:spPr>
          <a:xfrm>
            <a:off x="320760" y="1628640"/>
            <a:ext cx="3566880" cy="29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195640" y="333360"/>
            <a:ext cx="48607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ідносність рух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3" name="Group 17"/>
          <p:cNvGrpSpPr/>
          <p:nvPr/>
        </p:nvGrpSpPr>
        <p:grpSpPr>
          <a:xfrm>
            <a:off x="1008000" y="1125360"/>
            <a:ext cx="7236000" cy="5351760"/>
            <a:chOff x="1008000" y="1125360"/>
            <a:chExt cx="7236000" cy="5351760"/>
          </a:xfrm>
        </p:grpSpPr>
        <p:pic>
          <p:nvPicPr>
            <p:cNvPr id="514" name="Picture 6" descr=""/>
            <p:cNvPicPr/>
            <p:nvPr/>
          </p:nvPicPr>
          <p:blipFill>
            <a:blip r:embed="rId1"/>
            <a:stretch/>
          </p:blipFill>
          <p:spPr>
            <a:xfrm>
              <a:off x="1008000" y="1144440"/>
              <a:ext cx="3324240" cy="22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Picture 5" descr=""/>
            <p:cNvPicPr/>
            <p:nvPr/>
          </p:nvPicPr>
          <p:blipFill>
            <a:blip r:embed="rId2"/>
            <a:stretch/>
          </p:blipFill>
          <p:spPr>
            <a:xfrm>
              <a:off x="4859280" y="1125360"/>
              <a:ext cx="334800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Picture 4" descr=""/>
            <p:cNvPicPr/>
            <p:nvPr/>
          </p:nvPicPr>
          <p:blipFill>
            <a:blip r:embed="rId3"/>
            <a:stretch/>
          </p:blipFill>
          <p:spPr>
            <a:xfrm>
              <a:off x="1008000" y="3484440"/>
              <a:ext cx="7236000" cy="2992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0920" y="2168640"/>
            <a:ext cx="3960720" cy="18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інію, уздовж якого рухається тіло, називають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траєкторією руху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і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8" name="Group 11"/>
          <p:cNvGrpSpPr/>
          <p:nvPr/>
        </p:nvGrpSpPr>
        <p:grpSpPr>
          <a:xfrm>
            <a:off x="4284720" y="368280"/>
            <a:ext cx="4535280" cy="5726160"/>
            <a:chOff x="4284720" y="368280"/>
            <a:chExt cx="4535280" cy="5726160"/>
          </a:xfrm>
        </p:grpSpPr>
        <p:pic>
          <p:nvPicPr>
            <p:cNvPr id="519" name="Picture 5" descr=""/>
            <p:cNvPicPr/>
            <p:nvPr/>
          </p:nvPicPr>
          <p:blipFill>
            <a:blip r:embed="rId1"/>
            <a:stretch/>
          </p:blipFill>
          <p:spPr>
            <a:xfrm>
              <a:off x="4284720" y="368280"/>
              <a:ext cx="4535280" cy="241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0" name="Picture 4" descr=""/>
            <p:cNvPicPr/>
            <p:nvPr/>
          </p:nvPicPr>
          <p:blipFill>
            <a:blip r:embed="rId2"/>
            <a:stretch/>
          </p:blipFill>
          <p:spPr>
            <a:xfrm>
              <a:off x="4284720" y="2914560"/>
              <a:ext cx="4535280" cy="3179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вжину траєкторії називають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шляхо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пройденим тіл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Picture 4" descr=""/>
          <p:cNvPicPr/>
          <p:nvPr/>
        </p:nvPicPr>
        <p:blipFill>
          <a:blip r:embed="rId1"/>
          <a:stretch/>
        </p:blipFill>
        <p:spPr>
          <a:xfrm>
            <a:off x="2808360" y="2384280"/>
            <a:ext cx="35272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55640" y="44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ереміщенням тіл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зивають спрямований відрізок, проведений з початкового положення тіла в його положення в даний момент часу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4" name="Рисунок 1" descr=""/>
          <p:cNvPicPr/>
          <p:nvPr/>
        </p:nvPicPr>
        <p:blipFill>
          <a:blip r:embed="rId1"/>
          <a:stretch/>
        </p:blipFill>
        <p:spPr>
          <a:xfrm>
            <a:off x="1403280" y="1911240"/>
            <a:ext cx="468144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3-07T07:52:30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014000000000001024140</vt:lpwstr>
  </property>
  <property fmtid="{D5CDD505-2E9C-101B-9397-08002B2CF9AE}" pid="3" name="PPT_Export_sFileName">
    <vt:lpwstr>D:\Физика 8 класс\Урок 01 Механическое движение\P-Урок 01 Механическое движение.Ppt</vt:lpwstr>
  </property>
</Properties>
</file>