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257-B0BC-4043-A335-72DF5C1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8CF-18F0-456C-84E1-21E98AB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D87F-E4BA-4050-8134-6CDA7BA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0C4B9-BDD2-423C-90B8-1F05ABB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0F998-5EEE-412F-9F52-C330772F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F22BC-C8A0-40D5-87C7-808EADC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224BD-14E7-4C8E-9F22-D151CC7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B0F8-5F43-4F73-A763-1024321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42A3C-24C6-4F0B-8AE5-E0846A0F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021DD-3CA0-40BA-8B2D-D8488586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6A821-4A5C-4472-8A9E-AD97B947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F1480-809D-471B-AC8B-2F6304D5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278-FB0B-42C8-B1AF-2EE8A357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CEB82-B52B-422E-AE90-D6AC12A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2138-B161-472C-ACA3-9934D1D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D898B-6EC6-444A-97F0-495F141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A5737-3BC4-4FD6-BCEA-641055F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FFF62-751F-41D2-806E-E77AD86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5F03A-A7A2-4E74-B960-4F764402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6C6F9-DA53-4541-A1AC-C0D702D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30D4F-B91D-437F-9A2A-AC6A035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836D7-1702-46A0-9091-B038248E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BBC98-16BD-43E5-B7A3-2BEADF0A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5DB-4AD3-4EA1-A044-246A5ACD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CBA77-396A-40B7-A5F3-F67B7277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29D94-A55D-4CD2-89CF-7D3F778E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14353-E292-4303-8813-D6CE80A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6ADB3-8D6F-4431-8F12-4FB90C4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5AEEF-9DFC-4808-A170-8E0183F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D9D86-56DB-4C1A-8470-F31D00F5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1464-CA37-4952-AE39-A71FB248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EBCFF-06E5-4C38-B675-9B77CBD8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7F623-9DFC-4910-80AF-5A172AD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3EBF-FB6E-445C-BCAA-C3C8161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8659-91F7-4CE6-8FC6-42C2E80B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2BDC9-CB4C-4896-9FE0-400CA93A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89167-9FE8-4EFE-9DA6-DDACABAE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AECB2-D41F-4E0A-8D58-FE5065FF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0F1D7-45A4-4851-A1C3-294C1655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75F4A-A105-4249-A79A-D50CF235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EA034-D384-415F-8557-95C09DC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C210E-238F-4BA9-8837-3388D8E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3F480-9CC0-4E2E-9DAA-714ACA7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1B0F7-F4A0-4B96-A29D-C8ECD74C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EA398-0AD6-407C-9DE2-EACEA5F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F5D1-5B92-41DC-91DE-C0256A7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A7199-A9F4-4F89-8AFA-C794A27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2F94E-0B2F-434B-BEA7-012DF03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8AD80-80E6-4E34-9FCD-DF5C04CE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6FA3-9653-49C8-8EA9-34CC08FB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D8091-94EE-42D6-B4C9-F46D9C16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8D73-9036-4466-8637-241C78D9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E59-4A34-4EB6-A456-B3BB94F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D968-3114-45E7-8E95-868A6728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6981-31C3-4B4D-A9CB-C1DDECE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1699-183F-493E-9B44-E1E3C80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058-D349-4681-B14C-1A6CE4A6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5700-DA45-45F7-A079-206D9AB7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54CB-D669-4A71-A21B-2C9E185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70B0-610E-4DEB-B32A-2EF0CEDC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7385-8869-4963-97EF-0A021F93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87BA-0657-4174-A1F6-2C4517E7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E78D-909B-4C8B-8B26-314445B7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87EE-4B7E-4EAF-991F-7413D3A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D437-B597-4B2B-89AB-A676C0DF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93BB-D01C-4389-A8F1-1325C3F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DF38-E4D0-4BB3-926A-F699018F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F17-5D1A-4605-A76B-8CF551F9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874A-C7D3-4267-8275-E478860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F3E4-D25D-4C5C-90C1-F615736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B97B-24D7-4593-B9D1-7A54B16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4709-38E4-4D47-B914-7BEC1DD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9CE2-01EA-44D9-BD14-3F47F76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6096-A5D8-4E6C-8F7C-AD1621F7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8347-866E-4E37-8460-E0D56998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720B-A836-4BA9-84D8-3D454A93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19CD3-F669-4916-9DE6-DDF5C307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83BB-9870-43C1-AEF7-026A22F4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E43-6B41-4F09-BADA-9FDC52C5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7DF3-1BD4-46FB-8900-A28FA37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3ABA-A301-4F9F-B03E-A5B6351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1743-3513-44CF-A05F-33B373B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32D3-AD39-4571-B675-75AD3CA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2347-8E3B-4C21-A3FF-197A3D8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A1ABC-0F18-4E0B-8F45-BE37F8D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A9FD-3035-41F3-8833-6352E5D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F212-A84C-443E-AEBB-FBE5D85E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4805-9A79-456F-A428-2D4F13A9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4902-D2CF-44AA-8482-2A471AA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720-19AB-4ECF-A250-4DF5378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03A9-9E7D-4C83-8934-4ADFDE5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9DFE-71FC-4C3B-9A8B-510D3945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BBC5-E8B1-4A23-B802-16C1454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7791-FFE2-4A22-8BE1-3EE6E4F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74A5-7DD4-4BCB-933E-92610BA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A51A-98C9-4957-A91F-04DEABB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C70A-EA6A-4E6F-B267-E719788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4FAD-E031-4841-8132-42217B7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1416-7B51-4215-8722-A7EDFAA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8659-34BC-4DD4-9332-71005EF3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077-385F-4AD7-9029-F5CFC47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0F74-E219-4226-A1E4-16B95CD9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A2D0A-B56A-4084-BF32-DDD270C5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24471-228C-4A35-978C-6B128AF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0D3E9-EE50-46BD-99C0-BCC167C4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5BD5-2A29-4A97-AD85-C748B33B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30D7F-50A8-4110-B62E-3BF7CDD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3E3E-C97C-4D7A-88C8-5D3DDA95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7B1C6-9C6E-467A-BE08-A88B0FB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E0AA-C60B-4C66-B421-F6F668E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1B862-1237-4947-A5BD-254A565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209-6270-4C02-864C-DC76734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1496-E505-412E-9397-D6C0CA20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6893-58C6-43D9-9801-C1E3B245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4F32-5AF3-40A7-945C-BA251878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31FBF-1B1B-4667-ACA3-A00C3F98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DE5D6-39EA-4647-BBF6-FEAE712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0D5A3-A50F-4387-8246-59F7A8A8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FDF1-90CF-4C67-93D4-FD7008A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3349F-E558-4C22-8F04-03ACA0E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AF36-1B2A-4B84-8C2C-86E3370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01C9-FF01-4CFE-BBD9-E8D6A52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75D-FB23-44D3-8319-E1F56E7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9E9E-F804-49D3-8958-5D96962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CC11-839A-4C71-9B73-5605014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E9D03-84B2-4025-AE05-2318CBE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0CB1-6CBA-4C4E-A21A-C20AE9E7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46CA9-A4B8-4DD6-AF26-24D0F668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D4956-BD53-46B3-81D7-3D86C797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EE7D7-BCC1-4A11-A48D-FB1AFEB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5B06-4288-4F6F-BD81-2A699B51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5037D-31C7-4871-821F-0CBF622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2AE1E-0668-46B7-A09A-26A17D0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69C-AFAC-4F67-9DEC-139BCD4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07E6-9EEB-413F-BBAC-84B8D99A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0E4C-087F-4CC2-A0F5-FDFE1392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3640-BF9C-490F-A24E-A552689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E1F3-7529-44BD-A082-DBFD234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81BB3-F34D-4CD4-9FA5-2D93EF9A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6EF0B-D68E-4722-962E-54C44D14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B1EF-6E1D-4F59-B245-EC9F3E12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DE1D6-4DDA-48C9-854F-3C852D9A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4F3CC-E958-4187-B57F-084B1F84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E5180-F94D-4934-8191-6E48945B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EC1-1BAB-4E2D-8D6D-63A0E2E47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D0F-5F23-4A7B-B8DE-660D29967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EA71-5B8B-4A7A-AABD-137271B7C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7CEB-9C28-419A-96BC-EB7FB0DA7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B4D4-973F-4AAD-BDAB-A1D05B692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59F-CEE6-4423-BD1B-4631AF31C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509E-AAFB-4069-B04D-5A4409CD9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D8B-BF74-48E1-BFD8-312FDA9AD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153-3F96-42EB-A1C5-630603DD9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F0E7-EA41-4036-8624-9F3A0B12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EF8-3F3E-4661-BFAA-CDE908D93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CDE2-07B0-439E-BCCD-CAFFFA57E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"/>
          <p:cNvPicPr/>
          <p:nvPr/>
        </p:nvPicPr>
        <p:blipFill>
          <a:blip r:embed="rId1"/>
          <a:stretch/>
        </p:blipFill>
        <p:spPr>
          <a:xfrm>
            <a:off x="1076400" y="1714680"/>
            <a:ext cx="7364160" cy="1585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4200" y="11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ивецька ЗОШ І-ІІ ступен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4" descr=""/>
          <p:cNvPicPr/>
          <p:nvPr/>
        </p:nvPicPr>
        <p:blipFill>
          <a:blip r:embed="rId2"/>
          <a:stretch/>
        </p:blipFill>
        <p:spPr>
          <a:xfrm>
            <a:off x="900000" y="3478320"/>
            <a:ext cx="1560600" cy="560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00000" y="5221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: Горкун Станіслав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Прямоугольник 5" descr=""/>
          <p:cNvPicPr/>
          <p:nvPr/>
        </p:nvPicPr>
        <p:blipFill>
          <a:blip r:embed="rId3"/>
          <a:stretch/>
        </p:blipFill>
        <p:spPr>
          <a:xfrm>
            <a:off x="2627280" y="3303720"/>
            <a:ext cx="4572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65736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о, розмірами якого в умовах даного завдання можна знехтувати, називають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атеріальною точко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Group 15"/>
          <p:cNvGrpSpPr/>
          <p:nvPr/>
        </p:nvGrpSpPr>
        <p:grpSpPr>
          <a:xfrm>
            <a:off x="431640" y="2276640"/>
            <a:ext cx="8425080" cy="2889000"/>
            <a:chOff x="431640" y="2276640"/>
            <a:chExt cx="8425080" cy="2889000"/>
          </a:xfrm>
        </p:grpSpPr>
        <p:pic>
          <p:nvPicPr>
            <p:cNvPr id="527" name="Picture 5" descr=""/>
            <p:cNvPicPr/>
            <p:nvPr/>
          </p:nvPicPr>
          <p:blipFill>
            <a:blip r:embed="rId1"/>
            <a:stretch/>
          </p:blipFill>
          <p:spPr>
            <a:xfrm>
              <a:off x="431640" y="2276640"/>
              <a:ext cx="421164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" descr=""/>
            <p:cNvPicPr/>
            <p:nvPr/>
          </p:nvPicPr>
          <p:blipFill>
            <a:blip r:embed="rId2"/>
            <a:stretch/>
          </p:blipFill>
          <p:spPr>
            <a:xfrm>
              <a:off x="4762440" y="2276640"/>
              <a:ext cx="4094280" cy="28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79280" y="657000"/>
            <a:ext cx="327492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Чим тіла, що рухаються, відрізняються від нерухоми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Для чого вибирають тіло відлік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 впливає вибір тіла відліку на опис механічного ру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Чому не можна описати рух, не вказуючи час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Наведіть приклади прямолінійного й криволінійного рух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і прилади використовуються для вимірювання шля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00360" y="441000"/>
            <a:ext cx="518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03280" y="1482120"/>
            <a:ext cx="56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За заданою траєкторією руху тіла знайдіть його переміщення, якщо початкова точка траєкторії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а кінцева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 Завдання розв’яжіть графі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Страницы из Все уроки физики 8 кл для печати"/>
          <p:cNvPicPr/>
          <p:nvPr/>
        </p:nvPicPr>
        <p:blipFill>
          <a:blip r:embed="rId1"/>
          <a:stretch/>
        </p:blipFill>
        <p:spPr>
          <a:xfrm>
            <a:off x="6300720" y="1349280"/>
            <a:ext cx="2519280" cy="1755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6"/>
          <p:cNvSpPr/>
          <p:nvPr/>
        </p:nvSpPr>
        <p:spPr>
          <a:xfrm>
            <a:off x="539640" y="3407040"/>
            <a:ext cx="83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івчинка проходить шлях від будинку до школи 250 м, а до музичного театру в тому ж напрям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670 м. Який шлях проходить дівчинка до музичного театру, якщо вона йде не з будинку, а прямо зі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кресліть траєкторію руху, за якого шлях перевищує модуль переміщення в 3 р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24000" y="512640"/>
            <a:ext cx="31654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83534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два-три приклади тіл, відносно яких перебуває у стані спокою й відносно яких рухається земна ку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приклади руху, коли траєкторія тіла, що рухається, неви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 їдете в школу в автобусі. Назвіть тіла, відносно яких ви перебуваєте в стані спокою, а відносно яких — рухаєте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7840" y="620280"/>
            <a:ext cx="7705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-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§ 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Зб-1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1.1, 1.4, 1.9, 1.16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1.18, 1.21, 1.24, 1.29, 1.33, 1.3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1.36, 1.42, 1.43, 1.46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дз"/>
          <p:cNvPicPr/>
          <p:nvPr/>
        </p:nvPicPr>
        <p:blipFill>
          <a:blip r:embed="rId1"/>
          <a:stretch/>
        </p:blipFill>
        <p:spPr>
          <a:xfrm>
            <a:off x="6588000" y="189000"/>
            <a:ext cx="2371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450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для самостій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19280" y="1413000"/>
            <a:ext cx="79214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чатковий рі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Лінію, що описує тіло під час рух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єктор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Довжину траєкторії, по якій рухається тіло протягом деякого проміжку час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видк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512640"/>
            <a:ext cx="84247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ред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ли говорять про швидкість автомобіля або поїзда, тіло відліку звичайно не вказують. Що мають на увазі в цьому випадку під тілом відліку? Чому ви так вважаєте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и залежить форма траєкторії від вибору тіла відліку? Наведіть приклад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стат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ва автомобілі рухаються по прямолінійному шосе так, що певний час відстань між ними не змінюється. Укажіть, відносно яких тіл протягом цього часу кожний з них перебуває в спокої й відносно яких тіл вони рухаютьс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ухаються чи перебувають у спокої відносно одне одного пасажири метро, що знаходяться на двох ескалаторах, які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ухаються в одному напрямк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рухаються в різних напрямка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1640" y="333000"/>
            <a:ext cx="8460000" cy="49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исокий рівень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ртсмен пропливає водяну доріжку в басейні 4 рази. Визначте шлях і модуль переміщення спортсмена, якщо довжина доріжки в басейні 50 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втомобіль робить поворот ліворуч по дузі окружності радіусом 30 м. Намалюйте двома різними кольорами траєкторію лівого і правого передніх коліс при такому русі (розміром самих коліс знехтувати). Яке колесо пройшло більший шлях? Наскільки більший? Відстань між передніми колесами дорівнює 2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47628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 Усі уроки фізики. 8 клас./ Кирик Л. А.— Х.: Вид. група «Основа», 2008.— 352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ай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geoknigi.com, tepka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493560" y="1017720"/>
            <a:ext cx="8229600" cy="2523960"/>
          </a:xfrm>
          <a:prstGeom prst="rect">
            <a:avLst/>
          </a:prstGeom>
          <a:ln w="0">
            <a:noFill/>
          </a:ln>
        </p:spPr>
      </p:pic>
      <p:pic>
        <p:nvPicPr>
          <p:cNvPr id="498" name="Объект 2" descr=""/>
          <p:cNvPicPr/>
          <p:nvPr/>
        </p:nvPicPr>
        <p:blipFill>
          <a:blip r:embed="rId2"/>
          <a:stretch/>
        </p:blipFill>
        <p:spPr>
          <a:xfrm>
            <a:off x="3133800" y="4078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9832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Механічний р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4000" y="5976720"/>
            <a:ext cx="88203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34920" y="1412640"/>
            <a:ext cx="464508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еханічним ру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зміну з часом положення тіла в просторі відносно інших т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2771640" cy="2052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771640" cy="2087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71640" cy="2163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4"/>
          <a:stretch/>
        </p:blipFill>
        <p:spPr>
          <a:xfrm>
            <a:off x="3095640" y="4473720"/>
            <a:ext cx="2916360" cy="2124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5"/>
          <a:stretch/>
        </p:blipFill>
        <p:spPr>
          <a:xfrm>
            <a:off x="6012000" y="4473720"/>
            <a:ext cx="2808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иклади руху в природ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Объект 3" descr=""/>
          <p:cNvPicPr/>
          <p:nvPr/>
        </p:nvPicPr>
        <p:blipFill>
          <a:blip r:embed="rId1"/>
          <a:stretch/>
        </p:blipFill>
        <p:spPr>
          <a:xfrm>
            <a:off x="484200" y="3716280"/>
            <a:ext cx="8175600" cy="22320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4" descr=""/>
          <p:cNvPicPr/>
          <p:nvPr/>
        </p:nvPicPr>
        <p:blipFill>
          <a:blip r:embed="rId2"/>
          <a:stretch/>
        </p:blipFill>
        <p:spPr>
          <a:xfrm>
            <a:off x="4211640" y="1881360"/>
            <a:ext cx="4603680" cy="18349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3"/>
          <a:stretch/>
        </p:blipFill>
        <p:spPr>
          <a:xfrm>
            <a:off x="320760" y="1628640"/>
            <a:ext cx="35668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95640" y="333360"/>
            <a:ext cx="4860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ідносність ру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Group 17"/>
          <p:cNvGrpSpPr/>
          <p:nvPr/>
        </p:nvGrpSpPr>
        <p:grpSpPr>
          <a:xfrm>
            <a:off x="1008000" y="1125360"/>
            <a:ext cx="7236000" cy="5351760"/>
            <a:chOff x="1008000" y="1125360"/>
            <a:chExt cx="7236000" cy="5351760"/>
          </a:xfrm>
        </p:grpSpPr>
        <p:pic>
          <p:nvPicPr>
            <p:cNvPr id="514" name="Picture 6" descr=""/>
            <p:cNvPicPr/>
            <p:nvPr/>
          </p:nvPicPr>
          <p:blipFill>
            <a:blip r:embed="rId1"/>
            <a:stretch/>
          </p:blipFill>
          <p:spPr>
            <a:xfrm>
              <a:off x="1008000" y="1144440"/>
              <a:ext cx="332424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"/>
            <p:cNvPicPr/>
            <p:nvPr/>
          </p:nvPicPr>
          <p:blipFill>
            <a:blip r:embed="rId2"/>
            <a:stretch/>
          </p:blipFill>
          <p:spPr>
            <a:xfrm>
              <a:off x="4859280" y="1125360"/>
              <a:ext cx="3348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3"/>
            <a:stretch/>
          </p:blipFill>
          <p:spPr>
            <a:xfrm>
              <a:off x="1008000" y="3484440"/>
              <a:ext cx="7236000" cy="299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2168640"/>
            <a:ext cx="396072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інію, уздовж якого рухається тіло,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раєкторією рух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Group 11"/>
          <p:cNvGrpSpPr/>
          <p:nvPr/>
        </p:nvGrpSpPr>
        <p:grpSpPr>
          <a:xfrm>
            <a:off x="4284720" y="368280"/>
            <a:ext cx="4535280" cy="5726160"/>
            <a:chOff x="4284720" y="368280"/>
            <a:chExt cx="4535280" cy="5726160"/>
          </a:xfrm>
        </p:grpSpPr>
        <p:pic>
          <p:nvPicPr>
            <p:cNvPr id="519" name="Picture 5" descr=""/>
            <p:cNvPicPr/>
            <p:nvPr/>
          </p:nvPicPr>
          <p:blipFill>
            <a:blip r:embed="rId1"/>
            <a:stretch/>
          </p:blipFill>
          <p:spPr>
            <a:xfrm>
              <a:off x="4284720" y="368280"/>
              <a:ext cx="453528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4" descr=""/>
            <p:cNvPicPr/>
            <p:nvPr/>
          </p:nvPicPr>
          <p:blipFill>
            <a:blip r:embed="rId2"/>
            <a:stretch/>
          </p:blipFill>
          <p:spPr>
            <a:xfrm>
              <a:off x="4284720" y="2914560"/>
              <a:ext cx="4535280" cy="31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вжину траєкторії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шля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йденим ті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2808360" y="2384280"/>
            <a:ext cx="3527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44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ереміщенням ті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спрямований відрізок, проведений з початкового положення тіла в його положення в даний момент час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Рисунок 1" descr=""/>
          <p:cNvPicPr/>
          <p:nvPr/>
        </p:nvPicPr>
        <p:blipFill>
          <a:blip r:embed="rId1"/>
          <a:stretch/>
        </p:blipFill>
        <p:spPr>
          <a:xfrm>
            <a:off x="1403280" y="1911240"/>
            <a:ext cx="4681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7T07:52:3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4000000000001024140</vt:lpwstr>
  </property>
  <property fmtid="{D5CDD505-2E9C-101B-9397-08002B2CF9AE}" pid="3" name="PPT_Export_sFileName">
    <vt:lpwstr>D:\Физика 8 класс\Урок 01 Механическое движение\P-Урок 01 Механическое движение.Ppt</vt:lpwstr>
  </property>
</Properties>
</file>