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5.png" ContentType="image/png"/>
  <Override PartName="/ppt/media/image42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5.jpeg" ContentType="image/jpeg"/>
  <Override PartName="/ppt/media/image29.png" ContentType="image/png"/>
  <Override PartName="/ppt/media/image50.jpeg" ContentType="image/jpeg"/>
  <Override PartName="/ppt/media/image34.png" ContentType="image/png"/>
  <Override PartName="/ppt/media/image12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47.jpeg" ContentType="image/jpeg"/>
  <Override PartName="/ppt/media/image52.jpeg" ContentType="image/jpeg"/>
  <Override PartName="/ppt/media/image33.png" ContentType="image/png"/>
  <Override PartName="/ppt/media/image48.jpeg" ContentType="image/jpeg"/>
  <Override PartName="/ppt/media/image53.jpeg" ContentType="image/jpeg"/>
  <Override PartName="/ppt/media/image54.jpeg" ContentType="image/jpeg"/>
  <Override PartName="/ppt/media/image57.jpeg" ContentType="image/jpeg"/>
  <Override PartName="/ppt/media/image56.png" ContentType="image/png"/>
  <Override PartName="/ppt/media/image58.jpeg" ContentType="image/jpeg"/>
  <Override PartName="/ppt/media/image41.jpeg" ContentType="image/jpeg"/>
  <Override PartName="/ppt/media/image43.jpeg" ContentType="image/jpeg"/>
  <Override PartName="/ppt/media/image35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23.png" ContentType="image/png"/>
  <Override PartName="/ppt/media/image55.jpeg" ContentType="image/jpeg"/>
  <Override PartName="/ppt/media/image9.png" ContentType="image/png"/>
  <Override PartName="/ppt/media/image39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D40B-6A3C-4021-8F46-4F6ED4498C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997B-FCBB-4A59-AC9A-EC1E8988B1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CED-DBF4-4666-865C-A1B57DF4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FFE-94CB-45D3-9FBC-9F8318F4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8BC-01B7-426F-BFE3-F4B68888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9AC-135B-467F-9E2E-B69C668C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D2E-7CAE-4F4D-87FB-E368A304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78B-550E-4EEB-8AE9-FB09A043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1F5-3717-4D55-9B5E-40EF420C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6CB-BEA5-4BEE-BF2C-5580DED7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A31-C742-4AAE-9340-C739DFAE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EC1-4830-4C43-AF86-896D5BDE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D97-E2F1-4129-A0E8-9284CB2C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497-4CC3-4966-995C-CE86FAFA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DE01-8438-442C-8189-D354B23A55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Влияние ЛЭП на здоровье челове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3186000" y="189000"/>
            <a:ext cx="59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Виробництво, передача і використання електричної енерг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348000" y="3716280"/>
            <a:ext cx="57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1645"/>
                </a:solidFill>
                <a:latin typeface="Arial"/>
              </a:rPr>
              <a:t>Мультимедійний супрові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161645"/>
                </a:solidFill>
                <a:latin typeface="Arial"/>
              </a:rPr>
              <a:t>до уроку фізики у 11 клас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1645"/>
                </a:solidFill>
                <a:latin typeface="Arial"/>
              </a:rPr>
              <a:t>Підготувала вчитель Білоцерківської загальноосвітньої школи І-ІІІ ступенів №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1645"/>
                </a:solidFill>
                <a:latin typeface="Arial"/>
              </a:rPr>
              <a:t>Петрик Тетяна Олександрі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560" y="1773000"/>
            <a:ext cx="88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9. ЕРС самоіндукції залежить від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684360" y="350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Індуктивності провідника і швидкості зміни сили струму в нь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книги.gif"/>
          <p:cNvPicPr/>
          <p:nvPr/>
        </p:nvPicPr>
        <p:blipFill>
          <a:blip r:embed="rId2"/>
          <a:stretch/>
        </p:blipFill>
        <p:spPr>
          <a:xfrm>
            <a:off x="7667640" y="18900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1422360"/>
            <a:ext cx="889308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0. Енергія магнітного поля котушки зі струмом пропорційна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84360" y="371628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Індуктивності котушки і квадрату сили струму в н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5" descr="книги.gif"/>
          <p:cNvPicPr/>
          <p:nvPr/>
        </p:nvPicPr>
        <p:blipFill>
          <a:blip r:embed="rId2"/>
          <a:stretch/>
        </p:blipFill>
        <p:spPr>
          <a:xfrm>
            <a:off x="7596360" y="33336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1. Яке явище спостерігається при обертанні рамки?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Обертання рамки зі струмом у магнітному полі.mp4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4319640" cy="3241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6372360" y="2781360"/>
            <a:ext cx="252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Виникнення індукційного стру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5452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483920"/>
            <a:ext cx="88930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2. Пристрій, призначен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ля підвищення або зниження напруги в одній котушці відносно напруги у другій котушці, надіті на замнуте металеве осердя називаєть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284720" y="587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Трансформа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книги.gif"/>
          <p:cNvPicPr/>
          <p:nvPr/>
        </p:nvPicPr>
        <p:blipFill>
          <a:blip r:embed="rId2"/>
          <a:stretch/>
        </p:blipFill>
        <p:spPr>
          <a:xfrm>
            <a:off x="7451640" y="333360"/>
            <a:ext cx="1276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3280" y="2133720"/>
            <a:ext cx="86407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3. Напруга на обох обмотках трансформатора при холостому ходу пропорційн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84360" y="43657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Кількості витків у котуш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книги.gif"/>
          <p:cNvPicPr/>
          <p:nvPr/>
        </p:nvPicPr>
        <p:blipFill>
          <a:blip r:embed="rId2"/>
          <a:stretch/>
        </p:blipFill>
        <p:spPr>
          <a:xfrm>
            <a:off x="7380360" y="33336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74560"/>
            <a:ext cx="822960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Якщо трансформатор підвищує напругу у 10 разів, то сила струму у вторинній обмотці на навантаженні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2916360" y="4581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Зменшиться у 10 раз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книги.gif"/>
          <p:cNvPicPr/>
          <p:nvPr/>
        </p:nvPicPr>
        <p:blipFill>
          <a:blip r:embed="rId2"/>
          <a:stretch/>
        </p:blipFill>
        <p:spPr>
          <a:xfrm>
            <a:off x="7596360" y="33336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24"/>
          <p:cNvSpPr/>
          <p:nvPr/>
        </p:nvSpPr>
        <p:spPr>
          <a:xfrm>
            <a:off x="395280" y="1989000"/>
            <a:ext cx="32400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23"/>
          <p:cNvSpPr/>
          <p:nvPr/>
        </p:nvSpPr>
        <p:spPr>
          <a:xfrm>
            <a:off x="539640" y="3357720"/>
            <a:ext cx="1728720" cy="122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2"/>
          <p:cNvSpPr/>
          <p:nvPr/>
        </p:nvSpPr>
        <p:spPr>
          <a:xfrm>
            <a:off x="3564000" y="2565360"/>
            <a:ext cx="259236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1"/>
          <p:cNvSpPr/>
          <p:nvPr/>
        </p:nvSpPr>
        <p:spPr>
          <a:xfrm>
            <a:off x="5940360" y="4076640"/>
            <a:ext cx="172728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0"/>
          <p:cNvSpPr/>
          <p:nvPr/>
        </p:nvSpPr>
        <p:spPr>
          <a:xfrm>
            <a:off x="2987640" y="4005360"/>
            <a:ext cx="223200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15. Допишіть форму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Ф= В * со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4000" spc="-1" strike="noStrike">
                <a:solidFill>
                  <a:srgbClr val="7030a0"/>
                </a:solidFill>
                <a:latin typeface="Arial"/>
              </a:rPr>
              <a:t>* =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0033"/>
                </a:solidFill>
                <a:latin typeface="Arial"/>
              </a:rPr>
              <a:t>I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4000" spc="-1" strike="noStrike">
                <a:solidFill>
                  <a:srgbClr val="0070c0"/>
                </a:solidFill>
                <a:latin typeface="Arial"/>
              </a:rPr>
              <a:t>W =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l-GR" sz="4800" spc="-1" strike="noStrike">
                <a:solidFill>
                  <a:srgbClr val="00b050"/>
                </a:solidFill>
                <a:latin typeface="Arial"/>
              </a:rPr>
              <a:t>ε</a:t>
            </a:r>
            <a:r>
              <a:rPr b="0" i="1" lang="en-US" sz="4000" spc="-1" strike="noStrike">
                <a:solidFill>
                  <a:srgbClr val="00b050"/>
                </a:solidFill>
                <a:latin typeface="Arial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5364000" y="2589120"/>
            <a:ext cx="592200" cy="984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1403280" y="3500280"/>
            <a:ext cx="432000" cy="865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4211640" y="4149720"/>
            <a:ext cx="504720" cy="7970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0" y="863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0" y="844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"/>
          <p:cNvPicPr/>
          <p:nvPr/>
        </p:nvPicPr>
        <p:blipFill>
          <a:blip r:embed="rId5"/>
          <a:stretch/>
        </p:blipFill>
        <p:spPr>
          <a:xfrm>
            <a:off x="6804000" y="4149720"/>
            <a:ext cx="43200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7"/>
          <p:cNvSpPr/>
          <p:nvPr/>
        </p:nvSpPr>
        <p:spPr>
          <a:xfrm>
            <a:off x="0" y="844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25" descr="книги.gif"/>
          <p:cNvPicPr/>
          <p:nvPr/>
        </p:nvPicPr>
        <p:blipFill>
          <a:blip r:embed="rId6"/>
          <a:stretch/>
        </p:blipFill>
        <p:spPr>
          <a:xfrm>
            <a:off x="7236000" y="404640"/>
            <a:ext cx="127620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Багетная рамка 5"/>
          <p:cNvSpPr/>
          <p:nvPr/>
        </p:nvSpPr>
        <p:spPr>
          <a:xfrm>
            <a:off x="7500960" y="6500880"/>
            <a:ext cx="1643040" cy="3571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468360" y="333360"/>
            <a:ext cx="784872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Виробництво, передача і використання електричної енергі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Картинка 24 из 84000"/>
          <p:cNvPicPr/>
          <p:nvPr/>
        </p:nvPicPr>
        <p:blipFill>
          <a:blip r:embed="rId2"/>
          <a:stretch/>
        </p:blipFill>
        <p:spPr>
          <a:xfrm>
            <a:off x="2556000" y="2852640"/>
            <a:ext cx="4006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Якою була б наша планета і наше життя на ній  якби раптом зникла електрика?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http://os1.i.ua/3/1/4655869_f9550e44.jpg"/>
          <p:cNvPicPr/>
          <p:nvPr/>
        </p:nvPicPr>
        <p:blipFill>
          <a:blip r:embed="rId2"/>
          <a:stretch/>
        </p:blipFill>
        <p:spPr>
          <a:xfrm>
            <a:off x="0" y="4149720"/>
            <a:ext cx="3033720" cy="249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uateka.com/uploads/article/2011/07/18/9e6b6523f50d82d42eaacca19677101e2981a37a.jpg"/>
          <p:cNvPicPr/>
          <p:nvPr/>
        </p:nvPicPr>
        <p:blipFill>
          <a:blip r:embed="rId3"/>
          <a:stretch/>
        </p:blipFill>
        <p:spPr>
          <a:xfrm>
            <a:off x="2627280" y="4005360"/>
            <a:ext cx="4402080" cy="268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ukrajinoznavstvo.org.ua/wp-content/uploads/2012/04/etnografija_podillia.jpg"/>
          <p:cNvPicPr/>
          <p:nvPr/>
        </p:nvPicPr>
        <p:blipFill>
          <a:blip r:embed="rId4"/>
          <a:stretch/>
        </p:blipFill>
        <p:spPr>
          <a:xfrm>
            <a:off x="4859280" y="2781360"/>
            <a:ext cx="4284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Електроенергетика — базова галузь економіки Украї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Вона одна з найстарших у країні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Виробництво електроенергії ґрунтується на спалюванні вугілля, мазуту, природного газу, використанні атомної енергії, енергії рі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агетная рамка 5"/>
          <p:cNvSpPr/>
          <p:nvPr/>
        </p:nvSpPr>
        <p:spPr>
          <a:xfrm>
            <a:off x="7500960" y="6500880"/>
            <a:ext cx="1643040" cy="3571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ts val="42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5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4300" spc="-1" strike="noStrike">
                <a:solidFill>
                  <a:srgbClr val="000000"/>
                </a:solidFill>
                <a:latin typeface="Arial"/>
              </a:rPr>
              <a:t>Явище виникнення електричного струму в замкнутому провіднику, який знаходиться в змінному магнітному полі, називається …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908000" y="47242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Електромагнітною індукціє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Анимация Книги"/>
          <p:cNvPicPr/>
          <p:nvPr/>
        </p:nvPicPr>
        <p:blipFill>
          <a:blip r:embed="rId2"/>
          <a:stretch/>
        </p:blipFill>
        <p:spPr>
          <a:xfrm>
            <a:off x="7236000" y="620640"/>
            <a:ext cx="14857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Rectangle 4"/>
          <p:cNvGrpSpPr/>
          <p:nvPr/>
        </p:nvGrpSpPr>
        <p:grpSpPr>
          <a:xfrm>
            <a:off x="262080" y="12600"/>
            <a:ext cx="7449840" cy="1077840"/>
            <a:chOff x="262080" y="12600"/>
            <a:chExt cx="7449840" cy="1077840"/>
          </a:xfrm>
        </p:grpSpPr>
        <p:pic>
          <p:nvPicPr>
            <p:cNvPr id="139" name="Rectangle 4" descr=""/>
            <p:cNvPicPr/>
            <p:nvPr/>
          </p:nvPicPr>
          <p:blipFill>
            <a:blip r:embed="rId2"/>
            <a:stretch/>
          </p:blipFill>
          <p:spPr>
            <a:xfrm>
              <a:off x="262080" y="12600"/>
              <a:ext cx="744984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43440" y="189000"/>
              <a:ext cx="708732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2060"/>
                  </a:solidFill>
                  <a:latin typeface="Arial"/>
                </a:rPr>
                <a:t>      </a:t>
              </a:r>
              <a:r>
                <a:rPr b="0" lang="ru-RU" sz="4800" spc="-1" strike="noStrike">
                  <a:solidFill>
                    <a:srgbClr val="002060"/>
                  </a:solidFill>
                  <a:latin typeface="Arial"/>
                </a:rPr>
                <a:t>Типи електростанці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Схема 5" descr=""/>
          <p:cNvPicPr/>
          <p:nvPr/>
        </p:nvPicPr>
        <p:blipFill>
          <a:blip r:embed="rId3"/>
          <a:stretch/>
        </p:blipFill>
        <p:spPr>
          <a:xfrm>
            <a:off x="1504800" y="1305000"/>
            <a:ext cx="733428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ая соединительная линия 76"/>
          <p:cNvSpPr/>
          <p:nvPr/>
        </p:nvSpPr>
        <p:spPr>
          <a:xfrm>
            <a:off x="1979640" y="5950080"/>
            <a:ext cx="36036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23"/>
          <p:cNvSpPr/>
          <p:nvPr/>
        </p:nvSpPr>
        <p:spPr>
          <a:xfrm>
            <a:off x="2340000" y="1844640"/>
            <a:ext cx="0" cy="410544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21"/>
          <p:cNvSpPr/>
          <p:nvPr/>
        </p:nvSpPr>
        <p:spPr>
          <a:xfrm>
            <a:off x="5364000" y="1844640"/>
            <a:ext cx="71640" cy="331308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22"/>
          <p:cNvSpPr/>
          <p:nvPr/>
        </p:nvSpPr>
        <p:spPr>
          <a:xfrm flipV="1">
            <a:off x="8675640" y="1844280"/>
            <a:ext cx="0" cy="403236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Rectangle 4"/>
          <p:cNvGrpSpPr/>
          <p:nvPr/>
        </p:nvGrpSpPr>
        <p:grpSpPr>
          <a:xfrm>
            <a:off x="-92160" y="115920"/>
            <a:ext cx="9023400" cy="927000"/>
            <a:chOff x="-92160" y="115920"/>
            <a:chExt cx="9023400" cy="927000"/>
          </a:xfrm>
        </p:grpSpPr>
        <p:pic>
          <p:nvPicPr>
            <p:cNvPr id="147" name="Rectangle 4" descr=""/>
            <p:cNvPicPr/>
            <p:nvPr/>
          </p:nvPicPr>
          <p:blipFill>
            <a:blip r:embed="rId2"/>
            <a:stretch/>
          </p:blipFill>
          <p:spPr>
            <a:xfrm>
              <a:off x="-92160" y="115920"/>
              <a:ext cx="90234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00160" y="260280"/>
              <a:ext cx="85593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2060"/>
                  </a:solidFill>
                  <a:latin typeface="Arial"/>
                </a:rPr>
                <a:t>Загальна схема електроенергетик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TextBox 6"/>
          <p:cNvGrpSpPr/>
          <p:nvPr/>
        </p:nvGrpSpPr>
        <p:grpSpPr>
          <a:xfrm>
            <a:off x="2273400" y="1011240"/>
            <a:ext cx="4870440" cy="768240"/>
            <a:chOff x="2273400" y="1011240"/>
            <a:chExt cx="4870440" cy="768240"/>
          </a:xfrm>
        </p:grpSpPr>
        <p:pic>
          <p:nvPicPr>
            <p:cNvPr id="150" name="TextBox 6" descr=""/>
            <p:cNvPicPr/>
            <p:nvPr/>
          </p:nvPicPr>
          <p:blipFill>
            <a:blip r:embed="rId3"/>
            <a:stretch/>
          </p:blipFill>
          <p:spPr>
            <a:xfrm>
              <a:off x="2273400" y="1011240"/>
              <a:ext cx="48704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484360" y="1125360"/>
              <a:ext cx="4608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Arial"/>
                </a:rPr>
                <a:t>Електроенерге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Скругленный прямоугольник 7"/>
          <p:cNvGrpSpPr/>
          <p:nvPr/>
        </p:nvGrpSpPr>
        <p:grpSpPr>
          <a:xfrm>
            <a:off x="36360" y="1895400"/>
            <a:ext cx="3005280" cy="957240"/>
            <a:chOff x="36360" y="1895400"/>
            <a:chExt cx="3005280" cy="957240"/>
          </a:xfrm>
        </p:grpSpPr>
        <p:pic>
          <p:nvPicPr>
            <p:cNvPr id="153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6360" y="1895400"/>
              <a:ext cx="30052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14200" y="2095560"/>
              <a:ext cx="27385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Виробництво електроенергі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Скругленный прямоугольник 16"/>
          <p:cNvGrpSpPr/>
          <p:nvPr/>
        </p:nvGrpSpPr>
        <p:grpSpPr>
          <a:xfrm>
            <a:off x="2987640" y="1895400"/>
            <a:ext cx="3005280" cy="957240"/>
            <a:chOff x="2987640" y="1895400"/>
            <a:chExt cx="3005280" cy="957240"/>
          </a:xfrm>
        </p:grpSpPr>
        <p:pic>
          <p:nvPicPr>
            <p:cNvPr id="156" name="Скругленный прямоугольник 16" descr=""/>
            <p:cNvPicPr/>
            <p:nvPr/>
          </p:nvPicPr>
          <p:blipFill>
            <a:blip r:embed="rId5"/>
            <a:stretch/>
          </p:blipFill>
          <p:spPr>
            <a:xfrm>
              <a:off x="2987640" y="1895400"/>
              <a:ext cx="30052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166920" y="2095560"/>
              <a:ext cx="27385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Передача електроенергі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Скругленный прямоугольник 17"/>
          <p:cNvGrpSpPr/>
          <p:nvPr/>
        </p:nvGrpSpPr>
        <p:grpSpPr>
          <a:xfrm>
            <a:off x="6010200" y="1895400"/>
            <a:ext cx="3011400" cy="957240"/>
            <a:chOff x="6010200" y="1895400"/>
            <a:chExt cx="3011400" cy="957240"/>
          </a:xfrm>
        </p:grpSpPr>
        <p:pic>
          <p:nvPicPr>
            <p:cNvPr id="159" name="Скругленный 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6010200" y="1895400"/>
              <a:ext cx="30114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191280" y="2095560"/>
              <a:ext cx="27385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Використання електроенергі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ая соединительная линия 19"/>
          <p:cNvSpPr/>
          <p:nvPr/>
        </p:nvSpPr>
        <p:spPr>
          <a:xfrm>
            <a:off x="2340000" y="1844640"/>
            <a:ext cx="633564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Скругленный прямоугольник 38"/>
          <p:cNvGrpSpPr/>
          <p:nvPr/>
        </p:nvGrpSpPr>
        <p:grpSpPr>
          <a:xfrm>
            <a:off x="189000" y="2998800"/>
            <a:ext cx="1773000" cy="646200"/>
            <a:chOff x="189000" y="2998800"/>
            <a:chExt cx="1773000" cy="646200"/>
          </a:xfrm>
        </p:grpSpPr>
        <p:pic>
          <p:nvPicPr>
            <p:cNvPr id="163" name="Скругленный прямоугольник 38" descr=""/>
            <p:cNvPicPr/>
            <p:nvPr/>
          </p:nvPicPr>
          <p:blipFill>
            <a:blip r:embed="rId7"/>
            <a:stretch/>
          </p:blipFill>
          <p:spPr>
            <a:xfrm>
              <a:off x="189000" y="2998800"/>
              <a:ext cx="1773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76120" y="3094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ГЕ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Скругленный прямоугольник 47"/>
          <p:cNvGrpSpPr/>
          <p:nvPr/>
        </p:nvGrpSpPr>
        <p:grpSpPr>
          <a:xfrm>
            <a:off x="189000" y="3718080"/>
            <a:ext cx="1773000" cy="645840"/>
            <a:chOff x="189000" y="3718080"/>
            <a:chExt cx="1773000" cy="645840"/>
          </a:xfrm>
        </p:grpSpPr>
        <p:pic>
          <p:nvPicPr>
            <p:cNvPr id="166" name="Скругленный прямоугольник 47" descr=""/>
            <p:cNvPicPr/>
            <p:nvPr/>
          </p:nvPicPr>
          <p:blipFill>
            <a:blip r:embed="rId8"/>
            <a:stretch/>
          </p:blipFill>
          <p:spPr>
            <a:xfrm>
              <a:off x="189000" y="3718080"/>
              <a:ext cx="17730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74680" y="3813120"/>
              <a:ext cx="1609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ТЕ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Скругленный прямоугольник 48"/>
          <p:cNvGrpSpPr/>
          <p:nvPr/>
        </p:nvGrpSpPr>
        <p:grpSpPr>
          <a:xfrm>
            <a:off x="262080" y="4511520"/>
            <a:ext cx="1699920" cy="646200"/>
            <a:chOff x="262080" y="4511520"/>
            <a:chExt cx="1699920" cy="646200"/>
          </a:xfrm>
        </p:grpSpPr>
        <p:pic>
          <p:nvPicPr>
            <p:cNvPr id="169" name="Скругленный прямоугольник 48" descr=""/>
            <p:cNvPicPr/>
            <p:nvPr/>
          </p:nvPicPr>
          <p:blipFill>
            <a:blip r:embed="rId9"/>
            <a:stretch/>
          </p:blipFill>
          <p:spPr>
            <a:xfrm>
              <a:off x="262080" y="4511520"/>
              <a:ext cx="1699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47760" y="4605480"/>
              <a:ext cx="1536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АЕ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Скругленный прямоугольник 50"/>
          <p:cNvGrpSpPr/>
          <p:nvPr/>
        </p:nvGrpSpPr>
        <p:grpSpPr>
          <a:xfrm>
            <a:off x="2352600" y="2951280"/>
            <a:ext cx="2859120" cy="1412640"/>
            <a:chOff x="2352600" y="2951280"/>
            <a:chExt cx="2859120" cy="1412640"/>
          </a:xfrm>
        </p:grpSpPr>
        <p:pic>
          <p:nvPicPr>
            <p:cNvPr id="172" name="Скругленный прямоугольник 50" descr=""/>
            <p:cNvPicPr/>
            <p:nvPr/>
          </p:nvPicPr>
          <p:blipFill>
            <a:blip r:embed="rId10"/>
            <a:stretch/>
          </p:blipFill>
          <p:spPr>
            <a:xfrm>
              <a:off x="2352600" y="2951280"/>
              <a:ext cx="2859120" cy="14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471760" y="3129120"/>
              <a:ext cx="261612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лінії передач змінного стру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Скругленный прямоугольник 51"/>
          <p:cNvGrpSpPr/>
          <p:nvPr/>
        </p:nvGrpSpPr>
        <p:grpSpPr>
          <a:xfrm>
            <a:off x="5694480" y="5479920"/>
            <a:ext cx="2724120" cy="1116000"/>
            <a:chOff x="5694480" y="5479920"/>
            <a:chExt cx="2724120" cy="1116000"/>
          </a:xfrm>
        </p:grpSpPr>
        <p:pic>
          <p:nvPicPr>
            <p:cNvPr id="175" name="Скругленный прямоугольник 51" descr=""/>
            <p:cNvPicPr/>
            <p:nvPr/>
          </p:nvPicPr>
          <p:blipFill>
            <a:blip r:embed="rId11"/>
            <a:stretch/>
          </p:blipFill>
          <p:spPr>
            <a:xfrm>
              <a:off x="5694480" y="5479920"/>
              <a:ext cx="27241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842080" y="5635800"/>
              <a:ext cx="2428920" cy="84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ts val="29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народне господар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Скругленный прямоугольник 52"/>
          <p:cNvGrpSpPr/>
          <p:nvPr/>
        </p:nvGrpSpPr>
        <p:grpSpPr>
          <a:xfrm>
            <a:off x="5651640" y="4638600"/>
            <a:ext cx="2724120" cy="976320"/>
            <a:chOff x="5651640" y="4638600"/>
            <a:chExt cx="2724120" cy="976320"/>
          </a:xfrm>
        </p:grpSpPr>
        <p:pic>
          <p:nvPicPr>
            <p:cNvPr id="178" name="Скругленный прямоугольник 52" descr=""/>
            <p:cNvPicPr/>
            <p:nvPr/>
          </p:nvPicPr>
          <p:blipFill>
            <a:blip r:embed="rId12"/>
            <a:stretch/>
          </p:blipFill>
          <p:spPr>
            <a:xfrm>
              <a:off x="5651640" y="4638600"/>
              <a:ext cx="27241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759280" y="4832280"/>
              <a:ext cx="25228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сільське господар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Скругленный прямоугольник 53"/>
          <p:cNvGrpSpPr/>
          <p:nvPr/>
        </p:nvGrpSpPr>
        <p:grpSpPr>
          <a:xfrm>
            <a:off x="5589720" y="3938760"/>
            <a:ext cx="2779560" cy="712440"/>
            <a:chOff x="5589720" y="3938760"/>
            <a:chExt cx="2779560" cy="712440"/>
          </a:xfrm>
        </p:grpSpPr>
        <p:pic>
          <p:nvPicPr>
            <p:cNvPr id="181" name="Скругленный прямоугольник 53" descr=""/>
            <p:cNvPicPr/>
            <p:nvPr/>
          </p:nvPicPr>
          <p:blipFill>
            <a:blip r:embed="rId13"/>
            <a:stretch/>
          </p:blipFill>
          <p:spPr>
            <a:xfrm>
              <a:off x="5589720" y="3938760"/>
              <a:ext cx="277956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680080" y="4033800"/>
              <a:ext cx="26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транспор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Скругленный прямоугольник 54"/>
          <p:cNvGrpSpPr/>
          <p:nvPr/>
        </p:nvGrpSpPr>
        <p:grpSpPr>
          <a:xfrm>
            <a:off x="5473800" y="3144960"/>
            <a:ext cx="2938320" cy="720720"/>
            <a:chOff x="5473800" y="3144960"/>
            <a:chExt cx="2938320" cy="720720"/>
          </a:xfrm>
        </p:grpSpPr>
        <p:pic>
          <p:nvPicPr>
            <p:cNvPr id="184" name="Скругленный прямоугольник 54" descr=""/>
            <p:cNvPicPr/>
            <p:nvPr/>
          </p:nvPicPr>
          <p:blipFill>
            <a:blip r:embed="rId14"/>
            <a:stretch/>
          </p:blipFill>
          <p:spPr>
            <a:xfrm>
              <a:off x="5473800" y="3144960"/>
              <a:ext cx="29383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608800" y="3241800"/>
              <a:ext cx="26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промислові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Скругленный прямоугольник 55"/>
          <p:cNvGrpSpPr/>
          <p:nvPr/>
        </p:nvGrpSpPr>
        <p:grpSpPr>
          <a:xfrm>
            <a:off x="2425680" y="4389480"/>
            <a:ext cx="2859120" cy="1414440"/>
            <a:chOff x="2425680" y="4389480"/>
            <a:chExt cx="2859120" cy="1414440"/>
          </a:xfrm>
        </p:grpSpPr>
        <p:pic>
          <p:nvPicPr>
            <p:cNvPr id="187" name="Скругленный прямоугольник 55" descr=""/>
            <p:cNvPicPr/>
            <p:nvPr/>
          </p:nvPicPr>
          <p:blipFill>
            <a:blip r:embed="rId15"/>
            <a:stretch/>
          </p:blipFill>
          <p:spPr>
            <a:xfrm>
              <a:off x="2425680" y="4389480"/>
              <a:ext cx="28591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544840" y="4568760"/>
              <a:ext cx="261468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лінії передач постійного стру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Прямая соединительная линия 56"/>
          <p:cNvSpPr/>
          <p:nvPr/>
        </p:nvSpPr>
        <p:spPr>
          <a:xfrm>
            <a:off x="4716360" y="1700280"/>
            <a:ext cx="0" cy="14436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61"/>
          <p:cNvSpPr/>
          <p:nvPr/>
        </p:nvSpPr>
        <p:spPr>
          <a:xfrm>
            <a:off x="8317080" y="3429000"/>
            <a:ext cx="35856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63"/>
          <p:cNvSpPr/>
          <p:nvPr/>
        </p:nvSpPr>
        <p:spPr>
          <a:xfrm>
            <a:off x="8317080" y="4221000"/>
            <a:ext cx="35856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64"/>
          <p:cNvSpPr/>
          <p:nvPr/>
        </p:nvSpPr>
        <p:spPr>
          <a:xfrm>
            <a:off x="8317080" y="5013360"/>
            <a:ext cx="35856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65"/>
          <p:cNvSpPr/>
          <p:nvPr/>
        </p:nvSpPr>
        <p:spPr>
          <a:xfrm>
            <a:off x="8317080" y="5877000"/>
            <a:ext cx="35856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69"/>
          <p:cNvSpPr/>
          <p:nvPr/>
        </p:nvSpPr>
        <p:spPr>
          <a:xfrm>
            <a:off x="5219640" y="5157720"/>
            <a:ext cx="21600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70"/>
          <p:cNvSpPr/>
          <p:nvPr/>
        </p:nvSpPr>
        <p:spPr>
          <a:xfrm>
            <a:off x="5148360" y="3716280"/>
            <a:ext cx="28728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75"/>
          <p:cNvSpPr/>
          <p:nvPr/>
        </p:nvSpPr>
        <p:spPr>
          <a:xfrm>
            <a:off x="1908000" y="4005360"/>
            <a:ext cx="43200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76"/>
          <p:cNvSpPr/>
          <p:nvPr/>
        </p:nvSpPr>
        <p:spPr>
          <a:xfrm>
            <a:off x="1908000" y="4869000"/>
            <a:ext cx="43200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77"/>
          <p:cNvSpPr/>
          <p:nvPr/>
        </p:nvSpPr>
        <p:spPr>
          <a:xfrm>
            <a:off x="1908000" y="3284640"/>
            <a:ext cx="43200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Скругленный прямоугольник 48"/>
          <p:cNvGrpSpPr/>
          <p:nvPr/>
        </p:nvGrpSpPr>
        <p:grpSpPr>
          <a:xfrm>
            <a:off x="255600" y="5200560"/>
            <a:ext cx="2073240" cy="1468440"/>
            <a:chOff x="255600" y="5200560"/>
            <a:chExt cx="2073240" cy="1468440"/>
          </a:xfrm>
        </p:grpSpPr>
        <p:pic>
          <p:nvPicPr>
            <p:cNvPr id="200" name="Скругленный прямоугольник 48" descr=""/>
            <p:cNvPicPr/>
            <p:nvPr/>
          </p:nvPicPr>
          <p:blipFill>
            <a:blip r:embed="rId16"/>
            <a:stretch/>
          </p:blipFill>
          <p:spPr>
            <a:xfrm>
              <a:off x="255600" y="5200560"/>
              <a:ext cx="207324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7360" y="5364000"/>
              <a:ext cx="18176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Альтер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тивна </a:t>
              </a:r>
              <a:r>
                <a:rPr b="0" lang="uk-UA" sz="2400" spc="-1" strike="noStrike">
                  <a:solidFill>
                    <a:srgbClr val="ffffff"/>
                  </a:solidFill>
                  <a:latin typeface="Arial"/>
                </a:rPr>
                <a:t>енергет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Переваги електричної енерг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Можна передавати по провод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Можна трансформув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Легко перетворюється на інші види енерг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Легко виникає з інших видів енерг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ая соединительная линия 11"/>
          <p:cNvSpPr/>
          <p:nvPr/>
        </p:nvSpPr>
        <p:spPr>
          <a:xfrm>
            <a:off x="1187280" y="3824280"/>
            <a:ext cx="5581800" cy="3636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9"/>
          <p:cNvSpPr/>
          <p:nvPr/>
        </p:nvSpPr>
        <p:spPr>
          <a:xfrm flipV="1">
            <a:off x="1042920" y="3645000"/>
            <a:ext cx="5761080" cy="1584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8560" y="4042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хема передавання електроенерг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1573200" y="2382840"/>
            <a:ext cx="961920" cy="327960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4" descr=""/>
          <p:cNvPicPr/>
          <p:nvPr/>
        </p:nvPicPr>
        <p:blipFill>
          <a:blip r:embed="rId3"/>
          <a:stretch/>
        </p:blipFill>
        <p:spPr>
          <a:xfrm>
            <a:off x="3230640" y="2382840"/>
            <a:ext cx="963360" cy="32796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5" descr=""/>
          <p:cNvPicPr/>
          <p:nvPr/>
        </p:nvPicPr>
        <p:blipFill>
          <a:blip r:embed="rId4"/>
          <a:stretch/>
        </p:blipFill>
        <p:spPr>
          <a:xfrm>
            <a:off x="4883040" y="2382840"/>
            <a:ext cx="968400" cy="327960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" descr=""/>
          <p:cNvPicPr/>
          <p:nvPr/>
        </p:nvPicPr>
        <p:blipFill>
          <a:blip r:embed="rId5"/>
          <a:stretch/>
        </p:blipFill>
        <p:spPr>
          <a:xfrm>
            <a:off x="6613560" y="2382840"/>
            <a:ext cx="963720" cy="3279600"/>
          </a:xfrm>
          <a:prstGeom prst="rect">
            <a:avLst/>
          </a:prstGeom>
          <a:ln w="0">
            <a:noFill/>
          </a:ln>
        </p:spPr>
      </p:pic>
      <p:sp>
        <p:nvSpPr>
          <p:cNvPr id="211" name="Овал 7"/>
          <p:cNvSpPr/>
          <p:nvPr/>
        </p:nvSpPr>
        <p:spPr>
          <a:xfrm>
            <a:off x="324000" y="3429000"/>
            <a:ext cx="863280" cy="792000"/>
          </a:xfrm>
          <a:prstGeom prst="ellipse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-360" y="2565360"/>
            <a:ext cx="17550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ен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1 к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2402280" y="2997360"/>
            <a:ext cx="947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2484360" y="386064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4140360" y="2997360"/>
            <a:ext cx="86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3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4067280" y="3860640"/>
            <a:ext cx="86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5796000" y="393372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6013440" y="2997360"/>
            <a:ext cx="438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6666120" y="1773360"/>
            <a:ext cx="1132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80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4"/>
          <p:cNvSpPr/>
          <p:nvPr/>
        </p:nvSpPr>
        <p:spPr>
          <a:xfrm>
            <a:off x="4934160" y="1844640"/>
            <a:ext cx="63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к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5"/>
          <p:cNvSpPr/>
          <p:nvPr/>
        </p:nvSpPr>
        <p:spPr>
          <a:xfrm>
            <a:off x="3206520" y="1844640"/>
            <a:ext cx="84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5 к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6"/>
          <p:cNvSpPr/>
          <p:nvPr/>
        </p:nvSpPr>
        <p:spPr>
          <a:xfrm>
            <a:off x="1688040" y="1844640"/>
            <a:ext cx="99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10 к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27"/>
          <p:cNvSpPr/>
          <p:nvPr/>
        </p:nvSpPr>
        <p:spPr>
          <a:xfrm>
            <a:off x="7524720" y="2708280"/>
            <a:ext cx="1052640" cy="936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1"/>
          <p:cNvSpPr/>
          <p:nvPr/>
        </p:nvSpPr>
        <p:spPr>
          <a:xfrm>
            <a:off x="7524720" y="2997360"/>
            <a:ext cx="1052640" cy="792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32"/>
          <p:cNvSpPr/>
          <p:nvPr/>
        </p:nvSpPr>
        <p:spPr>
          <a:xfrm>
            <a:off x="7524720" y="3789360"/>
            <a:ext cx="1052640" cy="792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33"/>
          <p:cNvSpPr/>
          <p:nvPr/>
        </p:nvSpPr>
        <p:spPr>
          <a:xfrm>
            <a:off x="7524720" y="4076640"/>
            <a:ext cx="1052640" cy="972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34"/>
          <p:cNvSpPr/>
          <p:nvPr/>
        </p:nvSpPr>
        <p:spPr>
          <a:xfrm>
            <a:off x="7524720" y="4797360"/>
            <a:ext cx="1052640" cy="792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35"/>
          <p:cNvSpPr/>
          <p:nvPr/>
        </p:nvSpPr>
        <p:spPr>
          <a:xfrm>
            <a:off x="7524720" y="5084640"/>
            <a:ext cx="1052640" cy="972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7"/>
          <p:cNvSpPr/>
          <p:nvPr/>
        </p:nvSpPr>
        <p:spPr>
          <a:xfrm>
            <a:off x="7673760" y="2205000"/>
            <a:ext cx="995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20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8"/>
          <p:cNvSpPr/>
          <p:nvPr/>
        </p:nvSpPr>
        <p:spPr>
          <a:xfrm>
            <a:off x="7524720" y="3213000"/>
            <a:ext cx="1150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20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39"/>
          <p:cNvSpPr/>
          <p:nvPr/>
        </p:nvSpPr>
        <p:spPr>
          <a:xfrm>
            <a:off x="7673760" y="4292640"/>
            <a:ext cx="995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20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1"/>
          <p:cNvSpPr/>
          <p:nvPr/>
        </p:nvSpPr>
        <p:spPr>
          <a:xfrm rot="16200000">
            <a:off x="7058160" y="3344400"/>
            <a:ext cx="3600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     СПОЖИВ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Скругленный прямоугольник 11"/>
          <p:cNvSpPr/>
          <p:nvPr/>
        </p:nvSpPr>
        <p:spPr>
          <a:xfrm>
            <a:off x="5219640" y="1557360"/>
            <a:ext cx="302436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6"/>
          <p:cNvSpPr/>
          <p:nvPr/>
        </p:nvSpPr>
        <p:spPr>
          <a:xfrm>
            <a:off x="1042920" y="1628640"/>
            <a:ext cx="2952720" cy="1368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Заголовок 1"/>
          <p:cNvGrpSpPr/>
          <p:nvPr/>
        </p:nvGrpSpPr>
        <p:grpSpPr>
          <a:xfrm>
            <a:off x="396720" y="-30240"/>
            <a:ext cx="8345520" cy="1621080"/>
            <a:chOff x="396720" y="-30240"/>
            <a:chExt cx="8345520" cy="1621080"/>
          </a:xfrm>
        </p:grpSpPr>
        <p:pic>
          <p:nvPicPr>
            <p:cNvPr id="23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6720" y="-30240"/>
              <a:ext cx="83455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002060"/>
                  </a:solidFill>
                  <a:latin typeface="Arial"/>
                </a:rPr>
                <a:t>Втрати енергії в лініях електропереда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3"/>
          <a:stretch/>
        </p:blipFill>
        <p:spPr>
          <a:xfrm>
            <a:off x="1258920" y="1628640"/>
            <a:ext cx="2562120" cy="1440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0" y="863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0" y="3141720"/>
            <a:ext cx="914400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2" marL="91296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P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  <a:ea typeface="Arial"/>
              </a:rPr>
              <a:t>п –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втрати потужності у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296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        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підводних проводах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296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P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 – потужність генератор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296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U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 – напруга, що передає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296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R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 – опір Л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4"/>
          <a:stretch/>
        </p:blipFill>
        <p:spPr>
          <a:xfrm>
            <a:off x="5364000" y="1700280"/>
            <a:ext cx="2924280" cy="1008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2"/>
          <p:cNvSpPr/>
          <p:nvPr/>
        </p:nvSpPr>
        <p:spPr>
          <a:xfrm>
            <a:off x="4288680" y="2133720"/>
            <a:ext cx="782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33336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У разі передавання на відстань 1000 км втрати потужності становлять 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10</a:t>
            </a:r>
            <a:r>
              <a:rPr b="0" lang="en-US" sz="3600" spc="-1" strike="noStrike" baseline="30000">
                <a:solidFill>
                  <a:srgbClr val="002060"/>
                </a:solidFill>
                <a:latin typeface="Arial"/>
              </a:rPr>
              <a:t>10</a:t>
            </a:r>
            <a:r>
              <a:rPr b="0" lang="uk-UA" sz="3600" spc="-1" strike="noStrike" baseline="30000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кВ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За годину втрати потужності становлять 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10</a:t>
            </a:r>
            <a:r>
              <a:rPr b="0" lang="en-US" sz="3600" spc="-1" strike="noStrike" baseline="30000">
                <a:solidFill>
                  <a:srgbClr val="002060"/>
                </a:solidFill>
                <a:latin typeface="Arial"/>
              </a:rPr>
              <a:t>10</a:t>
            </a:r>
            <a:r>
              <a:rPr b="0" lang="uk-UA" sz="3600" spc="-1" strike="noStrike" baseline="30000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кВт г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кільки відчутно зменшити опір неможливо, то спочатку підвищують напругу з 20 до 400-500 кВ, а потім її знижують до 220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2060"/>
                </a:solidFill>
                <a:latin typeface="Arial"/>
              </a:rPr>
              <a:t>Карта-схема електроенергетики Украї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одержимое 3" descr="карта електрост.gif"/>
          <p:cNvPicPr/>
          <p:nvPr/>
        </p:nvPicPr>
        <p:blipFill>
          <a:blip r:embed="rId2"/>
          <a:stretch/>
        </p:blipFill>
        <p:spPr>
          <a:xfrm>
            <a:off x="749160" y="1600200"/>
            <a:ext cx="778356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простіший генератор складається з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ротяної рамки (ротора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що приводиться в рух зовнішньою силою у полі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агніту (статора)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роцесі обертання рамки змінюється магнітний потік через рамку, внаслідок чого у ній індукується ЕРС, а за допомогою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онтактних щіток з кілец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паяних до виводів рамки, знімається різниця потенціалів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://ito.vspu.net/SAIT/inst_kaf/kafedru/matem_fizuka_tex_osv/www/ENK/Met_pro_nav_IT/web_pos_IT/zmist_IT/Elekt_posibn/Fizuka/nav_mat/teor/zm_str/Image1277.gif"/>
          <p:cNvPicPr/>
          <p:nvPr/>
        </p:nvPicPr>
        <p:blipFill>
          <a:blip r:embed="rId2"/>
          <a:stretch/>
        </p:blipFill>
        <p:spPr>
          <a:xfrm>
            <a:off x="179280" y="3573360"/>
            <a:ext cx="56581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08000" y="11592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 промислових генерато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для отримання великої ЕРС збільшують кількість витк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для підсилення магнітного поля феромагнітне осердя роблять замкнутим, а зазор між ротором і статором – мінімаль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для зменшення іскріння (внаслідок зняття великих струмів) магніт (постійний чи електричний) роблять ротором, а витки - ста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3"/>
          <p:cNvSpPr/>
          <p:nvPr/>
        </p:nvSpPr>
        <p:spPr>
          <a:xfrm>
            <a:off x="684360" y="333360"/>
            <a:ext cx="799128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ині налагоджено виробництво сучасних генераторів змінного струму потужніст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, 300, 500 і 800 МВ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http://accent.lviv.ua/products_pictures/SDMO_DS.jpg"/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4341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http://upload.wikimedia.org/wikipedia/commons/d/dd/%D0%A1%D0%B5%D1%81%D1%82%D1%80%D0%BE%D1%80%D0%B5%D1%86%D0%BA%D0%B8%D0%B9_%D0%BE%D1%80%D1%83%D0%B6%D0%B5%D0%B9%D0%BD%D1%8B%D0%B9_%D0%B7%D0%B0%D0%B2%D0%BE%D0%B4_%D0%B3%D0%B5%D0%BD%D0%B5%D1%80%D0%B0%D1%82%D0%BE%D1%80_%D0%93%D0%AD%D0%A1.JPG"/>
          <p:cNvPicPr/>
          <p:nvPr/>
        </p:nvPicPr>
        <p:blipFill>
          <a:blip r:embed="rId3"/>
          <a:stretch/>
        </p:blipFill>
        <p:spPr>
          <a:xfrm>
            <a:off x="0" y="3357720"/>
            <a:ext cx="45435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1280" y="1773360"/>
            <a:ext cx="871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1240" indent="-74124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2. Змінне………..поле, що проходить через котушку збуджує в ній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916360" y="1413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магніт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187280" y="3860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Електрорушійну силу індук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книги.gif"/>
          <p:cNvPicPr/>
          <p:nvPr/>
        </p:nvPicPr>
        <p:blipFill>
          <a:blip r:embed="rId2"/>
          <a:stretch/>
        </p:blipFill>
        <p:spPr>
          <a:xfrm>
            <a:off x="7524720" y="189000"/>
            <a:ext cx="1276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85400" y="189000"/>
            <a:ext cx="6854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Georgia"/>
              </a:rPr>
              <a:t>Типи електростанці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179280" y="2133720"/>
            <a:ext cx="45720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С виробляють 62% електроенергії в сві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ідирують в виробницт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ША, Китай, Украї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осія, Японія, Герман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38560" y="981000"/>
            <a:ext cx="3798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Теплові 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7" descr="IMG_1406-1.jpg"/>
          <p:cNvPicPr/>
          <p:nvPr/>
        </p:nvPicPr>
        <p:blipFill>
          <a:blip r:embed="rId2"/>
          <a:stretch/>
        </p:blipFill>
        <p:spPr>
          <a:xfrm>
            <a:off x="3851280" y="1557360"/>
            <a:ext cx="4824360" cy="32162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8"/>
          <p:cNvSpPr/>
          <p:nvPr/>
        </p:nvSpPr>
        <p:spPr>
          <a:xfrm>
            <a:off x="3708360" y="4797360"/>
            <a:ext cx="5435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Arial"/>
              </a:rPr>
              <a:t>Бурштинська ТЕС (12 енергоблок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9"/>
          <p:cNvSpPr/>
          <p:nvPr/>
        </p:nvSpPr>
        <p:spPr>
          <a:xfrm>
            <a:off x="179280" y="4221000"/>
            <a:ext cx="360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Arial"/>
              </a:rPr>
              <a:t>Головний експортер електроенергії в Європ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6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йбільші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ТЕС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розташовані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 Донбасі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(Вуглегірська, Старобешівська, Миронівська, Курахівська й ін.)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на Придніпров'ї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(Придніпровська, Криворізька)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у Харківській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(Зміївська)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Київській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(Трипільська)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Івано-Франківській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(Бурштинська)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Львівській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(Добротвірська) областях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у Запоріжжі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Мелітополі, Одесі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й ін. Більшість цих електростанцій виробляє й тепло (ТЕЦ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85400" y="189000"/>
            <a:ext cx="6854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Georgia"/>
              </a:rPr>
              <a:t>Типи електростанці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79280" y="1844640"/>
            <a:ext cx="45720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ГЕС виробляють 20% світового вироб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иділяють Канаду, С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разилію, Росію, Кит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орвегія – 99,5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разилія – 93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иргиз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аджикистан – 9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556560" y="981000"/>
            <a:ext cx="3326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Гідро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5" descr="Дніпрогес.jpg"/>
          <p:cNvPicPr/>
          <p:nvPr/>
        </p:nvPicPr>
        <p:blipFill>
          <a:blip r:embed="rId2"/>
          <a:stretch/>
        </p:blipFill>
        <p:spPr>
          <a:xfrm>
            <a:off x="3924360" y="1197000"/>
            <a:ext cx="4824360" cy="3612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6"/>
          <p:cNvSpPr/>
          <p:nvPr/>
        </p:nvSpPr>
        <p:spPr>
          <a:xfrm>
            <a:off x="6372360" y="4941720"/>
            <a:ext cx="252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ніпрог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6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468360" y="549360"/>
            <a:ext cx="820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розвитку гідроенергетики України особливе значення у ХХ ст. відіграє каскад ГЕС на Дніпрі: Дніпрогес, Каховська, Дніпродзержинська, Кременчуцька, Київська, Канівська. Побудовані ГЕС на Південному Бузі (Дністровська), Росі, у Закарпатській області (Теребле-Ріцьк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256680" y="0"/>
            <a:ext cx="6854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Georgia"/>
              </a:rPr>
              <a:t>Типи електростанці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1280" y="1268280"/>
            <a:ext cx="45720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ЕС виробляють 17% світової елекроенерг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початку ХХ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ст. в експлуат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50 АЕС, працю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40 енергобло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405520" y="765000"/>
            <a:ext cx="3701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Атомні 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885080" y="6237360"/>
            <a:ext cx="790560" cy="288720"/>
          </a:xfrm>
          <a:custGeom>
            <a:avLst/>
            <a:gdLst>
              <a:gd name="textAreaLeft" fmla="*/ 18720 w 790560"/>
              <a:gd name="textAreaRight" fmla="*/ 771840 w 7905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097" h="21600">
                <a:moveTo>
                  <a:pt x="0" y="0"/>
                </a:moveTo>
                <a:lnTo>
                  <a:pt x="59097" y="0"/>
                </a:lnTo>
                <a:lnTo>
                  <a:pt x="59097" y="21600"/>
                </a:lnTo>
                <a:lnTo>
                  <a:pt x="0" y="21600"/>
                </a:lnTo>
                <a:close/>
              </a:path>
              <a:path fill="lightenLess" w="59097" h="21600">
                <a:moveTo>
                  <a:pt x="0" y="0"/>
                </a:moveTo>
                <a:lnTo>
                  <a:pt x="59097" y="0"/>
                </a:lnTo>
                <a:lnTo>
                  <a:pt x="57697" y="1400"/>
                </a:lnTo>
                <a:lnTo>
                  <a:pt x="1400" y="1400"/>
                </a:lnTo>
                <a:close/>
              </a:path>
              <a:path fill="darken" w="59097" h="21600">
                <a:moveTo>
                  <a:pt x="59097" y="0"/>
                </a:moveTo>
                <a:lnTo>
                  <a:pt x="59097" y="21600"/>
                </a:lnTo>
                <a:lnTo>
                  <a:pt x="57697" y="20200"/>
                </a:lnTo>
                <a:lnTo>
                  <a:pt x="57697" y="1400"/>
                </a:lnTo>
                <a:close/>
              </a:path>
              <a:path fill="darkenLess" w="59097" h="21600">
                <a:moveTo>
                  <a:pt x="59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97" y="20200"/>
                </a:lnTo>
                <a:close/>
              </a:path>
              <a:path fill="lighten" w="59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7" descr="514-3-1.jpg"/>
          <p:cNvPicPr/>
          <p:nvPr/>
        </p:nvPicPr>
        <p:blipFill>
          <a:blip r:embed="rId2"/>
          <a:stretch/>
        </p:blipFill>
        <p:spPr>
          <a:xfrm>
            <a:off x="4211640" y="1700280"/>
            <a:ext cx="4176720" cy="31464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8"/>
          <p:cNvSpPr/>
          <p:nvPr/>
        </p:nvSpPr>
        <p:spPr>
          <a:xfrm>
            <a:off x="4211640" y="4869000"/>
            <a:ext cx="41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порізька А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68360" y="4292640"/>
            <a:ext cx="36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йбільша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вропі атомна станц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68360" y="475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над 47 % електроенергії в Україні дають АЕС (Рівненська, Запорізька, Південно-Українська та Хмельницька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79280" y="3284640"/>
            <a:ext cx="820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ТЕС є основними станціями, що забезпечують електричною енергією в напівпікові та, разом з ГЕС та ГАЕС, у пікові го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779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Власні паливні ресурси станом на </a:t>
            </a:r>
            <a:r>
              <a:rPr b="0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2013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 рік забезпечують лише 67 % потреб України, решта імпортується (т.ч. з Росії і Туркменістану, Азербайджану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24000" y="6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хнічне становище електроенергетики незадовільне: необхідна модернізація устаткування та впровадження нових ресурсозберігаючих технологій, розробка альтернативних джерел електроенергії (сонячні, вітряні, геотермальні електростанції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218440" cy="14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снують, крім традиційних методів вироблення електроенергії з органічного і ядерного палива (вугілля, нафти, природного газу, урану), ще й екологічні (гідравлічна, сонячна, вітрова, приплив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Содержимое 5" descr=""/>
          <p:cNvPicPr/>
          <p:nvPr/>
        </p:nvPicPr>
        <p:blipFill>
          <a:blip r:embed="rId2"/>
          <a:stretch/>
        </p:blipFill>
        <p:spPr>
          <a:xfrm>
            <a:off x="1127160" y="3681360"/>
            <a:ext cx="6883200" cy="3036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http://www.siriusone.net/skins/siriusone_new/images/ban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20876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seaMVyxt4bc.jpg"/>
          <p:cNvPicPr/>
          <p:nvPr/>
        </p:nvPicPr>
        <p:blipFill>
          <a:blip r:embed="rId4"/>
          <a:srcRect l="0" t="0" r="-57" b="-95"/>
          <a:stretch/>
        </p:blipFill>
        <p:spPr>
          <a:xfrm>
            <a:off x="7956720" y="3284640"/>
            <a:ext cx="1187280" cy="178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2414160" y="1268280"/>
            <a:ext cx="3842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Сонячні 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image026"/>
          <p:cNvPicPr/>
          <p:nvPr/>
        </p:nvPicPr>
        <p:blipFill>
          <a:blip r:embed="rId2"/>
          <a:stretch/>
        </p:blipFill>
        <p:spPr>
          <a:xfrm>
            <a:off x="4572000" y="2492280"/>
            <a:ext cx="4140360" cy="31417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333px-Laundromat-SolarCell.png"/>
          <p:cNvPicPr/>
          <p:nvPr/>
        </p:nvPicPr>
        <p:blipFill>
          <a:blip r:embed="rId3"/>
          <a:stretch/>
        </p:blipFill>
        <p:spPr>
          <a:xfrm>
            <a:off x="2916360" y="3573360"/>
            <a:ext cx="4103640" cy="306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"/>
          <p:cNvSpPr/>
          <p:nvPr/>
        </p:nvSpPr>
        <p:spPr>
          <a:xfrm>
            <a:off x="2990880" y="32464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-2880" y="476280"/>
            <a:ext cx="8713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Georgia"/>
              </a:rPr>
              <a:t>Альтернативна енерге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5"/>
          <p:cNvSpPr/>
          <p:nvPr/>
        </p:nvSpPr>
        <p:spPr>
          <a:xfrm>
            <a:off x="395280" y="616572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8" descr="rzkeDGM5DEA.jpg"/>
          <p:cNvPicPr/>
          <p:nvPr/>
        </p:nvPicPr>
        <p:blipFill>
          <a:blip r:embed="rId4"/>
          <a:stretch/>
        </p:blipFill>
        <p:spPr>
          <a:xfrm>
            <a:off x="179280" y="2133720"/>
            <a:ext cx="377820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8920" y="155700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1240" indent="-741240">
              <a:lnSpc>
                <a:spcPts val="44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3.  Електричний струм, який виникає в замкненому провіднику в змінному магнітному полі, називаю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348000" y="4076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Індукційн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книги.gif"/>
          <p:cNvPicPr/>
          <p:nvPr/>
        </p:nvPicPr>
        <p:blipFill>
          <a:blip r:embed="rId2"/>
          <a:stretch/>
        </p:blipFill>
        <p:spPr>
          <a:xfrm>
            <a:off x="7667640" y="33336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9"/>
          <p:cNvSpPr/>
          <p:nvPr/>
        </p:nvSpPr>
        <p:spPr>
          <a:xfrm>
            <a:off x="-2880" y="189000"/>
            <a:ext cx="8713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Georgia"/>
              </a:rPr>
              <a:t>Альтернативна енерге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1767240" y="981000"/>
            <a:ext cx="3725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Вітряні 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Найбільша в Україні вітряна електростанція - фото 8"/>
          <p:cNvPicPr/>
          <p:nvPr/>
        </p:nvPicPr>
        <p:blipFill>
          <a:blip r:embed="rId2"/>
          <a:stretch/>
        </p:blipFill>
        <p:spPr>
          <a:xfrm>
            <a:off x="108000" y="1628640"/>
            <a:ext cx="4503600" cy="31687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9"/>
          <p:cNvSpPr/>
          <p:nvPr/>
        </p:nvSpPr>
        <p:spPr>
          <a:xfrm>
            <a:off x="0" y="5013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отієвська вітр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С – найбільш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Файл:Novoazovsk VES 2.jpg"/>
          <p:cNvPicPr/>
          <p:nvPr/>
        </p:nvPicPr>
        <p:blipFill>
          <a:blip r:embed="rId3"/>
          <a:stretch/>
        </p:blipFill>
        <p:spPr>
          <a:xfrm>
            <a:off x="2411280" y="3284640"/>
            <a:ext cx="4224600" cy="316872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3"/>
          <p:cNvSpPr/>
          <p:nvPr/>
        </p:nvSpPr>
        <p:spPr>
          <a:xfrm>
            <a:off x="2930040" y="648828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овоазовська вітряна 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DSC03709.jpg"/>
          <p:cNvPicPr/>
          <p:nvPr/>
        </p:nvPicPr>
        <p:blipFill>
          <a:blip r:embed="rId4"/>
          <a:stretch/>
        </p:blipFill>
        <p:spPr>
          <a:xfrm>
            <a:off x="6084720" y="981000"/>
            <a:ext cx="2808360" cy="374328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15"/>
          <p:cNvSpPr/>
          <p:nvPr/>
        </p:nvSpPr>
        <p:spPr>
          <a:xfrm>
            <a:off x="6669360" y="4797360"/>
            <a:ext cx="23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ханкутсь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ітроелектростан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Перша у світі припливна електростанція «Ля Ранс», Франція"/>
          <p:cNvPicPr/>
          <p:nvPr/>
        </p:nvPicPr>
        <p:blipFill>
          <a:blip r:embed="rId2"/>
          <a:stretch/>
        </p:blipFill>
        <p:spPr>
          <a:xfrm>
            <a:off x="0" y="4221000"/>
            <a:ext cx="4788000" cy="2637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1020960" y="765000"/>
            <a:ext cx="432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Припливні 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325080" y="0"/>
            <a:ext cx="78174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Arial"/>
              </a:rPr>
              <a:t>Альтернативна енерге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250920" y="6308640"/>
            <a:ext cx="1042920" cy="395280"/>
          </a:xfrm>
          <a:custGeom>
            <a:avLst/>
            <a:gdLst>
              <a:gd name="textAreaLeft" fmla="*/ 25560 w 1042920"/>
              <a:gd name="textAreaRight" fmla="*/ 1017360 w 10429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6958" h="21600">
                <a:moveTo>
                  <a:pt x="0" y="0"/>
                </a:moveTo>
                <a:lnTo>
                  <a:pt x="56958" y="0"/>
                </a:lnTo>
                <a:lnTo>
                  <a:pt x="56958" y="21600"/>
                </a:lnTo>
                <a:lnTo>
                  <a:pt x="0" y="21600"/>
                </a:lnTo>
                <a:close/>
              </a:path>
              <a:path fill="lightenLess" w="56958" h="21600">
                <a:moveTo>
                  <a:pt x="0" y="0"/>
                </a:moveTo>
                <a:lnTo>
                  <a:pt x="56958" y="0"/>
                </a:lnTo>
                <a:lnTo>
                  <a:pt x="55558" y="1400"/>
                </a:lnTo>
                <a:lnTo>
                  <a:pt x="1400" y="1400"/>
                </a:lnTo>
                <a:close/>
              </a:path>
              <a:path fill="darken" w="56958" h="21600">
                <a:moveTo>
                  <a:pt x="56958" y="0"/>
                </a:moveTo>
                <a:lnTo>
                  <a:pt x="56958" y="21600"/>
                </a:lnTo>
                <a:lnTo>
                  <a:pt x="55558" y="20200"/>
                </a:lnTo>
                <a:lnTo>
                  <a:pt x="55558" y="1400"/>
                </a:lnTo>
                <a:close/>
              </a:path>
              <a:path fill="darkenLess" w="56958" h="21600">
                <a:moveTo>
                  <a:pt x="56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58" y="20200"/>
                </a:lnTo>
                <a:close/>
              </a:path>
              <a:path fill="lighten" w="56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Дамба припливної електростанції «Ля Ранс»"/>
          <p:cNvPicPr/>
          <p:nvPr/>
        </p:nvPicPr>
        <p:blipFill>
          <a:blip r:embed="rId3"/>
          <a:stretch/>
        </p:blipFill>
        <p:spPr>
          <a:xfrm>
            <a:off x="0" y="1557360"/>
            <a:ext cx="4803840" cy="259236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5"/>
          <p:cNvSpPr/>
          <p:nvPr/>
        </p:nvSpPr>
        <p:spPr>
          <a:xfrm>
            <a:off x="0" y="4221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ша в світі припливна електростанція «Ля Ранс» Фран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Припливна електростанція в Північній Ірландії"/>
          <p:cNvPicPr/>
          <p:nvPr/>
        </p:nvPicPr>
        <p:blipFill>
          <a:blip r:embed="rId4"/>
          <a:stretch/>
        </p:blipFill>
        <p:spPr>
          <a:xfrm>
            <a:off x="4937040" y="1197000"/>
            <a:ext cx="4206960" cy="316872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8"/>
          <p:cNvSpPr/>
          <p:nvPr/>
        </p:nvSpPr>
        <p:spPr>
          <a:xfrm>
            <a:off x="4788000" y="450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пливна електростанція в Північній Ірланд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2413800" y="765000"/>
            <a:ext cx="428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отермальні 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325080" y="0"/>
            <a:ext cx="78174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Arial"/>
              </a:rPr>
              <a:t>Альтернативна енерге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9"/>
          <p:cNvSpPr/>
          <p:nvPr/>
        </p:nvSpPr>
        <p:spPr>
          <a:xfrm>
            <a:off x="250920" y="6308640"/>
            <a:ext cx="1042920" cy="395280"/>
          </a:xfrm>
          <a:custGeom>
            <a:avLst/>
            <a:gdLst>
              <a:gd name="textAreaLeft" fmla="*/ 25560 w 1042920"/>
              <a:gd name="textAreaRight" fmla="*/ 1017360 w 10429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6958" h="21600">
                <a:moveTo>
                  <a:pt x="0" y="0"/>
                </a:moveTo>
                <a:lnTo>
                  <a:pt x="56958" y="0"/>
                </a:lnTo>
                <a:lnTo>
                  <a:pt x="56958" y="21600"/>
                </a:lnTo>
                <a:lnTo>
                  <a:pt x="0" y="21600"/>
                </a:lnTo>
                <a:close/>
              </a:path>
              <a:path fill="lightenLess" w="56958" h="21600">
                <a:moveTo>
                  <a:pt x="0" y="0"/>
                </a:moveTo>
                <a:lnTo>
                  <a:pt x="56958" y="0"/>
                </a:lnTo>
                <a:lnTo>
                  <a:pt x="55558" y="1400"/>
                </a:lnTo>
                <a:lnTo>
                  <a:pt x="1400" y="1400"/>
                </a:lnTo>
                <a:close/>
              </a:path>
              <a:path fill="darken" w="56958" h="21600">
                <a:moveTo>
                  <a:pt x="56958" y="0"/>
                </a:moveTo>
                <a:lnTo>
                  <a:pt x="56958" y="21600"/>
                </a:lnTo>
                <a:lnTo>
                  <a:pt x="55558" y="20200"/>
                </a:lnTo>
                <a:lnTo>
                  <a:pt x="55558" y="1400"/>
                </a:lnTo>
                <a:close/>
              </a:path>
              <a:path fill="darkenLess" w="56958" h="21600">
                <a:moveTo>
                  <a:pt x="56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58" y="20200"/>
                </a:lnTo>
                <a:close/>
              </a:path>
              <a:path fill="lighten" w="56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Файл:NesjavellirPowerPlant edit2.jpg"/>
          <p:cNvPicPr/>
          <p:nvPr/>
        </p:nvPicPr>
        <p:blipFill>
          <a:blip r:embed="rId2"/>
          <a:stretch/>
        </p:blipFill>
        <p:spPr>
          <a:xfrm>
            <a:off x="0" y="1341360"/>
            <a:ext cx="4756320" cy="31672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8"/>
          <p:cNvSpPr/>
          <p:nvPr/>
        </p:nvSpPr>
        <p:spPr>
          <a:xfrm>
            <a:off x="0" y="472428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термальна електростанція Несьявеллір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Ісланд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Файл:Puhagan geothermal plant.jpg"/>
          <p:cNvPicPr/>
          <p:nvPr/>
        </p:nvPicPr>
        <p:blipFill>
          <a:blip r:embed="rId3"/>
          <a:stretch/>
        </p:blipFill>
        <p:spPr>
          <a:xfrm>
            <a:off x="4788000" y="155736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11"/>
          <p:cNvSpPr/>
          <p:nvPr/>
        </p:nvSpPr>
        <p:spPr>
          <a:xfrm>
            <a:off x="4716360" y="494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термальна електростанція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ncia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ros Oriental,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іліпі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1280" y="1557360"/>
            <a:ext cx="871236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4160" indent="-70416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4.  Індукційний струм в замкнутому провіднику має такий напрям, що створене ним магнітне поле компенсує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39640" y="4508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Зміну магнітного, яка викликала цей стр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книги.gif"/>
          <p:cNvPicPr/>
          <p:nvPr/>
        </p:nvPicPr>
        <p:blipFill>
          <a:blip r:embed="rId2"/>
          <a:stretch/>
        </p:blipFill>
        <p:spPr>
          <a:xfrm>
            <a:off x="7596360" y="26028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628640"/>
            <a:ext cx="8712360" cy="35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1240" indent="-74124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5.  Величина, що дорівнює добутку магнітної індукції на площу замкнутого контура на косинус кута (між вектором індукції та нормаллю до контуру) називається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1258920" y="5157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Магнітни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книги.gif"/>
          <p:cNvPicPr/>
          <p:nvPr/>
        </p:nvPicPr>
        <p:blipFill>
          <a:blip r:embed="rId2"/>
          <a:stretch/>
        </p:blipFill>
        <p:spPr>
          <a:xfrm>
            <a:off x="7596360" y="33336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1700280"/>
            <a:ext cx="8507520" cy="16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6. ЕРС індукції     прямопропорційн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826920" y="3500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Швидкості зміни магнітного пот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книги.gif"/>
          <p:cNvPicPr/>
          <p:nvPr/>
        </p:nvPicPr>
        <p:blipFill>
          <a:blip r:embed="rId2"/>
          <a:stretch/>
        </p:blipFill>
        <p:spPr>
          <a:xfrm>
            <a:off x="7451640" y="476280"/>
            <a:ext cx="1276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000" y="1915920"/>
            <a:ext cx="8505720" cy="22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7. Якщо контуром є котуш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о ЕРС індукції пропорційн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2484360" y="407664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Кількості витк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" descr="книги.gif"/>
          <p:cNvPicPr/>
          <p:nvPr/>
        </p:nvPicPr>
        <p:blipFill>
          <a:blip r:embed="rId2"/>
          <a:stretch/>
        </p:blipFill>
        <p:spPr>
          <a:xfrm>
            <a:off x="7236000" y="26028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06440" y="1320480"/>
            <a:ext cx="8507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8. Фізичну величину, яка характеризує електромагнітні властивості котушки чи провідника, називаю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700360" y="458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Індуктивніст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книги.gif"/>
          <p:cNvPicPr/>
          <p:nvPr/>
        </p:nvPicPr>
        <p:blipFill>
          <a:blip r:embed="rId2"/>
          <a:stretch/>
        </p:blipFill>
        <p:spPr>
          <a:xfrm>
            <a:off x="7308720" y="260280"/>
            <a:ext cx="1276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13-11-29T07:57:41Z</dcterms:modified>
  <cp:revision>64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a000000000001024140</vt:lpwstr>
  </property>
</Properties>
</file>