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7A9-2CA4-4660-9D1B-0240D64B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944-C00B-4841-AF5B-B2CD17F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604-AB53-4672-9CBD-94D01C7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DC4-9013-4480-A60C-66A11C0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574-4D4A-4DAF-AD23-1BAE388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52E-0F23-458A-B173-F999E45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791-9881-4A2D-9E05-2B123A4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08D-C50E-4545-BEB0-BE12C60A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40A-95D0-47C5-B1CD-7D1FC9D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195-2772-41B5-AC79-6EAA62D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AF2-BE7A-4822-866E-06F937D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16C-F6EB-4D41-9301-054268A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a75"/>
            </a:gs>
            <a:gs pos="50000">
              <a:srgbClr val="d8d6b6"/>
            </a:gs>
            <a:gs pos="100000">
              <a:srgbClr val="ffba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650-9812-44B7-AF26-6077F18DE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ff"/>
                </a:solidFill>
                <a:latin typeface="Arial"/>
              </a:rPr>
              <a:t>ТИС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916360" y="4581360"/>
            <a:ext cx="576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br>
              <a:rPr sz="32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900000" y="981000"/>
            <a:ext cx="748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Юних мислителів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akan.mpg" descr=""/>
          <p:cNvPicPr/>
          <p:nvPr/>
        </p:nvPicPr>
        <p:blipFill>
          <a:blip r:embed="rId1"/>
          <a:srcRect l="0" t="10054" r="0" b="11786"/>
          <a:stretch/>
        </p:blipFill>
        <p:spPr>
          <a:xfrm>
            <a:off x="755640" y="1484280"/>
            <a:ext cx="7777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5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00000" y="981000"/>
            <a:ext cx="72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Нащадків Торрічеллі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nonetka.mpg" descr=""/>
          <p:cNvPicPr/>
          <p:nvPr/>
        </p:nvPicPr>
        <p:blipFill>
          <a:blip r:embed="rId1"/>
          <a:srcRect l="0" t="10421" r="0" b="10343"/>
          <a:stretch/>
        </p:blipFill>
        <p:spPr>
          <a:xfrm>
            <a:off x="684360" y="1484280"/>
            <a:ext cx="7561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301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takan otv.mpg" descr=""/>
          <p:cNvPicPr/>
          <p:nvPr/>
        </p:nvPicPr>
        <p:blipFill>
          <a:blip r:embed="rId1"/>
          <a:srcRect l="0" t="4935" r="0" b="8098"/>
          <a:stretch/>
        </p:blipFill>
        <p:spPr>
          <a:xfrm>
            <a:off x="395280" y="3789360"/>
            <a:ext cx="3352680" cy="2671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1342080"/>
            <a:ext cx="39589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Юним мислителям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агдебурзькі півкул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склянки «склеюються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Навіщо потрібне вологе паперове кіль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Для чого у досліді використовують свічку?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305000"/>
            <a:ext cx="41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Нащадкам Торрічеллі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онета, тарілка та ба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вода потрапляє до ба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Який тиск буде мати газ у банці після того, як він охоло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Що станеться, якщо на банку покласти шматочок ль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onetka otv.mpg" descr=""/>
          <p:cNvPicPr/>
          <p:nvPr/>
        </p:nvPicPr>
        <p:blipFill>
          <a:blip r:embed="rId2"/>
          <a:srcRect l="0" t="5263" r="0" b="5499"/>
          <a:stretch/>
        </p:blipFill>
        <p:spPr>
          <a:xfrm>
            <a:off x="4788000" y="377676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32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971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547640" y="4292640"/>
            <a:ext cx="61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i?id=368860312-54-72&amp;n=21"/>
          <p:cNvPicPr/>
          <p:nvPr/>
        </p:nvPicPr>
        <p:blipFill>
          <a:blip r:embed="rId1"/>
          <a:srcRect l="1435" t="2016" r="2711" b="3275"/>
          <a:stretch/>
        </p:blipFill>
        <p:spPr>
          <a:xfrm>
            <a:off x="1768320" y="617400"/>
            <a:ext cx="5537520" cy="3463920"/>
          </a:xfrm>
          <a:prstGeom prst="rect">
            <a:avLst/>
          </a:prstGeom>
          <a:ln w="25560">
            <a:solidFill>
              <a:srgbClr val="ff9966"/>
            </a:solidFill>
            <a:miter/>
          </a:ln>
        </p:spPr>
      </p:pic>
      <p:pic>
        <p:nvPicPr>
          <p:cNvPr id="85" name="Picture 14" descr="zvezdia-344"/>
          <p:cNvPicPr/>
          <p:nvPr/>
        </p:nvPicPr>
        <p:blipFill>
          <a:blip r:embed="rId2"/>
          <a:stretch/>
        </p:blipFill>
        <p:spPr>
          <a:xfrm>
            <a:off x="4334040" y="3271680"/>
            <a:ext cx="475920" cy="3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zvezdia-344"/>
          <p:cNvPicPr/>
          <p:nvPr/>
        </p:nvPicPr>
        <p:blipFill>
          <a:blip r:embed="rId3"/>
          <a:stretch/>
        </p:blipFill>
        <p:spPr>
          <a:xfrm>
            <a:off x="5076720" y="3500280"/>
            <a:ext cx="4762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627280" y="558972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84720" y="3500280"/>
            <a:ext cx="2062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156360" y="1557360"/>
            <a:ext cx="171288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93968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050920" y="620640"/>
            <a:ext cx="676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тися до контрольної роботи, повторити §23-3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ти: рівень А: №172, 192, 24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ень Б: №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 Написати твір на тему «Тиск в моєму житті» у формі вірша, казки або фантастичної розповіді на аркуші формату А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62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на програ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Бліц-повторен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іцний горіш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Формул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ислител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Прилад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Ти меня – я тобі»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577678679-62-72&amp;n=21"/>
          <p:cNvPicPr/>
          <p:nvPr/>
        </p:nvPicPr>
        <p:blipFill>
          <a:blip r:embed="rId1"/>
          <a:stretch/>
        </p:blipFill>
        <p:spPr>
          <a:xfrm>
            <a:off x="7039080" y="3789360"/>
            <a:ext cx="193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627280" y="57340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156360" y="3429000"/>
            <a:ext cx="2062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300720" y="1413000"/>
            <a:ext cx="1781280" cy="186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00000" y="1347840"/>
            <a:ext cx="208764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у тиску в системі СІ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залежить тиск рідини на дно посудини від площі 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в мм. рт. 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З якої глибини приблизно може підняти воду водяний нас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Атмосферний тиск залежить від погоди. А ще від ч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ювання атмосферного тис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діють водяні насоси в безповітряному простор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 в 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Скіль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в 1 к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Що є причиною тиску газів на дно і стінки посуд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Міцний горіш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з дрібнокаліберної гвинтівки вистрілити у варене яйце, то в ньому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ляється отвір, якщо ж вистрілити в сире, воно розлетиться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вареники через деякий час після того, як їх кинули в окріп, спливають на поверх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Формулознавц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008080"/>
            <a:ext cx="6408720" cy="1382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716280"/>
            <a:ext cx="5483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00000" y="4221000"/>
            <a:ext cx="7344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Мислител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нометр, приєднаний на водонапірній станції до труби, якою подається вода в бак башти, показує тиск 2273 мм.рт.ст. Яка висота води в башті?</a:t>
            </a:r>
            <a:br>
              <a:rPr sz="2800"/>
            </a:br>
            <a:br>
              <a:rPr sz="2800"/>
            </a:b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тіло, що занурено у воду, діє архімедова сила 12 кН. Який 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м має тіл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Приладознавців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>
            <a:lum bright="6000"/>
          </a:blip>
          <a:srcRect l="9283" t="0" r="4616" b="3767"/>
          <a:stretch/>
        </p:blipFill>
        <p:spPr>
          <a:xfrm>
            <a:off x="684360" y="3957480"/>
            <a:ext cx="309384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9" name="Picture 10" descr="Безымянный"/>
          <p:cNvPicPr/>
          <p:nvPr/>
        </p:nvPicPr>
        <p:blipFill>
          <a:blip r:embed="rId2"/>
          <a:stretch/>
        </p:blipFill>
        <p:spPr>
          <a:xfrm>
            <a:off x="5435640" y="3933720"/>
            <a:ext cx="2266920" cy="27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6335640" cy="216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00720" y="3429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5:51Z</dcterms:created>
  <dc:creator>GwinXP</dc:creator>
  <dc:description/>
  <dc:language>en-US</dc:language>
  <cp:lastModifiedBy>GwinXP</cp:lastModifiedBy>
  <dcterms:modified xsi:type="dcterms:W3CDTF">2013-04-07T15:19:09Z</dcterms:modified>
  <cp:revision>268</cp:revision>
  <dc:subject/>
  <dc:title>Слайд 1</dc:title>
</cp:coreProperties>
</file>