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C0E-2C2B-4177-A497-F290A1CF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142-949B-40A6-9E4F-8A85C80F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3E8-912D-4644-8C25-C1D26B3F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310-89F5-4F10-AE9E-5B3BD5D7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E0D-30FC-46E7-A40F-2E5DE8D7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4BEA-6501-41FC-8540-98A0F00D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185-703F-4DD5-98D7-8558EF6D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88D-D0D7-4C94-86C1-96213ADD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03C-EC48-40BC-8B00-51478008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7EE-81E6-4B75-A178-99D40FE8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17D-3E39-411B-A6C7-8B19B18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4FD-8F1C-4C2E-8927-9F55E803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a75"/>
            </a:gs>
            <a:gs pos="50000">
              <a:srgbClr val="d8d6b6"/>
            </a:gs>
            <a:gs pos="100000">
              <a:srgbClr val="ffba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B8C9-C979-4C53-AEE7-16C22B446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ff"/>
                </a:solidFill>
                <a:latin typeface="Arial"/>
              </a:rPr>
              <a:t>ТИСК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916360" y="4581360"/>
            <a:ext cx="5761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ння без застосування - хмари без дощу!</a:t>
            </a:r>
            <a:br>
              <a:rPr sz="3200"/>
            </a:b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Східна мудр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900000" y="981000"/>
            <a:ext cx="7489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  для  «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Юних мислителів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takan.mpg" descr=""/>
          <p:cNvPicPr/>
          <p:nvPr/>
        </p:nvPicPr>
        <p:blipFill>
          <a:blip r:embed="rId1"/>
          <a:srcRect l="0" t="10054" r="0" b="11786"/>
          <a:stretch/>
        </p:blipFill>
        <p:spPr>
          <a:xfrm>
            <a:off x="755640" y="1484280"/>
            <a:ext cx="77770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1345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900000" y="981000"/>
            <a:ext cx="727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  для  «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Нащадків Торрічеллі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nonetka.mpg" descr=""/>
          <p:cNvPicPr/>
          <p:nvPr/>
        </p:nvPicPr>
        <p:blipFill>
          <a:blip r:embed="rId1"/>
          <a:srcRect l="0" t="10421" r="0" b="10343"/>
          <a:stretch/>
        </p:blipFill>
        <p:spPr>
          <a:xfrm>
            <a:off x="684360" y="1484280"/>
            <a:ext cx="75610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3014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Ти мені – я тобі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stakan otv.mpg" descr=""/>
          <p:cNvPicPr/>
          <p:nvPr/>
        </p:nvPicPr>
        <p:blipFill>
          <a:blip r:embed="rId1"/>
          <a:srcRect l="0" t="4935" r="0" b="8098"/>
          <a:stretch/>
        </p:blipFill>
        <p:spPr>
          <a:xfrm>
            <a:off x="395280" y="3789360"/>
            <a:ext cx="3352680" cy="2671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324000" y="1342080"/>
            <a:ext cx="395892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«Юним мислителям»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осл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Магдебурзькі півкул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1. Чому склянки «склеюються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2. Навіщо потрібне вологе паперове кільц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3. Для чого у досліді використовують свічку?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427640" y="1305000"/>
            <a:ext cx="4176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«Нащадкам Торрічеллі»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осл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Монета, тарілка та ба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1. Чому вода потрапляє до бан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2. Який тиск буде мати газ у банці після того, як він охоло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3. Що станеться, якщо на банку покласти шматочок ль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monetka otv.mpg" descr=""/>
          <p:cNvPicPr/>
          <p:nvPr/>
        </p:nvPicPr>
        <p:blipFill>
          <a:blip r:embed="rId2"/>
          <a:srcRect l="0" t="5263" r="0" b="5499"/>
          <a:stretch/>
        </p:blipFill>
        <p:spPr>
          <a:xfrm>
            <a:off x="4788000" y="3776760"/>
            <a:ext cx="35686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932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971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547640" y="4292640"/>
            <a:ext cx="612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ння без застосування - хмари без дощ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хідна мудр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i?id=368860312-54-72&amp;n=21"/>
          <p:cNvPicPr/>
          <p:nvPr/>
        </p:nvPicPr>
        <p:blipFill>
          <a:blip r:embed="rId1"/>
          <a:srcRect l="1435" t="2016" r="2711" b="3275"/>
          <a:stretch/>
        </p:blipFill>
        <p:spPr>
          <a:xfrm>
            <a:off x="1768320" y="617400"/>
            <a:ext cx="5537520" cy="3463920"/>
          </a:xfrm>
          <a:prstGeom prst="rect">
            <a:avLst/>
          </a:prstGeom>
          <a:ln w="25560">
            <a:solidFill>
              <a:srgbClr val="ff9966"/>
            </a:solidFill>
            <a:miter/>
          </a:ln>
        </p:spPr>
      </p:pic>
      <p:pic>
        <p:nvPicPr>
          <p:cNvPr id="85" name="Picture 14" descr="zvezdia-344"/>
          <p:cNvPicPr/>
          <p:nvPr/>
        </p:nvPicPr>
        <p:blipFill>
          <a:blip r:embed="rId2"/>
          <a:stretch/>
        </p:blipFill>
        <p:spPr>
          <a:xfrm>
            <a:off x="4334040" y="3271680"/>
            <a:ext cx="475920" cy="31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zvezdia-344"/>
          <p:cNvPicPr/>
          <p:nvPr/>
        </p:nvPicPr>
        <p:blipFill>
          <a:blip r:embed="rId3"/>
          <a:stretch/>
        </p:blipFill>
        <p:spPr>
          <a:xfrm>
            <a:off x="5076720" y="3500280"/>
            <a:ext cx="47628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аш настрі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2627280" y="558972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дісно захопл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611280" y="3357720"/>
            <a:ext cx="24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иво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6084720" y="3500280"/>
            <a:ext cx="2062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йдуж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8692" t="3818" r="6047" b="5727"/>
          <a:stretch/>
        </p:blipFill>
        <p:spPr>
          <a:xfrm>
            <a:off x="6156360" y="1557360"/>
            <a:ext cx="1712880" cy="179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193968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050920" y="620640"/>
            <a:ext cx="6769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машнє завданн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дготуватися до контрольної роботи, повторити §23-3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ати: рівень А: №172, 192, 246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івень Б: №1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Творче завда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: Написати твір на тему «Тиск в моєму житті» у формі вірша, казки або фантастичної розповіді на аркуші формату А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7622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онкурсна програ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Бліц-повторен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Міцний горіш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Формулознавц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Мислител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Приладознавц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онкурс «Ти меня – я тобі»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?id=577678679-62-72&amp;n=21"/>
          <p:cNvPicPr/>
          <p:nvPr/>
        </p:nvPicPr>
        <p:blipFill>
          <a:blip r:embed="rId1"/>
          <a:stretch/>
        </p:blipFill>
        <p:spPr>
          <a:xfrm>
            <a:off x="7039080" y="3789360"/>
            <a:ext cx="1938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Ваш настрі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2627280" y="573408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дісно захопл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611280" y="3357720"/>
            <a:ext cx="24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иво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6156360" y="3429000"/>
            <a:ext cx="2062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йдуж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8692" t="3818" r="6047" b="5727"/>
          <a:stretch/>
        </p:blipFill>
        <p:spPr>
          <a:xfrm>
            <a:off x="6300720" y="1413000"/>
            <a:ext cx="1781280" cy="186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900000" y="1347840"/>
            <a:ext cx="2087640" cy="1936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3492360" y="3500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Конкурс «Бліц-повтор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Одиниці виміру тиску в системі СІ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Чи залежить тиск рідини на дно посудини від площі д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Чому дорівнює нормальний атмосферний тиск в мм. рт. с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З якої глибини приблизно може підняти воду водяний нас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Атмосферний тиск залежить від погоди. А ще від ч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Одиниці вимірювання атмосферного тиск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Чи діють водяні насоси в безповітряному простор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Чому дорівнює нормальний атмосферний тиск  в 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 Скіль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 в 1 к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. Що є причиною тиску газів на дно і стінки посуди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Конкурс «Бліц-повтор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Міцний горіш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з дрібнокаліберної гвинтівки вистрілити у варене яйце, то в ньому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ляється отвір, якщо ж вистрілити в сире, воно розлетиться. Ч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вареники через деякий час після того, як їх кинули в окріп, спливають на поверх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Формулознавці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8355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2008080"/>
            <a:ext cx="6408720" cy="1382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395280" y="3716280"/>
            <a:ext cx="5483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00000" y="4221000"/>
            <a:ext cx="7344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Мислителі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3964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 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анометр, приєднаний на водонапірній станції до труби, якою подається вода в бак башти, показує тиск 2273 мм.рт.ст. Яка висота води в башті?</a:t>
            </a:r>
            <a:br>
              <a:rPr sz="2800"/>
            </a:br>
            <a:br>
              <a:rPr sz="2800"/>
            </a:br>
            <a:r>
              <a:rPr b="0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тіло, що занурено у воду, діє архімедова сила 12 кН. Який 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м має тіл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Конкурс «Приладознавців</a:t>
            </a: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3429000"/>
            <a:ext cx="3240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«Юні мислите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>
            <a:lum bright="6000"/>
          </a:blip>
          <a:srcRect l="9283" t="0" r="4616" b="3767"/>
          <a:stretch/>
        </p:blipFill>
        <p:spPr>
          <a:xfrm>
            <a:off x="684360" y="3957480"/>
            <a:ext cx="3093840" cy="25909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9" name="Picture 10" descr="Безымянный"/>
          <p:cNvPicPr/>
          <p:nvPr/>
        </p:nvPicPr>
        <p:blipFill>
          <a:blip r:embed="rId2"/>
          <a:stretch/>
        </p:blipFill>
        <p:spPr>
          <a:xfrm>
            <a:off x="5435640" y="3933720"/>
            <a:ext cx="2266920" cy="273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1332000" y="1052640"/>
            <a:ext cx="6335640" cy="2162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4500720" y="3429000"/>
            <a:ext cx="417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«Нащадки Торрічеллі»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35:51Z</dcterms:created>
  <dc:creator>GwinXP</dc:creator>
  <dc:description/>
  <dc:language>en-US</dc:language>
  <cp:lastModifiedBy>GwinXP</cp:lastModifiedBy>
  <dcterms:modified xsi:type="dcterms:W3CDTF">2013-04-07T15:19:09Z</dcterms:modified>
  <cp:revision>268</cp:revision>
  <dc:subject/>
  <dc:title>Слайд 1</dc:title>
</cp:coreProperties>
</file>