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6CA-0000-4F3F-A216-3C13C92D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88F-EC1D-43E7-96AA-FE301297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608-58C1-4D20-B9CF-F3BD9F45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F7D-B703-4136-AE00-FE2A2F1A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A6AC-0F18-4563-BC68-24B270C7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16C8-A0DD-4A87-87C1-7340461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ACD9-D387-4FC4-9CF3-A37AE034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C8F5-DDCE-47C8-8500-2562079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436A-4123-41AF-AF27-EC6052FE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A025-7E1D-487A-81ED-36F46837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76B6-2165-4B50-B283-F3A2BD3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6FC-C30D-4C05-AFDA-3F3DB190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02B5-0A96-4F80-B6F0-F5066D9A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A9F8-3F7A-4FBB-B38E-AE8D0C13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62E1-1DB6-4BDC-AC45-E10D665D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3A5C-5EE5-4FE1-AB66-944A3152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8941-BBB4-4774-A176-30DDB6CB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093-4359-48BB-B0E2-538C8063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CDB-3D3B-4B14-98E0-47EA7FB2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4F3-D46E-4F72-8F93-CE94C77E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39A-17BC-476C-94ED-1CD19330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E8B-12FB-4163-A7D7-4A98C87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5F8-D0EE-4346-AAE0-A5B29AE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C99-CC3B-452C-BBC6-4A4B741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8AE4-5CAD-4091-B3AF-89FC447ACE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FA21-D7FB-403E-ABC9-8F8992D2EE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Garamond"/>
              </a:rPr>
              <a:t>Види теплопередачі</a:t>
            </a:r>
            <a:br>
              <a:rPr sz="6600"/>
            </a:br>
            <a:endParaRPr b="0" lang="en-US" sz="66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6000840" cy="3479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57200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ідготувала вчитель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До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нецької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Ш І-ІІ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т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Бражник Л.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51280" cy="431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rcRect l="0" t="0" r="-65" b="0"/>
          <a:stretch/>
        </p:blipFill>
        <p:spPr>
          <a:xfrm>
            <a:off x="4643280" y="1844640"/>
            <a:ext cx="3792600" cy="4068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2500200" y="642960"/>
            <a:ext cx="3961080" cy="106884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aramond"/>
                <a:ea typeface="Times New Roman"/>
              </a:rPr>
              <a:t>Поясніть малюн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rcRect l="0" t="0" r="-30" b="0"/>
          <a:stretch/>
        </p:blipFill>
        <p:spPr>
          <a:xfrm>
            <a:off x="539640" y="1623960"/>
            <a:ext cx="7802640" cy="4181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071720" y="714240"/>
            <a:ext cx="707220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теплопередачі спостерігаєм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rcRect l="0" t="0" r="-157" b="170"/>
          <a:stretch/>
        </p:blipFill>
        <p:spPr>
          <a:xfrm>
            <a:off x="4857840" y="1717560"/>
            <a:ext cx="3619440" cy="3953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143080" y="642960"/>
            <a:ext cx="511344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віть і поясніть явищ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rcRect l="0" t="0" r="0" b="-62"/>
          <a:stretch/>
        </p:blipFill>
        <p:spPr>
          <a:xfrm>
            <a:off x="285840" y="1835280"/>
            <a:ext cx="44290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65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  <a:ea typeface="Times New Roman"/>
              </a:rPr>
              <a:t>Втрати тепла в будинках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0" t="0" r="-127" b="-172"/>
          <a:stretch/>
        </p:blipFill>
        <p:spPr>
          <a:xfrm>
            <a:off x="457200" y="1662120"/>
            <a:ext cx="3948120" cy="401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2920" y="1915920"/>
            <a:ext cx="40388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25% - через відкриті труб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10% - через дахи будинкі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25% - через вік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30% - через стін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10% - через фундамен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56000" y="5950080"/>
            <a:ext cx="4392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іть види втра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Застосування теплопередачі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42960" y="5786280"/>
            <a:ext cx="3714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зробити термос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00720" y="5786280"/>
            <a:ext cx="4500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опалю</a:t>
            </a: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єтьс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будино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4786200" y="1643040"/>
            <a:ext cx="3895920" cy="392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4086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Застосування теплопередачі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3827520" cy="43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rcRect l="0" t="0" r="-94" b="0"/>
          <a:stretch/>
        </p:blipFill>
        <p:spPr>
          <a:xfrm>
            <a:off x="611280" y="1557360"/>
            <a:ext cx="7845480" cy="4390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642960" y="428760"/>
            <a:ext cx="785808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теплопередачі спостерігаєм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0" t="0" r="-172" b="0"/>
          <a:stretch/>
        </p:blipFill>
        <p:spPr>
          <a:xfrm>
            <a:off x="285840" y="1571760"/>
            <a:ext cx="3916440" cy="427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14520" y="2285640"/>
            <a:ext cx="4352760" cy="400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те визначення процесу теплопередачі, зображеного на малюн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рахуйте умови, при яких відбувається цей проце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rcRect l="0" t="0" r="1219" b="0"/>
          <a:stretch/>
        </p:blipFill>
        <p:spPr>
          <a:xfrm>
            <a:off x="468360" y="1628640"/>
            <a:ext cx="3989520" cy="2765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rcRect l="0" t="0" r="-77" b="-172"/>
          <a:stretch/>
        </p:blipFill>
        <p:spPr>
          <a:xfrm>
            <a:off x="5286240" y="1554120"/>
            <a:ext cx="3159360" cy="3492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826920" y="4930920"/>
            <a:ext cx="3097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іть дослі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719600" y="5143680"/>
            <a:ext cx="44244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ому сові комфортніше в дерев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’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ій хатинці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34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5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11280" y="5300640"/>
            <a:ext cx="3240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іноплас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651640" y="5157720"/>
            <a:ext cx="2305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г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000080" y="642960"/>
            <a:ext cx="785808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івняйте теплопровідність речови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rcRect l="0" t="0" r="105" b="-65"/>
          <a:stretch/>
        </p:blipFill>
        <p:spPr>
          <a:xfrm>
            <a:off x="947880" y="2502000"/>
            <a:ext cx="3092400" cy="2763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642960" y="714240"/>
            <a:ext cx="771516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іть зображене на малюнк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4857840" y="2286000"/>
            <a:ext cx="33573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428760" y="2143080"/>
            <a:ext cx="4005000" cy="348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rcRect l="0" t="0" r="-45" b="0"/>
          <a:stretch/>
        </p:blipFill>
        <p:spPr>
          <a:xfrm>
            <a:off x="4643280" y="2000160"/>
            <a:ext cx="4002120" cy="3629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642960" y="571680"/>
            <a:ext cx="757224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 це за явище? Дайте його визначе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ясніть причини виникнення денного і нічного бризу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521" t="1370" r="1043" b="685"/>
          <a:stretch/>
        </p:blipFill>
        <p:spPr>
          <a:xfrm>
            <a:off x="1627200" y="1662120"/>
            <a:ext cx="5857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17800" cy="4284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1428840" y="571680"/>
            <a:ext cx="655308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іть види теплопередач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4038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"/>
          <p:cNvPicPr/>
          <p:nvPr/>
        </p:nvPicPr>
        <p:blipFill>
          <a:blip r:embed="rId1"/>
          <a:srcRect l="0" t="0" r="0" b="-173"/>
          <a:stretch/>
        </p:blipFill>
        <p:spPr>
          <a:xfrm>
            <a:off x="785880" y="2181240"/>
            <a:ext cx="2905200" cy="34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rcRect l="0" t="0" r="-96" b="0"/>
          <a:stretch/>
        </p:blipFill>
        <p:spPr>
          <a:xfrm>
            <a:off x="4429080" y="2143080"/>
            <a:ext cx="4308480" cy="3452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428760" y="642960"/>
            <a:ext cx="814392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конвекції зображені на малюнка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45:57Z</dcterms:created>
  <dc:creator>Мазямба</dc:creator>
  <dc:description/>
  <dc:language>en-US</dc:language>
  <cp:lastModifiedBy>Larisa</cp:lastModifiedBy>
  <dcterms:modified xsi:type="dcterms:W3CDTF">2013-01-23T17:12:24Z</dcterms:modified>
  <cp:revision>27</cp:revision>
  <dc:subject/>
  <dc:title>Виды теплопереда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4140</vt:lpwstr>
  </property>
</Properties>
</file>