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1EE-4263-49EF-AEAA-11491923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3AF-A96D-4C6B-B1FC-887E2CAA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964-ED1E-4AB8-9427-98994462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688-87EA-4E93-8FCC-54E40100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537-295F-40B2-A872-C098711E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A1F9-501A-4932-BEA9-B43C9072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374-168B-4940-95DC-512FD12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5CC-F24F-4622-A309-5E94766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D79B-2662-46A1-B66C-C122729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E8F6-7CCA-4725-8F03-E243167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063-3885-41DA-9555-BD00C68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3D7-346D-40B8-9993-3B7466B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FAC-AD7A-45FF-AA43-1B6C67C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6FD8-63BE-4A8E-BC94-563CB826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0D3-4924-4FBA-B167-0AF89E0F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1B2-71B2-451F-91A3-05D5B79D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A83-0B01-4EBB-9224-20F993BA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873-5CDC-4F47-B9B1-B4E71B04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B82-E250-4B5B-9DBE-BAB94D0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DC6-CB63-43B7-8A8B-125AB66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90D-B3D2-47EC-8499-E0223DA1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134-F763-4366-92FC-BBF6976C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7D3-6BBB-4738-9B7E-D11A8F8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B17-EA60-4060-A569-A7BE657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54C-81B8-4760-AE79-2BB9EA92F2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C90-3617-49CA-B64B-EC54CF05E6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Види теплопередачі. Кількість теплоти. Питома теплоємкість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1" descr="MCj00787830000[1]"/>
          <p:cNvPicPr/>
          <p:nvPr/>
        </p:nvPicPr>
        <p:blipFill>
          <a:blip r:embed="rId1"/>
          <a:stretch/>
        </p:blipFill>
        <p:spPr>
          <a:xfrm>
            <a:off x="2627280" y="2421000"/>
            <a:ext cx="18493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j01049700000[1]"/>
          <p:cNvPicPr/>
          <p:nvPr/>
        </p:nvPicPr>
        <p:blipFill>
          <a:blip r:embed="rId2"/>
          <a:stretch/>
        </p:blipFill>
        <p:spPr>
          <a:xfrm>
            <a:off x="1116000" y="4221000"/>
            <a:ext cx="182088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1989820000[1]"/>
          <p:cNvPicPr/>
          <p:nvPr/>
        </p:nvPicPr>
        <p:blipFill>
          <a:blip r:embed="rId3"/>
          <a:stretch/>
        </p:blipFill>
        <p:spPr>
          <a:xfrm>
            <a:off x="4788000" y="3429000"/>
            <a:ext cx="2439720" cy="290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MCHH01125_0000[1]"/>
          <p:cNvPicPr/>
          <p:nvPr/>
        </p:nvPicPr>
        <p:blipFill>
          <a:blip r:embed="rId4"/>
          <a:stretch/>
        </p:blipFill>
        <p:spPr>
          <a:xfrm>
            <a:off x="7524720" y="3068640"/>
            <a:ext cx="104292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зв’язуван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Способи зміни внутрішньої енергії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4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конання робот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плообмін (без виконання робот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228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Теплообмі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Теплопровідність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 – передача енергії обумовлена тепловим рухом і взаємодією частинок без переносу речовини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Конвекці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переносом речовини – потоком рідини, або газ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Випромінюванн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випромінюванням теплими тілами інфрачервоних промені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07i-i200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k_118i"/>
          <p:cNvPicPr/>
          <p:nvPr/>
        </p:nvPicPr>
        <p:blipFill>
          <a:blip r:embed="rId2"/>
          <a:stretch/>
        </p:blipFill>
        <p:spPr>
          <a:xfrm>
            <a:off x="5003640" y="1916280"/>
            <a:ext cx="3279960" cy="367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_MG_0154_www"/>
          <p:cNvPicPr/>
          <p:nvPr/>
        </p:nvPicPr>
        <p:blipFill>
          <a:blip r:embed="rId3"/>
          <a:stretch/>
        </p:blipFill>
        <p:spPr>
          <a:xfrm>
            <a:off x="4284720" y="3116160"/>
            <a:ext cx="3886200" cy="25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0495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риклади теплообміну в природ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89440" cy="410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Енергію яку отримує, або передає  тіло  при теплопередачі називають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ількістю тепло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)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Одиницею вимірювання є Джоуль(Дж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кільки потрібн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плоти, щоб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нагріти ті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Для цього використовують прилад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алоримет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алоримет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нутрішня склянка (алюмініє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Зовнішня склянка (пластмасо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омет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вітряний прошаро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1153800">
            <a:off x="2814480" y="3738240"/>
            <a:ext cx="2592720" cy="288720"/>
          </a:xfrm>
          <a:custGeom>
            <a:avLst/>
            <a:gdLst>
              <a:gd name="textAreaLeft" fmla="*/ 324000 w 2592720"/>
              <a:gd name="textAreaRight" fmla="*/ 2268720 w 259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 rot="1153800">
            <a:off x="3276360" y="306864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/>
          <p:cNvSpPr/>
          <p:nvPr/>
        </p:nvSpPr>
        <p:spPr>
          <a:xfrm rot="1153800">
            <a:off x="3634920" y="270828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8"/>
          <p:cNvSpPr/>
          <p:nvPr/>
        </p:nvSpPr>
        <p:spPr>
          <a:xfrm rot="1642200">
            <a:off x="2671560" y="4371840"/>
            <a:ext cx="2469960" cy="289080"/>
          </a:xfrm>
          <a:custGeom>
            <a:avLst/>
            <a:gdLst>
              <a:gd name="textAreaLeft" fmla="*/ 308520 w 2469960"/>
              <a:gd name="textAreaRight" fmla="*/ 2161440 w 24699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лежність 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6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зміни температу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мас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речовини з якої складається тіл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итома тепло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речовини показує, яка кількість теплоти необхідна для нагрівання тіла масою 1 кг. на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имірюється в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приклад питома теплоємкість цинку 4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 це означає, що для нагрівання кілограму цинку на 1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 потрібно затратити 400Дж енергії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води 42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936720" cy="90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вдання на самопідготов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ручник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1 ст.160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ст.1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29:44Z</dcterms:created>
  <dc:creator>Тато</dc:creator>
  <dc:description/>
  <dc:language>en-US</dc:language>
  <cp:lastModifiedBy>admin</cp:lastModifiedBy>
  <dcterms:modified xsi:type="dcterms:W3CDTF">2011-04-25T00:02:58Z</dcterms:modified>
  <cp:revision>8</cp:revision>
  <dc:subject/>
  <dc:title>Види теплопередачі. Кількість теплоти. Питома теплоємкість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5000000000001024140</vt:lpwstr>
  </property>
</Properties>
</file>