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504-6BE0-43D5-A92C-B0538D85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01D-960C-4877-8F0E-CA23FA20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DB0-1257-47AE-8A0E-ABEF8DD5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D26-D8FE-4F80-AA8D-30BFD7F1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1FE0-2E22-415F-BECB-4E270122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866-A2B7-4874-8612-89A3913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1C6-1C05-4663-93EF-8689864E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9E01-A2ED-42AB-9325-0B45F263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B692-7D1C-4FD2-829A-08BC689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926C-810D-4BEB-B404-371D6910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057F-D578-4232-BD43-34E0636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54A-C5CC-4665-86EA-0B9C63A8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78A-BA18-4B68-9F4B-6DD4243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E5EB-CD88-4C10-BA00-D2FD70F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AF4-DAA2-415E-8ECA-DB89BA7F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E70-9158-44BF-8807-258C1913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7B2-250B-48EB-9B46-C0A219A8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24D-C17B-484F-93F3-A132B04A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53A-FDF6-4B4C-8932-AD2CF38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FE9-4A13-4169-AC0C-A7E50D3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618-E860-4543-932D-C1511A7A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E44-331D-4E72-8CFE-7B5D8DD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7BA-B825-4CC7-B02E-F7C625E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6AD-3BAD-4F65-8276-ECE98F3F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C9A-BE8D-4CC8-B372-083A418A86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EBDB-FC5F-4F18-A4B0-6F73EE8399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Garamond"/>
              </a:rPr>
              <a:t>Види теплопередачі</a:t>
            </a:r>
            <a:br>
              <a:rPr sz="6600"/>
            </a:br>
            <a:endParaRPr b="0" lang="en-US" sz="66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6000840" cy="3479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57200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ідготувала вчитель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До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нецької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Ш І-ІІ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т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Бражник Л.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5128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rcRect l="0" t="0" r="-65" b="0"/>
          <a:stretch/>
        </p:blipFill>
        <p:spPr>
          <a:xfrm>
            <a:off x="4643280" y="1844640"/>
            <a:ext cx="3792600" cy="4068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500200" y="642960"/>
            <a:ext cx="3961080" cy="106884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aramond"/>
                <a:ea typeface="Times New Roman"/>
              </a:rPr>
              <a:t>Поясніть малюн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rcRect l="0" t="0" r="-30" b="0"/>
          <a:stretch/>
        </p:blipFill>
        <p:spPr>
          <a:xfrm>
            <a:off x="539640" y="1623960"/>
            <a:ext cx="7802640" cy="4181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071720" y="714240"/>
            <a:ext cx="707220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0" t="0" r="-157" b="170"/>
          <a:stretch/>
        </p:blipFill>
        <p:spPr>
          <a:xfrm>
            <a:off x="4857840" y="1717560"/>
            <a:ext cx="3619440" cy="3953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143080" y="642960"/>
            <a:ext cx="51134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іть і поясніть явищ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rcRect l="0" t="0" r="0" b="-62"/>
          <a:stretch/>
        </p:blipFill>
        <p:spPr>
          <a:xfrm>
            <a:off x="285840" y="1835280"/>
            <a:ext cx="4429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5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  <a:ea typeface="Times New Roman"/>
              </a:rPr>
              <a:t>Втрати тепла в будинках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-127" b="-172"/>
          <a:stretch/>
        </p:blipFill>
        <p:spPr>
          <a:xfrm>
            <a:off x="457200" y="1662120"/>
            <a:ext cx="3948120" cy="401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2920" y="1915920"/>
            <a:ext cx="40388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дкриті труб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дахи будинкі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к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30% - через стін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фундамен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56000" y="5950080"/>
            <a:ext cx="4392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види втра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42960" y="5786280"/>
            <a:ext cx="3714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зробити термос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00720" y="5786280"/>
            <a:ext cx="4500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опалю</a:t>
            </a: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єтьс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будин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4786200" y="1643040"/>
            <a:ext cx="3895920" cy="392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4086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3827520" cy="43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rcRect l="0" t="0" r="-94" b="0"/>
          <a:stretch/>
        </p:blipFill>
        <p:spPr>
          <a:xfrm>
            <a:off x="611280" y="1557360"/>
            <a:ext cx="7845480" cy="4390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42960" y="428760"/>
            <a:ext cx="785808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0" t="0" r="-172" b="0"/>
          <a:stretch/>
        </p:blipFill>
        <p:spPr>
          <a:xfrm>
            <a:off x="285840" y="1571760"/>
            <a:ext cx="3916440" cy="427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14520" y="2285640"/>
            <a:ext cx="4352760" cy="400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визначення процесу теплопередачі, зображеного на малюн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рахуйте умови, при яких відбувається цей проце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rcRect l="0" t="0" r="1219" b="0"/>
          <a:stretch/>
        </p:blipFill>
        <p:spPr>
          <a:xfrm>
            <a:off x="468360" y="1628640"/>
            <a:ext cx="3989520" cy="276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rcRect l="0" t="0" r="-77" b="-172"/>
          <a:stretch/>
        </p:blipFill>
        <p:spPr>
          <a:xfrm>
            <a:off x="5286240" y="1554120"/>
            <a:ext cx="3159360" cy="349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826920" y="4930920"/>
            <a:ext cx="3097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дослі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719600" y="5143680"/>
            <a:ext cx="44244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ому сові комфортніше в дерев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’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ій хатинці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34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11280" y="5300640"/>
            <a:ext cx="3240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ноплас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651640" y="5157720"/>
            <a:ext cx="2305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г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000080" y="642960"/>
            <a:ext cx="7858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івняйте теплопровідність речов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rcRect l="0" t="0" r="105" b="-65"/>
          <a:stretch/>
        </p:blipFill>
        <p:spPr>
          <a:xfrm>
            <a:off x="947880" y="2502000"/>
            <a:ext cx="3092400" cy="2763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42960" y="714240"/>
            <a:ext cx="771516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зображене на малюнк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857840" y="2286000"/>
            <a:ext cx="33573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428760" y="2143080"/>
            <a:ext cx="4005000" cy="348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rcRect l="0" t="0" r="-45" b="0"/>
          <a:stretch/>
        </p:blipFill>
        <p:spPr>
          <a:xfrm>
            <a:off x="4643280" y="2000160"/>
            <a:ext cx="4002120" cy="3629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642960" y="571680"/>
            <a:ext cx="75722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 це за явище? Дайте його визнач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ясніть причини виникнення денного і нічного бризу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521" t="1370" r="1043" b="685"/>
          <a:stretch/>
        </p:blipFill>
        <p:spPr>
          <a:xfrm>
            <a:off x="1627200" y="1662120"/>
            <a:ext cx="5857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17800" cy="4284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1428840" y="571680"/>
            <a:ext cx="6553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види теплопередач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4038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rcRect l="0" t="0" r="0" b="-173"/>
          <a:stretch/>
        </p:blipFill>
        <p:spPr>
          <a:xfrm>
            <a:off x="785880" y="2181240"/>
            <a:ext cx="2905200" cy="34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rcRect l="0" t="0" r="-96" b="0"/>
          <a:stretch/>
        </p:blipFill>
        <p:spPr>
          <a:xfrm>
            <a:off x="4429080" y="2143080"/>
            <a:ext cx="4308480" cy="3452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428760" y="642960"/>
            <a:ext cx="814392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конвекції зображені на малюнка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45:57Z</dcterms:created>
  <dc:creator>Мазямба</dc:creator>
  <dc:description/>
  <dc:language>en-US</dc:language>
  <cp:lastModifiedBy>Larisa</cp:lastModifiedBy>
  <dcterms:modified xsi:type="dcterms:W3CDTF">2013-01-23T17:12:24Z</dcterms:modified>
  <cp:revision>27</cp:revision>
  <dc:subject/>
  <dc:title>Виды теплопереда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4140</vt:lpwstr>
  </property>
</Properties>
</file>