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5AC-AFEA-446C-B5C7-5EEB77B0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A37-8646-4640-BD34-AF2BD05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F84-8842-482D-9260-48430F6E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C5C-C578-4778-B6E9-DC64BAF1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65B9-436F-47C2-9989-CC3CB9F1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A5F-02C7-473E-80FB-5321939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33E6-1C6F-4E7B-B9A6-7BBC4C17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0D0-7DF0-426E-B3F4-ECEF1A1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792-C09B-426F-BF75-960D573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A910-AD02-4F61-B5CA-D35AD4C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2D6-3502-4E2B-A32C-60A03F7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940-B08F-45C9-B96C-58B5F5EB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2F0-D70C-4CF2-A923-73D148F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1E51-1983-43B5-8A6B-0960984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4C39-2921-4E42-8002-9C6FF12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64B-DEA1-4DAA-B714-CC6E9B11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0F0-6A7B-4B87-8096-0A956C08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852-6D4D-4572-B6E5-D6B53964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C58-6671-4929-80E5-6107C96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1E9-EF53-40FD-9D9B-47FC286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097-5AAC-47E2-9F71-545AB66A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5B3-8B71-495B-BA58-5AD8C45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C4F-8798-44B2-B434-0BBF74F6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D3E-8375-4A16-B8C7-5FDAA86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D5C-6225-4499-864B-16380003E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130-771C-49A3-9C86-61FFFA132F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Види теплопередачі. Кількість теплоти. Питома теплоємкість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1" descr="MCj00787830000[1]"/>
          <p:cNvPicPr/>
          <p:nvPr/>
        </p:nvPicPr>
        <p:blipFill>
          <a:blip r:embed="rId1"/>
          <a:stretch/>
        </p:blipFill>
        <p:spPr>
          <a:xfrm>
            <a:off x="2627280" y="2421000"/>
            <a:ext cx="18493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j01049700000[1]"/>
          <p:cNvPicPr/>
          <p:nvPr/>
        </p:nvPicPr>
        <p:blipFill>
          <a:blip r:embed="rId2"/>
          <a:stretch/>
        </p:blipFill>
        <p:spPr>
          <a:xfrm>
            <a:off x="1116000" y="4221000"/>
            <a:ext cx="182088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1989820000[1]"/>
          <p:cNvPicPr/>
          <p:nvPr/>
        </p:nvPicPr>
        <p:blipFill>
          <a:blip r:embed="rId3"/>
          <a:stretch/>
        </p:blipFill>
        <p:spPr>
          <a:xfrm>
            <a:off x="4788000" y="3429000"/>
            <a:ext cx="2439720" cy="290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MCHH01125_0000[1]"/>
          <p:cNvPicPr/>
          <p:nvPr/>
        </p:nvPicPr>
        <p:blipFill>
          <a:blip r:embed="rId4"/>
          <a:stretch/>
        </p:blipFill>
        <p:spPr>
          <a:xfrm>
            <a:off x="7524720" y="3068640"/>
            <a:ext cx="104292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зв’язуван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Способи зміни внутрішньої енергії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4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конання робот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плообмін (без виконання робот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228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Теплообмі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Теплопровідність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 – передача енергії обумовлена тепловим рухом і взаємодією частинок без переносу речовини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Конвекці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переносом речовини – потоком рідини, або газ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Випромінюванн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випромінюванням теплими тілами інфрачервоних промені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07i-i200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k_118i"/>
          <p:cNvPicPr/>
          <p:nvPr/>
        </p:nvPicPr>
        <p:blipFill>
          <a:blip r:embed="rId2"/>
          <a:stretch/>
        </p:blipFill>
        <p:spPr>
          <a:xfrm>
            <a:off x="5003640" y="1916280"/>
            <a:ext cx="3279960" cy="367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_MG_0154_www"/>
          <p:cNvPicPr/>
          <p:nvPr/>
        </p:nvPicPr>
        <p:blipFill>
          <a:blip r:embed="rId3"/>
          <a:stretch/>
        </p:blipFill>
        <p:spPr>
          <a:xfrm>
            <a:off x="4284720" y="3116160"/>
            <a:ext cx="3886200" cy="25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0495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риклади теплообміну в природ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89440" cy="410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Енергію яку отримує, або передає  тіло  при теплопередачі називають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ількістю тепло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)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Одиницею вимірювання є Джоуль(Дж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кільки потрібн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плоти, щоб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нагріти ті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Для цього використовують прилад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алоримет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алоримет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нутрішня склянка (алюмініє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Зовнішня склянка (пластмасо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омет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вітряний прошаро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1153800">
            <a:off x="2814480" y="3738240"/>
            <a:ext cx="2592720" cy="288720"/>
          </a:xfrm>
          <a:custGeom>
            <a:avLst/>
            <a:gdLst>
              <a:gd name="textAreaLeft" fmla="*/ 324000 w 2592720"/>
              <a:gd name="textAreaRight" fmla="*/ 2268720 w 259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 rot="1153800">
            <a:off x="3276360" y="306864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/>
          <p:cNvSpPr/>
          <p:nvPr/>
        </p:nvSpPr>
        <p:spPr>
          <a:xfrm rot="1153800">
            <a:off x="3634920" y="270828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8"/>
          <p:cNvSpPr/>
          <p:nvPr/>
        </p:nvSpPr>
        <p:spPr>
          <a:xfrm rot="1642200">
            <a:off x="2671560" y="4371840"/>
            <a:ext cx="2469960" cy="289080"/>
          </a:xfrm>
          <a:custGeom>
            <a:avLst/>
            <a:gdLst>
              <a:gd name="textAreaLeft" fmla="*/ 308520 w 2469960"/>
              <a:gd name="textAreaRight" fmla="*/ 2161440 w 24699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лежність 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6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зміни температу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мас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речовини з якої складається тіл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итома тепло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речовини показує, яка кількість теплоти необхідна для нагрівання тіла масою 1 кг. на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имірюється в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приклад питома теплоємкість цинку 4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 це означає, що для нагрівання кілограму цинку на 1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 потрібно затратити 400Дж енергії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води 42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936720" cy="90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вдання на самопідготов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ручник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1 ст.160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ст.1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29:44Z</dcterms:created>
  <dc:creator>Тато</dc:creator>
  <dc:description/>
  <dc:language>en-US</dc:language>
  <cp:lastModifiedBy>admin</cp:lastModifiedBy>
  <dcterms:modified xsi:type="dcterms:W3CDTF">2011-04-25T00:02:58Z</dcterms:modified>
  <cp:revision>8</cp:revision>
  <dc:subject/>
  <dc:title>Види теплопередачі. Кількість теплоти. Питома теплоємкість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5000000000001024140</vt:lpwstr>
  </property>
</Properties>
</file>