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BA6-1E53-48C6-B9F6-87D9758C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423-2CCB-4397-825A-9CA601D1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97C-59BC-4BF6-802F-BBB027C5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E9E-27CC-491B-A832-BCE8FAD6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FF2D-C1BE-4394-A351-A8CDECD4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0300-3E43-4F66-AFB4-149EC55F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CB5B-6895-47B9-B72C-A5C24C6E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4100-6455-49ED-9A8A-2BB77F72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F914-4966-4DEF-9130-A851E134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7414-C5ED-42E9-A19A-4A72328B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E8C0-941A-4BC6-96D3-D856C237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164-9726-4F7D-9CC4-53B9ED87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9F6E-D147-45FB-A21C-50B3725F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B5E4-03D4-48FF-8DBE-1656B92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2C91-2687-43CC-BE51-D32DCA2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03A4-D477-4437-9B13-413E39E3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5ECA-9A44-43AD-9F12-83C844D0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A82-5F4C-4992-907F-859B530E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BCB-7944-44BE-B07A-5E3F4534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6DC-144F-49F6-B851-26DCF3CB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282-E2DA-4A1D-AE15-1113EA4D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5C3-824F-4FF5-B1E1-B15A7CA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C12-CE9B-42CB-B84D-06B6C4E7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992-79DC-4B3E-AC2D-5CD9598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F555-70C9-4A95-B544-771641F29D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12BD-98D5-4CF7-A9BD-2701ABA951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Види теплопередачі. Кількість теплоти. Питома теплоємкість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1" descr="MCj00787830000[1]"/>
          <p:cNvPicPr/>
          <p:nvPr/>
        </p:nvPicPr>
        <p:blipFill>
          <a:blip r:embed="rId1"/>
          <a:stretch/>
        </p:blipFill>
        <p:spPr>
          <a:xfrm>
            <a:off x="2627280" y="2421000"/>
            <a:ext cx="1849320" cy="198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MCj01049700000[1]"/>
          <p:cNvPicPr/>
          <p:nvPr/>
        </p:nvPicPr>
        <p:blipFill>
          <a:blip r:embed="rId2"/>
          <a:stretch/>
        </p:blipFill>
        <p:spPr>
          <a:xfrm>
            <a:off x="1116000" y="4221000"/>
            <a:ext cx="1820880" cy="182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MCj01989820000[1]"/>
          <p:cNvPicPr/>
          <p:nvPr/>
        </p:nvPicPr>
        <p:blipFill>
          <a:blip r:embed="rId3"/>
          <a:stretch/>
        </p:blipFill>
        <p:spPr>
          <a:xfrm>
            <a:off x="4788000" y="3429000"/>
            <a:ext cx="2439720" cy="290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MCHH01125_0000[1]"/>
          <p:cNvPicPr/>
          <p:nvPr/>
        </p:nvPicPr>
        <p:blipFill>
          <a:blip r:embed="rId4"/>
          <a:stretch/>
        </p:blipFill>
        <p:spPr>
          <a:xfrm>
            <a:off x="7524720" y="3068640"/>
            <a:ext cx="1042920" cy="172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042920" y="1989000"/>
            <a:ext cx="691380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озв’язуванн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Способи зміни внутрішньої енергії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445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иконання робот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еплообмін (без виконання робот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00720" y="1557360"/>
            <a:ext cx="222876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Теплообмін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Теплопровідність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 – передача енергії обумовлена тепловим рухом і взаємодією частинок без переносу речовини.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Конвекція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передача енергії обумовлена переносом речовини – потоком рідини, або газу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Випромінювання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передача енергії обумовлена випромінюванням теплими тілами інфрачервоних променів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07i-i200"/>
          <p:cNvPicPr/>
          <p:nvPr/>
        </p:nvPicPr>
        <p:blipFill>
          <a:blip r:embed="rId1"/>
          <a:stretch/>
        </p:blipFill>
        <p:spPr>
          <a:xfrm>
            <a:off x="5003640" y="1557360"/>
            <a:ext cx="3313440" cy="13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k_118i"/>
          <p:cNvPicPr/>
          <p:nvPr/>
        </p:nvPicPr>
        <p:blipFill>
          <a:blip r:embed="rId2"/>
          <a:stretch/>
        </p:blipFill>
        <p:spPr>
          <a:xfrm>
            <a:off x="5003640" y="1916280"/>
            <a:ext cx="3279960" cy="367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_MG_0154_www"/>
          <p:cNvPicPr/>
          <p:nvPr/>
        </p:nvPicPr>
        <p:blipFill>
          <a:blip r:embed="rId3"/>
          <a:stretch/>
        </p:blipFill>
        <p:spPr>
          <a:xfrm>
            <a:off x="4284720" y="3116160"/>
            <a:ext cx="3886200" cy="259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5000760" y="2357280"/>
            <a:ext cx="30495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Приклади теплообміну в природі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89440" cy="410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Кількість тепло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Енергію яку отримує, або передає  тіло  при теплопередачі називають </a:t>
            </a: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кількістю теплоти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.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)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Одиницею вимірювання є Джоуль(Дж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Скільки потрібно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плоти, щоб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нагріти тіл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Для цього використовують прилад </a:t>
            </a: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калориметр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Калоримет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нутрішня склянка (алюмінієв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Зовнішня склянка (пластмасов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омет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вітряний прошаро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00360" cy="31989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 rot="1153800">
            <a:off x="2814480" y="3738240"/>
            <a:ext cx="2592720" cy="288720"/>
          </a:xfrm>
          <a:custGeom>
            <a:avLst/>
            <a:gdLst>
              <a:gd name="textAreaLeft" fmla="*/ 324000 w 2592720"/>
              <a:gd name="textAreaRight" fmla="*/ 2268720 w 259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6"/>
          <p:cNvSpPr/>
          <p:nvPr/>
        </p:nvSpPr>
        <p:spPr>
          <a:xfrm rot="1153800">
            <a:off x="3276360" y="3068640"/>
            <a:ext cx="1584360" cy="28908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7"/>
          <p:cNvSpPr/>
          <p:nvPr/>
        </p:nvSpPr>
        <p:spPr>
          <a:xfrm rot="1153800">
            <a:off x="3634920" y="2708280"/>
            <a:ext cx="1584360" cy="28908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8"/>
          <p:cNvSpPr/>
          <p:nvPr/>
        </p:nvSpPr>
        <p:spPr>
          <a:xfrm rot="1642200">
            <a:off x="2671560" y="4371840"/>
            <a:ext cx="2469960" cy="289080"/>
          </a:xfrm>
          <a:custGeom>
            <a:avLst/>
            <a:gdLst>
              <a:gd name="textAreaLeft" fmla="*/ 308520 w 2469960"/>
              <a:gd name="textAreaRight" fmla="*/ 2161440 w 24699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Залежність кількість тепло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6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зміни температу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мас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речовини з якої складається тіл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00360" cy="319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итома тепло</a:t>
            </a: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є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ні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Питома теплоємність речовини показує, яка кількість теплоти необхідна для нагрівання тіла масою 1 кг. на 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Вимірюється в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Наприклад питома теплоємкість цинку 400Дж/(кг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) це означає, що для нагрівання кілограму цинку на 1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 потрібно затратити 400Дж енергії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Питома теплоємність води 4200Дж/(кг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Object 4" descr=""/>
          <p:cNvPicPr/>
          <p:nvPr/>
        </p:nvPicPr>
        <p:blipFill>
          <a:blip r:embed="rId1"/>
          <a:stretch/>
        </p:blipFill>
        <p:spPr>
          <a:xfrm>
            <a:off x="3851280" y="2924280"/>
            <a:ext cx="936720" cy="907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Завдання на самопідготов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ручник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1 ст.160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2 ст.16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29:44Z</dcterms:created>
  <dc:creator>Тато</dc:creator>
  <dc:description/>
  <dc:language>en-US</dc:language>
  <cp:lastModifiedBy>admin</cp:lastModifiedBy>
  <dcterms:modified xsi:type="dcterms:W3CDTF">2011-04-25T00:02:58Z</dcterms:modified>
  <cp:revision>8</cp:revision>
  <dc:subject/>
  <dc:title>Види теплопередачі. Кількість теплоти. Питома теплоємкість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5000000000001024140</vt:lpwstr>
  </property>
</Properties>
</file>