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0A1-72C8-470F-8D57-2FE470A2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9016-FC03-4453-A094-62C2D0B5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CE0-5E4E-48A7-A805-9ED219BE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4A8-A6DE-46C1-B7D0-9E362768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8AA6-537A-415A-9FC0-CB7EB754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674E-8E65-4B03-B45C-E3FAF32B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02FF-265A-4A5F-9C50-10B54A03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DC20-8400-4993-9CB6-8B490A6E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0ECD-C471-4DB7-AB2D-02B9A37D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063A-2411-4685-A036-BF582325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340C-D41F-4818-970B-A0A680DB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45E-F201-484B-A79B-16E69969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1C1C-487B-4C16-897E-A54691D8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0201-D6B7-4449-9721-AE27CE76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7F42-FE56-4F77-84C4-10049C29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F565-36D3-4EFD-A00F-1F8B3EF2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7108-17F6-472F-BD52-6346DB96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16B6-77EE-4CDD-AB61-D8F1012A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16C-EBE1-4155-9A70-7DC4AA2E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04D-F505-4C6F-8020-6953F1A3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680-2F5C-4143-8917-872896AD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2FCA-C21B-4196-9690-A2F5B3C7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7203-DE3C-4A4A-8949-9CAE5A22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1B0-90F6-4A18-9154-2C864380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99DB-D873-4CD8-ABA5-266AECC53D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0B4C-44D2-4403-BCF4-26326F7C61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Види теплопередачі. Кількість теплоти. Питома теплоємкість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11" descr="MCj00787830000[1]"/>
          <p:cNvPicPr/>
          <p:nvPr/>
        </p:nvPicPr>
        <p:blipFill>
          <a:blip r:embed="rId1"/>
          <a:stretch/>
        </p:blipFill>
        <p:spPr>
          <a:xfrm>
            <a:off x="2627280" y="2421000"/>
            <a:ext cx="1849320" cy="1985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MCj01049700000[1]"/>
          <p:cNvPicPr/>
          <p:nvPr/>
        </p:nvPicPr>
        <p:blipFill>
          <a:blip r:embed="rId2"/>
          <a:stretch/>
        </p:blipFill>
        <p:spPr>
          <a:xfrm>
            <a:off x="1116000" y="4221000"/>
            <a:ext cx="1820880" cy="182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MCj01989820000[1]"/>
          <p:cNvPicPr/>
          <p:nvPr/>
        </p:nvPicPr>
        <p:blipFill>
          <a:blip r:embed="rId3"/>
          <a:stretch/>
        </p:blipFill>
        <p:spPr>
          <a:xfrm>
            <a:off x="4788000" y="3429000"/>
            <a:ext cx="2439720" cy="2905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MCHH01125_0000[1]"/>
          <p:cNvPicPr/>
          <p:nvPr/>
        </p:nvPicPr>
        <p:blipFill>
          <a:blip r:embed="rId4"/>
          <a:stretch/>
        </p:blipFill>
        <p:spPr>
          <a:xfrm>
            <a:off x="7524720" y="3068640"/>
            <a:ext cx="1042920" cy="1724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1042920" y="1989000"/>
            <a:ext cx="691380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озв’язуванн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да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Способи зміни внутрішньої енергії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5445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Виконання робот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Теплообмін (без виконання роботи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00720" y="1557360"/>
            <a:ext cx="2228760" cy="3076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Verdana"/>
              </a:rPr>
              <a:t>Теплообмін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336699"/>
                </a:solidFill>
                <a:latin typeface="Verdana"/>
              </a:rPr>
              <a:t>Теплопровідність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Verdana"/>
              </a:rPr>
              <a:t> – передача енергії обумовлена тепловим рухом і взаємодією частинок без переносу речовини.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336699"/>
                </a:solidFill>
                <a:latin typeface="Verdana"/>
              </a:rPr>
              <a:t>Конвекція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Verdana"/>
              </a:rPr>
              <a:t>передача енергії обумовлена переносом речовини – потоком рідини, або газу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336699"/>
                </a:solidFill>
                <a:latin typeface="Verdana"/>
              </a:rPr>
              <a:t>Випромінювання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Verdana"/>
              </a:rPr>
              <a:t>передача енергії обумовлена випромінюванням теплими тілами інфрачервоних променів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07i-i200"/>
          <p:cNvPicPr/>
          <p:nvPr/>
        </p:nvPicPr>
        <p:blipFill>
          <a:blip r:embed="rId1"/>
          <a:stretch/>
        </p:blipFill>
        <p:spPr>
          <a:xfrm>
            <a:off x="5003640" y="1557360"/>
            <a:ext cx="3313440" cy="136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k_118i"/>
          <p:cNvPicPr/>
          <p:nvPr/>
        </p:nvPicPr>
        <p:blipFill>
          <a:blip r:embed="rId2"/>
          <a:stretch/>
        </p:blipFill>
        <p:spPr>
          <a:xfrm>
            <a:off x="5003640" y="1916280"/>
            <a:ext cx="3279960" cy="3673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_MG_0154_www"/>
          <p:cNvPicPr/>
          <p:nvPr/>
        </p:nvPicPr>
        <p:blipFill>
          <a:blip r:embed="rId3"/>
          <a:stretch/>
        </p:blipFill>
        <p:spPr>
          <a:xfrm>
            <a:off x="4284720" y="3116160"/>
            <a:ext cx="3886200" cy="2594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tretch/>
        </p:blipFill>
        <p:spPr>
          <a:xfrm>
            <a:off x="5000760" y="2357280"/>
            <a:ext cx="304956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Приклади теплообміну в природі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89440" cy="4108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Кількість тепло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Енергію яку отримує, або передає  тіло  при теплопередачі називають </a:t>
            </a:r>
            <a:r>
              <a:rPr b="1" i="1" lang="uk-UA" sz="3000" spc="-1" strike="noStrike">
                <a:solidFill>
                  <a:srgbClr val="000000"/>
                </a:solidFill>
                <a:latin typeface="Verdana"/>
              </a:rPr>
              <a:t>кількістю теплоти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.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)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Одиницею вимірювання є Джоуль(Дж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Скільки потрібно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еплоти, щоб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 нагріти тіло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Для цього використовують прилад </a:t>
            </a:r>
            <a:r>
              <a:rPr b="1" i="1" lang="uk-UA" sz="3000" spc="-1" strike="noStrike">
                <a:solidFill>
                  <a:srgbClr val="000000"/>
                </a:solidFill>
                <a:latin typeface="Verdana"/>
              </a:rPr>
              <a:t>калориметр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Калоримет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78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нутрішня склянка (алюмінієв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Зовнішня склянка (пластмасова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ометр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вітряний прошаро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600360" cy="31989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5"/>
          <p:cNvSpPr/>
          <p:nvPr/>
        </p:nvSpPr>
        <p:spPr>
          <a:xfrm rot="1153800">
            <a:off x="2814480" y="3738240"/>
            <a:ext cx="2592720" cy="288720"/>
          </a:xfrm>
          <a:custGeom>
            <a:avLst/>
            <a:gdLst>
              <a:gd name="textAreaLeft" fmla="*/ 324000 w 2592720"/>
              <a:gd name="textAreaRight" fmla="*/ 2268720 w 2592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6"/>
          <p:cNvSpPr/>
          <p:nvPr/>
        </p:nvSpPr>
        <p:spPr>
          <a:xfrm rot="1153800">
            <a:off x="3276360" y="3068640"/>
            <a:ext cx="1584360" cy="28908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7"/>
          <p:cNvSpPr/>
          <p:nvPr/>
        </p:nvSpPr>
        <p:spPr>
          <a:xfrm rot="1153800">
            <a:off x="3634920" y="2708280"/>
            <a:ext cx="1584360" cy="28908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8"/>
          <p:cNvSpPr/>
          <p:nvPr/>
        </p:nvSpPr>
        <p:spPr>
          <a:xfrm rot="1642200">
            <a:off x="2671560" y="4371840"/>
            <a:ext cx="2469960" cy="289080"/>
          </a:xfrm>
          <a:custGeom>
            <a:avLst/>
            <a:gdLst>
              <a:gd name="textAreaLeft" fmla="*/ 308520 w 2469960"/>
              <a:gd name="textAreaRight" fmla="*/ 2161440 w 246996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Залежність кількість тепло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6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Від зміни температур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Від мас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Від речовини з якої складається тіл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600360" cy="319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итома тепло</a:t>
            </a: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є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ніст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Питома теплоємність речовини показує, яка кількість теплоти необхідна для нагрівання тіла масою 1 кг. на 1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º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С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Вимірюється в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Наприклад питома теплоємкість цинку 400Дж/(кг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º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С) це означає, що для нагрівання кілограму цинку на 1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º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С потрібно затратити 400Дж енергії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Питома теплоємність води 4200Дж/(кг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º</a:t>
            </a: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С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Object 4" descr=""/>
          <p:cNvPicPr/>
          <p:nvPr/>
        </p:nvPicPr>
        <p:blipFill>
          <a:blip r:embed="rId1"/>
          <a:stretch/>
        </p:blipFill>
        <p:spPr>
          <a:xfrm>
            <a:off x="3851280" y="2924280"/>
            <a:ext cx="936720" cy="907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Завдання на самопідготовк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</a:rPr>
              <a:t>Підручник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1 ст.160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2 ст.16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9:29:44Z</dcterms:created>
  <dc:creator>Тато</dc:creator>
  <dc:description/>
  <dc:language>en-US</dc:language>
  <cp:lastModifiedBy>admin</cp:lastModifiedBy>
  <dcterms:modified xsi:type="dcterms:W3CDTF">2011-04-25T00:02:58Z</dcterms:modified>
  <cp:revision>8</cp:revision>
  <dc:subject/>
  <dc:title>Види теплопередачі. Кількість теплоти. Питома теплоємкість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5000000000001024140</vt:lpwstr>
  </property>
</Properties>
</file>