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136-9CE0-4CB2-B139-D23EC8D1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971-981C-4408-86F9-5E28F498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9AA-CC07-4047-B8E4-3DA9A408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DF1-4C6D-43DD-973D-15FBCD55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0611-4AC4-423E-9884-27613085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3CCE-9600-4BE4-B217-13D3D1BE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8DB6-7FF9-4500-93A7-EF23BD35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8C20-3656-4FF9-AFFC-015006C0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B4A5-9C3A-4CF3-AD89-D99E41D2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866B-9290-469B-8027-4026B9D3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F540-8415-401B-A91D-06DF1E15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DFF-45B9-4530-A34A-E62DB0C5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EDC7-E4A2-4286-B558-0C13C3BF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BA88-F1A3-4653-A023-C8FB47D6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182A-2941-4420-840D-20D05298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298C-3AB0-49C0-8193-5A595757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1C1A-0F2C-4A7A-A40B-71EF8BB1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9BE-9EEC-458F-8369-5BF2EF47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AFC-E963-49DA-AD0C-646DAD9F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4F2-D664-4D0C-B2CC-DC89DE1E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1B2-311A-49D2-A644-906EAD18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6527-1BCD-4B56-9864-43397507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948-CEE0-47BD-AFAB-F799A0D3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509-43F3-457A-899A-F26D4BCC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0495-55C7-42D5-A1F4-0F8FA1745C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393C-2B68-4D84-8907-8D67503A36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Garamond"/>
              </a:rPr>
              <a:t>Види теплопередачі</a:t>
            </a:r>
            <a:br>
              <a:rPr sz="6600"/>
            </a:br>
            <a:endParaRPr b="0" lang="en-US" sz="66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500120" y="3143160"/>
            <a:ext cx="6000840" cy="34797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4572000" y="472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     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ідготувала вчитель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         До</a:t>
            </a: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нецької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Ш І-ІІ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т.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         </a:t>
            </a: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Бражник Л.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51280" cy="431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2"/>
          <a:srcRect l="0" t="0" r="-65" b="0"/>
          <a:stretch/>
        </p:blipFill>
        <p:spPr>
          <a:xfrm>
            <a:off x="4643280" y="1844640"/>
            <a:ext cx="3792600" cy="4068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2500200" y="642960"/>
            <a:ext cx="3961080" cy="106884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aramond"/>
                <a:ea typeface="Times New Roman"/>
              </a:rPr>
              <a:t>Поясніть малюн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rcRect l="0" t="0" r="-30" b="0"/>
          <a:stretch/>
        </p:blipFill>
        <p:spPr>
          <a:xfrm>
            <a:off x="539640" y="1623960"/>
            <a:ext cx="7802640" cy="41814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1071720" y="714240"/>
            <a:ext cx="707220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і види теплопередачі спостерігаєм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/>
          <a:srcRect l="0" t="0" r="-157" b="170"/>
          <a:stretch/>
        </p:blipFill>
        <p:spPr>
          <a:xfrm>
            <a:off x="4857840" y="1717560"/>
            <a:ext cx="3619440" cy="3953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2143080" y="642960"/>
            <a:ext cx="511344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віть і поясніть явищ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2"/>
          <a:srcRect l="0" t="0" r="0" b="-62"/>
          <a:stretch/>
        </p:blipFill>
        <p:spPr>
          <a:xfrm>
            <a:off x="285840" y="1835280"/>
            <a:ext cx="44290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65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  <a:ea typeface="Times New Roman"/>
              </a:rPr>
              <a:t>Втрати тепла в будинках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0" t="0" r="-127" b="-172"/>
          <a:stretch/>
        </p:blipFill>
        <p:spPr>
          <a:xfrm>
            <a:off x="457200" y="1662120"/>
            <a:ext cx="3948120" cy="4010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642920" y="1915920"/>
            <a:ext cx="40388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25% - через відкриті труб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10% - через дахи будинкі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25% - через вікн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30% - через стін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10% - через фундамен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556000" y="5950080"/>
            <a:ext cx="4392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сніть види втра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Застосування теплопередачі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642960" y="5786280"/>
            <a:ext cx="37148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к зробити термос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500720" y="5786280"/>
            <a:ext cx="4500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к опалю</a:t>
            </a: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єтьс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будинок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4786200" y="1643040"/>
            <a:ext cx="3895920" cy="392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408600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Garamond"/>
              </a:rPr>
              <a:t>Застосування теплопередачі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3827520" cy="435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03884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rcRect l="0" t="0" r="-94" b="0"/>
          <a:stretch/>
        </p:blipFill>
        <p:spPr>
          <a:xfrm>
            <a:off x="611280" y="1557360"/>
            <a:ext cx="7845480" cy="43909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6"/>
          <p:cNvSpPr/>
          <p:nvPr/>
        </p:nvSpPr>
        <p:spPr>
          <a:xfrm>
            <a:off x="642960" y="428760"/>
            <a:ext cx="785808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і види теплопередачі спостерігаєм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rcRect l="0" t="0" r="-172" b="0"/>
          <a:stretch/>
        </p:blipFill>
        <p:spPr>
          <a:xfrm>
            <a:off x="285840" y="1571760"/>
            <a:ext cx="3916440" cy="4276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214520" y="2285640"/>
            <a:ext cx="4352760" cy="400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йте визначення процесу теплопередачі, зображеного на малюн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рахуйте умови, при яких відбувається цей проце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rcRect l="0" t="0" r="1219" b="0"/>
          <a:stretch/>
        </p:blipFill>
        <p:spPr>
          <a:xfrm>
            <a:off x="468360" y="1628640"/>
            <a:ext cx="3989520" cy="2765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rcRect l="0" t="0" r="-77" b="-172"/>
          <a:stretch/>
        </p:blipFill>
        <p:spPr>
          <a:xfrm>
            <a:off x="5286240" y="1554120"/>
            <a:ext cx="3159360" cy="3492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826920" y="4930920"/>
            <a:ext cx="30974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сніть дослі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719600" y="5143680"/>
            <a:ext cx="44244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ому сові комфортніше в дерев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’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ній хатинці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3341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52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611280" y="5300640"/>
            <a:ext cx="3240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іноплас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651640" y="5157720"/>
            <a:ext cx="23050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гл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1000080" y="642960"/>
            <a:ext cx="7858080" cy="6426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івняйте теплопровідність речови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rcRect l="0" t="0" r="105" b="-65"/>
          <a:stretch/>
        </p:blipFill>
        <p:spPr>
          <a:xfrm>
            <a:off x="947880" y="2502000"/>
            <a:ext cx="3092400" cy="2763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642960" y="714240"/>
            <a:ext cx="7715160" cy="6426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іть зображене на малюнка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4857840" y="2286000"/>
            <a:ext cx="33573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rcRect l="0" t="0" r="-42" b="0"/>
          <a:stretch/>
        </p:blipFill>
        <p:spPr>
          <a:xfrm>
            <a:off x="428760" y="2143080"/>
            <a:ext cx="4005000" cy="3484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rcRect l="0" t="0" r="-45" b="0"/>
          <a:stretch/>
        </p:blipFill>
        <p:spPr>
          <a:xfrm>
            <a:off x="4643280" y="2000160"/>
            <a:ext cx="4002120" cy="36291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642960" y="571680"/>
            <a:ext cx="757224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о це за явище? Дайте його визначенн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оясніть причини виникнення денного і нічного бризу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521" t="1370" r="1043" b="685"/>
          <a:stretch/>
        </p:blipFill>
        <p:spPr>
          <a:xfrm>
            <a:off x="1627200" y="1662120"/>
            <a:ext cx="58579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817800" cy="42847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1428840" y="571680"/>
            <a:ext cx="6553080" cy="6426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іть види теплопередачі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4038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"/>
          <p:cNvPicPr/>
          <p:nvPr/>
        </p:nvPicPr>
        <p:blipFill>
          <a:blip r:embed="rId1"/>
          <a:srcRect l="0" t="0" r="0" b="-173"/>
          <a:stretch/>
        </p:blipFill>
        <p:spPr>
          <a:xfrm>
            <a:off x="785880" y="2181240"/>
            <a:ext cx="2905200" cy="34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rcRect l="0" t="0" r="-96" b="0"/>
          <a:stretch/>
        </p:blipFill>
        <p:spPr>
          <a:xfrm>
            <a:off x="4429080" y="2143080"/>
            <a:ext cx="4308480" cy="3452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428760" y="642960"/>
            <a:ext cx="8143920" cy="581400"/>
          </a:xfrm>
          <a:prstGeom prst="rect">
            <a:avLst/>
          </a:prstGeom>
          <a:solidFill>
            <a:srgbClr val="ffd6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і види конвекції зображені на малюнках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9:45:57Z</dcterms:created>
  <dc:creator>Мазямба</dc:creator>
  <dc:description/>
  <dc:language>en-US</dc:language>
  <cp:lastModifiedBy>Larisa</cp:lastModifiedBy>
  <dcterms:modified xsi:type="dcterms:W3CDTF">2013-01-23T17:12:24Z</dcterms:modified>
  <cp:revision>27</cp:revision>
  <dc:subject/>
  <dc:title>Виды теплопередач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8000000000001024140</vt:lpwstr>
  </property>
</Properties>
</file>