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6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8.png" ContentType="image/png"/>
  <Override PartName="/ppt/media/image16.wmf" ContentType="image/x-wmf"/>
  <Override PartName="/ppt/media/image30.png" ContentType="image/png"/>
  <Override PartName="/ppt/media/image2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3DD-2A9E-4A93-8115-C6EE7FC08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40F7-81B5-4278-A67D-DEBE9C40A651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зентации рекомендуется делать не более 5-6 разделов. Оптимально 2-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ввести название разделов, необходимо ввести название в соответствующей ст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ем стилем является наличие навигации по презентации (переход на нужный раздел из оглавления). Это возможно с помощью добавления гиперссылок. Для этого щелкните правой кнопкой мыши на серый прямоугольник, выберите из контекстного меню пункт «Гиперссылка». В открывшемся окне выберете пункт «местном в документе» (слева). И справа, в этом же окне, выберете интересующий слайд, после чего щелкните ОК. Гиперссылка добавлена. Аналогично проделайте с остальными прямоуголь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162-5520-42AE-A2D9-431E4BB59FAD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F3E-6309-4A62-92FB-4BD116500247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87E-9457-4BD0-A16E-4637D1CC3F24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C1AA-E28A-471E-BC7D-0FD7C43AE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7402-ACC0-4A68-9DBA-7C4777288B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79FCF-F43A-48E1-868B-E74F5B9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CAED4-F120-4B95-ADDC-12C6141B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FB81D-6B9E-4CBE-B710-3C44850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9A078-C940-45D1-84BE-3515D9F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6F5C7-C48B-451D-9EAE-C04CC83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02945-2982-4DAF-A9EE-58B48C5B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E8FE3-5D04-4267-887D-34816AE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B31FE-AC5B-4CA4-AD37-14FA3A1D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18EBE-84AA-4787-B076-A3C72DE2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CDBCB-DDD6-4F29-8B58-57C848748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B838-A8B8-40C2-A79A-5414D5CD40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B6F35-E1D9-4160-B2A5-F75CD82BC85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9E35A-6F1B-45C0-892A-C1ABBE1519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B6D19-A120-4C40-B7B4-EC0FE917B8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9BDAC-602E-41FC-AF80-A16296C666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C27E6-CB74-438F-B20D-5529FABDCAF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F3466-8A51-4D85-8FA6-5306D10DF7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20207-2BD2-45B8-920D-B5425C137A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9EAFA-6587-47CB-9553-4ED3D12792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19FE1-37C7-48EC-BB29-6A3344E213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581C9-B4A0-4577-A16E-DE5641473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F72B-133A-4A17-BEBC-EF4FC54FF3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AC08C-C8E9-4C16-9BCC-1BFFF5EB8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487F-815C-4957-BFCA-70E4F15D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D1BB6-0D16-4AFF-A8D9-711968D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821B-C7AF-48D6-B752-E9A0DE73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E22BC-6347-41F6-A496-57A543C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6463-64FB-49C3-A346-6F7F8A7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C207-3B9F-41CF-8DD5-6D7C5CBE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FCBBE-FD21-4C32-A77F-47E596C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8988-DC52-4F67-89C6-B17B2F624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B46FC-3B59-419D-8B12-61023E7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0FA5-0429-40DA-AE23-25EF7DE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E9816-8FB6-4281-8CBB-C903F2B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557C9-190E-4345-9585-2A015929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A130-B987-4842-AAC2-0E178332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267E9-F363-45B0-9987-CE672CA7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222E5-7C25-4BA3-94AC-E345A7A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FD262-2AAD-40AA-8252-7862457A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DB6CE-EA83-4D87-B288-387F8B4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650D7-E53D-4255-B78A-3BAAC21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0265-E71A-427E-823B-B3407C454F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CAA96-77F5-47F8-AADC-B8EC7C4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3631E-942D-47B4-BEF5-9372455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BBCDB-23F8-4221-8790-15E23DE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4233A-EBE6-4E98-8344-42D7070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8D099-B3AA-4E13-ADC0-DC7F5BEB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EA5CF-D0DB-42E6-A7CC-D574EF38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0D728-4B51-4B16-B268-236114ED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0A863-334C-4C8A-A26F-F2A92968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76369-FDD0-4DD8-8802-B37DEC6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B320D-D077-4739-BA16-2CC7A4A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12C7-0B62-45D0-BD8D-21436A0C57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0BBCC-FB96-4162-BC98-6132FE7C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A77E9-2F63-421F-9F97-E8387DF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0AE33-83FE-4854-A9E1-66529A77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BDC3F-7CC2-45FB-AC84-A43EC46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84401-105D-4B6C-AC82-D2CFA6A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B0A72-B845-45E9-924F-CFB735B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E91F0-B2B8-44E9-A320-46024D3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E7F20-D8E5-4207-8D28-048FC6B9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5C4FB-1E8A-4E84-AEC9-E3177E8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F4151D-09B8-4EE8-8EEB-B1097759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5893-EFC5-4788-91F7-D4AD174D2C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FEF3E5-6C40-40BC-B54A-D1F58A7F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11C04-B3DD-4BF4-9697-B2B9280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BC212E-BA32-4A63-87DC-86C3BEB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31C8C-1DF5-4ADE-AC35-10F853CE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F4E81-4BAE-4003-AEB7-FB48A76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E0AA2-28AA-42BA-8B3E-4656354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83F21-503D-414A-9FDA-0752708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69094-01A9-40FC-BA4F-E50A1F2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DB4A8-CDDC-4189-8B93-54082CF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511FE-D1CF-4631-A4DA-C3918F08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5182-9E72-4FB7-B99B-83B73B538A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0A7B3-D6C7-4B61-AA0D-7199C12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345E11-83B8-4AA6-8D32-414547ED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D8671-F084-4AC8-AFA9-BFAC07B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756256-3D13-41BF-808B-44BD8EF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D596B-E023-4D3E-9E80-EC38BD7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D86BA-F3DC-4F67-B684-7C144B3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4FFFC-FBC4-46D4-9555-C0AAB2B6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DE0864-9AFB-4F5E-8746-CC40FDB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6C958-9EFE-4238-A6E2-D718C68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8612A-7E24-4B58-BBAC-87346E1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43D9-8E40-498D-92AC-5DF9EE0149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480AA3-A73B-4767-8F16-08C9C42E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0357D-EA76-4FAC-BD5A-4AECB2A2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33F416-039F-48C3-A265-605BCDBC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AFC6F-5297-4563-B18B-915C9F51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013441-8DC6-4B38-82D0-4525B45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3F3A6F-C00F-48A6-9B3E-43A2476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14949-2E10-4CBA-89DC-1D03690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656749-400F-4FC6-99E4-B1D607B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E4285-EBA1-4E9D-A84F-F7068B2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165513-D636-4675-BD22-6A95B4B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6542-80E3-404B-99D9-543D0274DA7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E12339-929B-4184-8A22-298C456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8513F-3AAF-4A74-99F5-E584F44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C331B-84E1-420E-9F53-9481D21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2F04AF-8D9E-4708-9218-B3B68A1E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F971C-A0DB-4658-9450-E82C7B23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2DB2BA-7DDC-4417-8E76-0D962978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B25630-8189-44B2-921C-5817354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CB07E-EA8D-4291-B58E-53D4710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BB155-0A7D-47CF-9C32-22194A0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A4C24D-371E-4B29-A882-8FB694E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8314-97A0-4C3E-BF7E-A6B319759C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420731-2B48-4CA5-905F-6F4A9AB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3849D-395C-4C4F-8E3C-11F64E3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DC874-A301-435B-B7C3-0AEFBD0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F6465-4476-436B-A345-288796F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19745-7E27-462F-8D29-2CABECB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E6337-EA3D-4BE0-BE04-4658602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71632C-C401-46E8-BFD6-24431973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99EFC-A1BB-4615-BED2-B2CD15D9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77068-C8CC-4148-A03C-71246CB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10EFB-81C9-432B-8A50-3C9B260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CF6-5F1D-4E32-963A-D1F493AFBD98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1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775E-BABC-44DF-B804-C97A2EA6E3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631-5E51-4B29-BC8F-4470581F5D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87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9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90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1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pic>
          <p:nvPicPr>
            <p:cNvPr id="93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BFC6-6170-4A17-BF4D-FB040C8262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3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4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1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372-1336-4BE7-8F57-D94B5A2E6A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09F2-1700-412D-9208-CE4196D728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2E3-F211-4161-A2A8-CCD0806C54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7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27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35CA-165D-4250-BF7B-A9AD8EE1BB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5C06-7C7E-4BFF-A02B-D43A940A4E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2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365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7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C06-4872-4447-9274-CA2D7764C0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1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8.wmf"/><Relationship Id="rId5" Type="http://schemas.openxmlformats.org/officeDocument/2006/relationships/image" Target="../media/image38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6.png"/><Relationship Id="rId3" Type="http://schemas.openxmlformats.org/officeDocument/2006/relationships/image" Target="../media/image18.wmf"/><Relationship Id="rId4" Type="http://schemas.openxmlformats.org/officeDocument/2006/relationships/image" Target="../media/image26.wmf"/><Relationship Id="rId5" Type="http://schemas.openxmlformats.org/officeDocument/2006/relationships/image" Target="../media/image39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29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wmf"/><Relationship Id="rId4" Type="http://schemas.openxmlformats.org/officeDocument/2006/relationships/image" Target="../media/image26.wmf"/><Relationship Id="rId5" Type="http://schemas.openxmlformats.org/officeDocument/2006/relationships/image" Target="../media/image24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9199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напрямлена в ту саму сторону, що і швидкість тіл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спокою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є рушійною силою, завдяки якій пересуваються люди, тварини, транспор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ковзання одного тіла по поверхні іншого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скорення вільного паді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однакове в будь-якій точці Земної кулі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можна зменшити, посипавши поверхню тіла піско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Зміну форми або розмірів тіла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деформацією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Коефіцієнт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лежить від матеріалів, з яких виготовлені дотичні тіла, і якості обробки їхніх поверхонь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7594920" cy="16160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3">
            <a:hlinkClick r:id="rId2" action="ppaction://hlinksldjump"/>
          </p:cNvPr>
          <p:cNvSpPr/>
          <p:nvPr/>
        </p:nvSpPr>
        <p:spPr>
          <a:xfrm>
            <a:off x="571680" y="1692360"/>
            <a:ext cx="787068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770040" y="18003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633240" y="1673280"/>
            <a:ext cx="816300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лгоритм роз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ування задач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539640" y="26542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770040" y="278460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552600" y="265896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горизонтальній поверхні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539640" y="35956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770040" y="37209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1" name="AutoShape 11">
            <a:hlinkClick r:id="rId3" action="ppaction://hlinksldjump"/>
          </p:cNvPr>
          <p:cNvSpPr/>
          <p:nvPr/>
        </p:nvSpPr>
        <p:spPr>
          <a:xfrm>
            <a:off x="539640" y="3494160"/>
            <a:ext cx="787104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опуклому мосту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633240" y="451656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809640" y="46432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4" name="AutoShape 14"/>
          <p:cNvSpPr/>
          <p:nvPr/>
        </p:nvSpPr>
        <p:spPr>
          <a:xfrm>
            <a:off x="770040" y="4532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вертикалі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633240" y="552132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649440" y="5513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ід дією сили тертя.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809640" y="56404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0560" y="1700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ажно прочитайте умову задачі. З'ясуйте, які сили діють на тіло та характер руху ті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коротко умову задачі, виразіть числові значення СІ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робіть схематичний рисунок, покажіть на ньому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рану систему відліку 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і сили, що діють на тіло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66600" y="212760"/>
            <a:ext cx="8901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79280" y="1709280"/>
            <a:ext cx="878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ругий закон Ньютона у векторному вигляді та проекціях на осі координат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одаткові рівняння (наприклад, формули для сил або рівняння кінематики </a:t>
            </a:r>
            <a:r>
              <a:rPr b="0" lang="uk-UA" sz="3000" spc="-1" strike="noStrike">
                <a:solidFill>
                  <a:srgbClr val="000000"/>
                </a:solidFill>
                <a:latin typeface="Lucida Sans Unicode"/>
              </a:rPr>
              <a:t>з урахуванням початкових умов: початкових координат та швидкостей тіла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Розв'яжіть отриману систему рівнянь у загальному вигляді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78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9280" y="1483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аналізуйте отриманий результат (перевірте одиниці вели­чин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иконайте числові розрахунки, оцініть правдоподібність ре­зультаті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відповід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міркуйте, чи має задача інший спосіб розв’язуванн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974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09440" y="-12600"/>
            <a:ext cx="8925120" cy="1407960"/>
          </a:xfrm>
          <a:prstGeom prst="rect">
            <a:avLst/>
          </a:prstGeom>
          <a:ln w="0">
            <a:noFill/>
          </a:ln>
        </p:spPr>
      </p:pic>
      <p:pic>
        <p:nvPicPr>
          <p:cNvPr id="525" name="Object 3" descr=""/>
          <p:cNvPicPr/>
          <p:nvPr/>
        </p:nvPicPr>
        <p:blipFill>
          <a:blip r:embed="rId2"/>
          <a:stretch/>
        </p:blipFill>
        <p:spPr>
          <a:xfrm>
            <a:off x="3659040" y="3070080"/>
            <a:ext cx="322560" cy="3002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492360" y="3499920"/>
            <a:ext cx="48247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755640" y="306864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403280" y="249228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29" name="Object 15" descr=""/>
          <p:cNvPicPr/>
          <p:nvPr/>
        </p:nvPicPr>
        <p:blipFill>
          <a:blip r:embed="rId3"/>
          <a:stretch/>
        </p:blipFill>
        <p:spPr>
          <a:xfrm>
            <a:off x="252360" y="2276640"/>
            <a:ext cx="593640" cy="539640"/>
          </a:xfrm>
          <a:prstGeom prst="rect">
            <a:avLst/>
          </a:prstGeom>
          <a:ln w="0">
            <a:noFill/>
          </a:ln>
        </p:spPr>
      </p:pic>
      <p:pic>
        <p:nvPicPr>
          <p:cNvPr id="530" name="Object 16" descr=""/>
          <p:cNvPicPr/>
          <p:nvPr/>
        </p:nvPicPr>
        <p:blipFill>
          <a:blip r:embed="rId4"/>
          <a:stretch/>
        </p:blipFill>
        <p:spPr>
          <a:xfrm>
            <a:off x="1979640" y="3535200"/>
            <a:ext cx="431640" cy="362160"/>
          </a:xfrm>
          <a:prstGeom prst="rect">
            <a:avLst/>
          </a:prstGeom>
          <a:ln w="0">
            <a:noFill/>
          </a:ln>
        </p:spPr>
      </p:pic>
      <p:pic>
        <p:nvPicPr>
          <p:cNvPr id="531" name="Object 17" descr=""/>
          <p:cNvPicPr/>
          <p:nvPr/>
        </p:nvPicPr>
        <p:blipFill>
          <a:blip r:embed="rId5"/>
          <a:stretch/>
        </p:blipFill>
        <p:spPr>
          <a:xfrm>
            <a:off x="1932120" y="1628640"/>
            <a:ext cx="768240" cy="547920"/>
          </a:xfrm>
          <a:prstGeom prst="rect">
            <a:avLst/>
          </a:prstGeom>
          <a:ln w="0">
            <a:noFill/>
          </a:ln>
        </p:spPr>
      </p:pic>
      <p:pic>
        <p:nvPicPr>
          <p:cNvPr id="532" name="Object 18" descr=""/>
          <p:cNvPicPr/>
          <p:nvPr/>
        </p:nvPicPr>
        <p:blipFill>
          <a:blip r:embed="rId6"/>
          <a:stretch/>
        </p:blipFill>
        <p:spPr>
          <a:xfrm>
            <a:off x="2903400" y="2235240"/>
            <a:ext cx="744840" cy="1092240"/>
          </a:xfrm>
          <a:prstGeom prst="rect">
            <a:avLst/>
          </a:prstGeom>
          <a:ln w="0">
            <a:noFill/>
          </a:ln>
        </p:spPr>
      </p:pic>
      <p:pic>
        <p:nvPicPr>
          <p:cNvPr id="533" name="Object 19" descr=""/>
          <p:cNvPicPr/>
          <p:nvPr/>
        </p:nvPicPr>
        <p:blipFill>
          <a:blip r:embed="rId7"/>
          <a:stretch/>
        </p:blipFill>
        <p:spPr>
          <a:xfrm>
            <a:off x="725400" y="4583160"/>
            <a:ext cx="7893000" cy="1046160"/>
          </a:xfrm>
          <a:prstGeom prst="rect">
            <a:avLst/>
          </a:prstGeom>
          <a:ln w="0">
            <a:noFill/>
          </a:ln>
        </p:spPr>
      </p:pic>
      <p:cxnSp>
        <p:nvCxnSpPr>
          <p:cNvPr id="534" name="Прямая со стрелкой 16"/>
          <p:cNvCxnSpPr/>
          <p:nvPr/>
        </p:nvCxnSpPr>
        <p:spPr>
          <a:xfrm>
            <a:off x="755280" y="2795400"/>
            <a:ext cx="252180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5" name="Прямая со стрелкой 4"/>
          <p:cNvCxnSpPr/>
          <p:nvPr/>
        </p:nvCxnSpPr>
        <p:spPr>
          <a:xfrm>
            <a:off x="1871280" y="1773360"/>
            <a:ext cx="1080" cy="2088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36" name="Овал 13"/>
          <p:cNvSpPr/>
          <p:nvPr/>
        </p:nvSpPr>
        <p:spPr>
          <a:xfrm>
            <a:off x="1811160" y="2741760"/>
            <a:ext cx="12096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3" descr=""/>
          <p:cNvPicPr/>
          <p:nvPr/>
        </p:nvPicPr>
        <p:blipFill>
          <a:blip r:embed="rId1"/>
          <a:stretch/>
        </p:blipFill>
        <p:spPr>
          <a:xfrm>
            <a:off x="176040" y="4363920"/>
            <a:ext cx="8461440" cy="2092320"/>
          </a:xfrm>
          <a:prstGeom prst="rect">
            <a:avLst/>
          </a:prstGeom>
          <a:ln w="0">
            <a:noFill/>
          </a:ln>
        </p:spPr>
      </p:pic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  <p:sp>
        <p:nvSpPr>
          <p:cNvPr id="539" name="Line 5"/>
          <p:cNvSpPr/>
          <p:nvPr/>
        </p:nvSpPr>
        <p:spPr>
          <a:xfrm>
            <a:off x="747720" y="317340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40" name="Object 15" descr=""/>
          <p:cNvPicPr/>
          <p:nvPr/>
        </p:nvPicPr>
        <p:blipFill>
          <a:blip r:embed="rId3"/>
          <a:stretch/>
        </p:blipFill>
        <p:spPr>
          <a:xfrm>
            <a:off x="212760" y="2197080"/>
            <a:ext cx="797040" cy="7239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6" descr=""/>
          <p:cNvPicPr/>
          <p:nvPr/>
        </p:nvPicPr>
        <p:blipFill>
          <a:blip r:embed="rId4"/>
          <a:stretch/>
        </p:blipFill>
        <p:spPr>
          <a:xfrm>
            <a:off x="1909800" y="3645000"/>
            <a:ext cx="644400" cy="54108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17" descr=""/>
          <p:cNvPicPr/>
          <p:nvPr/>
        </p:nvPicPr>
        <p:blipFill>
          <a:blip r:embed="rId5"/>
          <a:stretch/>
        </p:blipFill>
        <p:spPr>
          <a:xfrm>
            <a:off x="1795320" y="1554120"/>
            <a:ext cx="816120" cy="582480"/>
          </a:xfrm>
          <a:prstGeom prst="rect">
            <a:avLst/>
          </a:prstGeom>
          <a:ln w="0">
            <a:noFill/>
          </a:ln>
        </p:spPr>
      </p:pic>
      <p:pic>
        <p:nvPicPr>
          <p:cNvPr id="543" name="Object 18" descr=""/>
          <p:cNvPicPr/>
          <p:nvPr/>
        </p:nvPicPr>
        <p:blipFill>
          <a:blip r:embed="rId6"/>
          <a:stretch/>
        </p:blipFill>
        <p:spPr>
          <a:xfrm>
            <a:off x="2719440" y="2278080"/>
            <a:ext cx="830160" cy="1217520"/>
          </a:xfrm>
          <a:prstGeom prst="rect">
            <a:avLst/>
          </a:prstGeom>
          <a:ln w="0">
            <a:noFill/>
          </a:ln>
        </p:spPr>
      </p:pic>
      <p:pic>
        <p:nvPicPr>
          <p:cNvPr id="544" name="Объект 1" descr=""/>
          <p:cNvPicPr/>
          <p:nvPr/>
        </p:nvPicPr>
        <p:blipFill>
          <a:blip r:embed="rId7"/>
          <a:stretch/>
        </p:blipFill>
        <p:spPr>
          <a:xfrm>
            <a:off x="3754440" y="2668680"/>
            <a:ext cx="514440" cy="47916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1"/>
          <p:cNvSpPr/>
          <p:nvPr/>
        </p:nvSpPr>
        <p:spPr>
          <a:xfrm>
            <a:off x="1285920" y="2668680"/>
            <a:ext cx="1081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46" name="Прямая со стрелкой 15"/>
          <p:cNvCxnSpPr/>
          <p:nvPr/>
        </p:nvCxnSpPr>
        <p:spPr>
          <a:xfrm>
            <a:off x="1794960" y="1773000"/>
            <a:ext cx="1080" cy="2377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47" name="Прямая со стрелкой 4"/>
          <p:cNvCxnSpPr/>
          <p:nvPr/>
        </p:nvCxnSpPr>
        <p:spPr>
          <a:xfrm>
            <a:off x="395280" y="2920680"/>
            <a:ext cx="2882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48" name="Овал 12"/>
          <p:cNvSpPr/>
          <p:nvPr/>
        </p:nvSpPr>
        <p:spPr>
          <a:xfrm>
            <a:off x="1735200" y="284652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Объект 2" descr=""/>
          <p:cNvPicPr/>
          <p:nvPr/>
        </p:nvPicPr>
        <p:blipFill>
          <a:blip r:embed="rId1"/>
          <a:stretch/>
        </p:blipFill>
        <p:spPr>
          <a:xfrm>
            <a:off x="324000" y="1706400"/>
            <a:ext cx="8643960" cy="4602240"/>
          </a:xfrm>
          <a:prstGeom prst="rect">
            <a:avLst/>
          </a:prstGeom>
          <a:ln w="0">
            <a:noFill/>
          </a:ln>
        </p:spPr>
      </p:pic>
      <p:pic>
        <p:nvPicPr>
          <p:cNvPr id="550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Объект 17" descr=""/>
          <p:cNvPicPr/>
          <p:nvPr/>
        </p:nvPicPr>
        <p:blipFill>
          <a:blip r:embed="rId1"/>
          <a:stretch/>
        </p:blipFill>
        <p:spPr>
          <a:xfrm>
            <a:off x="1324080" y="4848120"/>
            <a:ext cx="712800" cy="66204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-79200" y="212760"/>
            <a:ext cx="9047160" cy="11462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0"/>
          <p:cNvSpPr/>
          <p:nvPr/>
        </p:nvSpPr>
        <p:spPr>
          <a:xfrm>
            <a:off x="2050920" y="2976480"/>
            <a:ext cx="151308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4" name="Арка 9"/>
          <p:cNvSpPr/>
          <p:nvPr/>
        </p:nvSpPr>
        <p:spPr>
          <a:xfrm>
            <a:off x="468360" y="3695760"/>
            <a:ext cx="5040360" cy="3384360"/>
          </a:xfrm>
          <a:custGeom>
            <a:avLst/>
            <a:gdLst/>
            <a:ahLst/>
            <a:rect l="l" t="t" r="r" b="b"/>
            <a:pathLst>
              <a:path w="5040312" h="3384550">
                <a:moveTo>
                  <a:pt x="2852" y="1611789"/>
                </a:moveTo>
                <a:cubicBezTo>
                  <a:pt x="67182" y="704568"/>
                  <a:pt x="1186557" y="-6777"/>
                  <a:pt x="2539093" y="48"/>
                </a:cubicBezTo>
                <a:cubicBezTo>
                  <a:pt x="3909507" y="6963"/>
                  <a:pt x="5020501" y="747969"/>
                  <a:pt x="5040055" y="1668129"/>
                </a:cubicBezTo>
                <a:lnTo>
                  <a:pt x="5030680" y="1668218"/>
                </a:lnTo>
                <a:cubicBezTo>
                  <a:pt x="5011163" y="753164"/>
                  <a:pt x="3904292" y="16286"/>
                  <a:pt x="2538987" y="9422"/>
                </a:cubicBezTo>
                <a:cubicBezTo>
                  <a:pt x="1191580" y="2648"/>
                  <a:pt x="76428" y="709963"/>
                  <a:pt x="12226" y="1612088"/>
                </a:cubicBezTo>
                <a:lnTo>
                  <a:pt x="2852" y="1611789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55" name="Прямая со стрелкой 16"/>
          <p:cNvCxnSpPr/>
          <p:nvPr/>
        </p:nvCxnSpPr>
        <p:spPr>
          <a:xfrm>
            <a:off x="1332000" y="184464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6" name="Объект 18" descr=""/>
          <p:cNvPicPr/>
          <p:nvPr/>
        </p:nvPicPr>
        <p:blipFill>
          <a:blip r:embed="rId3"/>
          <a:stretch/>
        </p:blipFill>
        <p:spPr>
          <a:xfrm>
            <a:off x="2808360" y="4524480"/>
            <a:ext cx="939600" cy="647640"/>
          </a:xfrm>
          <a:prstGeom prst="rect">
            <a:avLst/>
          </a:prstGeom>
          <a:ln w="0">
            <a:noFill/>
          </a:ln>
        </p:spPr>
      </p:pic>
      <p:pic>
        <p:nvPicPr>
          <p:cNvPr id="557" name="Объект 19" descr=""/>
          <p:cNvPicPr/>
          <p:nvPr/>
        </p:nvPicPr>
        <p:blipFill>
          <a:blip r:embed="rId4"/>
          <a:stretch/>
        </p:blipFill>
        <p:spPr>
          <a:xfrm>
            <a:off x="2808360" y="1465200"/>
            <a:ext cx="1363680" cy="758880"/>
          </a:xfrm>
          <a:prstGeom prst="rect">
            <a:avLst/>
          </a:prstGeom>
          <a:ln w="0">
            <a:noFill/>
          </a:ln>
        </p:spPr>
      </p:pic>
      <p:pic>
        <p:nvPicPr>
          <p:cNvPr id="558" name="TextBox 20" descr=""/>
          <p:cNvPicPr/>
          <p:nvPr/>
        </p:nvPicPr>
        <p:blipFill>
          <a:blip r:embed="rId5"/>
          <a:stretch/>
        </p:blipFill>
        <p:spPr>
          <a:xfrm>
            <a:off x="3998880" y="2292480"/>
            <a:ext cx="5145120" cy="1407960"/>
          </a:xfrm>
          <a:prstGeom prst="rect">
            <a:avLst/>
          </a:prstGeom>
          <a:ln w="0">
            <a:noFill/>
          </a:ln>
        </p:spPr>
      </p:pic>
      <p:cxnSp>
        <p:nvCxnSpPr>
          <p:cNvPr id="559" name="Прямая со стрелкой 11"/>
          <p:cNvCxnSpPr/>
          <p:nvPr/>
        </p:nvCxnSpPr>
        <p:spPr>
          <a:xfrm>
            <a:off x="2792160" y="1844280"/>
            <a:ext cx="1080" cy="3025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60" name="Овал 12"/>
          <p:cNvSpPr/>
          <p:nvPr/>
        </p:nvSpPr>
        <p:spPr>
          <a:xfrm>
            <a:off x="2732040" y="328140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Объект 17" descr=""/>
          <p:cNvPicPr/>
          <p:nvPr/>
        </p:nvPicPr>
        <p:blipFill>
          <a:blip r:embed="rId1"/>
          <a:stretch/>
        </p:blipFill>
        <p:spPr>
          <a:xfrm>
            <a:off x="523800" y="5013360"/>
            <a:ext cx="541440" cy="503280"/>
          </a:xfrm>
          <a:prstGeom prst="rect">
            <a:avLst/>
          </a:prstGeom>
          <a:ln w="0">
            <a:noFill/>
          </a:ln>
        </p:spPr>
      </p:pic>
      <p:pic>
        <p:nvPicPr>
          <p:cNvPr id="562" name="Rectangle 2" descr=""/>
          <p:cNvPicPr/>
          <p:nvPr/>
        </p:nvPicPr>
        <p:blipFill>
          <a:blip r:embed="rId2"/>
          <a:stretch/>
        </p:blipFill>
        <p:spPr>
          <a:xfrm>
            <a:off x="49320" y="212760"/>
            <a:ext cx="8918640" cy="114624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10"/>
          <p:cNvSpPr/>
          <p:nvPr/>
        </p:nvSpPr>
        <p:spPr>
          <a:xfrm>
            <a:off x="1403280" y="3170160"/>
            <a:ext cx="1225800" cy="5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4" name="Арка 9"/>
          <p:cNvSpPr/>
          <p:nvPr/>
        </p:nvSpPr>
        <p:spPr>
          <a:xfrm>
            <a:off x="468360" y="3695760"/>
            <a:ext cx="3095640" cy="2109600"/>
          </a:xfrm>
          <a:custGeom>
            <a:avLst/>
            <a:gdLst/>
            <a:ahLst/>
            <a:rect l="l" t="t" r="r" b="b"/>
            <a:pathLst>
              <a:path w="3095625" h="2109788">
                <a:moveTo>
                  <a:pt x="0" y="1054894"/>
                </a:moveTo>
                <a:cubicBezTo>
                  <a:pt x="0" y="619028"/>
                  <a:pt x="393324" y="228044"/>
                  <a:pt x="989859" y="70923"/>
                </a:cubicBezTo>
                <a:cubicBezTo>
                  <a:pt x="1358044" y="-26053"/>
                  <a:pt x="1766681" y="-23495"/>
                  <a:pt x="2132191" y="78073"/>
                </a:cubicBezTo>
                <a:cubicBezTo>
                  <a:pt x="2732676" y="244937"/>
                  <a:pt x="3116878" y="649227"/>
                  <a:pt x="3094723" y="1090933"/>
                </a:cubicBezTo>
                <a:lnTo>
                  <a:pt x="3072211" y="1090409"/>
                </a:lnTo>
                <a:cubicBezTo>
                  <a:pt x="3094246" y="657131"/>
                  <a:pt x="2713985" y="260693"/>
                  <a:pt x="2120281" y="97981"/>
                </a:cubicBezTo>
                <a:cubicBezTo>
                  <a:pt x="1762046" y="-198"/>
                  <a:pt x="1362103" y="-2671"/>
                  <a:pt x="1001277" y="91060"/>
                </a:cubicBezTo>
                <a:cubicBezTo>
                  <a:pt x="411686" y="244218"/>
                  <a:pt x="22512" y="627454"/>
                  <a:pt x="22512" y="1054894"/>
                </a:cubicBezTo>
                <a:lnTo>
                  <a:pt x="0" y="1054894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65" name="Прямая со стрелкой 16"/>
          <p:cNvCxnSpPr/>
          <p:nvPr/>
        </p:nvCxnSpPr>
        <p:spPr>
          <a:xfrm>
            <a:off x="863640" y="182412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Объект 18" descr=""/>
          <p:cNvPicPr/>
          <p:nvPr/>
        </p:nvPicPr>
        <p:blipFill>
          <a:blip r:embed="rId3"/>
          <a:stretch/>
        </p:blipFill>
        <p:spPr>
          <a:xfrm>
            <a:off x="2158920" y="4524480"/>
            <a:ext cx="708120" cy="488880"/>
          </a:xfrm>
          <a:prstGeom prst="rect">
            <a:avLst/>
          </a:prstGeom>
          <a:ln w="0">
            <a:noFill/>
          </a:ln>
        </p:spPr>
      </p:pic>
      <p:pic>
        <p:nvPicPr>
          <p:cNvPr id="567" name="Объект 19" descr=""/>
          <p:cNvPicPr/>
          <p:nvPr/>
        </p:nvPicPr>
        <p:blipFill>
          <a:blip r:embed="rId4"/>
          <a:stretch/>
        </p:blipFill>
        <p:spPr>
          <a:xfrm>
            <a:off x="2106720" y="2133720"/>
            <a:ext cx="807840" cy="449280"/>
          </a:xfrm>
          <a:prstGeom prst="rect">
            <a:avLst/>
          </a:prstGeom>
          <a:ln w="0">
            <a:noFill/>
          </a:ln>
        </p:spPr>
      </p:pic>
      <p:pic>
        <p:nvPicPr>
          <p:cNvPr id="568" name="TextBox 4" descr=""/>
          <p:cNvPicPr/>
          <p:nvPr/>
        </p:nvPicPr>
        <p:blipFill>
          <a:blip r:embed="rId5"/>
          <a:stretch/>
        </p:blipFill>
        <p:spPr>
          <a:xfrm>
            <a:off x="3852720" y="3859200"/>
            <a:ext cx="5115240" cy="2097000"/>
          </a:xfrm>
          <a:prstGeom prst="rect">
            <a:avLst/>
          </a:prstGeom>
          <a:ln w="0">
            <a:noFill/>
          </a:ln>
        </p:spPr>
      </p:pic>
      <p:cxnSp>
        <p:nvCxnSpPr>
          <p:cNvPr id="569" name="Прямая со стрелкой 11"/>
          <p:cNvCxnSpPr/>
          <p:nvPr/>
        </p:nvCxnSpPr>
        <p:spPr>
          <a:xfrm>
            <a:off x="2031480" y="2133360"/>
            <a:ext cx="1080" cy="27738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70" name="Овал 12"/>
          <p:cNvSpPr/>
          <p:nvPr/>
        </p:nvSpPr>
        <p:spPr>
          <a:xfrm>
            <a:off x="1971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131320" cy="4602240"/>
          </a:xfrm>
          <a:prstGeom prst="rect">
            <a:avLst/>
          </a:prstGeom>
          <a:ln w="0">
            <a:noFill/>
          </a:ln>
        </p:spPr>
      </p:pic>
      <p:pic>
        <p:nvPicPr>
          <p:cNvPr id="572" name="Rectangle 2" descr=""/>
          <p:cNvPicPr/>
          <p:nvPr/>
        </p:nvPicPr>
        <p:blipFill>
          <a:blip r:embed="rId2"/>
          <a:stretch/>
        </p:blipFill>
        <p:spPr>
          <a:xfrm>
            <a:off x="-23760" y="189000"/>
            <a:ext cx="8912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-182520" y="21276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5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sp>
        <p:nvSpPr>
          <p:cNvPr id="576" name="Прямоугольник 11"/>
          <p:cNvSpPr/>
          <p:nvPr/>
        </p:nvSpPr>
        <p:spPr>
          <a:xfrm>
            <a:off x="6443640" y="3116160"/>
            <a:ext cx="1368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7" name="Прямая со стрелкой 12"/>
          <p:cNvCxnSpPr/>
          <p:nvPr/>
        </p:nvCxnSpPr>
        <p:spPr>
          <a:xfrm>
            <a:off x="5820840" y="1828800"/>
            <a:ext cx="1080" cy="3256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</a:ln>
        </p:spPr>
      </p:cxnSp>
      <p:pic>
        <p:nvPicPr>
          <p:cNvPr id="578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79" name="TextBox 20" descr=""/>
          <p:cNvPicPr/>
          <p:nvPr/>
        </p:nvPicPr>
        <p:blipFill>
          <a:blip r:embed="rId3"/>
          <a:stretch/>
        </p:blipFill>
        <p:spPr>
          <a:xfrm>
            <a:off x="7149960" y="1755720"/>
            <a:ext cx="914400" cy="622440"/>
          </a:xfrm>
          <a:prstGeom prst="rect">
            <a:avLst/>
          </a:prstGeom>
          <a:ln w="0">
            <a:noFill/>
          </a:ln>
        </p:spPr>
      </p:pic>
      <p:pic>
        <p:nvPicPr>
          <p:cNvPr id="580" name="Объект 19" descr=""/>
          <p:cNvPicPr/>
          <p:nvPr/>
        </p:nvPicPr>
        <p:blipFill>
          <a:blip r:embed="rId4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81" name="Объект 21" descr=""/>
          <p:cNvPicPr/>
          <p:nvPr/>
        </p:nvPicPr>
        <p:blipFill>
          <a:blip r:embed="rId5"/>
          <a:stretch/>
        </p:blipFill>
        <p:spPr>
          <a:xfrm>
            <a:off x="7209000" y="4687920"/>
            <a:ext cx="603000" cy="507960"/>
          </a:xfrm>
          <a:prstGeom prst="rect">
            <a:avLst/>
          </a:prstGeom>
          <a:ln w="0">
            <a:noFill/>
          </a:ln>
        </p:spPr>
      </p:pic>
      <p:pic>
        <p:nvPicPr>
          <p:cNvPr id="582" name="Объект 23" descr=""/>
          <p:cNvPicPr/>
          <p:nvPr/>
        </p:nvPicPr>
        <p:blipFill>
          <a:blip r:embed="rId6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83" name="Объект 24" descr=""/>
          <p:cNvPicPr/>
          <p:nvPr/>
        </p:nvPicPr>
        <p:blipFill>
          <a:blip r:embed="rId7"/>
          <a:stretch/>
        </p:blipFill>
        <p:spPr>
          <a:xfrm>
            <a:off x="5148360" y="1432080"/>
            <a:ext cx="796680" cy="6062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25"/>
          <p:cNvSpPr/>
          <p:nvPr/>
        </p:nvSpPr>
        <p:spPr>
          <a:xfrm>
            <a:off x="182880" y="2066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5" name="Прямоугольник 26"/>
          <p:cNvSpPr/>
          <p:nvPr/>
        </p:nvSpPr>
        <p:spPr>
          <a:xfrm>
            <a:off x="4557600" y="1989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6" name="TextBox 27" descr=""/>
          <p:cNvPicPr/>
          <p:nvPr/>
        </p:nvPicPr>
        <p:blipFill>
          <a:blip r:embed="rId8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pic>
        <p:nvPicPr>
          <p:cNvPr id="587" name="Прямоугольник 28" descr=""/>
          <p:cNvPicPr/>
          <p:nvPr/>
        </p:nvPicPr>
        <p:blipFill>
          <a:blip r:embed="rId9"/>
          <a:stretch/>
        </p:blipFill>
        <p:spPr>
          <a:xfrm>
            <a:off x="5821200" y="5888160"/>
            <a:ext cx="2773440" cy="585720"/>
          </a:xfrm>
          <a:prstGeom prst="rect">
            <a:avLst/>
          </a:prstGeom>
          <a:ln w="0">
            <a:noFill/>
          </a:ln>
        </p:spPr>
      </p:pic>
      <p:cxnSp>
        <p:nvCxnSpPr>
          <p:cNvPr id="588" name="Прямая со стрелкой 21"/>
          <p:cNvCxnSpPr/>
          <p:nvPr/>
        </p:nvCxnSpPr>
        <p:spPr>
          <a:xfrm flipH="1">
            <a:off x="2085120" y="2328480"/>
            <a:ext cx="2520" cy="26406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89" name="Прямая со стрелкой 22"/>
          <p:cNvCxnSpPr/>
          <p:nvPr/>
        </p:nvCxnSpPr>
        <p:spPr>
          <a:xfrm flipH="1">
            <a:off x="7127280" y="1920600"/>
            <a:ext cx="1080" cy="27324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90" name="Овал 5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1" name="Овал 23"/>
          <p:cNvSpPr/>
          <p:nvPr/>
        </p:nvSpPr>
        <p:spPr>
          <a:xfrm>
            <a:off x="7067520" y="332892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94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595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96" name="Объект 19" descr=""/>
          <p:cNvPicPr/>
          <p:nvPr/>
        </p:nvPicPr>
        <p:blipFill>
          <a:blip r:embed="rId3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97" name="Объект 23" descr=""/>
          <p:cNvPicPr/>
          <p:nvPr/>
        </p:nvPicPr>
        <p:blipFill>
          <a:blip r:embed="rId4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98" name="TextBox 27" descr=""/>
          <p:cNvPicPr/>
          <p:nvPr/>
        </p:nvPicPr>
        <p:blipFill>
          <a:blip r:embed="rId5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cxnSp>
        <p:nvCxnSpPr>
          <p:cNvPr id="599" name="Прямая со стрелкой 6"/>
          <p:cNvCxnSpPr/>
          <p:nvPr/>
        </p:nvCxnSpPr>
        <p:spPr>
          <a:xfrm>
            <a:off x="2085480" y="2300040"/>
            <a:ext cx="2520" cy="264204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pic>
        <p:nvPicPr>
          <p:cNvPr id="600" name="TextBox 3" descr=""/>
          <p:cNvPicPr/>
          <p:nvPr/>
        </p:nvPicPr>
        <p:blipFill>
          <a:blip r:embed="rId6"/>
          <a:stretch/>
        </p:blipFill>
        <p:spPr>
          <a:xfrm>
            <a:off x="3657600" y="1859040"/>
            <a:ext cx="5048280" cy="3651120"/>
          </a:xfrm>
          <a:prstGeom prst="rect">
            <a:avLst/>
          </a:prstGeom>
          <a:ln w="0">
            <a:noFill/>
          </a:ln>
        </p:spPr>
      </p:pic>
      <p:sp>
        <p:nvSpPr>
          <p:cNvPr id="601" name="Овал 10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03" name="Rectangle 2" descr=""/>
          <p:cNvPicPr/>
          <p:nvPr/>
        </p:nvPicPr>
        <p:blipFill>
          <a:blip r:embed="rId2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871280" y="2852280"/>
            <a:ext cx="727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5" name="Заголов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8894880" cy="124308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оугольник 3"/>
          <p:cNvSpPr/>
          <p:nvPr/>
        </p:nvSpPr>
        <p:spPr>
          <a:xfrm>
            <a:off x="1403280" y="233208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07" name="Прямая со стрелкой 9"/>
          <p:cNvCxnSpPr/>
          <p:nvPr/>
        </p:nvCxnSpPr>
        <p:spPr>
          <a:xfrm flipH="1">
            <a:off x="610920" y="264456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08" name="Прямая со стрелкой 11"/>
          <p:cNvCxnSpPr/>
          <p:nvPr/>
        </p:nvCxnSpPr>
        <p:spPr>
          <a:xfrm>
            <a:off x="388800" y="297936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09" name="Объект 12" descr=""/>
          <p:cNvPicPr/>
          <p:nvPr/>
        </p:nvPicPr>
        <p:blipFill>
          <a:blip r:embed="rId2"/>
          <a:stretch/>
        </p:blipFill>
        <p:spPr>
          <a:xfrm>
            <a:off x="2127240" y="3500280"/>
            <a:ext cx="500040" cy="420840"/>
          </a:xfrm>
          <a:prstGeom prst="rect">
            <a:avLst/>
          </a:prstGeom>
          <a:ln w="0">
            <a:noFill/>
          </a:ln>
        </p:spPr>
      </p:pic>
      <p:pic>
        <p:nvPicPr>
          <p:cNvPr id="610" name="Объект 13" descr=""/>
          <p:cNvPicPr/>
          <p:nvPr/>
        </p:nvPicPr>
        <p:blipFill>
          <a:blip r:embed="rId3"/>
          <a:stretch/>
        </p:blipFill>
        <p:spPr>
          <a:xfrm>
            <a:off x="4140360" y="3160800"/>
            <a:ext cx="6397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Объект 14" descr=""/>
          <p:cNvPicPr/>
          <p:nvPr/>
        </p:nvPicPr>
        <p:blipFill>
          <a:blip r:embed="rId4"/>
          <a:stretch/>
        </p:blipFill>
        <p:spPr>
          <a:xfrm>
            <a:off x="271440" y="2038320"/>
            <a:ext cx="679320" cy="617400"/>
          </a:xfrm>
          <a:prstGeom prst="rect">
            <a:avLst/>
          </a:prstGeom>
          <a:ln w="0">
            <a:noFill/>
          </a:ln>
        </p:spPr>
      </p:pic>
      <p:pic>
        <p:nvPicPr>
          <p:cNvPr id="612" name="Объект 15" descr=""/>
          <p:cNvPicPr/>
          <p:nvPr/>
        </p:nvPicPr>
        <p:blipFill>
          <a:blip r:embed="rId5"/>
          <a:stretch/>
        </p:blipFill>
        <p:spPr>
          <a:xfrm>
            <a:off x="2077920" y="1781280"/>
            <a:ext cx="808200" cy="577800"/>
          </a:xfrm>
          <a:prstGeom prst="rect">
            <a:avLst/>
          </a:prstGeom>
          <a:ln w="0">
            <a:noFill/>
          </a:ln>
        </p:spPr>
      </p:pic>
      <p:pic>
        <p:nvPicPr>
          <p:cNvPr id="613" name="Объект 4" descr=""/>
          <p:cNvPicPr/>
          <p:nvPr/>
        </p:nvPicPr>
        <p:blipFill>
          <a:blip r:embed="rId6"/>
          <a:stretch/>
        </p:blipFill>
        <p:spPr>
          <a:xfrm>
            <a:off x="1692360" y="4941720"/>
            <a:ext cx="5957640" cy="1195560"/>
          </a:xfrm>
          <a:prstGeom prst="rect">
            <a:avLst/>
          </a:prstGeom>
          <a:ln w="0">
            <a:noFill/>
          </a:ln>
        </p:spPr>
      </p:pic>
      <p:cxnSp>
        <p:nvCxnSpPr>
          <p:cNvPr id="614" name="Прямая со стрелкой 2"/>
          <p:cNvCxnSpPr/>
          <p:nvPr/>
        </p:nvCxnSpPr>
        <p:spPr>
          <a:xfrm>
            <a:off x="2039400" y="1557360"/>
            <a:ext cx="1080" cy="2304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15" name="Овал 12"/>
          <p:cNvSpPr/>
          <p:nvPr/>
        </p:nvSpPr>
        <p:spPr>
          <a:xfrm>
            <a:off x="1979640" y="2570040"/>
            <a:ext cx="120600" cy="14940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Объект 2" descr=""/>
          <p:cNvPicPr/>
          <p:nvPr/>
        </p:nvPicPr>
        <p:blipFill>
          <a:blip r:embed="rId1"/>
          <a:stretch/>
        </p:blipFill>
        <p:spPr>
          <a:xfrm>
            <a:off x="4718160" y="1773360"/>
            <a:ext cx="4279680" cy="4535280"/>
          </a:xfrm>
          <a:prstGeom prst="rect">
            <a:avLst/>
          </a:prstGeom>
          <a:ln w="0">
            <a:noFill/>
          </a:ln>
        </p:spPr>
      </p:pic>
      <p:pic>
        <p:nvPicPr>
          <p:cNvPr id="617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3"/>
          <p:cNvSpPr/>
          <p:nvPr/>
        </p:nvSpPr>
        <p:spPr>
          <a:xfrm>
            <a:off x="1403280" y="321300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19" name="Прямая со стрелкой 9"/>
          <p:cNvCxnSpPr/>
          <p:nvPr/>
        </p:nvCxnSpPr>
        <p:spPr>
          <a:xfrm flipH="1">
            <a:off x="610920" y="353664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20" name="Прямая со стрелкой 11"/>
          <p:cNvCxnSpPr/>
          <p:nvPr/>
        </p:nvCxnSpPr>
        <p:spPr>
          <a:xfrm>
            <a:off x="250920" y="386028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21" name="Объект 12" descr=""/>
          <p:cNvPicPr/>
          <p:nvPr/>
        </p:nvPicPr>
        <p:blipFill>
          <a:blip r:embed="rId3"/>
          <a:stretch/>
        </p:blipFill>
        <p:spPr>
          <a:xfrm>
            <a:off x="2127240" y="450864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622" name="Объект 13" descr=""/>
          <p:cNvPicPr/>
          <p:nvPr/>
        </p:nvPicPr>
        <p:blipFill>
          <a:blip r:embed="rId4"/>
          <a:stretch/>
        </p:blipFill>
        <p:spPr>
          <a:xfrm>
            <a:off x="3708360" y="3887640"/>
            <a:ext cx="639720" cy="486000"/>
          </a:xfrm>
          <a:prstGeom prst="rect">
            <a:avLst/>
          </a:prstGeom>
          <a:ln w="0">
            <a:noFill/>
          </a:ln>
        </p:spPr>
      </p:pic>
      <p:pic>
        <p:nvPicPr>
          <p:cNvPr id="623" name="Объект 14" descr=""/>
          <p:cNvPicPr/>
          <p:nvPr/>
        </p:nvPicPr>
        <p:blipFill>
          <a:blip r:embed="rId5"/>
          <a:stretch/>
        </p:blipFill>
        <p:spPr>
          <a:xfrm>
            <a:off x="182520" y="2852640"/>
            <a:ext cx="681120" cy="617760"/>
          </a:xfrm>
          <a:prstGeom prst="rect">
            <a:avLst/>
          </a:prstGeom>
          <a:ln w="0">
            <a:noFill/>
          </a:ln>
        </p:spPr>
      </p:pic>
      <p:pic>
        <p:nvPicPr>
          <p:cNvPr id="624" name="Объект 15" descr=""/>
          <p:cNvPicPr/>
          <p:nvPr/>
        </p:nvPicPr>
        <p:blipFill>
          <a:blip r:embed="rId6"/>
          <a:stretch/>
        </p:blipFill>
        <p:spPr>
          <a:xfrm>
            <a:off x="2052720" y="2131920"/>
            <a:ext cx="807840" cy="577800"/>
          </a:xfrm>
          <a:prstGeom prst="rect">
            <a:avLst/>
          </a:prstGeom>
          <a:ln w="0">
            <a:noFill/>
          </a:ln>
        </p:spPr>
      </p:pic>
      <p:cxnSp>
        <p:nvCxnSpPr>
          <p:cNvPr id="625" name="Прямая со стрелкой 4"/>
          <p:cNvCxnSpPr/>
          <p:nvPr/>
        </p:nvCxnSpPr>
        <p:spPr>
          <a:xfrm flipH="1" flipV="1">
            <a:off x="2014200" y="1988280"/>
            <a:ext cx="2160" cy="30963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26" name="Овал 12"/>
          <p:cNvSpPr/>
          <p:nvPr/>
        </p:nvSpPr>
        <p:spPr>
          <a:xfrm>
            <a:off x="1967040" y="3462480"/>
            <a:ext cx="1188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28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178920" y="1484280"/>
            <a:ext cx="85330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тж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розв’язуючи будь-яку задачу з динамік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1) зробіть короткий запис умови задачі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2) виконайте пояснювальний рисунок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3)запишіть рівняння другого закону Ньютон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4) виберіть систему відлік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) знайдіть проекції сил на осі координат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6) запишіть кінцеву формул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7) зробіть розрахунк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-182520" y="158760"/>
            <a:ext cx="89121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Не потрібно боятися зробити хибний крок. Навчитися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 задачі з фізики може кожен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Потрібно тільки їх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66600" y="262080"/>
            <a:ext cx="75297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Lucida Sans Unicode"/>
              </a:rPr>
              <a:t>Деформації розтягнення та кручення  характеризуються  фізичними величинами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видовження та відносне видовженн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Ви познайомились із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м деяких типових задач із динаміки. Звичайно, розглянути всі типи задач неможливо. Але головне – у вас є алгоритм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 й приклади роботи з цим алгоритмом. Решта за 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75297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Деформації, які зберігаються після припинення дії на тіло зовнішніх сил,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пружним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пружності </a:t>
            </a:r>
            <a:r>
              <a:rPr b="1" lang="uk-UA" sz="38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пружної деформації тіла і напрямлена протилежно напрямку зміщення частин (частинок) цього тіла в процесі деформації.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6:52Z</dcterms:created>
  <dc:creator>UserXP</dc:creator>
  <dc:description/>
  <cp:keywords/>
  <dc:language>en-US</dc:language>
  <cp:lastModifiedBy>Customer</cp:lastModifiedBy>
  <dcterms:modified xsi:type="dcterms:W3CDTF">2012-12-28T04:19:39Z</dcterms:modified>
  <cp:revision>50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4000000000001024140</vt:lpwstr>
  </property>
  <property fmtid="{D5CDD505-2E9C-101B-9397-08002B2CF9AE}" pid="3" name="_TemplateID">
    <vt:lpwstr>TC101950851049</vt:lpwstr>
  </property>
</Properties>
</file>