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2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7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7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6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8.png" ContentType="image/png"/>
  <Override PartName="/ppt/media/image16.wmf" ContentType="image/x-wmf"/>
  <Override PartName="/ppt/media/image30.png" ContentType="image/png"/>
  <Override PartName="/ppt/media/image28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D81D-6CEB-4DD4-92C1-3FF5FCF518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D92-CB26-437E-85DC-3071DF10EC66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зентации рекомендуется делать не более 5-6 разделов. Оптимально 2-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ввести название разделов, необходимо ввести название в соответствующей ст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ем стилем является наличие навигации по презентации (переход на нужный раздел из оглавления). Это возможно с помощью добавления гиперссылок. Для этого щелкните правой кнопкой мыши на серый прямоугольник, выберите из контекстного меню пункт «Гиперссылка». В открывшемся окне выберете пункт «местном в документе» (слева). И справа, в этом же окне, выберете интересующий слайд, после чего щелкните ОК. Гиперссылка добавлена. Аналогично проделайте с остальными прямоуголь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28F8-5285-46EA-A7F2-71495322AE6E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79E9-CEAA-48DF-8F39-10AF8F3E30F1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4B45-67F4-4708-B17B-B93DE1561AFC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B053-CBEE-485C-9CCE-64E82CFAF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2B6D-4FD2-456E-9343-FDC2A940F51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3117D-6F58-4122-ACA6-F6CA871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D97D8-C335-430A-9837-B333C370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B3CD2-D5A3-4FA3-8ADF-7B72C1DB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7D301-113A-4E30-BAAD-4EB3DEA0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DE9DA-EC48-4869-B40B-A2E1EB5F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CF49A-1994-4B4B-B729-7D68390B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C31C1-46FC-46CE-A75D-A43B1B83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09FA2-6C08-4E01-AB7C-CF9F30A5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01E2D-084B-45D2-9206-11362D8C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615E4-805E-4363-B62C-F66B4E8A3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5FAF-B4C9-4803-9ED1-FFA58FE2AA3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19161-08C7-45EF-BE84-4A88CDB630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261E3E-91A2-4653-A6B8-34E1D72069E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725DA-610D-4A60-9EFD-97C74095A5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F635D-7D0F-40DC-8DBB-8BE33D484E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356ACB-16FE-4C00-AC25-5D3A3BE80E4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9A08D-FD95-4A7E-8732-F85D3414493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128C18-5DEC-42E7-B989-947C63F881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8FABC-45A8-46E7-9148-5355A20EA43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0E8EAA-E7F9-49BC-8421-DF6EBD0CBE5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47DFF-8204-4C95-8AC3-CA6DBAF8D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1B65-8E0A-4A23-A518-BF823E866BD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D62AAA-482D-4836-920B-584543847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FD969-148F-45AA-AD1E-D70CEC92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0825C-E5B2-4A8E-8CD6-BFC255CF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88B28-D82D-4DD0-B1FB-5C4F4829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065EF-BB97-4B8C-AFE7-DD05D399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791EE-EA77-45C0-A6AE-16F70E2D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52B1A-CB13-4A83-8686-9BD65105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4D642-8E74-43CC-A02A-E35BDDAC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BBC3-F79D-453E-9534-CF31899F8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9BA01-61AA-4294-90C5-F339F55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0E0C2-A7CB-4BF0-979B-A3BE0A35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8D5D6-6E40-42E6-8E22-8A482DDB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9C6F2-4720-45FF-8313-FC4720A4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8E512-BA5C-4BD5-9190-BB48EDF6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12EB6-8320-4003-AADF-051A4502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5F0D4-C893-4106-9204-71BAA0D0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749D6-8445-4ED0-8613-B626A496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FF5A62-A64B-41A2-8C63-ACA6C6FC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9A0DDD-B16C-4424-85A1-19F08DB0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4FC9-49F5-41D6-BA50-4999B3B68F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09579-7716-4E28-A890-E9DDA81E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3FA92-719F-48E6-B18D-FF07245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9D93F-5A18-4EEB-8A97-56D6B21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4538CF-C8F4-47B5-A4C4-7FA299F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1C60A-BD99-4E48-91E3-49E27BE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79423-5A87-4F7B-A14D-90CF2130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09AD16-E27B-4F37-8506-B684B4D4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1C25F-1374-4362-A06A-25D459CC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85E708-B968-4C9C-91AC-DC574A3B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0C0FD-1526-41F9-A2B2-53500F9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96F8-922E-427F-BB59-68473C080F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DAA84-6678-4E87-9E3C-F7051110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F4DBE-6FF6-473D-AC4C-334D92DB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2F932-BEB3-4B33-9E73-9D8E23D6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9049A-01F8-4AC8-B785-3DFC4515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7001F-A5E9-4E6A-AD81-8E93332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E2026-4DC4-40FA-B9FA-03E7FC2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7BC1E-83AE-41B7-A46E-E826F691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CA5EA-720D-4A12-BA25-42E5FC95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916C3-DD3E-434F-997A-5F473E54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CF0C8-1687-4899-AB93-D0B34BA7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9060-07BA-44FF-B918-94B5AFD88F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47FCE3-1AE4-4EDD-9C03-8902BE3B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5D9FA5-BDCC-42B2-B1CE-955DBDF2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0DE4EC-6E77-4D41-8C81-903B3AFE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7A9615-CD72-49A1-A34B-6F5EAB91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876D1E-B7E7-4B46-A837-D231E0A2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BAC355-7331-4E82-97DF-488793E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510349-0A5F-4A9E-88AF-A038BA2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822F76-AA02-40A1-832A-2ADE2756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6A5B56-F7D3-435F-8A91-CBEE9DC0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7A6D7E-E297-463F-9CD6-35999ABC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9708-0D2F-41EB-889A-5511C9150F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96A28B-535D-4172-AA07-F6D08322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2771E4-0F42-4964-8E89-665547DD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D0326E-16D0-4E21-8F33-E254030C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AE6CB-4AED-48B1-8ACD-B21B7C53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C174A7-DA35-4FC4-BBBC-04D874AD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42835-B3CB-4C42-AF66-B3B3242B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38D5FE-D7B0-478C-B08D-34FBBD70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D4C29A-DF4E-4C2F-AF69-66A6E2F5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FF5E0-5781-4E3E-8C6A-1F91E47C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BB2D70-4C6D-442F-A911-0278958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D39C-F509-47F3-8203-C1C6F11D962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71F5F4-B6CB-46EB-B4AA-833C0B0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55E5B-DFCB-43F8-A051-283B94AF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F666F6-345E-47CB-9F1C-E37B0577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007B1-5B50-466C-A3FD-474FB847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1934E0-2E58-4C3E-8D10-E012FFEE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71E00E-360A-4C06-A0F7-69B19F93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3B873A-7398-40EF-AC7C-B7D4AEF5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0A859E-AEBC-412B-93EB-A68E8EAF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94027E-3579-4DFD-AC06-2D0372D0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0E718B-7CE7-457E-98A0-776E568C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9726-1BD0-4C86-8687-95DDEEB3EEE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91BF0-B598-4B1C-8317-572C1E4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C66EEF-E349-41C5-822A-DF9CCAD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853FE-2085-4276-B037-500D46F8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59B231-30CC-4BB4-8065-E84C7C53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CEF154-2262-412B-BB15-BEC6F6C6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1994A-F801-46CA-98CD-2A7712ED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B815A5-84A2-4321-A517-AE6BC26D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B6AE53-90DD-4BF2-AD8A-38AD0F99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5423B4-D15D-40C0-A304-DAEFDB51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919F05-38DE-40DA-9252-74F8A738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1215-C0CA-4D8B-B7F9-03ECA4300E7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450E21-9F45-48C1-86F1-2E429B69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24ACB9-A7FC-4A83-A708-B4E00787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635F8A-382E-42AC-A87C-8539593C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0CB95E-75A5-4BF1-9719-1237CAFF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8EDBAC-8B5B-4FA2-8DD6-823AB27D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4C0A92-C4C2-4273-A307-22E781C1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DA8702-26C7-4A54-8D3A-D5C89036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DD326-4800-4B72-B511-29B32ACE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5C1CE-F83E-4DE3-932A-514A6C0C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1D27B-C2E8-4FC3-B290-C2A9ACC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8345-4D8E-4DCE-ADFD-79E977ECC7F4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41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3D02-5B4A-4CA4-ABEC-A224F4DDD7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D414-011E-4E68-8624-8C5F54E275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87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88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9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90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1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pic>
          <p:nvPicPr>
            <p:cNvPr id="93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5E9F-616F-471B-9C72-DCD374EF1A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3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14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1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2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548D-C498-406B-9697-98A0D02C79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8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18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D560-808F-4E9E-A19A-CBB0ECDA75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08FF-6C8A-4EC7-A1E7-D222316832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7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27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415C-7C31-4549-9FBD-29738CA136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8193-23C5-4BB5-97F5-8844C562B4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1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62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365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7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7BC-4AC2-4B99-9E06-37D10C9652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1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8.wmf"/><Relationship Id="rId5" Type="http://schemas.openxmlformats.org/officeDocument/2006/relationships/image" Target="../media/image38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6.png"/><Relationship Id="rId3" Type="http://schemas.openxmlformats.org/officeDocument/2006/relationships/image" Target="../media/image18.wmf"/><Relationship Id="rId4" Type="http://schemas.openxmlformats.org/officeDocument/2006/relationships/image" Target="../media/image26.wmf"/><Relationship Id="rId5" Type="http://schemas.openxmlformats.org/officeDocument/2006/relationships/image" Target="../media/image39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26.wmf"/><Relationship Id="rId4" Type="http://schemas.openxmlformats.org/officeDocument/2006/relationships/image" Target="../media/image24.wmf"/><Relationship Id="rId5" Type="http://schemas.openxmlformats.org/officeDocument/2006/relationships/image" Target="../media/image29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5.wmf"/><Relationship Id="rId4" Type="http://schemas.openxmlformats.org/officeDocument/2006/relationships/image" Target="../media/image26.wmf"/><Relationship Id="rId5" Type="http://schemas.openxmlformats.org/officeDocument/2006/relationships/image" Target="../media/image24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225360" y="1341360"/>
            <a:ext cx="9199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завжди напрямлена в ту саму сторону, що і швидкість тіл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спокою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є рушійною силою, завдяки якій пересуваються люди, тварини, транспор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ковза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– це сила, яка виникає під час ковзання одного тіла по поверхні іншого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скорення вільного паді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завжди однакове в будь-якій точці Земної кулі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ковза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можна зменшити, посипавши поверхню тіла піском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Lucida Sans Unicode"/>
              </a:rPr>
              <a:t>Зміну форми або розмірів тіла називають </a:t>
            </a:r>
            <a:r>
              <a:rPr b="1" lang="uk-UA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деформацією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Коефіцієнт тертя ковза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залежить від матеріалів, з яких виготовлені дотичні тіла, і якості обробки їхніх поверхонь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Rectangle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7594920" cy="161604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3">
            <a:hlinkClick r:id="rId2" action="ppaction://hlinksldjump"/>
          </p:cNvPr>
          <p:cNvSpPr/>
          <p:nvPr/>
        </p:nvSpPr>
        <p:spPr>
          <a:xfrm>
            <a:off x="571680" y="1692360"/>
            <a:ext cx="787068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770040" y="180036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633240" y="1673280"/>
            <a:ext cx="816300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лгоритм роз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зування задач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539640" y="265428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770040" y="278460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8" name="AutoShape 8"/>
          <p:cNvSpPr/>
          <p:nvPr/>
        </p:nvSpPr>
        <p:spPr>
          <a:xfrm>
            <a:off x="552600" y="2658960"/>
            <a:ext cx="787068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о горизонтальній поверхні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9" name="AutoShape 9"/>
          <p:cNvSpPr/>
          <p:nvPr/>
        </p:nvSpPr>
        <p:spPr>
          <a:xfrm>
            <a:off x="539640" y="359568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0" name="AutoShape 10"/>
          <p:cNvSpPr/>
          <p:nvPr/>
        </p:nvSpPr>
        <p:spPr>
          <a:xfrm>
            <a:off x="770040" y="372096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1" name="AutoShape 11">
            <a:hlinkClick r:id="rId3" action="ppaction://hlinksldjump"/>
          </p:cNvPr>
          <p:cNvSpPr/>
          <p:nvPr/>
        </p:nvSpPr>
        <p:spPr>
          <a:xfrm>
            <a:off x="539640" y="3494160"/>
            <a:ext cx="787104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о опуклому мосту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2" name="AutoShape 12"/>
          <p:cNvSpPr/>
          <p:nvPr/>
        </p:nvSpPr>
        <p:spPr>
          <a:xfrm>
            <a:off x="633240" y="451656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3" name="AutoShape 13"/>
          <p:cNvSpPr/>
          <p:nvPr/>
        </p:nvSpPr>
        <p:spPr>
          <a:xfrm>
            <a:off x="809640" y="464328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4" name="AutoShape 14"/>
          <p:cNvSpPr/>
          <p:nvPr/>
        </p:nvSpPr>
        <p:spPr>
          <a:xfrm>
            <a:off x="770040" y="4532400"/>
            <a:ext cx="787068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о вертикалі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633240" y="552132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649440" y="5513400"/>
            <a:ext cx="787068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ід дією сили тертя.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809640" y="564048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0560" y="170028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важно прочитайте умову задачі. З'ясуйте, які сили діють на тіло та характер руху ті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пишіть коротко умову задачі, виразіть числові значення СІ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робіть схематичний рисунок, покажіть на ньому 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обрану систему відліку т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сі сили, що діють на тіло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66600" y="212760"/>
            <a:ext cx="8901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79280" y="1709280"/>
            <a:ext cx="8785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Запишіть другий закон Ньютона у векторному вигляді та проекціях на осі координат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Запишіть додаткові рівняння (наприклад, формули для сил або рівняння кінематики </a:t>
            </a:r>
            <a:r>
              <a:rPr b="0" lang="uk-UA" sz="3000" spc="-1" strike="noStrike">
                <a:solidFill>
                  <a:srgbClr val="000000"/>
                </a:solidFill>
                <a:latin typeface="Lucida Sans Unicode"/>
              </a:rPr>
              <a:t>з урахуванням початкових умов: початкових координат та швидкостей тіла</a:t>
            </a: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Розв'яжіть отриману систему рівнянь у загальному вигляді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8785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79280" y="148392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аналізуйте отриманий результат (перевірте одиниці вели­чин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иконайте числові розрахунки, оцініть правдоподібність ре­зультаті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пишіть відповід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Обміркуйте, чи має задача інший спосіб розв’язуванн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8974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109440" y="-12600"/>
            <a:ext cx="8925120" cy="1407960"/>
          </a:xfrm>
          <a:prstGeom prst="rect">
            <a:avLst/>
          </a:prstGeom>
          <a:ln w="0">
            <a:noFill/>
          </a:ln>
        </p:spPr>
      </p:pic>
      <p:pic>
        <p:nvPicPr>
          <p:cNvPr id="525" name="Object 3" descr=""/>
          <p:cNvPicPr/>
          <p:nvPr/>
        </p:nvPicPr>
        <p:blipFill>
          <a:blip r:embed="rId2"/>
          <a:stretch/>
        </p:blipFill>
        <p:spPr>
          <a:xfrm>
            <a:off x="3659040" y="3070080"/>
            <a:ext cx="322560" cy="3002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492360" y="3499920"/>
            <a:ext cx="48247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За ІІ законом Ньюто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755640" y="306864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1403280" y="2492280"/>
            <a:ext cx="936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29" name="Object 15" descr=""/>
          <p:cNvPicPr/>
          <p:nvPr/>
        </p:nvPicPr>
        <p:blipFill>
          <a:blip r:embed="rId3"/>
          <a:stretch/>
        </p:blipFill>
        <p:spPr>
          <a:xfrm>
            <a:off x="252360" y="2276640"/>
            <a:ext cx="593640" cy="539640"/>
          </a:xfrm>
          <a:prstGeom prst="rect">
            <a:avLst/>
          </a:prstGeom>
          <a:ln w="0">
            <a:noFill/>
          </a:ln>
        </p:spPr>
      </p:pic>
      <p:pic>
        <p:nvPicPr>
          <p:cNvPr id="530" name="Object 16" descr=""/>
          <p:cNvPicPr/>
          <p:nvPr/>
        </p:nvPicPr>
        <p:blipFill>
          <a:blip r:embed="rId4"/>
          <a:stretch/>
        </p:blipFill>
        <p:spPr>
          <a:xfrm>
            <a:off x="1979640" y="3535200"/>
            <a:ext cx="431640" cy="362160"/>
          </a:xfrm>
          <a:prstGeom prst="rect">
            <a:avLst/>
          </a:prstGeom>
          <a:ln w="0">
            <a:noFill/>
          </a:ln>
        </p:spPr>
      </p:pic>
      <p:pic>
        <p:nvPicPr>
          <p:cNvPr id="531" name="Object 17" descr=""/>
          <p:cNvPicPr/>
          <p:nvPr/>
        </p:nvPicPr>
        <p:blipFill>
          <a:blip r:embed="rId5"/>
          <a:stretch/>
        </p:blipFill>
        <p:spPr>
          <a:xfrm>
            <a:off x="1932120" y="1628640"/>
            <a:ext cx="768240" cy="547920"/>
          </a:xfrm>
          <a:prstGeom prst="rect">
            <a:avLst/>
          </a:prstGeom>
          <a:ln w="0">
            <a:noFill/>
          </a:ln>
        </p:spPr>
      </p:pic>
      <p:pic>
        <p:nvPicPr>
          <p:cNvPr id="532" name="Object 18" descr=""/>
          <p:cNvPicPr/>
          <p:nvPr/>
        </p:nvPicPr>
        <p:blipFill>
          <a:blip r:embed="rId6"/>
          <a:stretch/>
        </p:blipFill>
        <p:spPr>
          <a:xfrm>
            <a:off x="2903400" y="2235240"/>
            <a:ext cx="744840" cy="1092240"/>
          </a:xfrm>
          <a:prstGeom prst="rect">
            <a:avLst/>
          </a:prstGeom>
          <a:ln w="0">
            <a:noFill/>
          </a:ln>
        </p:spPr>
      </p:pic>
      <p:pic>
        <p:nvPicPr>
          <p:cNvPr id="533" name="Object 19" descr=""/>
          <p:cNvPicPr/>
          <p:nvPr/>
        </p:nvPicPr>
        <p:blipFill>
          <a:blip r:embed="rId7"/>
          <a:stretch/>
        </p:blipFill>
        <p:spPr>
          <a:xfrm>
            <a:off x="725400" y="4583160"/>
            <a:ext cx="7893000" cy="1046160"/>
          </a:xfrm>
          <a:prstGeom prst="rect">
            <a:avLst/>
          </a:prstGeom>
          <a:ln w="0">
            <a:noFill/>
          </a:ln>
        </p:spPr>
      </p:pic>
      <p:cxnSp>
        <p:nvCxnSpPr>
          <p:cNvPr id="534" name="Прямая со стрелкой 16"/>
          <p:cNvCxnSpPr/>
          <p:nvPr/>
        </p:nvCxnSpPr>
        <p:spPr>
          <a:xfrm>
            <a:off x="755280" y="2795400"/>
            <a:ext cx="252180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5" name="Прямая со стрелкой 4"/>
          <p:cNvCxnSpPr/>
          <p:nvPr/>
        </p:nvCxnSpPr>
        <p:spPr>
          <a:xfrm>
            <a:off x="1871280" y="1773360"/>
            <a:ext cx="1080" cy="20880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36" name="Овал 13"/>
          <p:cNvSpPr/>
          <p:nvPr/>
        </p:nvSpPr>
        <p:spPr>
          <a:xfrm>
            <a:off x="1811160" y="2741760"/>
            <a:ext cx="120960" cy="1508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3" descr=""/>
          <p:cNvPicPr/>
          <p:nvPr/>
        </p:nvPicPr>
        <p:blipFill>
          <a:blip r:embed="rId1"/>
          <a:stretch/>
        </p:blipFill>
        <p:spPr>
          <a:xfrm>
            <a:off x="176040" y="4363920"/>
            <a:ext cx="8461440" cy="2092320"/>
          </a:xfrm>
          <a:prstGeom prst="rect">
            <a:avLst/>
          </a:prstGeom>
          <a:ln w="0">
            <a:noFill/>
          </a:ln>
        </p:spPr>
      </p:pic>
      <p:pic>
        <p:nvPicPr>
          <p:cNvPr id="538" name="Rectangle 2" descr=""/>
          <p:cNvPicPr/>
          <p:nvPr/>
        </p:nvPicPr>
        <p:blipFill>
          <a:blip r:embed="rId2"/>
          <a:stretch/>
        </p:blipFill>
        <p:spPr>
          <a:xfrm>
            <a:off x="-6480" y="212760"/>
            <a:ext cx="8717040" cy="1146240"/>
          </a:xfrm>
          <a:prstGeom prst="rect">
            <a:avLst/>
          </a:prstGeom>
          <a:ln w="0">
            <a:noFill/>
          </a:ln>
        </p:spPr>
      </p:pic>
      <p:sp>
        <p:nvSpPr>
          <p:cNvPr id="539" name="Line 5"/>
          <p:cNvSpPr/>
          <p:nvPr/>
        </p:nvSpPr>
        <p:spPr>
          <a:xfrm>
            <a:off x="747720" y="317340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40" name="Object 15" descr=""/>
          <p:cNvPicPr/>
          <p:nvPr/>
        </p:nvPicPr>
        <p:blipFill>
          <a:blip r:embed="rId3"/>
          <a:stretch/>
        </p:blipFill>
        <p:spPr>
          <a:xfrm>
            <a:off x="212760" y="2197080"/>
            <a:ext cx="797040" cy="72396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16" descr=""/>
          <p:cNvPicPr/>
          <p:nvPr/>
        </p:nvPicPr>
        <p:blipFill>
          <a:blip r:embed="rId4"/>
          <a:stretch/>
        </p:blipFill>
        <p:spPr>
          <a:xfrm>
            <a:off x="1909800" y="3645000"/>
            <a:ext cx="644400" cy="54108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17" descr=""/>
          <p:cNvPicPr/>
          <p:nvPr/>
        </p:nvPicPr>
        <p:blipFill>
          <a:blip r:embed="rId5"/>
          <a:stretch/>
        </p:blipFill>
        <p:spPr>
          <a:xfrm>
            <a:off x="1795320" y="1554120"/>
            <a:ext cx="816120" cy="582480"/>
          </a:xfrm>
          <a:prstGeom prst="rect">
            <a:avLst/>
          </a:prstGeom>
          <a:ln w="0">
            <a:noFill/>
          </a:ln>
        </p:spPr>
      </p:pic>
      <p:pic>
        <p:nvPicPr>
          <p:cNvPr id="543" name="Object 18" descr=""/>
          <p:cNvPicPr/>
          <p:nvPr/>
        </p:nvPicPr>
        <p:blipFill>
          <a:blip r:embed="rId6"/>
          <a:stretch/>
        </p:blipFill>
        <p:spPr>
          <a:xfrm>
            <a:off x="2719440" y="2278080"/>
            <a:ext cx="830160" cy="1217520"/>
          </a:xfrm>
          <a:prstGeom prst="rect">
            <a:avLst/>
          </a:prstGeom>
          <a:ln w="0">
            <a:noFill/>
          </a:ln>
        </p:spPr>
      </p:pic>
      <p:pic>
        <p:nvPicPr>
          <p:cNvPr id="544" name="Объект 1" descr=""/>
          <p:cNvPicPr/>
          <p:nvPr/>
        </p:nvPicPr>
        <p:blipFill>
          <a:blip r:embed="rId7"/>
          <a:stretch/>
        </p:blipFill>
        <p:spPr>
          <a:xfrm>
            <a:off x="3754440" y="2668680"/>
            <a:ext cx="514440" cy="47916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1"/>
          <p:cNvSpPr/>
          <p:nvPr/>
        </p:nvSpPr>
        <p:spPr>
          <a:xfrm>
            <a:off x="1285920" y="2668680"/>
            <a:ext cx="108108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46" name="Прямая со стрелкой 15"/>
          <p:cNvCxnSpPr/>
          <p:nvPr/>
        </p:nvCxnSpPr>
        <p:spPr>
          <a:xfrm>
            <a:off x="1794960" y="1773000"/>
            <a:ext cx="1080" cy="2377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47" name="Прямая со стрелкой 4"/>
          <p:cNvCxnSpPr/>
          <p:nvPr/>
        </p:nvCxnSpPr>
        <p:spPr>
          <a:xfrm>
            <a:off x="395280" y="2920680"/>
            <a:ext cx="288216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48" name="Овал 12"/>
          <p:cNvSpPr/>
          <p:nvPr/>
        </p:nvSpPr>
        <p:spPr>
          <a:xfrm>
            <a:off x="1735200" y="284652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Объект 2" descr=""/>
          <p:cNvPicPr/>
          <p:nvPr/>
        </p:nvPicPr>
        <p:blipFill>
          <a:blip r:embed="rId1"/>
          <a:stretch/>
        </p:blipFill>
        <p:spPr>
          <a:xfrm>
            <a:off x="324000" y="1706400"/>
            <a:ext cx="8643960" cy="4602240"/>
          </a:xfrm>
          <a:prstGeom prst="rect">
            <a:avLst/>
          </a:prstGeom>
          <a:ln w="0">
            <a:noFill/>
          </a:ln>
        </p:spPr>
      </p:pic>
      <p:pic>
        <p:nvPicPr>
          <p:cNvPr id="550" name="Rectangle 2" descr=""/>
          <p:cNvPicPr/>
          <p:nvPr/>
        </p:nvPicPr>
        <p:blipFill>
          <a:blip r:embed="rId2"/>
          <a:stretch/>
        </p:blipFill>
        <p:spPr>
          <a:xfrm>
            <a:off x="-6480" y="212760"/>
            <a:ext cx="8717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Объект 17" descr=""/>
          <p:cNvPicPr/>
          <p:nvPr/>
        </p:nvPicPr>
        <p:blipFill>
          <a:blip r:embed="rId1"/>
          <a:stretch/>
        </p:blipFill>
        <p:spPr>
          <a:xfrm>
            <a:off x="1324080" y="4848120"/>
            <a:ext cx="712800" cy="662040"/>
          </a:xfrm>
          <a:prstGeom prst="rect">
            <a:avLst/>
          </a:prstGeom>
          <a:ln w="0">
            <a:noFill/>
          </a:ln>
        </p:spPr>
      </p:pic>
      <p:pic>
        <p:nvPicPr>
          <p:cNvPr id="552" name="Rectangle 2" descr=""/>
          <p:cNvPicPr/>
          <p:nvPr/>
        </p:nvPicPr>
        <p:blipFill>
          <a:blip r:embed="rId2"/>
          <a:stretch/>
        </p:blipFill>
        <p:spPr>
          <a:xfrm>
            <a:off x="-79200" y="212760"/>
            <a:ext cx="9047160" cy="114624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10"/>
          <p:cNvSpPr/>
          <p:nvPr/>
        </p:nvSpPr>
        <p:spPr>
          <a:xfrm>
            <a:off x="2050920" y="2976480"/>
            <a:ext cx="151308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4" name="Арка 9"/>
          <p:cNvSpPr/>
          <p:nvPr/>
        </p:nvSpPr>
        <p:spPr>
          <a:xfrm>
            <a:off x="468360" y="3695760"/>
            <a:ext cx="5040360" cy="3384360"/>
          </a:xfrm>
          <a:custGeom>
            <a:avLst/>
            <a:gdLst/>
            <a:ahLst/>
            <a:rect l="l" t="t" r="r" b="b"/>
            <a:pathLst>
              <a:path w="5040312" h="3384550">
                <a:moveTo>
                  <a:pt x="2852" y="1611789"/>
                </a:moveTo>
                <a:cubicBezTo>
                  <a:pt x="67182" y="704568"/>
                  <a:pt x="1186557" y="-6777"/>
                  <a:pt x="2539093" y="48"/>
                </a:cubicBezTo>
                <a:cubicBezTo>
                  <a:pt x="3909507" y="6963"/>
                  <a:pt x="5020501" y="747969"/>
                  <a:pt x="5040055" y="1668129"/>
                </a:cubicBezTo>
                <a:lnTo>
                  <a:pt x="5030680" y="1668218"/>
                </a:lnTo>
                <a:cubicBezTo>
                  <a:pt x="5011163" y="753164"/>
                  <a:pt x="3904292" y="16286"/>
                  <a:pt x="2538987" y="9422"/>
                </a:cubicBezTo>
                <a:cubicBezTo>
                  <a:pt x="1191580" y="2648"/>
                  <a:pt x="76428" y="709963"/>
                  <a:pt x="12226" y="1612088"/>
                </a:cubicBezTo>
                <a:lnTo>
                  <a:pt x="2852" y="1611789"/>
                </a:lnTo>
                <a:close/>
              </a:path>
            </a:pathLst>
          </a:custGeom>
          <a:solidFill>
            <a:srgbClr val="000000"/>
          </a:solidFill>
          <a:ln w="5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55" name="Прямая со стрелкой 16"/>
          <p:cNvCxnSpPr/>
          <p:nvPr/>
        </p:nvCxnSpPr>
        <p:spPr>
          <a:xfrm>
            <a:off x="1332000" y="1844640"/>
            <a:ext cx="72000" cy="334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6" name="Объект 18" descr=""/>
          <p:cNvPicPr/>
          <p:nvPr/>
        </p:nvPicPr>
        <p:blipFill>
          <a:blip r:embed="rId3"/>
          <a:stretch/>
        </p:blipFill>
        <p:spPr>
          <a:xfrm>
            <a:off x="2808360" y="4524480"/>
            <a:ext cx="939600" cy="647640"/>
          </a:xfrm>
          <a:prstGeom prst="rect">
            <a:avLst/>
          </a:prstGeom>
          <a:ln w="0">
            <a:noFill/>
          </a:ln>
        </p:spPr>
      </p:pic>
      <p:pic>
        <p:nvPicPr>
          <p:cNvPr id="557" name="Объект 19" descr=""/>
          <p:cNvPicPr/>
          <p:nvPr/>
        </p:nvPicPr>
        <p:blipFill>
          <a:blip r:embed="rId4"/>
          <a:stretch/>
        </p:blipFill>
        <p:spPr>
          <a:xfrm>
            <a:off x="2808360" y="1465200"/>
            <a:ext cx="1363680" cy="758880"/>
          </a:xfrm>
          <a:prstGeom prst="rect">
            <a:avLst/>
          </a:prstGeom>
          <a:ln w="0">
            <a:noFill/>
          </a:ln>
        </p:spPr>
      </p:pic>
      <p:pic>
        <p:nvPicPr>
          <p:cNvPr id="558" name="TextBox 20" descr=""/>
          <p:cNvPicPr/>
          <p:nvPr/>
        </p:nvPicPr>
        <p:blipFill>
          <a:blip r:embed="rId5"/>
          <a:stretch/>
        </p:blipFill>
        <p:spPr>
          <a:xfrm>
            <a:off x="3998880" y="2292480"/>
            <a:ext cx="5145120" cy="1407960"/>
          </a:xfrm>
          <a:prstGeom prst="rect">
            <a:avLst/>
          </a:prstGeom>
          <a:ln w="0">
            <a:noFill/>
          </a:ln>
        </p:spPr>
      </p:pic>
      <p:cxnSp>
        <p:nvCxnSpPr>
          <p:cNvPr id="559" name="Прямая со стрелкой 11"/>
          <p:cNvCxnSpPr/>
          <p:nvPr/>
        </p:nvCxnSpPr>
        <p:spPr>
          <a:xfrm>
            <a:off x="2792160" y="1844280"/>
            <a:ext cx="1080" cy="3025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60" name="Овал 12"/>
          <p:cNvSpPr/>
          <p:nvPr/>
        </p:nvSpPr>
        <p:spPr>
          <a:xfrm>
            <a:off x="2732040" y="3281400"/>
            <a:ext cx="120600" cy="1508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Объект 17" descr=""/>
          <p:cNvPicPr/>
          <p:nvPr/>
        </p:nvPicPr>
        <p:blipFill>
          <a:blip r:embed="rId1"/>
          <a:stretch/>
        </p:blipFill>
        <p:spPr>
          <a:xfrm>
            <a:off x="523800" y="5013360"/>
            <a:ext cx="541440" cy="503280"/>
          </a:xfrm>
          <a:prstGeom prst="rect">
            <a:avLst/>
          </a:prstGeom>
          <a:ln w="0">
            <a:noFill/>
          </a:ln>
        </p:spPr>
      </p:pic>
      <p:pic>
        <p:nvPicPr>
          <p:cNvPr id="562" name="Rectangle 2" descr=""/>
          <p:cNvPicPr/>
          <p:nvPr/>
        </p:nvPicPr>
        <p:blipFill>
          <a:blip r:embed="rId2"/>
          <a:stretch/>
        </p:blipFill>
        <p:spPr>
          <a:xfrm>
            <a:off x="49320" y="212760"/>
            <a:ext cx="8918640" cy="114624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10"/>
          <p:cNvSpPr/>
          <p:nvPr/>
        </p:nvSpPr>
        <p:spPr>
          <a:xfrm>
            <a:off x="1403280" y="3170160"/>
            <a:ext cx="1225800" cy="52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4" name="Арка 9"/>
          <p:cNvSpPr/>
          <p:nvPr/>
        </p:nvSpPr>
        <p:spPr>
          <a:xfrm>
            <a:off x="468360" y="3695760"/>
            <a:ext cx="3095640" cy="2109600"/>
          </a:xfrm>
          <a:custGeom>
            <a:avLst/>
            <a:gdLst/>
            <a:ahLst/>
            <a:rect l="l" t="t" r="r" b="b"/>
            <a:pathLst>
              <a:path w="3095625" h="2109788">
                <a:moveTo>
                  <a:pt x="0" y="1054894"/>
                </a:moveTo>
                <a:cubicBezTo>
                  <a:pt x="0" y="619028"/>
                  <a:pt x="393324" y="228044"/>
                  <a:pt x="989859" y="70923"/>
                </a:cubicBezTo>
                <a:cubicBezTo>
                  <a:pt x="1358044" y="-26053"/>
                  <a:pt x="1766681" y="-23495"/>
                  <a:pt x="2132191" y="78073"/>
                </a:cubicBezTo>
                <a:cubicBezTo>
                  <a:pt x="2732676" y="244937"/>
                  <a:pt x="3116878" y="649227"/>
                  <a:pt x="3094723" y="1090933"/>
                </a:cubicBezTo>
                <a:lnTo>
                  <a:pt x="3072211" y="1090409"/>
                </a:lnTo>
                <a:cubicBezTo>
                  <a:pt x="3094246" y="657131"/>
                  <a:pt x="2713985" y="260693"/>
                  <a:pt x="2120281" y="97981"/>
                </a:cubicBezTo>
                <a:cubicBezTo>
                  <a:pt x="1762046" y="-198"/>
                  <a:pt x="1362103" y="-2671"/>
                  <a:pt x="1001277" y="91060"/>
                </a:cubicBezTo>
                <a:cubicBezTo>
                  <a:pt x="411686" y="244218"/>
                  <a:pt x="22512" y="627454"/>
                  <a:pt x="22512" y="1054894"/>
                </a:cubicBezTo>
                <a:lnTo>
                  <a:pt x="0" y="1054894"/>
                </a:lnTo>
                <a:close/>
              </a:path>
            </a:pathLst>
          </a:custGeom>
          <a:solidFill>
            <a:srgbClr val="000000"/>
          </a:solidFill>
          <a:ln w="5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65" name="Прямая со стрелкой 16"/>
          <p:cNvCxnSpPr/>
          <p:nvPr/>
        </p:nvCxnSpPr>
        <p:spPr>
          <a:xfrm>
            <a:off x="863640" y="1824120"/>
            <a:ext cx="72000" cy="334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Объект 18" descr=""/>
          <p:cNvPicPr/>
          <p:nvPr/>
        </p:nvPicPr>
        <p:blipFill>
          <a:blip r:embed="rId3"/>
          <a:stretch/>
        </p:blipFill>
        <p:spPr>
          <a:xfrm>
            <a:off x="2158920" y="4524480"/>
            <a:ext cx="708120" cy="488880"/>
          </a:xfrm>
          <a:prstGeom prst="rect">
            <a:avLst/>
          </a:prstGeom>
          <a:ln w="0">
            <a:noFill/>
          </a:ln>
        </p:spPr>
      </p:pic>
      <p:pic>
        <p:nvPicPr>
          <p:cNvPr id="567" name="Объект 19" descr=""/>
          <p:cNvPicPr/>
          <p:nvPr/>
        </p:nvPicPr>
        <p:blipFill>
          <a:blip r:embed="rId4"/>
          <a:stretch/>
        </p:blipFill>
        <p:spPr>
          <a:xfrm>
            <a:off x="2106720" y="2133720"/>
            <a:ext cx="807840" cy="449280"/>
          </a:xfrm>
          <a:prstGeom prst="rect">
            <a:avLst/>
          </a:prstGeom>
          <a:ln w="0">
            <a:noFill/>
          </a:ln>
        </p:spPr>
      </p:pic>
      <p:pic>
        <p:nvPicPr>
          <p:cNvPr id="568" name="TextBox 4" descr=""/>
          <p:cNvPicPr/>
          <p:nvPr/>
        </p:nvPicPr>
        <p:blipFill>
          <a:blip r:embed="rId5"/>
          <a:stretch/>
        </p:blipFill>
        <p:spPr>
          <a:xfrm>
            <a:off x="3852720" y="3859200"/>
            <a:ext cx="5115240" cy="2097000"/>
          </a:xfrm>
          <a:prstGeom prst="rect">
            <a:avLst/>
          </a:prstGeom>
          <a:ln w="0">
            <a:noFill/>
          </a:ln>
        </p:spPr>
      </p:pic>
      <p:cxnSp>
        <p:nvCxnSpPr>
          <p:cNvPr id="569" name="Прямая со стрелкой 11"/>
          <p:cNvCxnSpPr/>
          <p:nvPr/>
        </p:nvCxnSpPr>
        <p:spPr>
          <a:xfrm>
            <a:off x="2031480" y="2133360"/>
            <a:ext cx="1080" cy="27738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70" name="Овал 12"/>
          <p:cNvSpPr/>
          <p:nvPr/>
        </p:nvSpPr>
        <p:spPr>
          <a:xfrm>
            <a:off x="1971720" y="340524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Объект 1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131320" cy="4602240"/>
          </a:xfrm>
          <a:prstGeom prst="rect">
            <a:avLst/>
          </a:prstGeom>
          <a:ln w="0">
            <a:noFill/>
          </a:ln>
        </p:spPr>
      </p:pic>
      <p:pic>
        <p:nvPicPr>
          <p:cNvPr id="572" name="Rectangle 2" descr=""/>
          <p:cNvPicPr/>
          <p:nvPr/>
        </p:nvPicPr>
        <p:blipFill>
          <a:blip r:embed="rId2"/>
          <a:stretch/>
        </p:blipFill>
        <p:spPr>
          <a:xfrm>
            <a:off x="-23760" y="189000"/>
            <a:ext cx="8912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-182520" y="212760"/>
            <a:ext cx="8893080" cy="114624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1"/>
          <p:cNvSpPr/>
          <p:nvPr/>
        </p:nvSpPr>
        <p:spPr>
          <a:xfrm>
            <a:off x="1403280" y="3141720"/>
            <a:ext cx="1368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75" name="Прямая со стрелкой 7"/>
          <p:cNvCxnSpPr/>
          <p:nvPr/>
        </p:nvCxnSpPr>
        <p:spPr>
          <a:xfrm>
            <a:off x="884160" y="1858680"/>
            <a:ext cx="16560" cy="33915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sp>
        <p:nvSpPr>
          <p:cNvPr id="576" name="Прямоугольник 11"/>
          <p:cNvSpPr/>
          <p:nvPr/>
        </p:nvSpPr>
        <p:spPr>
          <a:xfrm>
            <a:off x="6443640" y="3116160"/>
            <a:ext cx="1368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77" name="Прямая со стрелкой 12"/>
          <p:cNvCxnSpPr/>
          <p:nvPr/>
        </p:nvCxnSpPr>
        <p:spPr>
          <a:xfrm>
            <a:off x="5820840" y="1828800"/>
            <a:ext cx="1080" cy="32565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</a:ln>
        </p:spPr>
      </p:cxnSp>
      <p:pic>
        <p:nvPicPr>
          <p:cNvPr id="578" name="TextBox 17" descr=""/>
          <p:cNvPicPr/>
          <p:nvPr/>
        </p:nvPicPr>
        <p:blipFill>
          <a:blip r:embed="rId2"/>
          <a:stretch/>
        </p:blipFill>
        <p:spPr>
          <a:xfrm>
            <a:off x="2030400" y="1676520"/>
            <a:ext cx="914400" cy="622080"/>
          </a:xfrm>
          <a:prstGeom prst="rect">
            <a:avLst/>
          </a:prstGeom>
          <a:ln w="0">
            <a:noFill/>
          </a:ln>
        </p:spPr>
      </p:pic>
      <p:pic>
        <p:nvPicPr>
          <p:cNvPr id="579" name="TextBox 20" descr=""/>
          <p:cNvPicPr/>
          <p:nvPr/>
        </p:nvPicPr>
        <p:blipFill>
          <a:blip r:embed="rId3"/>
          <a:stretch/>
        </p:blipFill>
        <p:spPr>
          <a:xfrm>
            <a:off x="7149960" y="1755720"/>
            <a:ext cx="914400" cy="622440"/>
          </a:xfrm>
          <a:prstGeom prst="rect">
            <a:avLst/>
          </a:prstGeom>
          <a:ln w="0">
            <a:noFill/>
          </a:ln>
        </p:spPr>
      </p:pic>
      <p:pic>
        <p:nvPicPr>
          <p:cNvPr id="580" name="Объект 19" descr=""/>
          <p:cNvPicPr/>
          <p:nvPr/>
        </p:nvPicPr>
        <p:blipFill>
          <a:blip r:embed="rId4"/>
          <a:stretch/>
        </p:blipFill>
        <p:spPr>
          <a:xfrm>
            <a:off x="2271600" y="4734000"/>
            <a:ext cx="500040" cy="420480"/>
          </a:xfrm>
          <a:prstGeom prst="rect">
            <a:avLst/>
          </a:prstGeom>
          <a:ln w="0">
            <a:noFill/>
          </a:ln>
        </p:spPr>
      </p:pic>
      <p:pic>
        <p:nvPicPr>
          <p:cNvPr id="581" name="Объект 21" descr=""/>
          <p:cNvPicPr/>
          <p:nvPr/>
        </p:nvPicPr>
        <p:blipFill>
          <a:blip r:embed="rId5"/>
          <a:stretch/>
        </p:blipFill>
        <p:spPr>
          <a:xfrm>
            <a:off x="7209000" y="4687920"/>
            <a:ext cx="603000" cy="507960"/>
          </a:xfrm>
          <a:prstGeom prst="rect">
            <a:avLst/>
          </a:prstGeom>
          <a:ln w="0">
            <a:noFill/>
          </a:ln>
        </p:spPr>
      </p:pic>
      <p:pic>
        <p:nvPicPr>
          <p:cNvPr id="582" name="Объект 23" descr=""/>
          <p:cNvPicPr/>
          <p:nvPr/>
        </p:nvPicPr>
        <p:blipFill>
          <a:blip r:embed="rId6"/>
          <a:stretch/>
        </p:blipFill>
        <p:spPr>
          <a:xfrm>
            <a:off x="250920" y="5103720"/>
            <a:ext cx="763560" cy="579600"/>
          </a:xfrm>
          <a:prstGeom prst="rect">
            <a:avLst/>
          </a:prstGeom>
          <a:ln w="0">
            <a:noFill/>
          </a:ln>
        </p:spPr>
      </p:pic>
      <p:pic>
        <p:nvPicPr>
          <p:cNvPr id="583" name="Объект 24" descr=""/>
          <p:cNvPicPr/>
          <p:nvPr/>
        </p:nvPicPr>
        <p:blipFill>
          <a:blip r:embed="rId7"/>
          <a:stretch/>
        </p:blipFill>
        <p:spPr>
          <a:xfrm>
            <a:off x="5148360" y="1432080"/>
            <a:ext cx="796680" cy="606240"/>
          </a:xfrm>
          <a:prstGeom prst="rect">
            <a:avLst/>
          </a:prstGeom>
          <a:ln w="0">
            <a:noFill/>
          </a:ln>
        </p:spPr>
      </p:pic>
      <p:sp>
        <p:nvSpPr>
          <p:cNvPr id="584" name="TextBox 25"/>
          <p:cNvSpPr/>
          <p:nvPr/>
        </p:nvSpPr>
        <p:spPr>
          <a:xfrm>
            <a:off x="182880" y="20667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85" name="Прямоугольник 26"/>
          <p:cNvSpPr/>
          <p:nvPr/>
        </p:nvSpPr>
        <p:spPr>
          <a:xfrm>
            <a:off x="4557600" y="1989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86" name="TextBox 27" descr=""/>
          <p:cNvPicPr/>
          <p:nvPr/>
        </p:nvPicPr>
        <p:blipFill>
          <a:blip r:embed="rId8"/>
          <a:stretch/>
        </p:blipFill>
        <p:spPr>
          <a:xfrm>
            <a:off x="884160" y="5846760"/>
            <a:ext cx="2773440" cy="584280"/>
          </a:xfrm>
          <a:prstGeom prst="rect">
            <a:avLst/>
          </a:prstGeom>
          <a:ln w="0">
            <a:noFill/>
          </a:ln>
        </p:spPr>
      </p:pic>
      <p:pic>
        <p:nvPicPr>
          <p:cNvPr id="587" name="Прямоугольник 28" descr=""/>
          <p:cNvPicPr/>
          <p:nvPr/>
        </p:nvPicPr>
        <p:blipFill>
          <a:blip r:embed="rId9"/>
          <a:stretch/>
        </p:blipFill>
        <p:spPr>
          <a:xfrm>
            <a:off x="5821200" y="5888160"/>
            <a:ext cx="2773440" cy="585720"/>
          </a:xfrm>
          <a:prstGeom prst="rect">
            <a:avLst/>
          </a:prstGeom>
          <a:ln w="0">
            <a:noFill/>
          </a:ln>
        </p:spPr>
      </p:pic>
      <p:cxnSp>
        <p:nvCxnSpPr>
          <p:cNvPr id="588" name="Прямая со стрелкой 21"/>
          <p:cNvCxnSpPr/>
          <p:nvPr/>
        </p:nvCxnSpPr>
        <p:spPr>
          <a:xfrm flipH="1">
            <a:off x="2085120" y="2328480"/>
            <a:ext cx="2520" cy="26406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89" name="Прямая со стрелкой 22"/>
          <p:cNvCxnSpPr/>
          <p:nvPr/>
        </p:nvCxnSpPr>
        <p:spPr>
          <a:xfrm flipH="1">
            <a:off x="7127280" y="1920600"/>
            <a:ext cx="1080" cy="27324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90" name="Овал 5"/>
          <p:cNvSpPr/>
          <p:nvPr/>
        </p:nvSpPr>
        <p:spPr>
          <a:xfrm>
            <a:off x="2025720" y="340524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1" name="Овал 23"/>
          <p:cNvSpPr/>
          <p:nvPr/>
        </p:nvSpPr>
        <p:spPr>
          <a:xfrm>
            <a:off x="7067520" y="3328920"/>
            <a:ext cx="120600" cy="1508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Rectangle 2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8717040" cy="114012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1"/>
          <p:cNvSpPr/>
          <p:nvPr/>
        </p:nvSpPr>
        <p:spPr>
          <a:xfrm>
            <a:off x="1403280" y="3141720"/>
            <a:ext cx="1368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94" name="Прямая со стрелкой 7"/>
          <p:cNvCxnSpPr/>
          <p:nvPr/>
        </p:nvCxnSpPr>
        <p:spPr>
          <a:xfrm>
            <a:off x="884160" y="1858680"/>
            <a:ext cx="16560" cy="33915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pic>
        <p:nvPicPr>
          <p:cNvPr id="595" name="TextBox 17" descr=""/>
          <p:cNvPicPr/>
          <p:nvPr/>
        </p:nvPicPr>
        <p:blipFill>
          <a:blip r:embed="rId2"/>
          <a:stretch/>
        </p:blipFill>
        <p:spPr>
          <a:xfrm>
            <a:off x="2030400" y="1676520"/>
            <a:ext cx="914400" cy="622080"/>
          </a:xfrm>
          <a:prstGeom prst="rect">
            <a:avLst/>
          </a:prstGeom>
          <a:ln w="0">
            <a:noFill/>
          </a:ln>
        </p:spPr>
      </p:pic>
      <p:pic>
        <p:nvPicPr>
          <p:cNvPr id="596" name="Объект 19" descr=""/>
          <p:cNvPicPr/>
          <p:nvPr/>
        </p:nvPicPr>
        <p:blipFill>
          <a:blip r:embed="rId3"/>
          <a:stretch/>
        </p:blipFill>
        <p:spPr>
          <a:xfrm>
            <a:off x="2271600" y="4734000"/>
            <a:ext cx="500040" cy="420480"/>
          </a:xfrm>
          <a:prstGeom prst="rect">
            <a:avLst/>
          </a:prstGeom>
          <a:ln w="0">
            <a:noFill/>
          </a:ln>
        </p:spPr>
      </p:pic>
      <p:pic>
        <p:nvPicPr>
          <p:cNvPr id="597" name="Объект 23" descr=""/>
          <p:cNvPicPr/>
          <p:nvPr/>
        </p:nvPicPr>
        <p:blipFill>
          <a:blip r:embed="rId4"/>
          <a:stretch/>
        </p:blipFill>
        <p:spPr>
          <a:xfrm>
            <a:off x="250920" y="5103720"/>
            <a:ext cx="763560" cy="579600"/>
          </a:xfrm>
          <a:prstGeom prst="rect">
            <a:avLst/>
          </a:prstGeom>
          <a:ln w="0">
            <a:noFill/>
          </a:ln>
        </p:spPr>
      </p:pic>
      <p:pic>
        <p:nvPicPr>
          <p:cNvPr id="598" name="TextBox 27" descr=""/>
          <p:cNvPicPr/>
          <p:nvPr/>
        </p:nvPicPr>
        <p:blipFill>
          <a:blip r:embed="rId5"/>
          <a:stretch/>
        </p:blipFill>
        <p:spPr>
          <a:xfrm>
            <a:off x="884160" y="5846760"/>
            <a:ext cx="2773440" cy="584280"/>
          </a:xfrm>
          <a:prstGeom prst="rect">
            <a:avLst/>
          </a:prstGeom>
          <a:ln w="0">
            <a:noFill/>
          </a:ln>
        </p:spPr>
      </p:pic>
      <p:cxnSp>
        <p:nvCxnSpPr>
          <p:cNvPr id="599" name="Прямая со стрелкой 6"/>
          <p:cNvCxnSpPr/>
          <p:nvPr/>
        </p:nvCxnSpPr>
        <p:spPr>
          <a:xfrm>
            <a:off x="2085480" y="2300040"/>
            <a:ext cx="2520" cy="264204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pic>
        <p:nvPicPr>
          <p:cNvPr id="600" name="TextBox 3" descr=""/>
          <p:cNvPicPr/>
          <p:nvPr/>
        </p:nvPicPr>
        <p:blipFill>
          <a:blip r:embed="rId6"/>
          <a:stretch/>
        </p:blipFill>
        <p:spPr>
          <a:xfrm>
            <a:off x="3657600" y="1859040"/>
            <a:ext cx="5048280" cy="3651120"/>
          </a:xfrm>
          <a:prstGeom prst="rect">
            <a:avLst/>
          </a:prstGeom>
          <a:ln w="0">
            <a:noFill/>
          </a:ln>
        </p:spPr>
      </p:pic>
      <p:sp>
        <p:nvSpPr>
          <p:cNvPr id="601" name="Овал 10"/>
          <p:cNvSpPr/>
          <p:nvPr/>
        </p:nvSpPr>
        <p:spPr>
          <a:xfrm>
            <a:off x="2025720" y="340524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Объект 1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425080" cy="4602240"/>
          </a:xfrm>
          <a:prstGeom prst="rect">
            <a:avLst/>
          </a:prstGeom>
          <a:ln w="0">
            <a:noFill/>
          </a:ln>
        </p:spPr>
      </p:pic>
      <p:pic>
        <p:nvPicPr>
          <p:cNvPr id="603" name="Rectangle 2" descr=""/>
          <p:cNvPicPr/>
          <p:nvPr/>
        </p:nvPicPr>
        <p:blipFill>
          <a:blip r:embed="rId2"/>
          <a:stretch/>
        </p:blipFill>
        <p:spPr>
          <a:xfrm>
            <a:off x="-23760" y="334800"/>
            <a:ext cx="871704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1871280" y="2852280"/>
            <a:ext cx="7272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За ІІ законом Ньюто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5" name="Заголов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8894880" cy="1243080"/>
          </a:xfrm>
          <a:prstGeom prst="rect">
            <a:avLst/>
          </a:prstGeom>
          <a:ln w="0">
            <a:noFill/>
          </a:ln>
        </p:spPr>
      </p:pic>
      <p:sp>
        <p:nvSpPr>
          <p:cNvPr id="606" name="Прямоугольник 3"/>
          <p:cNvSpPr/>
          <p:nvPr/>
        </p:nvSpPr>
        <p:spPr>
          <a:xfrm>
            <a:off x="1403280" y="2332080"/>
            <a:ext cx="12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607" name="Прямая со стрелкой 9"/>
          <p:cNvCxnSpPr/>
          <p:nvPr/>
        </p:nvCxnSpPr>
        <p:spPr>
          <a:xfrm flipH="1">
            <a:off x="610920" y="2644560"/>
            <a:ext cx="140544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cxnSp>
        <p:nvCxnSpPr>
          <p:cNvPr id="608" name="Прямая со стрелкой 11"/>
          <p:cNvCxnSpPr/>
          <p:nvPr/>
        </p:nvCxnSpPr>
        <p:spPr>
          <a:xfrm>
            <a:off x="388800" y="2979360"/>
            <a:ext cx="389016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pic>
        <p:nvPicPr>
          <p:cNvPr id="609" name="Объект 12" descr=""/>
          <p:cNvPicPr/>
          <p:nvPr/>
        </p:nvPicPr>
        <p:blipFill>
          <a:blip r:embed="rId2"/>
          <a:stretch/>
        </p:blipFill>
        <p:spPr>
          <a:xfrm>
            <a:off x="2127240" y="3500280"/>
            <a:ext cx="500040" cy="420840"/>
          </a:xfrm>
          <a:prstGeom prst="rect">
            <a:avLst/>
          </a:prstGeom>
          <a:ln w="0">
            <a:noFill/>
          </a:ln>
        </p:spPr>
      </p:pic>
      <p:pic>
        <p:nvPicPr>
          <p:cNvPr id="610" name="Объект 13" descr=""/>
          <p:cNvPicPr/>
          <p:nvPr/>
        </p:nvPicPr>
        <p:blipFill>
          <a:blip r:embed="rId3"/>
          <a:stretch/>
        </p:blipFill>
        <p:spPr>
          <a:xfrm>
            <a:off x="4140360" y="3160800"/>
            <a:ext cx="6397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Объект 14" descr=""/>
          <p:cNvPicPr/>
          <p:nvPr/>
        </p:nvPicPr>
        <p:blipFill>
          <a:blip r:embed="rId4"/>
          <a:stretch/>
        </p:blipFill>
        <p:spPr>
          <a:xfrm>
            <a:off x="271440" y="2038320"/>
            <a:ext cx="679320" cy="617400"/>
          </a:xfrm>
          <a:prstGeom prst="rect">
            <a:avLst/>
          </a:prstGeom>
          <a:ln w="0">
            <a:noFill/>
          </a:ln>
        </p:spPr>
      </p:pic>
      <p:pic>
        <p:nvPicPr>
          <p:cNvPr id="612" name="Объект 15" descr=""/>
          <p:cNvPicPr/>
          <p:nvPr/>
        </p:nvPicPr>
        <p:blipFill>
          <a:blip r:embed="rId5"/>
          <a:stretch/>
        </p:blipFill>
        <p:spPr>
          <a:xfrm>
            <a:off x="2077920" y="1781280"/>
            <a:ext cx="808200" cy="577800"/>
          </a:xfrm>
          <a:prstGeom prst="rect">
            <a:avLst/>
          </a:prstGeom>
          <a:ln w="0">
            <a:noFill/>
          </a:ln>
        </p:spPr>
      </p:pic>
      <p:pic>
        <p:nvPicPr>
          <p:cNvPr id="613" name="Объект 4" descr=""/>
          <p:cNvPicPr/>
          <p:nvPr/>
        </p:nvPicPr>
        <p:blipFill>
          <a:blip r:embed="rId6"/>
          <a:stretch/>
        </p:blipFill>
        <p:spPr>
          <a:xfrm>
            <a:off x="1692360" y="4941720"/>
            <a:ext cx="5957640" cy="1195560"/>
          </a:xfrm>
          <a:prstGeom prst="rect">
            <a:avLst/>
          </a:prstGeom>
          <a:ln w="0">
            <a:noFill/>
          </a:ln>
        </p:spPr>
      </p:pic>
      <p:cxnSp>
        <p:nvCxnSpPr>
          <p:cNvPr id="614" name="Прямая со стрелкой 2"/>
          <p:cNvCxnSpPr/>
          <p:nvPr/>
        </p:nvCxnSpPr>
        <p:spPr>
          <a:xfrm>
            <a:off x="2039400" y="1557360"/>
            <a:ext cx="1080" cy="23040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615" name="Овал 12"/>
          <p:cNvSpPr/>
          <p:nvPr/>
        </p:nvSpPr>
        <p:spPr>
          <a:xfrm>
            <a:off x="1979640" y="2570040"/>
            <a:ext cx="120600" cy="14940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Объект 2" descr=""/>
          <p:cNvPicPr/>
          <p:nvPr/>
        </p:nvPicPr>
        <p:blipFill>
          <a:blip r:embed="rId1"/>
          <a:stretch/>
        </p:blipFill>
        <p:spPr>
          <a:xfrm>
            <a:off x="4718160" y="1773360"/>
            <a:ext cx="4279680" cy="4535280"/>
          </a:xfrm>
          <a:prstGeom prst="rect">
            <a:avLst/>
          </a:prstGeom>
          <a:ln w="0">
            <a:noFill/>
          </a:ln>
        </p:spPr>
      </p:pic>
      <p:pic>
        <p:nvPicPr>
          <p:cNvPr id="617" name="Заголовок 1" descr=""/>
          <p:cNvPicPr/>
          <p:nvPr/>
        </p:nvPicPr>
        <p:blipFill>
          <a:blip r:embed="rId2"/>
          <a:stretch/>
        </p:blipFill>
        <p:spPr>
          <a:xfrm>
            <a:off x="139680" y="189000"/>
            <a:ext cx="7529400" cy="124308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3"/>
          <p:cNvSpPr/>
          <p:nvPr/>
        </p:nvSpPr>
        <p:spPr>
          <a:xfrm>
            <a:off x="1403280" y="3213000"/>
            <a:ext cx="12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619" name="Прямая со стрелкой 9"/>
          <p:cNvCxnSpPr/>
          <p:nvPr/>
        </p:nvCxnSpPr>
        <p:spPr>
          <a:xfrm flipH="1">
            <a:off x="610920" y="3536640"/>
            <a:ext cx="140544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cxnSp>
        <p:nvCxnSpPr>
          <p:cNvPr id="620" name="Прямая со стрелкой 11"/>
          <p:cNvCxnSpPr/>
          <p:nvPr/>
        </p:nvCxnSpPr>
        <p:spPr>
          <a:xfrm>
            <a:off x="250920" y="3860280"/>
            <a:ext cx="389016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pic>
        <p:nvPicPr>
          <p:cNvPr id="621" name="Объект 12" descr=""/>
          <p:cNvPicPr/>
          <p:nvPr/>
        </p:nvPicPr>
        <p:blipFill>
          <a:blip r:embed="rId3"/>
          <a:stretch/>
        </p:blipFill>
        <p:spPr>
          <a:xfrm>
            <a:off x="2127240" y="4508640"/>
            <a:ext cx="500040" cy="420480"/>
          </a:xfrm>
          <a:prstGeom prst="rect">
            <a:avLst/>
          </a:prstGeom>
          <a:ln w="0">
            <a:noFill/>
          </a:ln>
        </p:spPr>
      </p:pic>
      <p:pic>
        <p:nvPicPr>
          <p:cNvPr id="622" name="Объект 13" descr=""/>
          <p:cNvPicPr/>
          <p:nvPr/>
        </p:nvPicPr>
        <p:blipFill>
          <a:blip r:embed="rId4"/>
          <a:stretch/>
        </p:blipFill>
        <p:spPr>
          <a:xfrm>
            <a:off x="3708360" y="3887640"/>
            <a:ext cx="639720" cy="486000"/>
          </a:xfrm>
          <a:prstGeom prst="rect">
            <a:avLst/>
          </a:prstGeom>
          <a:ln w="0">
            <a:noFill/>
          </a:ln>
        </p:spPr>
      </p:pic>
      <p:pic>
        <p:nvPicPr>
          <p:cNvPr id="623" name="Объект 14" descr=""/>
          <p:cNvPicPr/>
          <p:nvPr/>
        </p:nvPicPr>
        <p:blipFill>
          <a:blip r:embed="rId5"/>
          <a:stretch/>
        </p:blipFill>
        <p:spPr>
          <a:xfrm>
            <a:off x="182520" y="2852640"/>
            <a:ext cx="681120" cy="617760"/>
          </a:xfrm>
          <a:prstGeom prst="rect">
            <a:avLst/>
          </a:prstGeom>
          <a:ln w="0">
            <a:noFill/>
          </a:ln>
        </p:spPr>
      </p:pic>
      <p:pic>
        <p:nvPicPr>
          <p:cNvPr id="624" name="Объект 15" descr=""/>
          <p:cNvPicPr/>
          <p:nvPr/>
        </p:nvPicPr>
        <p:blipFill>
          <a:blip r:embed="rId6"/>
          <a:stretch/>
        </p:blipFill>
        <p:spPr>
          <a:xfrm>
            <a:off x="2052720" y="2131920"/>
            <a:ext cx="807840" cy="577800"/>
          </a:xfrm>
          <a:prstGeom prst="rect">
            <a:avLst/>
          </a:prstGeom>
          <a:ln w="0">
            <a:noFill/>
          </a:ln>
        </p:spPr>
      </p:pic>
      <p:cxnSp>
        <p:nvCxnSpPr>
          <p:cNvPr id="625" name="Прямая со стрелкой 4"/>
          <p:cNvCxnSpPr/>
          <p:nvPr/>
        </p:nvCxnSpPr>
        <p:spPr>
          <a:xfrm flipH="1" flipV="1">
            <a:off x="2014200" y="1988280"/>
            <a:ext cx="2160" cy="30963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626" name="Овал 12"/>
          <p:cNvSpPr/>
          <p:nvPr/>
        </p:nvSpPr>
        <p:spPr>
          <a:xfrm>
            <a:off x="1967040" y="3462480"/>
            <a:ext cx="1188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Объект 1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425080" cy="4602240"/>
          </a:xfrm>
          <a:prstGeom prst="rect">
            <a:avLst/>
          </a:prstGeom>
          <a:ln w="0">
            <a:noFill/>
          </a:ln>
        </p:spPr>
      </p:pic>
      <p:pic>
        <p:nvPicPr>
          <p:cNvPr id="628" name="Заголовок 1" descr=""/>
          <p:cNvPicPr/>
          <p:nvPr/>
        </p:nvPicPr>
        <p:blipFill>
          <a:blip r:embed="rId2"/>
          <a:stretch/>
        </p:blipFill>
        <p:spPr>
          <a:xfrm>
            <a:off x="139680" y="189000"/>
            <a:ext cx="75294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178920" y="1484280"/>
            <a:ext cx="85330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Отж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розв’язуючи будь-яку задачу з динамік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1) зробіть короткий запис умови задачі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2) виконайте пояснювальний рисунок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3)запишіть рівняння другого закону Ньютон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4) виберіть систему відлік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) знайдіть проекції сил на осі координат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6) запишіть кінцеву формулу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7) зробіть розрахунк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0" name="Rectangle 2" descr=""/>
          <p:cNvPicPr/>
          <p:nvPr/>
        </p:nvPicPr>
        <p:blipFill>
          <a:blip r:embed="rId1"/>
          <a:stretch/>
        </p:blipFill>
        <p:spPr>
          <a:xfrm>
            <a:off x="-182520" y="158760"/>
            <a:ext cx="89121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23640" y="1709280"/>
            <a:ext cx="8388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Не потрібно боятися зробити хибний крок. Навчитися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ти задачі з фізики може кожен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Потрібно тільки їх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2" name="Заголовок 1" descr=""/>
          <p:cNvPicPr/>
          <p:nvPr/>
        </p:nvPicPr>
        <p:blipFill>
          <a:blip r:embed="rId1"/>
          <a:stretch/>
        </p:blipFill>
        <p:spPr>
          <a:xfrm>
            <a:off x="66600" y="262080"/>
            <a:ext cx="752976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Lucida Sans Unicode"/>
              </a:rPr>
              <a:t>Деформації розтягнення та кручення  характеризуються  фізичними величинами 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видовження та відносне видовження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23640" y="1709280"/>
            <a:ext cx="8388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Ви познайомились із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нням деяких типових задач із динаміки. Звичайно, розглянути всі типи задач неможливо. Але головне – у вас є алгоритм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ння й приклади роботи з цим алгоритмом. Решта за в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75297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Lucida Sans Unicode"/>
              </a:rPr>
              <a:t>Деформації, які зберігаються після припинення дії на тіло зовнішніх сил, називають </a:t>
            </a:r>
            <a:r>
              <a:rPr b="1" lang="uk-UA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пружними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73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пружності </a:t>
            </a:r>
            <a:r>
              <a:rPr b="1" lang="uk-UA" sz="3800" spc="-1" strike="noStrike">
                <a:solidFill>
                  <a:srgbClr val="000000"/>
                </a:solidFill>
                <a:latin typeface="Lucida Sans Unicode"/>
              </a:rPr>
              <a:t>– це сила, яка виникає під час пружної деформації тіла і напрямлена протилежно напрямку зміщення частин (частинок) цього тіла в процесі деформації.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6:52Z</dcterms:created>
  <dc:creator>UserXP</dc:creator>
  <dc:description/>
  <cp:keywords/>
  <dc:language>en-US</dc:language>
  <cp:lastModifiedBy>Customer</cp:lastModifiedBy>
  <dcterms:modified xsi:type="dcterms:W3CDTF">2012-12-28T04:19:39Z</dcterms:modified>
  <cp:revision>50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24000000000001024140</vt:lpwstr>
  </property>
  <property fmtid="{D5CDD505-2E9C-101B-9397-08002B2CF9AE}" pid="3" name="_TemplateID">
    <vt:lpwstr>TC101950851049</vt:lpwstr>
  </property>
</Properties>
</file>