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42.gif" ContentType="image/gif"/>
  <Override PartName="/ppt/media/image35.png" ContentType="image/png"/>
  <Override PartName="/ppt/media/image23.png" ContentType="image/png"/>
  <Override PartName="/ppt/media/image30.gif" ContentType="image/gif"/>
  <Override PartName="/ppt/media/image1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41.gif" ContentType="image/gif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AC7E-EE6D-47D1-96F2-C147C8827B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71B4-EF40-4456-954D-BCCBE3ADC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E0E-705A-406F-8D28-54B1E35A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A4C-1ED8-4911-8DF5-8F84683A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315DB-9981-4F8A-A8CF-F19E2A9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A7FE6-1B84-4505-A068-ECAF56B1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26A1C-318C-45D1-A1E9-0462B760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861F1-05DF-491D-B3C4-83B02EC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BB550-5147-4F52-9799-005AF609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4F263-6F49-4C5D-9BEB-6C6E2B61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D092E-1EA8-498E-B09D-03A4386D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91B6F-DCC5-482C-AEE3-D86CE874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589AF-28D4-4192-9287-60F80DCC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9CC-1391-46E1-978E-91FD0CFD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283-32F3-40F1-AA4E-C39E66D1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17C0-C5D5-4E53-B045-8A193975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9012-C7FB-495B-957B-1D07CAFE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B647-417B-47D9-8D13-916F1C1F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696E-C58A-4390-990E-88ABC52E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126A-5CF1-4877-91E9-257969AF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7448-39C3-43E9-B69A-B75449AA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9963-5E63-4F45-9478-EA13D136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F99-8DC6-48FE-B401-0D8A37DF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5738-AF7F-4389-8792-0FB34620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6E7B-6488-4E6B-8584-DBB8C0F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282B-93AC-494B-80AF-B8D13DCB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1B6E-833F-4454-ADD6-B1E31302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28E4-E37F-4AB9-8714-C5CCFBF7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14E4-EC1D-4749-AA61-9C803C56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3720-B2D2-4D4D-9B5D-4412AB22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5049-7751-4AF6-9F45-438F0CC8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93D1-2C7C-4EFA-BA24-F9091317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9F1D-FA79-4315-AEA9-32463030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6A2-F8F8-46AF-A08D-CC644014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44C42-611E-4820-AEA0-B7FCB2C1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5B4F-B382-484C-BFCC-26CEE194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F590-721B-45B0-9A2B-83BDF72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66D9-EAE1-4C80-873C-CC783DE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2DA2-CA2E-44D1-B231-FBA27891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B494-EC85-41DA-BBA8-0574D9DF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D8B1-8E37-4F3F-BFCF-B6B3BDA6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C08CB-49B3-4EF3-AA2F-54B3D0C1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330F-49DE-424A-A426-0F76305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69CAC-9FF2-4127-9FBD-4914010F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302-3BEC-42F1-8E40-3D604687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7E69A-D648-4441-9AA3-2311F08B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A30C-31EA-43CA-9804-D31FAD20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D5507-EE36-495C-8137-97A7CF56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8DDA-2081-4B02-B088-4A84D14E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5D83-A54A-47F2-9225-8761A44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85F5-421C-43D0-9037-15F1528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88C2-DA57-4DD0-A7D7-28311C98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A9BC-04D2-4554-935A-A49C8F7E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D373-C926-48D1-B2BC-D260B2CB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7BB0C-719F-4C0C-9E76-0CC8A212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A00-7122-4A9E-A001-30923E87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5B072-163B-48A9-924D-B7090E5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BF37F-6F2B-42A1-9F49-1D8CA1EF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307BE-4548-4453-818E-6AC5E912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8F8D-6001-4A12-B9F8-2EEF739F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5450-211A-4092-9CC2-AB9123D3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ACC14-B73F-41EF-A257-30969513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5C747-BA62-49D4-BA4E-33CB9F8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9E7D3-CD69-4D50-BED7-70BB0CE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502BD-FA39-43FD-B1BA-9BF72EFA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A7284-76A6-4CE2-8176-EAEB9CB7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9F0-7A68-4C1F-B800-EE45DD96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DC34B-99C1-4E36-ACAF-25D4B81B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D263-1F6C-4DBA-A4F0-EFDB9248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7F7A0-96ED-4253-8B12-21FE65DD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4509-4612-434C-B078-03210E4F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7499-6CE8-4EE7-88A5-5150C8FB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79F7C-4123-4F1C-9B03-E663DDAA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A4337-AC01-462E-9EBA-DAC64D30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DC22E-47CD-4AF6-B87E-330C82E6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A4FA9-B345-42D0-8AAE-7D9FEF48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71B5-612A-492C-9B36-04EF3930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0AD-0BD7-4649-ADBB-3618DFBD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0419-A03B-4A52-9301-79580EF6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34388-0476-4F81-A8B2-206288C7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4C4F-5D4A-4F19-B96D-B3162E72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C2BE-4EE4-495B-A808-2CE7238D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110D1-A75C-4EF7-B51F-2C209549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FCBD6-C184-43FB-88FC-5B8C372C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BABBF-53D7-4682-B44C-C058E6BC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26C7F-BD72-4B45-9AD5-D3EDBA55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41AE8-7AD5-432A-8B97-CFCC7730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F4828-7B25-4CFC-8BFD-FAF1655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7FF-BD7B-4BFD-A107-82873B7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B951-B3FA-4129-9237-21316A75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1141-9572-42F4-9C75-AA5738D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1E7E1-567A-4BAA-A891-CCFFB4A3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FBE29-B7A5-4BFE-99EF-1E2ADA24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546CA-941E-4AB0-92F1-4A365820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C855F-E01B-4B92-AE5A-F24B0D90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2B129-9D97-4762-96CF-321783C3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75DBF-A794-4921-B0A1-E11DE641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6ADB2-B533-49B9-B228-E5F1B452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A7806-A90F-4EE7-A3EF-62148B7F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79E-77B2-4000-82D5-62696EF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7DD00-EF00-40AB-91F7-85EAE8A2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75AC3-0B82-4864-9111-A9EC069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01A61-AE89-45B1-AD42-3AA6DC1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C5628-E9DA-4DEE-9EC8-4278F58E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2D2A5-F2A8-45D7-947A-03FDCA3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54211-94B0-4A04-BAE5-80583F15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2FC5D-5CD8-48CA-BDE9-E5283787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D56B5-498C-4CF3-957F-971665A7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F291D-8C9D-4417-BEAD-9C8EF81A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A7791-2469-40E2-963A-3F726648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4990-9EE1-4B5C-A2DF-B11CBCE054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8C7F-6198-40FE-8869-F55D163FBAF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8BF0-6DC8-4839-A071-192BC91DE8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DB5B-A57C-4CF5-80CC-9CE1198CB17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780A-CB70-4686-9011-2C5F26A414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58AE-28E9-43A9-BCE5-2934E51A14D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C76A-33BB-4177-92B1-D30A8673AB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9B88-0DBF-428F-9BB4-119A9E92302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20E9-B26C-42E6-8B18-6E7091595B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Picture 2" descr="F:\Полякова О.В\УРОК\фоны для презентаций\017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олякова О.В\УРОК\фоны для презентаций\0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a19574"/>
            </a:solidFill>
            <a:miter/>
          </a:ln>
        </p:spPr>
      </p:pic>
      <p:sp>
        <p:nvSpPr>
          <p:cNvPr id="410" name="Прямоугольник 5"/>
          <p:cNvSpPr/>
          <p:nvPr/>
        </p:nvSpPr>
        <p:spPr>
          <a:xfrm>
            <a:off x="714240" y="64296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УРОК Ф</a:t>
            </a:r>
            <a:r>
              <a:rPr b="1" lang="uk-UA" sz="5400" spc="-1" strike="noStrike">
                <a:solidFill>
                  <a:srgbClr val="0070c0"/>
                </a:solidFill>
                <a:latin typeface="Franklin Gothic Book"/>
              </a:rPr>
              <a:t>І</a:t>
            </a: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З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Book"/>
              </a:rPr>
              <a:t>У 8 КЛАС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C:\Documents and Settings\Admin\Рабочий стол\fizika_8_.jpg"/>
          <p:cNvPicPr/>
          <p:nvPr/>
        </p:nvPicPr>
        <p:blipFill>
          <a:blip r:embed="rId3"/>
          <a:stretch/>
        </p:blipFill>
        <p:spPr>
          <a:xfrm rot="20994000">
            <a:off x="1217160" y="3375000"/>
            <a:ext cx="2157480" cy="3367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Documents and Settings\Admin\Рабочий стол\фізика0.jpg"/>
          <p:cNvPicPr/>
          <p:nvPr/>
        </p:nvPicPr>
        <p:blipFill>
          <a:blip r:embed="rId4"/>
          <a:srcRect l="0" t="0" r="173" b="0"/>
          <a:stretch/>
        </p:blipFill>
        <p:spPr>
          <a:xfrm rot="540000">
            <a:off x="3075120" y="3218040"/>
            <a:ext cx="25336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Picture 2" descr="F:\Полякова О.В\УРОК\фоны для презентаций\04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F:\Полякова О.В\УРОК\фоны для презентаций\04.jpg"/>
          <p:cNvPicPr/>
          <p:nvPr/>
        </p:nvPicPr>
        <p:blipFill>
          <a:blip r:embed="rId2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TextBox 6"/>
          <p:cNvSpPr/>
          <p:nvPr/>
        </p:nvSpPr>
        <p:spPr>
          <a:xfrm>
            <a:off x="642960" y="21420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c4c2c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7"/>
          <p:cNvSpPr/>
          <p:nvPr/>
        </p:nvSpPr>
        <p:spPr>
          <a:xfrm>
            <a:off x="1857240" y="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Барометр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1" descr="C:\Documents and Settings\Admin\Рабочий стол\barometer.JPG"/>
          <p:cNvPicPr/>
          <p:nvPr/>
        </p:nvPicPr>
        <p:blipFill>
          <a:blip r:embed="rId3"/>
          <a:srcRect l="0" t="0" r="18" b="-123"/>
          <a:stretch/>
        </p:blipFill>
        <p:spPr>
          <a:xfrm>
            <a:off x="214200" y="714240"/>
            <a:ext cx="4017960" cy="32148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2" descr="C:\Documents and Settings\Admin\Рабочий стол\dsc00001_31.jpg"/>
          <p:cNvPicPr/>
          <p:nvPr/>
        </p:nvPicPr>
        <p:blipFill>
          <a:blip r:embed="rId4"/>
          <a:srcRect l="0" t="0" r="0" b="87"/>
          <a:stretch/>
        </p:blipFill>
        <p:spPr>
          <a:xfrm>
            <a:off x="5143680" y="1071720"/>
            <a:ext cx="3143160" cy="5357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5" descr="C:\Documents and Settings\Admin\Рабочий стол\000242-Barometer.jpg"/>
          <p:cNvPicPr/>
          <p:nvPr/>
        </p:nvPicPr>
        <p:blipFill>
          <a:blip r:embed="rId5"/>
          <a:srcRect l="0" t="0" r="-42" b="164"/>
          <a:stretch/>
        </p:blipFill>
        <p:spPr>
          <a:xfrm>
            <a:off x="0" y="4000680"/>
            <a:ext cx="4357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0" name="Содержимое 7" descr="headstand.gif"/>
          <p:cNvPicPr/>
          <p:nvPr/>
        </p:nvPicPr>
        <p:blipFill>
          <a:blip r:embed="rId1"/>
          <a:stretch/>
        </p:blipFill>
        <p:spPr>
          <a:xfrm>
            <a:off x="3681360" y="2151000"/>
            <a:ext cx="1933560" cy="33339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F:\Полякова О.В\УРОК\фоны для презентаций\03.jpg"/>
          <p:cNvPicPr/>
          <p:nvPr/>
        </p:nvPicPr>
        <p:blipFill>
          <a:blip r:embed="rId2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F:\Полякова О.В\УРОК\фоны для презентаций\03.jpg"/>
          <p:cNvPicPr/>
          <p:nvPr/>
        </p:nvPicPr>
        <p:blipFill>
          <a:blip r:embed="rId3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11" descr=""/>
          <p:cNvPicPr/>
          <p:nvPr/>
        </p:nvPicPr>
        <p:blipFill>
          <a:blip r:embed="rId4"/>
          <a:stretch/>
        </p:blipFill>
        <p:spPr>
          <a:xfrm>
            <a:off x="493560" y="139680"/>
            <a:ext cx="8358480" cy="982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C:\Documents and Settings\Admin\Рабочий стол\risunok11.jpg"/>
          <p:cNvPicPr/>
          <p:nvPr/>
        </p:nvPicPr>
        <p:blipFill>
          <a:blip r:embed="rId5"/>
          <a:stretch/>
        </p:blipFill>
        <p:spPr>
          <a:xfrm>
            <a:off x="250920" y="1120680"/>
            <a:ext cx="7623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7" name="Picture 2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5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00040" y="20520"/>
            <a:ext cx="86439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Нормальний атмосферний ти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Як розрахувати атмосферний ти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 760 мм рт.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3 600 кг/м ∙  9,8 Н/кг ∙ 0,76 м = 101292,8 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1292,8 Па≈101300Па≈100000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мм. рт. ст. = 133, 3 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2" name="Picture 2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"/>
          <p:cNvSpPr/>
          <p:nvPr/>
        </p:nvSpPr>
        <p:spPr>
          <a:xfrm>
            <a:off x="428760" y="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Зміна атмосферного тиску з висот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5"/>
          <p:cNvSpPr/>
          <p:nvPr/>
        </p:nvSpPr>
        <p:spPr>
          <a:xfrm>
            <a:off x="403200" y="1438200"/>
            <a:ext cx="848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ез кожні 12 м атмосферний тиск зменшується на 1 мм рт.ст., або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ез кожні 8 м - на 100 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йбільший тиск (815мм рт. ст. ) був зареєстрований в1968р.(Сибір, Росі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йменший( 645мм рт.ст ) - у 1988р. під час урагану в Тихому океа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C:\Documents and Settings\Admin\Рабочий стол\411329_9502-0x600.jpg"/>
          <p:cNvPicPr/>
          <p:nvPr/>
        </p:nvPicPr>
        <p:blipFill>
          <a:blip r:embed="rId2"/>
          <a:srcRect l="0" t="0" r="0" b="113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5"/>
          <p:cNvSpPr/>
          <p:nvPr/>
        </p:nvSpPr>
        <p:spPr>
          <a:xfrm>
            <a:off x="0" y="5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1581f"/>
                </a:solidFill>
                <a:latin typeface="Arial"/>
              </a:rPr>
              <a:t>Правильне дихання сприяє поліпшенню розумового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2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2"/>
          <p:cNvSpPr/>
          <p:nvPr/>
        </p:nvSpPr>
        <p:spPr>
          <a:xfrm>
            <a:off x="611280" y="612720"/>
            <a:ext cx="813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Franklin Gothic Book"/>
              </a:rPr>
              <a:t>Розв</a:t>
            </a: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’</a:t>
            </a:r>
            <a:r>
              <a:rPr b="0" lang="uk-UA" sz="4000" spc="-1" strike="noStrike">
                <a:solidFill>
                  <a:srgbClr val="ff0000"/>
                </a:solidFill>
                <a:latin typeface="Franklin Gothic Book"/>
              </a:rPr>
              <a:t>яжемо задач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1.Виразіть у </a:t>
            </a:r>
            <a:r>
              <a:rPr b="0" lang="uk-UA" sz="4000" spc="-1" strike="noStrike">
                <a:solidFill>
                  <a:srgbClr val="0070c0"/>
                </a:solidFill>
                <a:latin typeface="Franklin Gothic Book"/>
              </a:rPr>
              <a:t>Па</a:t>
            </a: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 атмосферний тиск </a:t>
            </a:r>
            <a:r>
              <a:rPr b="0" lang="uk-UA" sz="4000" spc="-1" strike="noStrike">
                <a:solidFill>
                  <a:srgbClr val="0070c0"/>
                </a:solidFill>
                <a:latin typeface="Franklin Gothic Book"/>
              </a:rPr>
              <a:t>750мм рт. 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2.Біля підніжжя гори барометр показує нормальний атмосферний тиск, а на вершині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uk-UA" sz="4000" spc="-1" strike="noStrike">
                <a:solidFill>
                  <a:srgbClr val="0070c0"/>
                </a:solidFill>
                <a:latin typeface="Franklin Gothic Book"/>
              </a:rPr>
              <a:t>721мм рт. ст. </a:t>
            </a:r>
            <a:r>
              <a:rPr b="0" lang="uk-UA" sz="4000" spc="-1" strike="noStrike">
                <a:solidFill>
                  <a:srgbClr val="000000"/>
                </a:solidFill>
                <a:latin typeface="Franklin Gothic Book"/>
              </a:rPr>
              <a:t>Яка приблизно висота гор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6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1440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3"/>
          <p:cNvSpPr/>
          <p:nvPr/>
        </p:nvSpPr>
        <p:spPr>
          <a:xfrm>
            <a:off x="-6480" y="1855800"/>
            <a:ext cx="42181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2.Да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ро =760 мм рт.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р=721мм рт.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h-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Прямоугольник 4" descr=""/>
          <p:cNvPicPr/>
          <p:nvPr/>
        </p:nvPicPr>
        <p:blipFill>
          <a:blip r:embed="rId2"/>
          <a:stretch/>
        </p:blipFill>
        <p:spPr>
          <a:xfrm>
            <a:off x="2882880" y="165240"/>
            <a:ext cx="3402000" cy="1139760"/>
          </a:xfrm>
          <a:prstGeom prst="rect">
            <a:avLst/>
          </a:prstGeom>
          <a:ln w="0">
            <a:noFill/>
          </a:ln>
        </p:spPr>
      </p:pic>
      <p:pic>
        <p:nvPicPr>
          <p:cNvPr id="499" name="Прямоугольник 9" descr=""/>
          <p:cNvPicPr/>
          <p:nvPr/>
        </p:nvPicPr>
        <p:blipFill>
          <a:blip r:embed="rId3"/>
          <a:stretch/>
        </p:blipFill>
        <p:spPr>
          <a:xfrm>
            <a:off x="4206960" y="2341440"/>
            <a:ext cx="4583160" cy="307188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ая соединительная линия 14"/>
          <p:cNvSpPr/>
          <p:nvPr/>
        </p:nvSpPr>
        <p:spPr>
          <a:xfrm>
            <a:off x="3087720" y="2060640"/>
            <a:ext cx="0" cy="20383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19"/>
          <p:cNvSpPr/>
          <p:nvPr/>
        </p:nvSpPr>
        <p:spPr>
          <a:xfrm>
            <a:off x="81000" y="3397320"/>
            <a:ext cx="2897280" cy="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0"/>
          <p:cNvSpPr/>
          <p:nvPr/>
        </p:nvSpPr>
        <p:spPr>
          <a:xfrm>
            <a:off x="-34920" y="114300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1.р=750мм рт. ст.=750∙133.3Па=99975Па=99.975к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5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3"/>
          <p:cNvSpPr/>
          <p:nvPr/>
        </p:nvSpPr>
        <p:spPr>
          <a:xfrm>
            <a:off x="0" y="333360"/>
            <a:ext cx="890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 якою силою атмосфера діє на на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859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 поверх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тіла хлопчика 8 класу 1,5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Розрахуйте силу з якою атмосфера діє на хлопчика (при нормальному атмосферному тис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0" y="1793160"/>
            <a:ext cx="1571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,5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760мм рт. ст.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30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-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857240" y="1864800"/>
            <a:ext cx="7072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зуван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F/S,                             F=10130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а*1,5м2=151950Н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151,95кН=152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=p*S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Що це означає? Хлопчик утриму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вітря   масою 15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повідь:сила, з якою діє атмосфера 152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12"/>
          <p:cNvSpPr/>
          <p:nvPr/>
        </p:nvSpPr>
        <p:spPr>
          <a:xfrm flipV="1">
            <a:off x="1357200" y="1928520"/>
            <a:ext cx="0" cy="14288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3"/>
          <p:cNvSpPr/>
          <p:nvPr/>
        </p:nvSpPr>
        <p:spPr>
          <a:xfrm flipH="1" flipV="1">
            <a:off x="0" y="3357720"/>
            <a:ext cx="1357200" cy="14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25"/>
          <p:cNvSpPr/>
          <p:nvPr/>
        </p:nvSpPr>
        <p:spPr>
          <a:xfrm flipH="1">
            <a:off x="1355760" y="3214800"/>
            <a:ext cx="1440" cy="43020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0" descr="в банке"/>
          <p:cNvPicPr/>
          <p:nvPr/>
        </p:nvPicPr>
        <p:blipFill>
          <a:blip r:embed="rId1"/>
          <a:stretch/>
        </p:blipFill>
        <p:spPr>
          <a:xfrm>
            <a:off x="6000840" y="1357200"/>
            <a:ext cx="1371600" cy="2016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F:\Полякова О.В\УРОК\фоны для презентаций\016.jpg"/>
          <p:cNvPicPr/>
          <p:nvPr/>
        </p:nvPicPr>
        <p:blipFill>
          <a:blip r:embed="rId2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Прямоугольник 2" descr=""/>
          <p:cNvPicPr/>
          <p:nvPr/>
        </p:nvPicPr>
        <p:blipFill>
          <a:blip r:embed="rId3"/>
          <a:stretch/>
        </p:blipFill>
        <p:spPr>
          <a:xfrm>
            <a:off x="-49320" y="165240"/>
            <a:ext cx="4962600" cy="5321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шерлок"/>
          <p:cNvPicPr/>
          <p:nvPr/>
        </p:nvPicPr>
        <p:blipFill>
          <a:blip r:embed="rId4"/>
          <a:stretch/>
        </p:blipFill>
        <p:spPr>
          <a:xfrm>
            <a:off x="428760" y="1122480"/>
            <a:ext cx="3286080" cy="2489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пиявки в банке"/>
          <p:cNvPicPr/>
          <p:nvPr/>
        </p:nvPicPr>
        <p:blipFill>
          <a:blip r:embed="rId5"/>
          <a:stretch/>
        </p:blipFill>
        <p:spPr>
          <a:xfrm>
            <a:off x="5286240" y="1214280"/>
            <a:ext cx="2952720" cy="237816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4"/>
          <p:cNvGrpSpPr/>
          <p:nvPr/>
        </p:nvGrpSpPr>
        <p:grpSpPr>
          <a:xfrm>
            <a:off x="4998960" y="4357800"/>
            <a:ext cx="3385800" cy="2242080"/>
            <a:chOff x="4998960" y="4357800"/>
            <a:chExt cx="3385800" cy="2242080"/>
          </a:xfrm>
        </p:grpSpPr>
        <p:grpSp>
          <p:nvGrpSpPr>
            <p:cNvPr id="520" name="Group 5"/>
            <p:cNvGrpSpPr/>
            <p:nvPr/>
          </p:nvGrpSpPr>
          <p:grpSpPr>
            <a:xfrm>
              <a:off x="4998960" y="4357800"/>
              <a:ext cx="1483200" cy="2230200"/>
              <a:chOff x="4998960" y="4357800"/>
              <a:chExt cx="1483200" cy="2230200"/>
            </a:xfrm>
          </p:grpSpPr>
          <p:grpSp>
            <p:nvGrpSpPr>
              <p:cNvPr id="521" name="Group 6"/>
              <p:cNvGrpSpPr/>
              <p:nvPr/>
            </p:nvGrpSpPr>
            <p:grpSpPr>
              <a:xfrm>
                <a:off x="5163840" y="4357800"/>
                <a:ext cx="1318320" cy="2230200"/>
                <a:chOff x="5163840" y="4357800"/>
                <a:chExt cx="1318320" cy="2230200"/>
              </a:xfrm>
            </p:grpSpPr>
            <p:grpSp>
              <p:nvGrpSpPr>
                <p:cNvPr id="522" name="Group 7"/>
                <p:cNvGrpSpPr/>
                <p:nvPr/>
              </p:nvGrpSpPr>
              <p:grpSpPr>
                <a:xfrm>
                  <a:off x="5164560" y="4357800"/>
                  <a:ext cx="1316160" cy="1521720"/>
                  <a:chOff x="5164560" y="4357800"/>
                  <a:chExt cx="1316160" cy="1521720"/>
                </a:xfrm>
              </p:grpSpPr>
              <p:sp>
                <p:nvSpPr>
                  <p:cNvPr id="523" name="AutoShape 8"/>
                  <p:cNvSpPr/>
                  <p:nvPr/>
                </p:nvSpPr>
                <p:spPr>
                  <a:xfrm>
                    <a:off x="5164560" y="4804920"/>
                    <a:ext cx="1316160" cy="1074600"/>
                  </a:xfrm>
                  <a:prstGeom prst="can">
                    <a:avLst>
                      <a:gd name="adj" fmla="val 2509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9"/>
                  <p:cNvSpPr/>
                  <p:nvPr/>
                </p:nvSpPr>
                <p:spPr>
                  <a:xfrm>
                    <a:off x="5164560" y="4494600"/>
                    <a:ext cx="282240" cy="485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10"/>
                  <p:cNvSpPr/>
                  <p:nvPr/>
                </p:nvSpPr>
                <p:spPr>
                  <a:xfrm>
                    <a:off x="6224400" y="4478400"/>
                    <a:ext cx="256320" cy="482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Oval 11"/>
                  <p:cNvSpPr/>
                  <p:nvPr/>
                </p:nvSpPr>
                <p:spPr>
                  <a:xfrm>
                    <a:off x="5393520" y="4357800"/>
                    <a:ext cx="909360" cy="3067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" name="AutoShape 12"/>
                <p:cNvSpPr/>
                <p:nvPr/>
              </p:nvSpPr>
              <p:spPr>
                <a:xfrm>
                  <a:off x="5163840" y="5637600"/>
                  <a:ext cx="1318320" cy="950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Freeform 13"/>
              <p:cNvSpPr/>
              <p:nvPr/>
            </p:nvSpPr>
            <p:spPr>
              <a:xfrm rot="2215200">
                <a:off x="5072040" y="5807160"/>
                <a:ext cx="235800" cy="322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4"/>
            <p:cNvGrpSpPr/>
            <p:nvPr/>
          </p:nvGrpSpPr>
          <p:grpSpPr>
            <a:xfrm>
              <a:off x="7135560" y="4377240"/>
              <a:ext cx="1249200" cy="2222640"/>
              <a:chOff x="7135560" y="4377240"/>
              <a:chExt cx="1249200" cy="2222640"/>
            </a:xfrm>
          </p:grpSpPr>
          <p:grpSp>
            <p:nvGrpSpPr>
              <p:cNvPr id="530" name="Group 15"/>
              <p:cNvGrpSpPr/>
              <p:nvPr/>
            </p:nvGrpSpPr>
            <p:grpSpPr>
              <a:xfrm>
                <a:off x="7135560" y="4377240"/>
                <a:ext cx="1249200" cy="2210760"/>
                <a:chOff x="7135560" y="4377240"/>
                <a:chExt cx="1249200" cy="2210760"/>
              </a:xfrm>
            </p:grpSpPr>
            <p:grpSp>
              <p:nvGrpSpPr>
                <p:cNvPr id="531" name="Group 16"/>
                <p:cNvGrpSpPr/>
                <p:nvPr/>
              </p:nvGrpSpPr>
              <p:grpSpPr>
                <a:xfrm>
                  <a:off x="7136280" y="4377240"/>
                  <a:ext cx="1247040" cy="1508400"/>
                  <a:chOff x="7136280" y="4377240"/>
                  <a:chExt cx="1247040" cy="1508400"/>
                </a:xfrm>
              </p:grpSpPr>
              <p:sp>
                <p:nvSpPr>
                  <p:cNvPr id="532" name="AutoShape 17"/>
                  <p:cNvSpPr/>
                  <p:nvPr/>
                </p:nvSpPr>
                <p:spPr>
                  <a:xfrm>
                    <a:off x="7136280" y="4820400"/>
                    <a:ext cx="1247040" cy="1065240"/>
                  </a:xfrm>
                  <a:prstGeom prst="can">
                    <a:avLst>
                      <a:gd name="adj" fmla="val 25097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18"/>
                  <p:cNvSpPr/>
                  <p:nvPr/>
                </p:nvSpPr>
                <p:spPr>
                  <a:xfrm>
                    <a:off x="7136280" y="4512960"/>
                    <a:ext cx="267480" cy="4809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19"/>
                  <p:cNvSpPr/>
                  <p:nvPr/>
                </p:nvSpPr>
                <p:spPr>
                  <a:xfrm>
                    <a:off x="8140320" y="4496760"/>
                    <a:ext cx="243000" cy="4780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Oval 20"/>
                  <p:cNvSpPr/>
                  <p:nvPr/>
                </p:nvSpPr>
                <p:spPr>
                  <a:xfrm>
                    <a:off x="7353360" y="4377240"/>
                    <a:ext cx="861480" cy="304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AutoShape 21"/>
                <p:cNvSpPr/>
                <p:nvPr/>
              </p:nvSpPr>
              <p:spPr>
                <a:xfrm>
                  <a:off x="7135560" y="5645880"/>
                  <a:ext cx="1249200" cy="94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Freeform 22"/>
              <p:cNvSpPr/>
              <p:nvPr/>
            </p:nvSpPr>
            <p:spPr>
              <a:xfrm rot="21416400">
                <a:off x="7369200" y="6427800"/>
                <a:ext cx="410040" cy="1612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8" name="Picture 28" descr="image921"/>
          <p:cNvPicPr/>
          <p:nvPr/>
        </p:nvPicPr>
        <p:blipFill>
          <a:blip r:embed="rId6"/>
          <a:stretch/>
        </p:blipFill>
        <p:spPr>
          <a:xfrm>
            <a:off x="4643280" y="3857760"/>
            <a:ext cx="1101960" cy="1295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7" descr="image920"/>
          <p:cNvPicPr/>
          <p:nvPr/>
        </p:nvPicPr>
        <p:blipFill>
          <a:blip r:embed="rId7"/>
          <a:stretch/>
        </p:blipFill>
        <p:spPr>
          <a:xfrm>
            <a:off x="7667640" y="3857760"/>
            <a:ext cx="1476360" cy="140328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27"/>
          <p:cNvSpPr/>
          <p:nvPr/>
        </p:nvSpPr>
        <p:spPr>
          <a:xfrm>
            <a:off x="471492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3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3"/>
          <p:cNvSpPr/>
          <p:nvPr/>
        </p:nvSpPr>
        <p:spPr>
          <a:xfrm>
            <a:off x="857160" y="0"/>
            <a:ext cx="8286840" cy="65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ІРЮ – НЕ ВІРЮ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uk-UA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 вірите ви , що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гальна маса газів ,що становить атмосфера, дорівнює 4.5*1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тмосферу має Сонце та 8 планет Сонячної системи і 3 супутника пла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уха не падає зі стелі завдяки присоскам, які притискаються до поверхні атмосферним тиск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иск можна виміряти за допомогою термомет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арометр перестане працювати за межами земної атмосфер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ляшка з газованою водою є джерелом небезпеки при польоті на повітряній кулі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ути, п'явки мають присоски, за допомогою яких вони можуть прилипнути до будь-якого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са  повітря, яке тисне на наші долоні дорівнює масі навантаженого цеглиною КАМАЗа – 10 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"/>
          <p:cNvPicPr/>
          <p:nvPr/>
        </p:nvPicPr>
        <p:blipFill>
          <a:blip r:embed="rId2"/>
          <a:stretch/>
        </p:blipFill>
        <p:spPr>
          <a:xfrm>
            <a:off x="571680" y="928800"/>
            <a:ext cx="8353080" cy="55450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3060720" y="260280"/>
            <a:ext cx="3454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Розкидані дум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7" name="Picture 5" descr="F:\Полякова О.В\УРОК\фоны для презентаций\02.jpg"/>
          <p:cNvPicPr/>
          <p:nvPr/>
        </p:nvPicPr>
        <p:blipFill>
          <a:blip r:embed="rId1"/>
          <a:srcRect l="1347" t="0" r="0" b="3484"/>
          <a:stretch/>
        </p:blipFill>
        <p:spPr>
          <a:xfrm>
            <a:off x="-3492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3"/>
          <p:cNvSpPr/>
          <p:nvPr/>
        </p:nvSpPr>
        <p:spPr>
          <a:xfrm>
            <a:off x="2300400" y="333360"/>
            <a:ext cx="6607080" cy="54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ьогодні я дізнав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мож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уло цікав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уло скла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зрозумів, щ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не здивува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рок дав мені для житт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ні захотіло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F:\Полякова О.В\УРОК\фоны для презентаций\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2"/>
          <a:stretch/>
        </p:blipFill>
        <p:spPr>
          <a:xfrm>
            <a:off x="857160" y="0"/>
            <a:ext cx="6994440" cy="70675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3643200" y="907920"/>
            <a:ext cx="4286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§34,35 опрацю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Викон впр.19(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Впр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підготу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Інформацію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-про живі бароме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-рекламу- презентацію баром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-загадки,прислів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Franklin Gothic Book"/>
              </a:rPr>
              <a:t>я про атмосферний т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F:\Полякова О.В\УРОК\фоны для презентаций\016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Прямоугольник 2" descr=""/>
          <p:cNvPicPr/>
          <p:nvPr/>
        </p:nvPicPr>
        <p:blipFill>
          <a:blip r:embed="rId2"/>
          <a:stretch/>
        </p:blipFill>
        <p:spPr>
          <a:xfrm>
            <a:off x="1444680" y="517680"/>
            <a:ext cx="6993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Admin\Рабочий стол\50439.jpg"/>
          <p:cNvPicPr/>
          <p:nvPr/>
        </p:nvPicPr>
        <p:blipFill>
          <a:blip r:embed="rId2"/>
          <a:stretch/>
        </p:blipFill>
        <p:spPr>
          <a:xfrm>
            <a:off x="0" y="0"/>
            <a:ext cx="4143240" cy="3429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Documents and Settings\Admin\Рабочий стол\1000-7.jpg"/>
          <p:cNvPicPr/>
          <p:nvPr/>
        </p:nvPicPr>
        <p:blipFill>
          <a:blip r:embed="rId3"/>
          <a:srcRect l="0" t="0" r="0" b="-135"/>
          <a:stretch/>
        </p:blipFill>
        <p:spPr>
          <a:xfrm>
            <a:off x="5000760" y="0"/>
            <a:ext cx="3929040" cy="4305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C:\Documents and Settings\Admin\Рабочий стол\02857159.jpg"/>
          <p:cNvPicPr/>
          <p:nvPr/>
        </p:nvPicPr>
        <p:blipFill>
          <a:blip r:embed="rId4"/>
          <a:srcRect l="0" t="0" r="0" b="94"/>
          <a:stretch/>
        </p:blipFill>
        <p:spPr>
          <a:xfrm>
            <a:off x="2143080" y="321480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70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0" y="3571920"/>
            <a:ext cx="3683160" cy="1279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6040440" cy="36432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10"/>
          <p:cNvSpPr/>
          <p:nvPr/>
        </p:nvSpPr>
        <p:spPr>
          <a:xfrm>
            <a:off x="4000680" y="3786120"/>
            <a:ext cx="514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лонь тисне повіт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га повітря дорівнює вазі навантаженого  КАМАЗа, маса якого 10 т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0" y="-65160"/>
            <a:ext cx="87868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17 грудня.   Тем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</a:t>
            </a:r>
            <a:r>
              <a:rPr b="1" i="1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АТМОСФЕРНИЙ ТИСК. ВИМІРЮВАННЯ АТМОСФЕРНОГО ТИ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2" descr=""/>
          <p:cNvPicPr/>
          <p:nvPr/>
        </p:nvPicPr>
        <p:blipFill>
          <a:blip r:embed="rId2"/>
          <a:stretch/>
        </p:blipFill>
        <p:spPr>
          <a:xfrm>
            <a:off x="1878120" y="231840"/>
            <a:ext cx="5797440" cy="11034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3"/>
          <p:cNvSpPr/>
          <p:nvPr/>
        </p:nvSpPr>
        <p:spPr>
          <a:xfrm>
            <a:off x="324000" y="1197000"/>
            <a:ext cx="849600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озкрити природу атмосферного тиску, показати на дослідах і довести на прикладах існування атмосферного тиску, ознайомити з дослідом Торрічелл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увати практичні уміння і навички при розв’язуванні задач, розвивати логічне мислення; формувати інтерес до історії розвитку науки фізики, розвивати життєву компетентні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иховувати в учнів спостережливість, кмітливість, організованість, почуття обов’язку та взаємовиру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2" descr=""/>
          <p:cNvPicPr/>
          <p:nvPr/>
        </p:nvPicPr>
        <p:blipFill>
          <a:blip r:embed="rId2"/>
          <a:stretch/>
        </p:blipFill>
        <p:spPr>
          <a:xfrm>
            <a:off x="109440" y="231840"/>
            <a:ext cx="9326520" cy="110340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4"/>
          <p:cNvSpPr/>
          <p:nvPr/>
        </p:nvSpPr>
        <p:spPr>
          <a:xfrm>
            <a:off x="971640" y="1328760"/>
            <a:ext cx="70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ні навчаться розкривати причиново-наслідкові зв’язки при поясненні прикладів і дослідів на основі знань про атмосферний тиск, дізнаються, що атмосфера має тиск, познайомляться з приладами для вимірювання тиску, дізнаються , як змінюється атмосферний тиск з висот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5"/>
          <p:cNvSpPr/>
          <p:nvPr/>
        </p:nvSpPr>
        <p:spPr>
          <a:xfrm>
            <a:off x="2916360" y="465300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ється інтерес до історії розвитку науки фізики, життєва компетент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Picture 5" descr="F:\Полякова О.В\УРОК\фоны для презентаций\02.jpg"/>
          <p:cNvPicPr/>
          <p:nvPr/>
        </p:nvPicPr>
        <p:blipFill>
          <a:blip r:embed="rId1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C:\Documents and Settings\Admin\Рабочий стол\photoq155.jpg"/>
          <p:cNvPicPr/>
          <p:nvPr/>
        </p:nvPicPr>
        <p:blipFill>
          <a:blip r:embed="rId2"/>
          <a:stretch/>
        </p:blipFill>
        <p:spPr>
          <a:xfrm>
            <a:off x="0" y="0"/>
            <a:ext cx="4357800" cy="3332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Admin\Рабочий стол\Untitled4.jpg"/>
          <p:cNvPicPr/>
          <p:nvPr/>
        </p:nvPicPr>
        <p:blipFill>
          <a:blip r:embed="rId3"/>
          <a:srcRect l="0" t="0" r="152" b="0"/>
          <a:stretch/>
        </p:blipFill>
        <p:spPr>
          <a:xfrm>
            <a:off x="0" y="3214800"/>
            <a:ext cx="4351320" cy="36432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C:\Documents and Settings\Admin\Рабочий стол\04-19.gif"/>
          <p:cNvPicPr/>
          <p:nvPr/>
        </p:nvPicPr>
        <p:blipFill>
          <a:blip r:embed="rId4"/>
          <a:srcRect l="6250" t="10419" r="6250" b="12498"/>
          <a:stretch/>
        </p:blipFill>
        <p:spPr>
          <a:xfrm>
            <a:off x="4286160" y="0"/>
            <a:ext cx="4857840" cy="3209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C:\Documents and Settings\Admin\Рабочий стол\009.jpg"/>
          <p:cNvPicPr/>
          <p:nvPr/>
        </p:nvPicPr>
        <p:blipFill>
          <a:blip r:embed="rId5"/>
          <a:stretch/>
        </p:blipFill>
        <p:spPr>
          <a:xfrm>
            <a:off x="4286160" y="321480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3" descr="F:\Полякова О.В\УРОК\фоны для презентаций\03.jpg"/>
          <p:cNvPicPr/>
          <p:nvPr/>
        </p:nvPicPr>
        <p:blipFill>
          <a:blip r:embed="rId1"/>
          <a:stretch/>
        </p:blipFill>
        <p:spPr>
          <a:xfrm>
            <a:off x="36360" y="-142920"/>
            <a:ext cx="9107640" cy="685800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5" descr=""/>
          <p:cNvPicPr/>
          <p:nvPr/>
        </p:nvPicPr>
        <p:blipFill>
          <a:blip r:embed="rId2"/>
          <a:stretch/>
        </p:blipFill>
        <p:spPr>
          <a:xfrm>
            <a:off x="2182680" y="-171360"/>
            <a:ext cx="7058160" cy="1098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C:\Documents and Settings\Admin\Рабочий стол\pic.jpg"/>
          <p:cNvPicPr/>
          <p:nvPr/>
        </p:nvPicPr>
        <p:blipFill>
          <a:blip r:embed="rId3"/>
          <a:srcRect l="0" t="0" r="28" b="0"/>
          <a:stretch/>
        </p:blipFill>
        <p:spPr>
          <a:xfrm>
            <a:off x="0" y="0"/>
            <a:ext cx="2428920" cy="3619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{2B5456AA-0021-4006-B403-F8A56EF2F6A7}"/>
          <p:cNvPicPr/>
          <p:nvPr/>
        </p:nvPicPr>
        <p:blipFill>
          <a:blip r:embed="rId4"/>
          <a:srcRect l="0" t="0" r="55" b="39"/>
          <a:stretch/>
        </p:blipFill>
        <p:spPr>
          <a:xfrm>
            <a:off x="2192400" y="1500120"/>
            <a:ext cx="6808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57:39Z</dcterms:created>
  <dc:creator>Seven</dc:creator>
  <dc:description/>
  <dc:language>en-US</dc:language>
  <cp:lastModifiedBy>ВИКТОРИЯ</cp:lastModifiedBy>
  <dcterms:modified xsi:type="dcterms:W3CDTF">2012-12-16T22:24:14Z</dcterms:modified>
  <cp:revision>1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26000000000001024140</vt:lpwstr>
  </property>
</Properties>
</file>