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png" ContentType="image/png"/>
  <Override PartName="/ppt/media/image26.jpeg" ContentType="image/jpeg"/>
  <Override PartName="/ppt/media/image5.jpeg" ContentType="image/jpeg"/>
  <Override PartName="/ppt/media/image27.jpeg" ContentType="image/jpeg"/>
  <Override PartName="/ppt/media/image33.jpeg" ContentType="image/jpeg"/>
  <Override PartName="/ppt/media/image42.gif" ContentType="image/gif"/>
  <Override PartName="/ppt/media/image35.png" ContentType="image/png"/>
  <Override PartName="/ppt/media/image23.png" ContentType="image/png"/>
  <Override PartName="/ppt/media/image30.gif" ContentType="image/gif"/>
  <Override PartName="/ppt/media/image13.jpeg" ContentType="image/jpeg"/>
  <Override PartName="/ppt/media/image40.jpeg" ContentType="image/jpeg"/>
  <Override PartName="/ppt/media/image45.png" ContentType="image/png"/>
  <Override PartName="/ppt/media/image4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31.png" ContentType="image/png"/>
  <Override PartName="/ppt/media/image43.png" ContentType="image/png"/>
  <Override PartName="/ppt/media/image34.png" ContentType="image/png"/>
  <Override PartName="/ppt/media/image12.jpeg" ContentType="image/jpeg"/>
  <Override PartName="/ppt/media/image41.gif" ContentType="image/gif"/>
  <Override PartName="/ppt/media/image38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ED66-2FDC-4448-9627-8A1B434895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0039-37AD-4F5C-901C-FE1F54B334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5EBD-DA1B-4AD7-A7E1-15FB45F60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FE46-147B-4DC1-8F57-30F08417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156AA-D356-46D2-900A-9E564371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291F1-665A-455E-8075-58EA36A0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33478-1A08-4EAF-96CC-3A25C5A0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261588-C41F-4F7F-BD27-18C49675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B1596A-7A5E-4299-AE5E-E8809E47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8E258-2286-4D17-BBEC-3CC428F4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80A7E-EF79-4815-9773-ADB57026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03BB1-8695-45F4-95A9-4A01C3369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A5BB5-C3C0-47C4-82AE-064337262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84B4-7A50-4DEC-B901-FAC36A0A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30F4-6205-4DC4-BD65-8D574E9C4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2740-9CD2-43AA-B1DA-877A4A0A3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58B9-2E2E-4A4D-9706-B70C65AC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37D1-6540-4721-911C-7F9BA27C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1999-62BA-4761-BB87-C6141B14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28DE-5EBB-4935-A4BB-4F560D8A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B2B7-93B8-437F-B61E-67C43F54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93FE-CF11-4DEE-B4D2-9791B6B1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B8FC-C181-44AE-9F40-8D594822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7D92-2793-4C44-B67E-70D672D5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8FBB-65A1-434A-9A6A-96660C48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1234-F9F8-44A1-8669-757BF7C4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060B-41F9-4B99-ABC9-777CCBCC5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74BC-7B2A-4E82-90B3-F7EEE5A71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1BBED-F311-466B-BC52-2BD946ADC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CDC50-29CA-4799-A37D-3897D0B7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E0585-D959-4C2A-B2BA-63B2F90E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CCF60-7809-4428-8ED7-25AA8CE4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E3C66-D959-4577-8F73-96DB2675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612F-4068-4220-9B03-E6883ED7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740C8-772F-42A8-966D-51D298A4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D206A-9195-4B2C-B875-C140F721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44A52-09D3-49BD-B13D-AF1C4B99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4EF9B-7D49-4738-BA17-9A0B6B20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ED65A-0237-4AE1-A684-89E20693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C74E4-E566-4D25-931D-72748A7B9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EC5BE-C1A2-4EF6-96AC-03AB380C7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7A80F-8C72-4B1F-8462-1DEB638A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C0950-BAEF-4EB3-99E5-742ABC90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D071D-7AA4-4D1B-85E0-D9BD2242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8BDB-0DAE-4880-8372-589E7433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E5553-9816-494E-90C6-6B7BFC4C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82279-8B8D-4834-9D17-847DBA19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5716E-5392-429E-BA62-53B8BF3D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EF582-69EB-4ACE-A044-6D495749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19AFD-063F-4627-BC0E-C2868E7A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1AB52-1A41-4326-B37F-07BA483C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29D2F-CB73-4B46-9811-9E296C5F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4F9B6-CBF2-47E9-A93C-693E99103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8E0F3-6D00-4EEF-AA83-A69988670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2865D-728D-4957-8891-E9C6932F4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E079-163E-414D-923F-89BF3925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21C9C-C740-4375-B02E-D8D4769E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1F467-7B2E-49E2-AAAF-EFC57E59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15925-DBE3-454F-9E1B-87A33800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2F7B0-0EEC-4D1F-A7A8-CB1428C7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BDFF3-08B6-42E8-ABCD-063D9FE5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F574B-635E-4DDE-8F29-174270FF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51AD1-12C9-435D-9C83-A5FDBAD9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E6907-FA20-4D01-ACDA-85A5A0A5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E2FD5-E0D7-4896-908C-A787E904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EDB08-967A-4DAB-A3FF-F26CC7172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7BFB-4C0B-488D-92FD-E70A69F3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C0B6F-4AD5-43CA-9B18-FFE52DC0D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282FA-37C1-4852-B7D2-AEDF17FFC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88D01-7AA6-43A4-84C4-95814FD8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FB806-FCAE-4C07-B29E-1A43F9D3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C1C76-E22E-4DD5-9D9B-B7D446DB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62A6D-5C5D-48FC-A170-00757AC4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25FC2-A6CE-409D-8E8F-E7B8570F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F612A-9EDB-4A33-B6A4-2A884533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4B32C-69D7-4E0F-844E-1EE5159B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FBBAC-6B96-4037-992E-02DEA128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CCD4-36A1-4086-A10D-274B70B6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0335B-0492-4A18-83EC-60DC76DE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7B4F3-95E8-4171-B6C0-E3ACE6E10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22EBD-8D0B-43C7-AF91-57CFCC6F8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FD5AB-E8BB-4E95-8DCB-0DF13F1F1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AE21E-DB3D-4FC2-BF1F-65ED99EA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5EED1-BE19-45AA-AFB2-0C7AC291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1BA72-F590-4382-B68D-05C55704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9C346-7715-4E4A-8E97-0A2BC3BE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362E7-06F3-47F4-8E71-24FB10DE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B78F3-B44D-4BB2-AA93-C0B52FB9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E9AD-8406-4D8D-AD77-8E7DC63E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5974E-724F-4430-8B0A-30403D09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AFC3F-5CB0-42AC-B2F4-D4B6F659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E777C-0F5F-48CF-9250-CFFBD984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A0797-4C55-41C0-8433-4041A3B0A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08813-BB9A-4515-99EC-DD60BCC08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337E9-1774-4F3B-AEB7-7DD5E4364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75429-E718-4EA3-B7C6-F743E63D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0FB32-6FCF-41A8-B1D8-F0268CE8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A6035-99D1-4F7D-99F2-CD5ED26C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DC3E2-FFE4-41CE-8956-9966F72E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B44B-D2B2-4A97-9D5E-4E61B9C7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59E06-0BB6-4B47-849E-0B7388D9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80113-08F6-4E46-9DAD-199B3683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AE02A-ADE8-49B4-B3C6-0A76DE4E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3C84F-928B-448D-9A59-08602EBD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AF5CF-0434-494D-BEED-A83D3B3C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BE621-D461-4C13-92FF-89BD86E07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05FC1-8946-436E-B2AA-C38F19BD1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38BF0-42A7-4FDC-A4BF-256EEFAC0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5BF8C-6D6A-4F6E-9F76-9E498EBC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7C18C-7918-48DC-81FE-3514615A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93B1-FBF5-4148-ACD1-1FBFB581EBF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E62D-DBF7-4BE3-8C9C-ED2C007BF87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3A30-C6B4-4893-AD3D-F569F6B2B26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1C54-2A2A-4C4D-82AC-2D5867D7FCE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BD4D-B4C5-4330-8FD1-3D43A6BF979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5478-8225-43F5-A6E5-2A5FAD13B3E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F637-C233-41E1-8CF3-3D0469F8DDF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A88E-E321-4E9B-B196-D7D417F6F41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32C6-CE22-42E3-BEC8-5C302C9B1BC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31.pn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gif"/><Relationship Id="rId7" Type="http://schemas.openxmlformats.org/officeDocument/2006/relationships/image" Target="../media/image42.gif"/><Relationship Id="rId8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43329"/>
              </a:solidFill>
              <a:latin typeface="Franklin Gothic Book"/>
            </a:endParaRPr>
          </a:p>
        </p:txBody>
      </p:sp>
      <p:pic>
        <p:nvPicPr>
          <p:cNvPr id="408" name="Picture 2" descr="F:\Полякова О.В\УРОК\фоны для презентаций\017.jpg"/>
          <p:cNvPicPr/>
          <p:nvPr/>
        </p:nvPicPr>
        <p:blipFill>
          <a:blip r:embed="rId1"/>
          <a:stretch/>
        </p:blipFill>
        <p:spPr>
          <a:xfrm>
            <a:off x="36360" y="0"/>
            <a:ext cx="9107640" cy="68580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F:\Полякова О.В\УРОК\фоны для презентаций\01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solidFill>
              <a:srgbClr val="a19574"/>
            </a:solidFill>
            <a:miter/>
          </a:ln>
        </p:spPr>
      </p:pic>
      <p:sp>
        <p:nvSpPr>
          <p:cNvPr id="410" name="Прямоугольник 5"/>
          <p:cNvSpPr/>
          <p:nvPr/>
        </p:nvSpPr>
        <p:spPr>
          <a:xfrm>
            <a:off x="714240" y="64296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Franklin Gothic Book"/>
              </a:rPr>
              <a:t>УРОК Ф</a:t>
            </a:r>
            <a:r>
              <a:rPr b="1" lang="uk-UA" sz="5400" spc="-1" strike="noStrike">
                <a:solidFill>
                  <a:srgbClr val="0070c0"/>
                </a:solidFill>
                <a:latin typeface="Franklin Gothic Book"/>
              </a:rPr>
              <a:t>І</a:t>
            </a:r>
            <a:r>
              <a:rPr b="1" lang="ru-RU" sz="5400" spc="-1" strike="noStrike">
                <a:solidFill>
                  <a:srgbClr val="0070c0"/>
                </a:solidFill>
                <a:latin typeface="Franklin Gothic Book"/>
              </a:rPr>
              <a:t>ЗИК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Franklin Gothic Book"/>
              </a:rPr>
              <a:t>У 8 КЛАС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" descr="C:\Documents and Settings\Admin\Рабочий стол\fizika_8_.jpg"/>
          <p:cNvPicPr/>
          <p:nvPr/>
        </p:nvPicPr>
        <p:blipFill>
          <a:blip r:embed="rId3"/>
          <a:stretch/>
        </p:blipFill>
        <p:spPr>
          <a:xfrm rot="20994000">
            <a:off x="1217160" y="3375000"/>
            <a:ext cx="2157480" cy="33670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C:\Documents and Settings\Admin\Рабочий стол\фізика0.jpg"/>
          <p:cNvPicPr/>
          <p:nvPr/>
        </p:nvPicPr>
        <p:blipFill>
          <a:blip r:embed="rId4"/>
          <a:srcRect l="0" t="0" r="173" b="0"/>
          <a:stretch/>
        </p:blipFill>
        <p:spPr>
          <a:xfrm rot="540000">
            <a:off x="3075120" y="3218040"/>
            <a:ext cx="253368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2" name="Picture 2" descr="F:\Полякова О.В\УРОК\фоны для презентаций\04.jpg"/>
          <p:cNvPicPr/>
          <p:nvPr/>
        </p:nvPicPr>
        <p:blipFill>
          <a:blip r:embed="rId1"/>
          <a:stretch/>
        </p:blipFill>
        <p:spPr>
          <a:xfrm>
            <a:off x="17640" y="0"/>
            <a:ext cx="9108720" cy="68580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3" descr="F:\Полякова О.В\УРОК\фоны для презентаций\04.jpg"/>
          <p:cNvPicPr/>
          <p:nvPr/>
        </p:nvPicPr>
        <p:blipFill>
          <a:blip r:embed="rId2"/>
          <a:stretch/>
        </p:blipFill>
        <p:spPr>
          <a:xfrm>
            <a:off x="3636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464" name="TextBox 6"/>
          <p:cNvSpPr/>
          <p:nvPr/>
        </p:nvSpPr>
        <p:spPr>
          <a:xfrm>
            <a:off x="642960" y="21420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c4c2c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7"/>
          <p:cNvSpPr/>
          <p:nvPr/>
        </p:nvSpPr>
        <p:spPr>
          <a:xfrm>
            <a:off x="1857240" y="0"/>
            <a:ext cx="514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Franklin Gothic Book"/>
              </a:rPr>
              <a:t>Барометр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21" descr="C:\Documents and Settings\Admin\Рабочий стол\barometer.JPG"/>
          <p:cNvPicPr/>
          <p:nvPr/>
        </p:nvPicPr>
        <p:blipFill>
          <a:blip r:embed="rId3"/>
          <a:srcRect l="0" t="0" r="18" b="-123"/>
          <a:stretch/>
        </p:blipFill>
        <p:spPr>
          <a:xfrm>
            <a:off x="214200" y="714240"/>
            <a:ext cx="4017960" cy="32148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22" descr="C:\Documents and Settings\Admin\Рабочий стол\dsc00001_31.jpg"/>
          <p:cNvPicPr/>
          <p:nvPr/>
        </p:nvPicPr>
        <p:blipFill>
          <a:blip r:embed="rId4"/>
          <a:srcRect l="0" t="0" r="0" b="87"/>
          <a:stretch/>
        </p:blipFill>
        <p:spPr>
          <a:xfrm>
            <a:off x="5143680" y="1071720"/>
            <a:ext cx="3143160" cy="535752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5" descr="C:\Documents and Settings\Admin\Рабочий стол\000242-Barometer.jpg"/>
          <p:cNvPicPr/>
          <p:nvPr/>
        </p:nvPicPr>
        <p:blipFill>
          <a:blip r:embed="rId5"/>
          <a:srcRect l="0" t="0" r="-42" b="164"/>
          <a:stretch/>
        </p:blipFill>
        <p:spPr>
          <a:xfrm>
            <a:off x="0" y="4000680"/>
            <a:ext cx="43578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4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70" name="Содержимое 7" descr="headstand.gif"/>
          <p:cNvPicPr/>
          <p:nvPr/>
        </p:nvPicPr>
        <p:blipFill>
          <a:blip r:embed="rId1"/>
          <a:stretch/>
        </p:blipFill>
        <p:spPr>
          <a:xfrm>
            <a:off x="3681360" y="2151000"/>
            <a:ext cx="1933560" cy="33339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" descr="F:\Полякова О.В\УРОК\фоны для презентаций\03.jpg"/>
          <p:cNvPicPr/>
          <p:nvPr/>
        </p:nvPicPr>
        <p:blipFill>
          <a:blip r:embed="rId2"/>
          <a:stretch/>
        </p:blipFill>
        <p:spPr>
          <a:xfrm>
            <a:off x="17640" y="0"/>
            <a:ext cx="9108720" cy="6858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3" descr="F:\Полякова О.В\УРОК\фоны для презентаций\03.jpg"/>
          <p:cNvPicPr/>
          <p:nvPr/>
        </p:nvPicPr>
        <p:blipFill>
          <a:blip r:embed="rId3"/>
          <a:stretch/>
        </p:blipFill>
        <p:spPr>
          <a:xfrm>
            <a:off x="0" y="0"/>
            <a:ext cx="910764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Прямоугольник 11" descr=""/>
          <p:cNvPicPr/>
          <p:nvPr/>
        </p:nvPicPr>
        <p:blipFill>
          <a:blip r:embed="rId4"/>
          <a:stretch/>
        </p:blipFill>
        <p:spPr>
          <a:xfrm>
            <a:off x="493560" y="139680"/>
            <a:ext cx="8358480" cy="9828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1" descr="C:\Documents and Settings\Admin\Рабочий стол\risunok11.jpg"/>
          <p:cNvPicPr/>
          <p:nvPr/>
        </p:nvPicPr>
        <p:blipFill>
          <a:blip r:embed="rId5"/>
          <a:stretch/>
        </p:blipFill>
        <p:spPr>
          <a:xfrm>
            <a:off x="250920" y="1120680"/>
            <a:ext cx="762300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77" name="Picture 2" descr="F:\Полякова О.В\УРОК\фоны для презентаций\03.jpg"/>
          <p:cNvPicPr/>
          <p:nvPr/>
        </p:nvPicPr>
        <p:blipFill>
          <a:blip r:embed="rId1"/>
          <a:stretch/>
        </p:blipFill>
        <p:spPr>
          <a:xfrm>
            <a:off x="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Прямоугольник 5"/>
          <p:cNvSpPr/>
          <p:nvPr/>
        </p:nvSpPr>
        <p:spPr>
          <a:xfrm>
            <a:off x="2286000" y="3105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0"/>
          <p:cNvSpPr/>
          <p:nvPr/>
        </p:nvSpPr>
        <p:spPr>
          <a:xfrm>
            <a:off x="500040" y="20520"/>
            <a:ext cx="864396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Нормальний атмосферний тис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uk-UA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Як розрахувати атмосферний тис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= 760 мм рт. 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13 600 кг/м ∙  9,8 Н/кг ∙ 0,76 м = 101292,8 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1292,8 Па≈101300Па≈100000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мм. рт. ст. = 133, 3 П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82" name="Picture 2" descr="F:\Полякова О.В\УРОК\фоны для презентаций\03.jpg"/>
          <p:cNvPicPr/>
          <p:nvPr/>
        </p:nvPicPr>
        <p:blipFill>
          <a:blip r:embed="rId1"/>
          <a:stretch/>
        </p:blipFill>
        <p:spPr>
          <a:xfrm>
            <a:off x="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483" name="TextBox 6"/>
          <p:cNvSpPr/>
          <p:nvPr/>
        </p:nvSpPr>
        <p:spPr>
          <a:xfrm>
            <a:off x="428760" y="0"/>
            <a:ext cx="82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Franklin Gothic Book"/>
              </a:rPr>
              <a:t>Зміна атмосферного тиску з висото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рямоугольник 15"/>
          <p:cNvSpPr/>
          <p:nvPr/>
        </p:nvSpPr>
        <p:spPr>
          <a:xfrm>
            <a:off x="403200" y="1438200"/>
            <a:ext cx="8489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ерез кожні 12 м атмосферний тиск зменшується на 1 мм рт.ст., або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ерез кожні 8 м - на 100 П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йбільший тиск (815мм рт. ст. ) був зареєстрований в1968р.(Сибір, Росі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йменший( 645мм рт.ст ) - у 1988р. під час урагану в Тихому океан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87" name="Picture 5" descr="F:\Полякова О.В\УРОК\фоны для презентаций\02.jpg"/>
          <p:cNvPicPr/>
          <p:nvPr/>
        </p:nvPicPr>
        <p:blipFill>
          <a:blip r:embed="rId1"/>
          <a:stretch/>
        </p:blipFill>
        <p:spPr>
          <a:xfrm>
            <a:off x="36360" y="0"/>
            <a:ext cx="9107640" cy="68580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7" descr="C:\Documents and Settings\Admin\Рабочий стол\411329_9502-0x600.jpg"/>
          <p:cNvPicPr/>
          <p:nvPr/>
        </p:nvPicPr>
        <p:blipFill>
          <a:blip r:embed="rId2"/>
          <a:srcRect l="0" t="0" r="0" b="113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  <p:sp>
        <p:nvSpPr>
          <p:cNvPr id="489" name="Прямоугольник 5"/>
          <p:cNvSpPr/>
          <p:nvPr/>
        </p:nvSpPr>
        <p:spPr>
          <a:xfrm>
            <a:off x="0" y="5000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1581f"/>
                </a:solidFill>
                <a:latin typeface="Arial"/>
              </a:rPr>
              <a:t>Правильне дихання сприяє поліпшенню розумового процес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92" name="Picture 5" descr="F:\Полякова О.В\УРОК\фоны для презентаций\02.jpg"/>
          <p:cNvPicPr/>
          <p:nvPr/>
        </p:nvPicPr>
        <p:blipFill>
          <a:blip r:embed="rId1"/>
          <a:srcRect l="1347" t="0" r="0" b="3484"/>
          <a:stretch/>
        </p:blipFill>
        <p:spPr>
          <a:xfrm>
            <a:off x="-34920" y="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Прямоугольник 2"/>
          <p:cNvSpPr/>
          <p:nvPr/>
        </p:nvSpPr>
        <p:spPr>
          <a:xfrm>
            <a:off x="611280" y="612720"/>
            <a:ext cx="81374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Franklin Gothic Book"/>
              </a:rPr>
              <a:t>Розв</a:t>
            </a:r>
            <a:r>
              <a:rPr b="0" lang="en-US" sz="4000" spc="-1" strike="noStrike">
                <a:solidFill>
                  <a:srgbClr val="ff0000"/>
                </a:solidFill>
                <a:latin typeface="Franklin Gothic Book"/>
              </a:rPr>
              <a:t>’</a:t>
            </a:r>
            <a:r>
              <a:rPr b="0" lang="uk-UA" sz="4000" spc="-1" strike="noStrike">
                <a:solidFill>
                  <a:srgbClr val="ff0000"/>
                </a:solidFill>
                <a:latin typeface="Franklin Gothic Book"/>
              </a:rPr>
              <a:t>яжемо задачі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Franklin Gothic Book"/>
              </a:rPr>
              <a:t>1.Виразіть у </a:t>
            </a:r>
            <a:r>
              <a:rPr b="0" lang="uk-UA" sz="4000" spc="-1" strike="noStrike">
                <a:solidFill>
                  <a:srgbClr val="0070c0"/>
                </a:solidFill>
                <a:latin typeface="Franklin Gothic Book"/>
              </a:rPr>
              <a:t>Па</a:t>
            </a:r>
            <a:r>
              <a:rPr b="0" lang="uk-UA" sz="4000" spc="-1" strike="noStrike">
                <a:solidFill>
                  <a:srgbClr val="000000"/>
                </a:solidFill>
                <a:latin typeface="Franklin Gothic Book"/>
              </a:rPr>
              <a:t> атмосферний тиск </a:t>
            </a:r>
            <a:r>
              <a:rPr b="0" lang="uk-UA" sz="4000" spc="-1" strike="noStrike">
                <a:solidFill>
                  <a:srgbClr val="0070c0"/>
                </a:solidFill>
                <a:latin typeface="Franklin Gothic Book"/>
              </a:rPr>
              <a:t>750мм рт. 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Franklin Gothic Book"/>
              </a:rPr>
              <a:t>2.Біля підніжжя гори барометр показує нормальний атмосферний тиск, а на вершині</a:t>
            </a: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0" lang="uk-UA" sz="4000" spc="-1" strike="noStrike">
                <a:solidFill>
                  <a:srgbClr val="0070c0"/>
                </a:solidFill>
                <a:latin typeface="Franklin Gothic Book"/>
              </a:rPr>
              <a:t>721мм рт. ст. </a:t>
            </a:r>
            <a:r>
              <a:rPr b="0" lang="uk-UA" sz="4000" spc="-1" strike="noStrike">
                <a:solidFill>
                  <a:srgbClr val="000000"/>
                </a:solidFill>
                <a:latin typeface="Franklin Gothic Book"/>
              </a:rPr>
              <a:t>Яка приблизно висота гор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96" name="Picture 5" descr="F:\Полякова О.В\УРОК\фоны для презентаций\02.jpg"/>
          <p:cNvPicPr/>
          <p:nvPr/>
        </p:nvPicPr>
        <p:blipFill>
          <a:blip r:embed="rId1"/>
          <a:srcRect l="1347" t="0" r="0" b="3484"/>
          <a:stretch/>
        </p:blipFill>
        <p:spPr>
          <a:xfrm>
            <a:off x="-34920" y="1440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497" name="Прямоугольник 3"/>
          <p:cNvSpPr/>
          <p:nvPr/>
        </p:nvSpPr>
        <p:spPr>
          <a:xfrm>
            <a:off x="-6480" y="1855800"/>
            <a:ext cx="421812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2.Дано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ро =760 мм рт.с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р=721мм рт.с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h-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Прямоугольник 4" descr=""/>
          <p:cNvPicPr/>
          <p:nvPr/>
        </p:nvPicPr>
        <p:blipFill>
          <a:blip r:embed="rId2"/>
          <a:stretch/>
        </p:blipFill>
        <p:spPr>
          <a:xfrm>
            <a:off x="2882880" y="165240"/>
            <a:ext cx="3402000" cy="1139760"/>
          </a:xfrm>
          <a:prstGeom prst="rect">
            <a:avLst/>
          </a:prstGeom>
          <a:ln w="0">
            <a:noFill/>
          </a:ln>
        </p:spPr>
      </p:pic>
      <p:pic>
        <p:nvPicPr>
          <p:cNvPr id="499" name="Прямоугольник 9" descr=""/>
          <p:cNvPicPr/>
          <p:nvPr/>
        </p:nvPicPr>
        <p:blipFill>
          <a:blip r:embed="rId3"/>
          <a:stretch/>
        </p:blipFill>
        <p:spPr>
          <a:xfrm>
            <a:off x="4206960" y="2341440"/>
            <a:ext cx="4583160" cy="3071880"/>
          </a:xfrm>
          <a:prstGeom prst="rect">
            <a:avLst/>
          </a:prstGeom>
          <a:ln w="0">
            <a:noFill/>
          </a:ln>
        </p:spPr>
      </p:pic>
      <p:sp>
        <p:nvSpPr>
          <p:cNvPr id="500" name="Прямая соединительная линия 14"/>
          <p:cNvSpPr/>
          <p:nvPr/>
        </p:nvSpPr>
        <p:spPr>
          <a:xfrm>
            <a:off x="3087720" y="2060640"/>
            <a:ext cx="0" cy="203832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ая соединительная линия 19"/>
          <p:cNvSpPr/>
          <p:nvPr/>
        </p:nvSpPr>
        <p:spPr>
          <a:xfrm>
            <a:off x="81000" y="3397320"/>
            <a:ext cx="2897280" cy="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20"/>
          <p:cNvSpPr/>
          <p:nvPr/>
        </p:nvSpPr>
        <p:spPr>
          <a:xfrm>
            <a:off x="-34920" y="1143000"/>
            <a:ext cx="8424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1.р=750мм рт. ст.=750∙133.3Па=99975Па=99.975кП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05" name="Picture 5" descr="F:\Полякова О.В\УРОК\фоны для презентаций\02.jpg"/>
          <p:cNvPicPr/>
          <p:nvPr/>
        </p:nvPicPr>
        <p:blipFill>
          <a:blip r:embed="rId1"/>
          <a:srcRect l="1347" t="0" r="0" b="3484"/>
          <a:stretch/>
        </p:blipFill>
        <p:spPr>
          <a:xfrm>
            <a:off x="-71280" y="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506" name="Прямоугольник 3"/>
          <p:cNvSpPr/>
          <p:nvPr/>
        </p:nvSpPr>
        <p:spPr>
          <a:xfrm>
            <a:off x="0" y="333360"/>
            <a:ext cx="890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 якою силою атмосфера діє на нас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"/>
          <p:cNvSpPr/>
          <p:nvPr/>
        </p:nvSpPr>
        <p:spPr>
          <a:xfrm>
            <a:off x="0" y="8593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лоща поверхн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тіла хлопчика 8 класу 1,5 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Розрахуйте силу з якою атмосфера діє на хлопчика (при нормальному атмосферному тиск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0" y="1793160"/>
            <a:ext cx="1571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1,5 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=760мм рт. ст.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1300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-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1857240" y="1864800"/>
            <a:ext cx="7072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язуванн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=F/S,                             F=101300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а*1,5м2=151950Н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=151,95кН=152к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=p*S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                 Що це означає? Хлопчик утриму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овітря   масою 15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ідповідь:сила, з якою діє атмосфера 152к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ая соединительная линия 12"/>
          <p:cNvSpPr/>
          <p:nvPr/>
        </p:nvSpPr>
        <p:spPr>
          <a:xfrm flipV="1">
            <a:off x="1357200" y="1928520"/>
            <a:ext cx="0" cy="1428840"/>
          </a:xfrm>
          <a:prstGeom prst="line">
            <a:avLst/>
          </a:prstGeom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23"/>
          <p:cNvSpPr/>
          <p:nvPr/>
        </p:nvSpPr>
        <p:spPr>
          <a:xfrm flipH="1" flipV="1">
            <a:off x="0" y="3357720"/>
            <a:ext cx="1357200" cy="1440"/>
          </a:xfrm>
          <a:prstGeom prst="line">
            <a:avLst/>
          </a:prstGeom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ая соединительная линия 25"/>
          <p:cNvSpPr/>
          <p:nvPr/>
        </p:nvSpPr>
        <p:spPr>
          <a:xfrm flipH="1">
            <a:off x="1355760" y="3214800"/>
            <a:ext cx="1440" cy="430200"/>
          </a:xfrm>
          <a:prstGeom prst="line">
            <a:avLst/>
          </a:prstGeom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30" descr="в банке"/>
          <p:cNvPicPr/>
          <p:nvPr/>
        </p:nvPicPr>
        <p:blipFill>
          <a:blip r:embed="rId1"/>
          <a:stretch/>
        </p:blipFill>
        <p:spPr>
          <a:xfrm>
            <a:off x="6000840" y="1357200"/>
            <a:ext cx="1371600" cy="20163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2" descr="F:\Полякова О.В\УРОК\фоны для презентаций\016.jpg"/>
          <p:cNvPicPr/>
          <p:nvPr/>
        </p:nvPicPr>
        <p:blipFill>
          <a:blip r:embed="rId2"/>
          <a:stretch/>
        </p:blipFill>
        <p:spPr>
          <a:xfrm>
            <a:off x="0" y="0"/>
            <a:ext cx="910764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Прямоугольник 2" descr=""/>
          <p:cNvPicPr/>
          <p:nvPr/>
        </p:nvPicPr>
        <p:blipFill>
          <a:blip r:embed="rId3"/>
          <a:stretch/>
        </p:blipFill>
        <p:spPr>
          <a:xfrm>
            <a:off x="-49320" y="165240"/>
            <a:ext cx="4962600" cy="532116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5" descr="шерлок"/>
          <p:cNvPicPr/>
          <p:nvPr/>
        </p:nvPicPr>
        <p:blipFill>
          <a:blip r:embed="rId4"/>
          <a:stretch/>
        </p:blipFill>
        <p:spPr>
          <a:xfrm>
            <a:off x="428760" y="1122480"/>
            <a:ext cx="3286080" cy="248904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4" descr="пиявки в банке"/>
          <p:cNvPicPr/>
          <p:nvPr/>
        </p:nvPicPr>
        <p:blipFill>
          <a:blip r:embed="rId5"/>
          <a:stretch/>
        </p:blipFill>
        <p:spPr>
          <a:xfrm>
            <a:off x="5286240" y="1214280"/>
            <a:ext cx="2952720" cy="2378160"/>
          </a:xfrm>
          <a:prstGeom prst="rect">
            <a:avLst/>
          </a:prstGeom>
          <a:ln w="0">
            <a:noFill/>
          </a:ln>
        </p:spPr>
      </p:pic>
      <p:grpSp>
        <p:nvGrpSpPr>
          <p:cNvPr id="519" name="Group 4"/>
          <p:cNvGrpSpPr/>
          <p:nvPr/>
        </p:nvGrpSpPr>
        <p:grpSpPr>
          <a:xfrm>
            <a:off x="4998960" y="4357800"/>
            <a:ext cx="3385800" cy="2242080"/>
            <a:chOff x="4998960" y="4357800"/>
            <a:chExt cx="3385800" cy="2242080"/>
          </a:xfrm>
        </p:grpSpPr>
        <p:grpSp>
          <p:nvGrpSpPr>
            <p:cNvPr id="520" name="Group 5"/>
            <p:cNvGrpSpPr/>
            <p:nvPr/>
          </p:nvGrpSpPr>
          <p:grpSpPr>
            <a:xfrm>
              <a:off x="4998960" y="4357800"/>
              <a:ext cx="1483200" cy="2230200"/>
              <a:chOff x="4998960" y="4357800"/>
              <a:chExt cx="1483200" cy="2230200"/>
            </a:xfrm>
          </p:grpSpPr>
          <p:grpSp>
            <p:nvGrpSpPr>
              <p:cNvPr id="521" name="Group 6"/>
              <p:cNvGrpSpPr/>
              <p:nvPr/>
            </p:nvGrpSpPr>
            <p:grpSpPr>
              <a:xfrm>
                <a:off x="5163840" y="4357800"/>
                <a:ext cx="1318320" cy="2230200"/>
                <a:chOff x="5163840" y="4357800"/>
                <a:chExt cx="1318320" cy="2230200"/>
              </a:xfrm>
            </p:grpSpPr>
            <p:grpSp>
              <p:nvGrpSpPr>
                <p:cNvPr id="522" name="Group 7"/>
                <p:cNvGrpSpPr/>
                <p:nvPr/>
              </p:nvGrpSpPr>
              <p:grpSpPr>
                <a:xfrm>
                  <a:off x="5164560" y="4357800"/>
                  <a:ext cx="1316160" cy="1521720"/>
                  <a:chOff x="5164560" y="4357800"/>
                  <a:chExt cx="1316160" cy="1521720"/>
                </a:xfrm>
              </p:grpSpPr>
              <p:sp>
                <p:nvSpPr>
                  <p:cNvPr id="523" name="AutoShape 8"/>
                  <p:cNvSpPr/>
                  <p:nvPr/>
                </p:nvSpPr>
                <p:spPr>
                  <a:xfrm>
                    <a:off x="5164560" y="4804920"/>
                    <a:ext cx="1316160" cy="1074600"/>
                  </a:xfrm>
                  <a:prstGeom prst="can">
                    <a:avLst>
                      <a:gd name="adj" fmla="val 25097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Freeform 9"/>
                  <p:cNvSpPr/>
                  <p:nvPr/>
                </p:nvSpPr>
                <p:spPr>
                  <a:xfrm>
                    <a:off x="5164560" y="4494600"/>
                    <a:ext cx="282240" cy="4852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Freeform 10"/>
                  <p:cNvSpPr/>
                  <p:nvPr/>
                </p:nvSpPr>
                <p:spPr>
                  <a:xfrm>
                    <a:off x="6224400" y="4478400"/>
                    <a:ext cx="256320" cy="4824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Oval 11"/>
                  <p:cNvSpPr/>
                  <p:nvPr/>
                </p:nvSpPr>
                <p:spPr>
                  <a:xfrm>
                    <a:off x="5393520" y="4357800"/>
                    <a:ext cx="909360" cy="30672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7" name="AutoShape 12"/>
                <p:cNvSpPr/>
                <p:nvPr/>
              </p:nvSpPr>
              <p:spPr>
                <a:xfrm>
                  <a:off x="5163840" y="5637600"/>
                  <a:ext cx="1318320" cy="950400"/>
                </a:xfrm>
                <a:prstGeom prst="can">
                  <a:avLst>
                    <a:gd name="adj" fmla="val 25000"/>
                  </a:avLst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Freeform 13"/>
              <p:cNvSpPr/>
              <p:nvPr/>
            </p:nvSpPr>
            <p:spPr>
              <a:xfrm rot="2215200">
                <a:off x="5072040" y="5807160"/>
                <a:ext cx="235800" cy="3225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Group 14"/>
            <p:cNvGrpSpPr/>
            <p:nvPr/>
          </p:nvGrpSpPr>
          <p:grpSpPr>
            <a:xfrm>
              <a:off x="7135560" y="4377240"/>
              <a:ext cx="1249200" cy="2222640"/>
              <a:chOff x="7135560" y="4377240"/>
              <a:chExt cx="1249200" cy="2222640"/>
            </a:xfrm>
          </p:grpSpPr>
          <p:grpSp>
            <p:nvGrpSpPr>
              <p:cNvPr id="530" name="Group 15"/>
              <p:cNvGrpSpPr/>
              <p:nvPr/>
            </p:nvGrpSpPr>
            <p:grpSpPr>
              <a:xfrm>
                <a:off x="7135560" y="4377240"/>
                <a:ext cx="1249200" cy="2210760"/>
                <a:chOff x="7135560" y="4377240"/>
                <a:chExt cx="1249200" cy="2210760"/>
              </a:xfrm>
            </p:grpSpPr>
            <p:grpSp>
              <p:nvGrpSpPr>
                <p:cNvPr id="531" name="Group 16"/>
                <p:cNvGrpSpPr/>
                <p:nvPr/>
              </p:nvGrpSpPr>
              <p:grpSpPr>
                <a:xfrm>
                  <a:off x="7136280" y="4377240"/>
                  <a:ext cx="1247040" cy="1508400"/>
                  <a:chOff x="7136280" y="4377240"/>
                  <a:chExt cx="1247040" cy="1508400"/>
                </a:xfrm>
              </p:grpSpPr>
              <p:sp>
                <p:nvSpPr>
                  <p:cNvPr id="532" name="AutoShape 17"/>
                  <p:cNvSpPr/>
                  <p:nvPr/>
                </p:nvSpPr>
                <p:spPr>
                  <a:xfrm>
                    <a:off x="7136280" y="4820400"/>
                    <a:ext cx="1247040" cy="1065240"/>
                  </a:xfrm>
                  <a:prstGeom prst="can">
                    <a:avLst>
                      <a:gd name="adj" fmla="val 25097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Freeform 18"/>
                  <p:cNvSpPr/>
                  <p:nvPr/>
                </p:nvSpPr>
                <p:spPr>
                  <a:xfrm>
                    <a:off x="7136280" y="4512960"/>
                    <a:ext cx="267480" cy="4809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Freeform 19"/>
                  <p:cNvSpPr/>
                  <p:nvPr/>
                </p:nvSpPr>
                <p:spPr>
                  <a:xfrm>
                    <a:off x="8140320" y="4496760"/>
                    <a:ext cx="243000" cy="4780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Oval 20"/>
                  <p:cNvSpPr/>
                  <p:nvPr/>
                </p:nvSpPr>
                <p:spPr>
                  <a:xfrm>
                    <a:off x="7353360" y="4377240"/>
                    <a:ext cx="861480" cy="3042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6" name="AutoShape 21"/>
                <p:cNvSpPr/>
                <p:nvPr/>
              </p:nvSpPr>
              <p:spPr>
                <a:xfrm>
                  <a:off x="7135560" y="5645880"/>
                  <a:ext cx="1249200" cy="942120"/>
                </a:xfrm>
                <a:prstGeom prst="can">
                  <a:avLst>
                    <a:gd name="adj" fmla="val 25000"/>
                  </a:avLst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7" name="Freeform 22"/>
              <p:cNvSpPr/>
              <p:nvPr/>
            </p:nvSpPr>
            <p:spPr>
              <a:xfrm rot="21416400">
                <a:off x="7369200" y="6427800"/>
                <a:ext cx="410040" cy="1612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38" name="Picture 28" descr="image921"/>
          <p:cNvPicPr/>
          <p:nvPr/>
        </p:nvPicPr>
        <p:blipFill>
          <a:blip r:embed="rId6"/>
          <a:stretch/>
        </p:blipFill>
        <p:spPr>
          <a:xfrm>
            <a:off x="4643280" y="3857760"/>
            <a:ext cx="1101960" cy="12952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7" descr="image920"/>
          <p:cNvPicPr/>
          <p:nvPr/>
        </p:nvPicPr>
        <p:blipFill>
          <a:blip r:embed="rId7"/>
          <a:stretch/>
        </p:blipFill>
        <p:spPr>
          <a:xfrm>
            <a:off x="7667640" y="3857760"/>
            <a:ext cx="1476360" cy="1403280"/>
          </a:xfrm>
          <a:prstGeom prst="rect">
            <a:avLst/>
          </a:prstGeom>
          <a:ln w="0">
            <a:noFill/>
          </a:ln>
        </p:spPr>
      </p:pic>
      <p:sp>
        <p:nvSpPr>
          <p:cNvPr id="540" name="Прямоугольник 27"/>
          <p:cNvSpPr/>
          <p:nvPr/>
        </p:nvSpPr>
        <p:spPr>
          <a:xfrm>
            <a:off x="4714920" y="3786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43" name="Picture 5" descr="F:\Полякова О.В\УРОК\фоны для презентаций\02.jpg"/>
          <p:cNvPicPr/>
          <p:nvPr/>
        </p:nvPicPr>
        <p:blipFill>
          <a:blip r:embed="rId1"/>
          <a:srcRect l="1347" t="0" r="0" b="3484"/>
          <a:stretch/>
        </p:blipFill>
        <p:spPr>
          <a:xfrm>
            <a:off x="-34920" y="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Прямоугольник 3"/>
          <p:cNvSpPr/>
          <p:nvPr/>
        </p:nvSpPr>
        <p:spPr>
          <a:xfrm>
            <a:off x="857160" y="0"/>
            <a:ext cx="8286840" cy="65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ВІРЮ – НЕ ВІРЮ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uk-UA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 вірите ви , що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…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гальна маса газів ,що становить атмосфера, дорівнює 4.5*10</a:t>
            </a:r>
            <a:r>
              <a:rPr b="0" lang="uk-UA" sz="24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тмосферу має Сонце та 8 планет Сонячної системи і 3 супутника план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уха не падає зі стелі завдяки присоскам, які притискаються до поверхні атмосферним тиско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иск можна виміряти за допомогою термометр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арометр перестане працювати за межами земної атмосфери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ляшка з газованою водою є джерелом небезпеки при польоті на повітряній кулі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рути, п'явки мають присоски, за допомогою яких вони можуть прилипнути до будь-якого предм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аса  повітря, яке тисне на наші долоні дорівнює масі навантаженого цеглиною КАМАЗа – 10 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5486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575160" y="609120"/>
            <a:ext cx="5340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6" name="Picture 5" descr="F:\Полякова О.В\УРОК\фоны для презентаций\02.jpg"/>
          <p:cNvPicPr/>
          <p:nvPr/>
        </p:nvPicPr>
        <p:blipFill>
          <a:blip r:embed="rId1"/>
          <a:stretch/>
        </p:blipFill>
        <p:spPr>
          <a:xfrm>
            <a:off x="0" y="0"/>
            <a:ext cx="9107640" cy="68580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8" descr=""/>
          <p:cNvPicPr/>
          <p:nvPr/>
        </p:nvPicPr>
        <p:blipFill>
          <a:blip r:embed="rId2"/>
          <a:stretch/>
        </p:blipFill>
        <p:spPr>
          <a:xfrm>
            <a:off x="571680" y="928800"/>
            <a:ext cx="8353080" cy="554508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4"/>
          <p:cNvSpPr/>
          <p:nvPr/>
        </p:nvSpPr>
        <p:spPr>
          <a:xfrm>
            <a:off x="3060720" y="260280"/>
            <a:ext cx="34542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Розкидані дум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47" name="Picture 5" descr="F:\Полякова О.В\УРОК\фоны для презентаций\02.jpg"/>
          <p:cNvPicPr/>
          <p:nvPr/>
        </p:nvPicPr>
        <p:blipFill>
          <a:blip r:embed="rId1"/>
          <a:srcRect l="1347" t="0" r="0" b="3484"/>
          <a:stretch/>
        </p:blipFill>
        <p:spPr>
          <a:xfrm>
            <a:off x="-34920" y="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Прямоугольник 3"/>
          <p:cNvSpPr/>
          <p:nvPr/>
        </p:nvSpPr>
        <p:spPr>
          <a:xfrm>
            <a:off x="2300400" y="333360"/>
            <a:ext cx="6607080" cy="54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ФЛЕКС</a:t>
            </a:r>
            <a:r>
              <a:rPr b="1" lang="uk-U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Сьогодні я дізнавс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Тепер я можу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Було цікав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Було складн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Я зрозумів, щ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Мене здивувал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Урок дав мені для житт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Мені захотілос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F:\Полякова О.В\УРОК\фоны для презентаций\Безымянный.png"/>
          <p:cNvPicPr/>
          <p:nvPr/>
        </p:nvPicPr>
        <p:blipFill>
          <a:blip r:embed="rId1"/>
          <a:stretch/>
        </p:blipFill>
        <p:spPr>
          <a:xfrm>
            <a:off x="0" y="0"/>
            <a:ext cx="9144000" cy="70610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" descr=""/>
          <p:cNvPicPr/>
          <p:nvPr/>
        </p:nvPicPr>
        <p:blipFill>
          <a:blip r:embed="rId2"/>
          <a:stretch/>
        </p:blipFill>
        <p:spPr>
          <a:xfrm>
            <a:off x="857160" y="0"/>
            <a:ext cx="6994440" cy="7067520"/>
          </a:xfrm>
          <a:prstGeom prst="rect">
            <a:avLst/>
          </a:prstGeom>
          <a:ln w="0">
            <a:noFill/>
          </a:ln>
        </p:spPr>
      </p:pic>
      <p:sp>
        <p:nvSpPr>
          <p:cNvPr id="551" name="TextBox 3"/>
          <p:cNvSpPr/>
          <p:nvPr/>
        </p:nvSpPr>
        <p:spPr>
          <a:xfrm>
            <a:off x="3643200" y="907920"/>
            <a:ext cx="42865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Franklin Gothic Book"/>
              </a:rPr>
              <a:t>§34,35 опрацю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Franklin Gothic Book"/>
              </a:rPr>
              <a:t>Викон впр.19(1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Franklin Gothic Book"/>
              </a:rPr>
              <a:t>Впр.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Franklin Gothic Book"/>
              </a:rPr>
              <a:t>підготув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Franklin Gothic Book"/>
              </a:rPr>
              <a:t>Інформацію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Franklin Gothic Book"/>
              </a:rPr>
              <a:t>-про живі барометр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Franklin Gothic Book"/>
              </a:rPr>
              <a:t>-рекламу- презентацію барометр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Franklin Gothic Book"/>
              </a:rPr>
              <a:t>-загадки,прислів</a:t>
            </a: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’</a:t>
            </a:r>
            <a:r>
              <a:rPr b="1" lang="uk-UA" sz="2800" spc="-1" strike="noStrike">
                <a:solidFill>
                  <a:srgbClr val="ffffff"/>
                </a:solidFill>
                <a:latin typeface="Franklin Gothic Book"/>
              </a:rPr>
              <a:t>я про атмосферний ти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F:\Полякова О.В\УРОК\фоны для презентаций\016.jpg"/>
          <p:cNvPicPr/>
          <p:nvPr/>
        </p:nvPicPr>
        <p:blipFill>
          <a:blip r:embed="rId1"/>
          <a:stretch/>
        </p:blipFill>
        <p:spPr>
          <a:xfrm>
            <a:off x="36360" y="0"/>
            <a:ext cx="9107640" cy="6858000"/>
          </a:xfrm>
          <a:prstGeom prst="rect">
            <a:avLst/>
          </a:prstGeom>
          <a:ln w="0">
            <a:noFill/>
          </a:ln>
        </p:spPr>
      </p:pic>
      <p:pic>
        <p:nvPicPr>
          <p:cNvPr id="553" name="Прямоугольник 2" descr=""/>
          <p:cNvPicPr/>
          <p:nvPr/>
        </p:nvPicPr>
        <p:blipFill>
          <a:blip r:embed="rId2"/>
          <a:stretch/>
        </p:blipFill>
        <p:spPr>
          <a:xfrm>
            <a:off x="1444680" y="517680"/>
            <a:ext cx="69930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1" name="Picture 5" descr="F:\Полякова О.В\УРОК\фоны для презентаций\02.jpg"/>
          <p:cNvPicPr/>
          <p:nvPr/>
        </p:nvPicPr>
        <p:blipFill>
          <a:blip r:embed="rId1"/>
          <a:stretch/>
        </p:blipFill>
        <p:spPr>
          <a:xfrm>
            <a:off x="0" y="0"/>
            <a:ext cx="9107640" cy="6858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C:\Documents and Settings\Admin\Рабочий стол\50439.jpg"/>
          <p:cNvPicPr/>
          <p:nvPr/>
        </p:nvPicPr>
        <p:blipFill>
          <a:blip r:embed="rId2"/>
          <a:stretch/>
        </p:blipFill>
        <p:spPr>
          <a:xfrm>
            <a:off x="0" y="0"/>
            <a:ext cx="4143240" cy="34290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C:\Documents and Settings\Admin\Рабочий стол\1000-7.jpg"/>
          <p:cNvPicPr/>
          <p:nvPr/>
        </p:nvPicPr>
        <p:blipFill>
          <a:blip r:embed="rId3"/>
          <a:srcRect l="0" t="0" r="0" b="-135"/>
          <a:stretch/>
        </p:blipFill>
        <p:spPr>
          <a:xfrm>
            <a:off x="5000760" y="0"/>
            <a:ext cx="3929040" cy="43052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8" descr="C:\Documents and Settings\Admin\Рабочий стол\02857159.jpg"/>
          <p:cNvPicPr/>
          <p:nvPr/>
        </p:nvPicPr>
        <p:blipFill>
          <a:blip r:embed="rId4"/>
          <a:srcRect l="0" t="0" r="0" b="94"/>
          <a:stretch/>
        </p:blipFill>
        <p:spPr>
          <a:xfrm>
            <a:off x="2143080" y="3214800"/>
            <a:ext cx="54291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5486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575160" y="609120"/>
            <a:ext cx="5340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8" name="Picture 2" descr="F:\Полякова О.В\УРОК\фоны для презентаций\03.jpg"/>
          <p:cNvPicPr/>
          <p:nvPr/>
        </p:nvPicPr>
        <p:blipFill>
          <a:blip r:embed="rId1"/>
          <a:stretch/>
        </p:blipFill>
        <p:spPr>
          <a:xfrm>
            <a:off x="17640" y="0"/>
            <a:ext cx="9126360" cy="68706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8" descr=""/>
          <p:cNvPicPr/>
          <p:nvPr/>
        </p:nvPicPr>
        <p:blipFill>
          <a:blip r:embed="rId2"/>
          <a:stretch/>
        </p:blipFill>
        <p:spPr>
          <a:xfrm>
            <a:off x="0" y="3571920"/>
            <a:ext cx="3683160" cy="12794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6040440" cy="364320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10"/>
          <p:cNvSpPr/>
          <p:nvPr/>
        </p:nvSpPr>
        <p:spPr>
          <a:xfrm>
            <a:off x="4000680" y="3786120"/>
            <a:ext cx="5143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долонь тисне повіт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га повітря дорівнює вазі навантаженого  КАМАЗа, маса якого 10 т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4" name="Picture 5" descr="F:\Полякова О.В\УРОК\фоны для презентаций\02.jpg"/>
          <p:cNvPicPr/>
          <p:nvPr/>
        </p:nvPicPr>
        <p:blipFill>
          <a:blip r:embed="rId1"/>
          <a:stretch/>
        </p:blipFill>
        <p:spPr>
          <a:xfrm>
            <a:off x="3636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3"/>
          <p:cNvSpPr/>
          <p:nvPr/>
        </p:nvSpPr>
        <p:spPr>
          <a:xfrm>
            <a:off x="0" y="-65160"/>
            <a:ext cx="87868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just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17 грудня.   Тема уро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2060"/>
                </a:solidFill>
                <a:latin typeface="Arial"/>
                <a:ea typeface="Arial"/>
              </a:rPr>
              <a:t>                     </a:t>
            </a:r>
            <a:r>
              <a:rPr b="1" i="1" lang="uk-UA" sz="3600" spc="-1" strike="noStrike">
                <a:solidFill>
                  <a:srgbClr val="002060"/>
                </a:solidFill>
                <a:latin typeface="Arial"/>
                <a:ea typeface="Arial"/>
              </a:rPr>
              <a:t>АТМОСФЕРНИЙ ТИСК. ВИМІРЮВАННЯ АТМОСФЕРНОГО ТИС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8" name="Picture 5" descr="F:\Полякова О.В\УРОК\фоны для презентаций\02.jpg"/>
          <p:cNvPicPr/>
          <p:nvPr/>
        </p:nvPicPr>
        <p:blipFill>
          <a:blip r:embed="rId1"/>
          <a:stretch/>
        </p:blipFill>
        <p:spPr>
          <a:xfrm>
            <a:off x="0" y="0"/>
            <a:ext cx="9107640" cy="6858000"/>
          </a:xfrm>
          <a:prstGeom prst="rect">
            <a:avLst/>
          </a:prstGeom>
          <a:ln w="0">
            <a:noFill/>
          </a:ln>
        </p:spPr>
      </p:pic>
      <p:pic>
        <p:nvPicPr>
          <p:cNvPr id="439" name="Прямоугольник 2" descr=""/>
          <p:cNvPicPr/>
          <p:nvPr/>
        </p:nvPicPr>
        <p:blipFill>
          <a:blip r:embed="rId2"/>
          <a:stretch/>
        </p:blipFill>
        <p:spPr>
          <a:xfrm>
            <a:off x="1878120" y="231840"/>
            <a:ext cx="5797440" cy="1103400"/>
          </a:xfrm>
          <a:prstGeom prst="rect">
            <a:avLst/>
          </a:prstGeom>
          <a:ln w="0">
            <a:noFill/>
          </a:ln>
        </p:spPr>
      </p:pic>
      <p:sp>
        <p:nvSpPr>
          <p:cNvPr id="440" name="Прямоугольник 3"/>
          <p:cNvSpPr/>
          <p:nvPr/>
        </p:nvSpPr>
        <p:spPr>
          <a:xfrm>
            <a:off x="324000" y="1197000"/>
            <a:ext cx="8496000" cy="54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озкрити природу атмосферного тиску, показати на дослідах і довести на прикладах існування атмосферного тиску, ознайомити з дослідом Торрічелл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формувати практичні уміння і навички при розв’язуванні задач, розвивати логічне мислення; формувати інтерес до історії розвитку науки фізики, розвивати життєву компетентні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иховувати в учнів спостережливість, кмітливість, організованість, почуття обов’язку та взаємовиру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3" name="Picture 5" descr="F:\Полякова О.В\УРОК\фоны для презентаций\02.jpg"/>
          <p:cNvPicPr/>
          <p:nvPr/>
        </p:nvPicPr>
        <p:blipFill>
          <a:blip r:embed="rId1"/>
          <a:stretch/>
        </p:blipFill>
        <p:spPr>
          <a:xfrm>
            <a:off x="0" y="0"/>
            <a:ext cx="9107640" cy="6858000"/>
          </a:xfrm>
          <a:prstGeom prst="rect">
            <a:avLst/>
          </a:prstGeom>
          <a:ln w="0">
            <a:noFill/>
          </a:ln>
        </p:spPr>
      </p:pic>
      <p:pic>
        <p:nvPicPr>
          <p:cNvPr id="444" name="Прямоугольник 2" descr=""/>
          <p:cNvPicPr/>
          <p:nvPr/>
        </p:nvPicPr>
        <p:blipFill>
          <a:blip r:embed="rId2"/>
          <a:stretch/>
        </p:blipFill>
        <p:spPr>
          <a:xfrm>
            <a:off x="109440" y="231840"/>
            <a:ext cx="9326520" cy="1103400"/>
          </a:xfrm>
          <a:prstGeom prst="rect">
            <a:avLst/>
          </a:prstGeom>
          <a:ln w="0">
            <a:noFill/>
          </a:ln>
        </p:spPr>
      </p:pic>
      <p:sp>
        <p:nvSpPr>
          <p:cNvPr id="445" name="Прямоугольник 4"/>
          <p:cNvSpPr/>
          <p:nvPr/>
        </p:nvSpPr>
        <p:spPr>
          <a:xfrm>
            <a:off x="971640" y="1328760"/>
            <a:ext cx="70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ні навчаться розкривати причиново-наслідкові зв’язки при поясненні прикладів і дослідів на основі знань про атмосферний тиск, дізнаються, що атмосфера має тиск, познайомляться з приладами для вимірювання тиску, дізнаються , як змінюється атмосферний тиск з висото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5"/>
          <p:cNvSpPr/>
          <p:nvPr/>
        </p:nvSpPr>
        <p:spPr>
          <a:xfrm>
            <a:off x="2916360" y="4653000"/>
            <a:ext cx="59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ується інтерес до історії розвитку науки фізики, життєва компетент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9" name="Picture 5" descr="F:\Полякова О.В\УРОК\фоны для презентаций\02.jpg"/>
          <p:cNvPicPr/>
          <p:nvPr/>
        </p:nvPicPr>
        <p:blipFill>
          <a:blip r:embed="rId1"/>
          <a:stretch/>
        </p:blipFill>
        <p:spPr>
          <a:xfrm>
            <a:off x="0" y="0"/>
            <a:ext cx="9107640" cy="68580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3" descr="C:\Documents and Settings\Admin\Рабочий стол\photoq155.jpg"/>
          <p:cNvPicPr/>
          <p:nvPr/>
        </p:nvPicPr>
        <p:blipFill>
          <a:blip r:embed="rId2"/>
          <a:stretch/>
        </p:blipFill>
        <p:spPr>
          <a:xfrm>
            <a:off x="0" y="0"/>
            <a:ext cx="4357800" cy="33321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C:\Documents and Settings\Admin\Рабочий стол\Untitled4.jpg"/>
          <p:cNvPicPr/>
          <p:nvPr/>
        </p:nvPicPr>
        <p:blipFill>
          <a:blip r:embed="rId3"/>
          <a:srcRect l="0" t="0" r="152" b="0"/>
          <a:stretch/>
        </p:blipFill>
        <p:spPr>
          <a:xfrm>
            <a:off x="0" y="3214800"/>
            <a:ext cx="4351320" cy="36432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1" descr="C:\Documents and Settings\Admin\Рабочий стол\04-19.gif"/>
          <p:cNvPicPr/>
          <p:nvPr/>
        </p:nvPicPr>
        <p:blipFill>
          <a:blip r:embed="rId4"/>
          <a:srcRect l="6250" t="10419" r="6250" b="12498"/>
          <a:stretch/>
        </p:blipFill>
        <p:spPr>
          <a:xfrm>
            <a:off x="4286160" y="0"/>
            <a:ext cx="4857840" cy="320976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9" descr="C:\Documents and Settings\Admin\Рабочий стол\009.jpg"/>
          <p:cNvPicPr/>
          <p:nvPr/>
        </p:nvPicPr>
        <p:blipFill>
          <a:blip r:embed="rId5"/>
          <a:stretch/>
        </p:blipFill>
        <p:spPr>
          <a:xfrm>
            <a:off x="4286160" y="3214800"/>
            <a:ext cx="48578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6" name="Picture 3" descr="F:\Полякова О.В\УРОК\фоны для презентаций\03.jpg"/>
          <p:cNvPicPr/>
          <p:nvPr/>
        </p:nvPicPr>
        <p:blipFill>
          <a:blip r:embed="rId1"/>
          <a:stretch/>
        </p:blipFill>
        <p:spPr>
          <a:xfrm>
            <a:off x="36360" y="-142920"/>
            <a:ext cx="9107640" cy="6858000"/>
          </a:xfrm>
          <a:prstGeom prst="rect">
            <a:avLst/>
          </a:prstGeom>
          <a:ln w="0">
            <a:noFill/>
          </a:ln>
        </p:spPr>
      </p:pic>
      <p:pic>
        <p:nvPicPr>
          <p:cNvPr id="457" name="Прямоугольник 5" descr=""/>
          <p:cNvPicPr/>
          <p:nvPr/>
        </p:nvPicPr>
        <p:blipFill>
          <a:blip r:embed="rId2"/>
          <a:stretch/>
        </p:blipFill>
        <p:spPr>
          <a:xfrm>
            <a:off x="2182680" y="-171360"/>
            <a:ext cx="7058160" cy="10983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7" descr="C:\Documents and Settings\Admin\Рабочий стол\pic.jpg"/>
          <p:cNvPicPr/>
          <p:nvPr/>
        </p:nvPicPr>
        <p:blipFill>
          <a:blip r:embed="rId3"/>
          <a:srcRect l="0" t="0" r="28" b="0"/>
          <a:stretch/>
        </p:blipFill>
        <p:spPr>
          <a:xfrm>
            <a:off x="0" y="0"/>
            <a:ext cx="2428920" cy="36194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6" descr="{2B5456AA-0021-4006-B403-F8A56EF2F6A7}"/>
          <p:cNvPicPr/>
          <p:nvPr/>
        </p:nvPicPr>
        <p:blipFill>
          <a:blip r:embed="rId4"/>
          <a:srcRect l="0" t="0" r="55" b="39"/>
          <a:stretch/>
        </p:blipFill>
        <p:spPr>
          <a:xfrm>
            <a:off x="2192400" y="1500120"/>
            <a:ext cx="68086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3:57:39Z</dcterms:created>
  <dc:creator>Seven</dc:creator>
  <dc:description/>
  <dc:language>en-US</dc:language>
  <cp:lastModifiedBy>ВИКТОРИЯ</cp:lastModifiedBy>
  <dcterms:modified xsi:type="dcterms:W3CDTF">2012-12-16T22:24:14Z</dcterms:modified>
  <cp:revision>19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26000000000001024140</vt:lpwstr>
  </property>
</Properties>
</file>