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42.gif" ContentType="image/gif"/>
  <Override PartName="/ppt/media/image35.png" ContentType="image/png"/>
  <Override PartName="/ppt/media/image23.png" ContentType="image/png"/>
  <Override PartName="/ppt/media/image30.gif" ContentType="image/gif"/>
  <Override PartName="/ppt/media/image13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41.gif" ContentType="image/gif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35FE-C8A6-4790-A099-0B31A87FD6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179E-5934-4756-AFDC-DAABC85B5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A98-4A6D-48FA-AAE4-8D8921B2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9A1-C5BD-44DE-8033-B1B1FF87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DF0CF-F723-4F8F-9359-02226371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3413E-44F1-482E-9269-B0EF413E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8E306-53D9-4174-BB8B-0BCFBAD8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D851B-76C9-41E3-9AF9-DF864EAE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60082-2232-46BB-8AD8-FE76EAF5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39BE7-919C-4B8B-B1FD-9E837092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D2CDE-84BD-49A5-99E3-0C8BB40B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A65FE-0BFE-4E58-9D6C-CFBF8BF9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77E61-20D0-4379-9CA7-C0A274AF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E31-7F88-4F5A-BA62-E05B4168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3B7-9E10-4FF4-B6A7-F251493D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C427-BB03-45B7-A078-857EC0B0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123A-535F-4700-BF9B-1235DFCA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7E2B-8579-49B0-B1A8-2A7847F0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AC85-AA9B-47F1-81B1-6938C85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E3D5-C9D3-4244-A3A8-7C9410D8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C7F2-464B-4F27-BF65-436B60A6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553F-478C-4E74-8F6F-CF506C99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46B-3B50-4E3C-A1C5-DAB51686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0BD9-19E4-4696-91A8-F1D510B9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B337-F411-4CA9-B6FF-724E72C0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B8E0-F5D6-497D-AA7D-23F11DB3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93F6-55D4-49B8-80DE-87848E92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348B-9CAC-40DA-9F5F-7F8B3057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BF49-570F-49C7-AE52-137FB705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1C6A8-4186-40B5-AAC5-37B3B918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DB27-D60A-45A2-A441-156B8390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F229F-A9FA-4DE8-9EAB-E9F6E04D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44E4-789E-4296-A3F1-EDBEEB0B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6A9-759E-49F3-8EC2-180B2FD2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9BBBE-3720-4271-9053-BA7282C4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E8A5-59CC-4CE8-98E9-3958BFD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ADA6-6DBB-443A-B8DA-F83E53CB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27B6-3232-4F8C-9217-B8900A23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1CF6-63EB-43D4-8F4A-6358308B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AD31-E910-40FD-ABBB-60A83288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6201-B4F9-4A20-B913-E7D783A6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6F72-D466-485C-B6E8-DA8978F6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67B1-27FC-407D-8B0D-5DDB2193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F7AF-8BBE-412E-8CD5-7B589BD0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84C-B8F8-49FF-B5B7-E9926BEC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D4F36-F3DF-45CF-8586-ED132182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47A60-CB4A-4116-B91D-A155745E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2C43-6E6B-45EE-8277-DE67A9F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B359-A118-40A2-8347-ADDBD3DD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67602-BB59-493A-B954-76C395DB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BDFA7-D074-4AA7-9830-A220681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4F002-0609-43BC-AF5F-1030B465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D363-0273-4227-9B12-C95713C4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08388-B8B5-45AC-9D61-CC3B1DA7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EEEF2-4EA1-4738-886D-EB6054B6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0A7-D74C-4068-9214-01F61BAC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98E1B-5188-48C5-B5EA-64BBCB2D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0A34D-BA3D-4D78-B457-847EB429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A8A7E-35F1-406B-9988-57B674DD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5CDDB-ADD0-45E6-BC49-D914C489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C874-E8B7-4172-88ED-5B937D85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6074B-A611-4FF6-A0A5-6DA5C65F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AE3CB-9DFA-4F6F-B67E-0873921E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16463-1727-4910-B139-B9F96B7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CD49-22E2-431A-806C-8ACE8BC9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9968A-11C7-4748-BF29-55C0CB73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CC4-BC5E-4539-A6DF-BAB66D0B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A12C3-E921-4F83-A5A2-6F98D429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BF433-3CB0-42A6-8947-DB70CDA7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4DC9D-B7DA-48CE-B068-4CA30784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A08F7-7FF2-4EAF-8DD8-B008C34F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E53E6-1069-4850-8BA3-746BBBC2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03531-B847-44B0-989D-3459348B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8B030-634B-454C-944D-57313EB3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78BF-3FD8-4F35-B58B-87FC81C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353DE-7FFB-4935-8FF1-B931252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B0B4-2D49-4D57-BD85-8FF7E7FF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26C-2413-4DEE-AFA8-6412156F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0BC9B-603A-4EA3-8386-FE3E34BC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38ECD-2E2C-4FB7-8039-E3C828FA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0F42A-0D47-4C95-ADBE-9F9A8BE5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B13A0-22D7-4C76-9F13-1DD61738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34B2F-F803-4585-BA0F-0DF756E2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532D6-A889-4473-8845-38428556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D0BCF-0BDC-4B51-BBA4-43324A74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9656E-A32D-4652-9408-306BF2EC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D338A-9AD7-4B57-BA98-6B326CF7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9503D-E877-4337-B2D5-5629F76D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A6F-3B16-4653-A434-BD70F5AE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19A38-A18E-4A31-8E26-33667981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18D51-73DA-4785-B00F-E2D4B29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6D5E0-608E-4CBF-85BB-E783C141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D93E9-718E-4805-A3A0-11CCA54B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69B79-B613-4FF6-BEFF-0BDE652F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1F991-F624-4F3C-9EB6-0F5D280E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79723-0E33-4DFD-A14A-54B9434E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CEB4A-8608-4FE5-BD69-31DCE10E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44A29-085D-4C5D-9126-8766C31D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9E6C0-29BD-46A2-95E2-8F42CFE9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F5B-C398-4F38-8A3F-D3A943D7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88A09-BFE5-4EE6-ADEE-1A01340D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CB505-B195-4635-9336-CC0892EE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9EEFB-8DD8-447A-A8A0-09151DD0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4F86B-8F6D-4CC2-9DEC-D288227E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6C8DF-2587-42AC-9110-EBE3F209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CD3CC-1D81-400B-8B2E-5EFCA763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43E87-E016-4B24-9907-A9444B09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26079-931C-4C46-A42C-74EF8CCF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B4946-2CFE-41B6-81FE-4FAA2314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722DC-CF99-4C31-88D2-565C2D90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35FF-5200-43D7-8A69-FCEB247DCC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2147-3546-4324-BB79-DD7813686C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E11-083D-436A-9248-F0A39AFCCBC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2094-B0CB-4BC8-B53E-39469C5CB5E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0C4E-5068-4538-9219-17DCED0394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D5FA-65EC-4907-A39E-78A7988350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5C43-6856-4F17-8965-7B29EA88002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D30C-0CB3-4EAD-856B-C0F908FBC14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0A33-0167-43C8-9FBB-2DC16D4F219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8" name="Picture 2" descr="F:\Полякова О.В\УРОК\фоны для презентаций\017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олякова О.В\УРОК\фоны для презентаций\0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a19574"/>
            </a:solidFill>
            <a:miter/>
          </a:ln>
        </p:spPr>
      </p:pic>
      <p:sp>
        <p:nvSpPr>
          <p:cNvPr id="410" name="Прямоугольник 5"/>
          <p:cNvSpPr/>
          <p:nvPr/>
        </p:nvSpPr>
        <p:spPr>
          <a:xfrm>
            <a:off x="714240" y="6429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Book"/>
              </a:rPr>
              <a:t>УРОК Ф</a:t>
            </a:r>
            <a:r>
              <a:rPr b="1" lang="uk-UA" sz="5400" spc="-1" strike="noStrike">
                <a:solidFill>
                  <a:srgbClr val="0070c0"/>
                </a:solidFill>
                <a:latin typeface="Franklin Gothic Book"/>
              </a:rPr>
              <a:t>І</a:t>
            </a:r>
            <a:r>
              <a:rPr b="1" lang="ru-RU" sz="5400" spc="-1" strike="noStrike">
                <a:solidFill>
                  <a:srgbClr val="0070c0"/>
                </a:solidFill>
                <a:latin typeface="Franklin Gothic Book"/>
              </a:rPr>
              <a:t>ЗИ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Book"/>
              </a:rPr>
              <a:t>У 8 КЛАС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C:\Documents and Settings\Admin\Рабочий стол\fizika_8_.jpg"/>
          <p:cNvPicPr/>
          <p:nvPr/>
        </p:nvPicPr>
        <p:blipFill>
          <a:blip r:embed="rId3"/>
          <a:stretch/>
        </p:blipFill>
        <p:spPr>
          <a:xfrm rot="20994000">
            <a:off x="1217160" y="3375000"/>
            <a:ext cx="2157480" cy="3367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Documents and Settings\Admin\Рабочий стол\фізика0.jpg"/>
          <p:cNvPicPr/>
          <p:nvPr/>
        </p:nvPicPr>
        <p:blipFill>
          <a:blip r:embed="rId4"/>
          <a:srcRect l="0" t="0" r="173" b="0"/>
          <a:stretch/>
        </p:blipFill>
        <p:spPr>
          <a:xfrm rot="540000">
            <a:off x="3075120" y="3218040"/>
            <a:ext cx="25336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2" name="Picture 2" descr="F:\Полякова О.В\УРОК\фоны для презентаций\04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F:\Полякова О.В\УРОК\фоны для презентаций\04.jpg"/>
          <p:cNvPicPr/>
          <p:nvPr/>
        </p:nvPicPr>
        <p:blipFill>
          <a:blip r:embed="rId2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TextBox 6"/>
          <p:cNvSpPr/>
          <p:nvPr/>
        </p:nvSpPr>
        <p:spPr>
          <a:xfrm>
            <a:off x="642960" y="21420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c4c2c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7"/>
          <p:cNvSpPr/>
          <p:nvPr/>
        </p:nvSpPr>
        <p:spPr>
          <a:xfrm>
            <a:off x="1857240" y="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Барометр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1" descr="C:\Documents and Settings\Admin\Рабочий стол\barometer.JPG"/>
          <p:cNvPicPr/>
          <p:nvPr/>
        </p:nvPicPr>
        <p:blipFill>
          <a:blip r:embed="rId3"/>
          <a:srcRect l="0" t="0" r="18" b="-123"/>
          <a:stretch/>
        </p:blipFill>
        <p:spPr>
          <a:xfrm>
            <a:off x="214200" y="714240"/>
            <a:ext cx="4017960" cy="32148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2" descr="C:\Documents and Settings\Admin\Рабочий стол\dsc00001_31.jpg"/>
          <p:cNvPicPr/>
          <p:nvPr/>
        </p:nvPicPr>
        <p:blipFill>
          <a:blip r:embed="rId4"/>
          <a:srcRect l="0" t="0" r="0" b="87"/>
          <a:stretch/>
        </p:blipFill>
        <p:spPr>
          <a:xfrm>
            <a:off x="5143680" y="1071720"/>
            <a:ext cx="3143160" cy="53575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5" descr="C:\Documents and Settings\Admin\Рабочий стол\000242-Barometer.jpg"/>
          <p:cNvPicPr/>
          <p:nvPr/>
        </p:nvPicPr>
        <p:blipFill>
          <a:blip r:embed="rId5"/>
          <a:srcRect l="0" t="0" r="-42" b="164"/>
          <a:stretch/>
        </p:blipFill>
        <p:spPr>
          <a:xfrm>
            <a:off x="0" y="4000680"/>
            <a:ext cx="4357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0" name="Содержимое 7" descr="headstand.gif"/>
          <p:cNvPicPr/>
          <p:nvPr/>
        </p:nvPicPr>
        <p:blipFill>
          <a:blip r:embed="rId1"/>
          <a:stretch/>
        </p:blipFill>
        <p:spPr>
          <a:xfrm>
            <a:off x="3681360" y="2151000"/>
            <a:ext cx="1933560" cy="33339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F:\Полякова О.В\УРОК\фоны для презентаций\03.jpg"/>
          <p:cNvPicPr/>
          <p:nvPr/>
        </p:nvPicPr>
        <p:blipFill>
          <a:blip r:embed="rId2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F:\Полякова О.В\УРОК\фоны для презентаций\03.jpg"/>
          <p:cNvPicPr/>
          <p:nvPr/>
        </p:nvPicPr>
        <p:blipFill>
          <a:blip r:embed="rId3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Прямоугольник 11" descr=""/>
          <p:cNvPicPr/>
          <p:nvPr/>
        </p:nvPicPr>
        <p:blipFill>
          <a:blip r:embed="rId4"/>
          <a:stretch/>
        </p:blipFill>
        <p:spPr>
          <a:xfrm>
            <a:off x="493560" y="139680"/>
            <a:ext cx="8358480" cy="982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C:\Documents and Settings\Admin\Рабочий стол\risunok11.jpg"/>
          <p:cNvPicPr/>
          <p:nvPr/>
        </p:nvPicPr>
        <p:blipFill>
          <a:blip r:embed="rId5"/>
          <a:stretch/>
        </p:blipFill>
        <p:spPr>
          <a:xfrm>
            <a:off x="250920" y="1120680"/>
            <a:ext cx="7623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7" name="Picture 2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5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500040" y="20520"/>
            <a:ext cx="864396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Нормальний атмосферний ти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uk-UA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Як розрахувати атмосферний ти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 760 мм рт.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3 600 кг/м ∙  9,8 Н/кг ∙ 0,76 м = 101292,8 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1292,8 Па≈101300Па≈100000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мм. рт. ст. = 133, 3 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2" name="Picture 2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"/>
          <p:cNvSpPr/>
          <p:nvPr/>
        </p:nvSpPr>
        <p:spPr>
          <a:xfrm>
            <a:off x="428760" y="0"/>
            <a:ext cx="82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Зміна атмосферного тиску з висот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15"/>
          <p:cNvSpPr/>
          <p:nvPr/>
        </p:nvSpPr>
        <p:spPr>
          <a:xfrm>
            <a:off x="403200" y="1438200"/>
            <a:ext cx="8489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ерез кожні 12 м атмосферний тиск зменшується на 1 мм рт.ст., або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ерез кожні 8 м - на 100 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йбільший тиск (815мм рт. ст. ) був зареєстрований в1968р.(Сибір, Росі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йменший( 645мм рт.ст ) - у 1988р. під час урагану в Тихому океа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7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C:\Documents and Settings\Admin\Рабочий стол\411329_9502-0x600.jpg"/>
          <p:cNvPicPr/>
          <p:nvPr/>
        </p:nvPicPr>
        <p:blipFill>
          <a:blip r:embed="rId2"/>
          <a:srcRect l="0" t="0" r="0" b="113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5"/>
          <p:cNvSpPr/>
          <p:nvPr/>
        </p:nvSpPr>
        <p:spPr>
          <a:xfrm>
            <a:off x="0" y="5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1581f"/>
                </a:solidFill>
                <a:latin typeface="Arial"/>
              </a:rPr>
              <a:t>Правильне дихання сприяє поліпшенню розумового проц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2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2"/>
          <p:cNvSpPr/>
          <p:nvPr/>
        </p:nvSpPr>
        <p:spPr>
          <a:xfrm>
            <a:off x="611280" y="612720"/>
            <a:ext cx="813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Franklin Gothic Book"/>
              </a:rPr>
              <a:t>Розв</a:t>
            </a:r>
            <a:r>
              <a:rPr b="0" lang="en-US" sz="4000" spc="-1" strike="noStrike">
                <a:solidFill>
                  <a:srgbClr val="ff0000"/>
                </a:solidFill>
                <a:latin typeface="Franklin Gothic Book"/>
              </a:rPr>
              <a:t>’</a:t>
            </a:r>
            <a:r>
              <a:rPr b="0" lang="uk-UA" sz="4000" spc="-1" strike="noStrike">
                <a:solidFill>
                  <a:srgbClr val="ff0000"/>
                </a:solidFill>
                <a:latin typeface="Franklin Gothic Book"/>
              </a:rPr>
              <a:t>яжемо задач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1.Виразіть у </a:t>
            </a:r>
            <a:r>
              <a:rPr b="0" lang="uk-UA" sz="4000" spc="-1" strike="noStrike">
                <a:solidFill>
                  <a:srgbClr val="0070c0"/>
                </a:solidFill>
                <a:latin typeface="Franklin Gothic Book"/>
              </a:rPr>
              <a:t>Па</a:t>
            </a: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 атмосферний тиск </a:t>
            </a:r>
            <a:r>
              <a:rPr b="0" lang="uk-UA" sz="4000" spc="-1" strike="noStrike">
                <a:solidFill>
                  <a:srgbClr val="0070c0"/>
                </a:solidFill>
                <a:latin typeface="Franklin Gothic Book"/>
              </a:rPr>
              <a:t>750мм рт. 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2.Біля підніжжя гори барометр показує нормальний атмосферний тиск, а на вершині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uk-UA" sz="4000" spc="-1" strike="noStrike">
                <a:solidFill>
                  <a:srgbClr val="0070c0"/>
                </a:solidFill>
                <a:latin typeface="Franklin Gothic Book"/>
              </a:rPr>
              <a:t>721мм рт. ст. </a:t>
            </a: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Яка приблизно висота гор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6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1440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3"/>
          <p:cNvSpPr/>
          <p:nvPr/>
        </p:nvSpPr>
        <p:spPr>
          <a:xfrm>
            <a:off x="-6480" y="1855800"/>
            <a:ext cx="42181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2.Дан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ро =760 мм рт.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р=721мм рт.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h-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Прямоугольник 4" descr=""/>
          <p:cNvPicPr/>
          <p:nvPr/>
        </p:nvPicPr>
        <p:blipFill>
          <a:blip r:embed="rId2"/>
          <a:stretch/>
        </p:blipFill>
        <p:spPr>
          <a:xfrm>
            <a:off x="2882880" y="165240"/>
            <a:ext cx="3402000" cy="1139760"/>
          </a:xfrm>
          <a:prstGeom prst="rect">
            <a:avLst/>
          </a:prstGeom>
          <a:ln w="0">
            <a:noFill/>
          </a:ln>
        </p:spPr>
      </p:pic>
      <p:pic>
        <p:nvPicPr>
          <p:cNvPr id="499" name="Прямоугольник 9" descr=""/>
          <p:cNvPicPr/>
          <p:nvPr/>
        </p:nvPicPr>
        <p:blipFill>
          <a:blip r:embed="rId3"/>
          <a:stretch/>
        </p:blipFill>
        <p:spPr>
          <a:xfrm>
            <a:off x="4206960" y="2341440"/>
            <a:ext cx="4583160" cy="307188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ая соединительная линия 14"/>
          <p:cNvSpPr/>
          <p:nvPr/>
        </p:nvSpPr>
        <p:spPr>
          <a:xfrm>
            <a:off x="3087720" y="2060640"/>
            <a:ext cx="0" cy="20383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19"/>
          <p:cNvSpPr/>
          <p:nvPr/>
        </p:nvSpPr>
        <p:spPr>
          <a:xfrm>
            <a:off x="81000" y="3397320"/>
            <a:ext cx="2897280" cy="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0"/>
          <p:cNvSpPr/>
          <p:nvPr/>
        </p:nvSpPr>
        <p:spPr>
          <a:xfrm>
            <a:off x="-34920" y="114300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1.р=750мм рт. ст.=750∙133.3Па=99975Па=99.975к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5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3"/>
          <p:cNvSpPr/>
          <p:nvPr/>
        </p:nvSpPr>
        <p:spPr>
          <a:xfrm>
            <a:off x="0" y="333360"/>
            <a:ext cx="890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 якою силою атмосфера діє на на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859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 поверх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тіла хлопчика 8 класу 1,5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Розрахуйте силу з якою атмосфера діє на хлопчика (при нормальному атмосферному тис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0" y="1793160"/>
            <a:ext cx="1571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,5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760мм рт. ст.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130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-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857240" y="1864800"/>
            <a:ext cx="7072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зуван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F/S,                             F=10130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а*1,5м2=151950Н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151,95кН=152к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=p*S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Що це означає? Хлопчик утриму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вітря   масою 15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повідь:сила, з якою діє атмосфера 152к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12"/>
          <p:cNvSpPr/>
          <p:nvPr/>
        </p:nvSpPr>
        <p:spPr>
          <a:xfrm flipV="1">
            <a:off x="1357200" y="1928520"/>
            <a:ext cx="0" cy="142884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3"/>
          <p:cNvSpPr/>
          <p:nvPr/>
        </p:nvSpPr>
        <p:spPr>
          <a:xfrm flipH="1" flipV="1">
            <a:off x="0" y="3357720"/>
            <a:ext cx="1357200" cy="144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25"/>
          <p:cNvSpPr/>
          <p:nvPr/>
        </p:nvSpPr>
        <p:spPr>
          <a:xfrm flipH="1">
            <a:off x="1355760" y="3214800"/>
            <a:ext cx="1440" cy="43020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0" descr="в банке"/>
          <p:cNvPicPr/>
          <p:nvPr/>
        </p:nvPicPr>
        <p:blipFill>
          <a:blip r:embed="rId1"/>
          <a:stretch/>
        </p:blipFill>
        <p:spPr>
          <a:xfrm>
            <a:off x="6000840" y="1357200"/>
            <a:ext cx="1371600" cy="2016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" descr="F:\Полякова О.В\УРОК\фоны для презентаций\016.jpg"/>
          <p:cNvPicPr/>
          <p:nvPr/>
        </p:nvPicPr>
        <p:blipFill>
          <a:blip r:embed="rId2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Прямоугольник 2" descr=""/>
          <p:cNvPicPr/>
          <p:nvPr/>
        </p:nvPicPr>
        <p:blipFill>
          <a:blip r:embed="rId3"/>
          <a:stretch/>
        </p:blipFill>
        <p:spPr>
          <a:xfrm>
            <a:off x="-49320" y="165240"/>
            <a:ext cx="4962600" cy="53211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шерлок"/>
          <p:cNvPicPr/>
          <p:nvPr/>
        </p:nvPicPr>
        <p:blipFill>
          <a:blip r:embed="rId4"/>
          <a:stretch/>
        </p:blipFill>
        <p:spPr>
          <a:xfrm>
            <a:off x="428760" y="1122480"/>
            <a:ext cx="3286080" cy="24890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пиявки в банке"/>
          <p:cNvPicPr/>
          <p:nvPr/>
        </p:nvPicPr>
        <p:blipFill>
          <a:blip r:embed="rId5"/>
          <a:stretch/>
        </p:blipFill>
        <p:spPr>
          <a:xfrm>
            <a:off x="5286240" y="1214280"/>
            <a:ext cx="2952720" cy="237816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4"/>
          <p:cNvGrpSpPr/>
          <p:nvPr/>
        </p:nvGrpSpPr>
        <p:grpSpPr>
          <a:xfrm>
            <a:off x="4998960" y="4357800"/>
            <a:ext cx="3385800" cy="2242080"/>
            <a:chOff x="4998960" y="4357800"/>
            <a:chExt cx="3385800" cy="2242080"/>
          </a:xfrm>
        </p:grpSpPr>
        <p:grpSp>
          <p:nvGrpSpPr>
            <p:cNvPr id="520" name="Group 5"/>
            <p:cNvGrpSpPr/>
            <p:nvPr/>
          </p:nvGrpSpPr>
          <p:grpSpPr>
            <a:xfrm>
              <a:off x="4998960" y="4357800"/>
              <a:ext cx="1483200" cy="2230200"/>
              <a:chOff x="4998960" y="4357800"/>
              <a:chExt cx="1483200" cy="2230200"/>
            </a:xfrm>
          </p:grpSpPr>
          <p:grpSp>
            <p:nvGrpSpPr>
              <p:cNvPr id="521" name="Group 6"/>
              <p:cNvGrpSpPr/>
              <p:nvPr/>
            </p:nvGrpSpPr>
            <p:grpSpPr>
              <a:xfrm>
                <a:off x="5163840" y="4357800"/>
                <a:ext cx="1318320" cy="2230200"/>
                <a:chOff x="5163840" y="4357800"/>
                <a:chExt cx="1318320" cy="2230200"/>
              </a:xfrm>
            </p:grpSpPr>
            <p:grpSp>
              <p:nvGrpSpPr>
                <p:cNvPr id="522" name="Group 7"/>
                <p:cNvGrpSpPr/>
                <p:nvPr/>
              </p:nvGrpSpPr>
              <p:grpSpPr>
                <a:xfrm>
                  <a:off x="5164560" y="4357800"/>
                  <a:ext cx="1316160" cy="1521720"/>
                  <a:chOff x="5164560" y="4357800"/>
                  <a:chExt cx="1316160" cy="1521720"/>
                </a:xfrm>
              </p:grpSpPr>
              <p:sp>
                <p:nvSpPr>
                  <p:cNvPr id="523" name="AutoShape 8"/>
                  <p:cNvSpPr/>
                  <p:nvPr/>
                </p:nvSpPr>
                <p:spPr>
                  <a:xfrm>
                    <a:off x="5164560" y="4804920"/>
                    <a:ext cx="1316160" cy="1074600"/>
                  </a:xfrm>
                  <a:prstGeom prst="can">
                    <a:avLst>
                      <a:gd name="adj" fmla="val 2509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9"/>
                  <p:cNvSpPr/>
                  <p:nvPr/>
                </p:nvSpPr>
                <p:spPr>
                  <a:xfrm>
                    <a:off x="5164560" y="4494600"/>
                    <a:ext cx="282240" cy="485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10"/>
                  <p:cNvSpPr/>
                  <p:nvPr/>
                </p:nvSpPr>
                <p:spPr>
                  <a:xfrm>
                    <a:off x="6224400" y="4478400"/>
                    <a:ext cx="256320" cy="482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Oval 11"/>
                  <p:cNvSpPr/>
                  <p:nvPr/>
                </p:nvSpPr>
                <p:spPr>
                  <a:xfrm>
                    <a:off x="5393520" y="4357800"/>
                    <a:ext cx="909360" cy="3067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7" name="AutoShape 12"/>
                <p:cNvSpPr/>
                <p:nvPr/>
              </p:nvSpPr>
              <p:spPr>
                <a:xfrm>
                  <a:off x="5163840" y="5637600"/>
                  <a:ext cx="1318320" cy="950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Freeform 13"/>
              <p:cNvSpPr/>
              <p:nvPr/>
            </p:nvSpPr>
            <p:spPr>
              <a:xfrm rot="2215200">
                <a:off x="5072040" y="5807160"/>
                <a:ext cx="235800" cy="322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14"/>
            <p:cNvGrpSpPr/>
            <p:nvPr/>
          </p:nvGrpSpPr>
          <p:grpSpPr>
            <a:xfrm>
              <a:off x="7135560" y="4377240"/>
              <a:ext cx="1249200" cy="2222640"/>
              <a:chOff x="7135560" y="4377240"/>
              <a:chExt cx="1249200" cy="2222640"/>
            </a:xfrm>
          </p:grpSpPr>
          <p:grpSp>
            <p:nvGrpSpPr>
              <p:cNvPr id="530" name="Group 15"/>
              <p:cNvGrpSpPr/>
              <p:nvPr/>
            </p:nvGrpSpPr>
            <p:grpSpPr>
              <a:xfrm>
                <a:off x="7135560" y="4377240"/>
                <a:ext cx="1249200" cy="2210760"/>
                <a:chOff x="7135560" y="4377240"/>
                <a:chExt cx="1249200" cy="2210760"/>
              </a:xfrm>
            </p:grpSpPr>
            <p:grpSp>
              <p:nvGrpSpPr>
                <p:cNvPr id="531" name="Group 16"/>
                <p:cNvGrpSpPr/>
                <p:nvPr/>
              </p:nvGrpSpPr>
              <p:grpSpPr>
                <a:xfrm>
                  <a:off x="7136280" y="4377240"/>
                  <a:ext cx="1247040" cy="1508400"/>
                  <a:chOff x="7136280" y="4377240"/>
                  <a:chExt cx="1247040" cy="1508400"/>
                </a:xfrm>
              </p:grpSpPr>
              <p:sp>
                <p:nvSpPr>
                  <p:cNvPr id="532" name="AutoShape 17"/>
                  <p:cNvSpPr/>
                  <p:nvPr/>
                </p:nvSpPr>
                <p:spPr>
                  <a:xfrm>
                    <a:off x="7136280" y="4820400"/>
                    <a:ext cx="1247040" cy="1065240"/>
                  </a:xfrm>
                  <a:prstGeom prst="can">
                    <a:avLst>
                      <a:gd name="adj" fmla="val 2509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18"/>
                  <p:cNvSpPr/>
                  <p:nvPr/>
                </p:nvSpPr>
                <p:spPr>
                  <a:xfrm>
                    <a:off x="7136280" y="4512960"/>
                    <a:ext cx="267480" cy="480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19"/>
                  <p:cNvSpPr/>
                  <p:nvPr/>
                </p:nvSpPr>
                <p:spPr>
                  <a:xfrm>
                    <a:off x="8140320" y="4496760"/>
                    <a:ext cx="243000" cy="478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Oval 20"/>
                  <p:cNvSpPr/>
                  <p:nvPr/>
                </p:nvSpPr>
                <p:spPr>
                  <a:xfrm>
                    <a:off x="7353360" y="4377240"/>
                    <a:ext cx="861480" cy="304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AutoShape 21"/>
                <p:cNvSpPr/>
                <p:nvPr/>
              </p:nvSpPr>
              <p:spPr>
                <a:xfrm>
                  <a:off x="7135560" y="5645880"/>
                  <a:ext cx="1249200" cy="942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Freeform 22"/>
              <p:cNvSpPr/>
              <p:nvPr/>
            </p:nvSpPr>
            <p:spPr>
              <a:xfrm rot="21416400">
                <a:off x="7369200" y="6427800"/>
                <a:ext cx="410040" cy="1612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38" name="Picture 28" descr="image921"/>
          <p:cNvPicPr/>
          <p:nvPr/>
        </p:nvPicPr>
        <p:blipFill>
          <a:blip r:embed="rId6"/>
          <a:stretch/>
        </p:blipFill>
        <p:spPr>
          <a:xfrm>
            <a:off x="4643280" y="3857760"/>
            <a:ext cx="1101960" cy="1295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7" descr="image920"/>
          <p:cNvPicPr/>
          <p:nvPr/>
        </p:nvPicPr>
        <p:blipFill>
          <a:blip r:embed="rId7"/>
          <a:stretch/>
        </p:blipFill>
        <p:spPr>
          <a:xfrm>
            <a:off x="7667640" y="3857760"/>
            <a:ext cx="1476360" cy="140328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27"/>
          <p:cNvSpPr/>
          <p:nvPr/>
        </p:nvSpPr>
        <p:spPr>
          <a:xfrm>
            <a:off x="471492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3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3"/>
          <p:cNvSpPr/>
          <p:nvPr/>
        </p:nvSpPr>
        <p:spPr>
          <a:xfrm>
            <a:off x="857160" y="0"/>
            <a:ext cx="8286840" cy="65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ІРЮ – НЕ ВІРЮ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uk-UA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 вірите ви , що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гальна маса газів ,що становить атмосфера, дорівнює 4.5*10</a:t>
            </a:r>
            <a:r>
              <a:rPr b="0" lang="uk-UA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тмосферу має Сонце та 8 планет Сонячної системи і 3 супутника пла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уха не падає зі стелі завдяки присоскам, які притискаються до поверхні атмосферним тиск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иск можна виміряти за допомогою термомет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арометр перестане працювати за межами земної атмосфер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ляшка з газованою водою є джерелом небезпеки при польоті на повітряній кулі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ути, п'явки мають присоски, за допомогою яких вони можуть прилипнути до будь-якого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са  повітря, яке тисне на наші долоні дорівнює масі навантаженого цеглиною КАМАЗа – 10 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"/>
          <p:cNvPicPr/>
          <p:nvPr/>
        </p:nvPicPr>
        <p:blipFill>
          <a:blip r:embed="rId2"/>
          <a:stretch/>
        </p:blipFill>
        <p:spPr>
          <a:xfrm>
            <a:off x="571680" y="928800"/>
            <a:ext cx="8353080" cy="55450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3060720" y="260280"/>
            <a:ext cx="3454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Розкидані дум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7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3"/>
          <p:cNvSpPr/>
          <p:nvPr/>
        </p:nvSpPr>
        <p:spPr>
          <a:xfrm>
            <a:off x="2300400" y="333360"/>
            <a:ext cx="6607080" cy="54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ФЛЕКС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ьогодні я дізнав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мож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уло цікав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уло склад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зрозумів, щ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не здивува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Урок дав мені для житт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ні захотіло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F:\Полякова О.В\УРОК\фоны для презентаций\Безымянный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2"/>
          <a:stretch/>
        </p:blipFill>
        <p:spPr>
          <a:xfrm>
            <a:off x="857160" y="0"/>
            <a:ext cx="6994440" cy="70675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3643200" y="907920"/>
            <a:ext cx="4286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§34,35 опрацю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Викон впр.19(1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Впр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підготу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Інформацію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-про живі бароме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-рекламу- презентацію баром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-загадки,прислів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’</a:t>
            </a: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я про атмосферний т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F:\Полякова О.В\УРОК\фоны для презентаций\016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Прямоугольник 2" descr=""/>
          <p:cNvPicPr/>
          <p:nvPr/>
        </p:nvPicPr>
        <p:blipFill>
          <a:blip r:embed="rId2"/>
          <a:stretch/>
        </p:blipFill>
        <p:spPr>
          <a:xfrm>
            <a:off x="1444680" y="517680"/>
            <a:ext cx="6993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Admin\Рабочий стол\50439.jpg"/>
          <p:cNvPicPr/>
          <p:nvPr/>
        </p:nvPicPr>
        <p:blipFill>
          <a:blip r:embed="rId2"/>
          <a:stretch/>
        </p:blipFill>
        <p:spPr>
          <a:xfrm>
            <a:off x="0" y="0"/>
            <a:ext cx="4143240" cy="3429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Documents and Settings\Admin\Рабочий стол\1000-7.jpg"/>
          <p:cNvPicPr/>
          <p:nvPr/>
        </p:nvPicPr>
        <p:blipFill>
          <a:blip r:embed="rId3"/>
          <a:srcRect l="0" t="0" r="0" b="-135"/>
          <a:stretch/>
        </p:blipFill>
        <p:spPr>
          <a:xfrm>
            <a:off x="5000760" y="0"/>
            <a:ext cx="3929040" cy="4305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C:\Documents and Settings\Admin\Рабочий стол\02857159.jpg"/>
          <p:cNvPicPr/>
          <p:nvPr/>
        </p:nvPicPr>
        <p:blipFill>
          <a:blip r:embed="rId4"/>
          <a:srcRect l="0" t="0" r="0" b="94"/>
          <a:stretch/>
        </p:blipFill>
        <p:spPr>
          <a:xfrm>
            <a:off x="2143080" y="321480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2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70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0" y="3571920"/>
            <a:ext cx="3683160" cy="1279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6040440" cy="36432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10"/>
          <p:cNvSpPr/>
          <p:nvPr/>
        </p:nvSpPr>
        <p:spPr>
          <a:xfrm>
            <a:off x="4000680" y="3786120"/>
            <a:ext cx="5143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лонь тисне повіт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га повітря дорівнює вазі навантаженого  КАМАЗа, маса якого 10 т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/>
          <p:cNvSpPr/>
          <p:nvPr/>
        </p:nvSpPr>
        <p:spPr>
          <a:xfrm>
            <a:off x="0" y="-65160"/>
            <a:ext cx="87868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17 грудня.   Тема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</a:t>
            </a:r>
            <a:r>
              <a:rPr b="1" i="1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АТМОСФЕРНИЙ ТИСК. ВИМІРЮВАННЯ АТМОСФЕРНОГО ТИ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2" descr=""/>
          <p:cNvPicPr/>
          <p:nvPr/>
        </p:nvPicPr>
        <p:blipFill>
          <a:blip r:embed="rId2"/>
          <a:stretch/>
        </p:blipFill>
        <p:spPr>
          <a:xfrm>
            <a:off x="1878120" y="231840"/>
            <a:ext cx="5797440" cy="110340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3"/>
          <p:cNvSpPr/>
          <p:nvPr/>
        </p:nvSpPr>
        <p:spPr>
          <a:xfrm>
            <a:off x="324000" y="1197000"/>
            <a:ext cx="849600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озкрити природу атмосферного тиску, показати на дослідах і довести на прикладах існування атмосферного тиску, ознайомити з дослідом Торрічелл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увати практичні уміння і навички при розв’язуванні задач, розвивати логічне мислення; формувати інтерес до історії розвитку науки фізики, розвивати життєву компетентні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иховувати в учнів спостережливість, кмітливість, організованість, почуття обов’язку та взаємовиру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2" descr=""/>
          <p:cNvPicPr/>
          <p:nvPr/>
        </p:nvPicPr>
        <p:blipFill>
          <a:blip r:embed="rId2"/>
          <a:stretch/>
        </p:blipFill>
        <p:spPr>
          <a:xfrm>
            <a:off x="109440" y="231840"/>
            <a:ext cx="9326520" cy="110340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4"/>
          <p:cNvSpPr/>
          <p:nvPr/>
        </p:nvSpPr>
        <p:spPr>
          <a:xfrm>
            <a:off x="971640" y="1328760"/>
            <a:ext cx="70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ні навчаться розкривати причиново-наслідкові зв’язки при поясненні прикладів і дослідів на основі знань про атмосферний тиск, дізнаються, що атмосфера має тиск, познайомляться з приладами для вимірювання тиску, дізнаються , як змінюється атмосферний тиск з висот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5"/>
          <p:cNvSpPr/>
          <p:nvPr/>
        </p:nvSpPr>
        <p:spPr>
          <a:xfrm>
            <a:off x="2916360" y="465300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ється інтерес до історії розвитку науки фізики, життєва компетен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9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C:\Documents and Settings\Admin\Рабочий стол\photoq155.jpg"/>
          <p:cNvPicPr/>
          <p:nvPr/>
        </p:nvPicPr>
        <p:blipFill>
          <a:blip r:embed="rId2"/>
          <a:stretch/>
        </p:blipFill>
        <p:spPr>
          <a:xfrm>
            <a:off x="0" y="0"/>
            <a:ext cx="4357800" cy="3332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Admin\Рабочий стол\Untitled4.jpg"/>
          <p:cNvPicPr/>
          <p:nvPr/>
        </p:nvPicPr>
        <p:blipFill>
          <a:blip r:embed="rId3"/>
          <a:srcRect l="0" t="0" r="152" b="0"/>
          <a:stretch/>
        </p:blipFill>
        <p:spPr>
          <a:xfrm>
            <a:off x="0" y="3214800"/>
            <a:ext cx="4351320" cy="36432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1" descr="C:\Documents and Settings\Admin\Рабочий стол\04-19.gif"/>
          <p:cNvPicPr/>
          <p:nvPr/>
        </p:nvPicPr>
        <p:blipFill>
          <a:blip r:embed="rId4"/>
          <a:srcRect l="6250" t="10419" r="6250" b="12498"/>
          <a:stretch/>
        </p:blipFill>
        <p:spPr>
          <a:xfrm>
            <a:off x="4286160" y="0"/>
            <a:ext cx="4857840" cy="3209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C:\Documents and Settings\Admin\Рабочий стол\009.jpg"/>
          <p:cNvPicPr/>
          <p:nvPr/>
        </p:nvPicPr>
        <p:blipFill>
          <a:blip r:embed="rId5"/>
          <a:stretch/>
        </p:blipFill>
        <p:spPr>
          <a:xfrm>
            <a:off x="4286160" y="321480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3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36360" y="-14292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5" descr=""/>
          <p:cNvPicPr/>
          <p:nvPr/>
        </p:nvPicPr>
        <p:blipFill>
          <a:blip r:embed="rId2"/>
          <a:stretch/>
        </p:blipFill>
        <p:spPr>
          <a:xfrm>
            <a:off x="2182680" y="-171360"/>
            <a:ext cx="7058160" cy="10983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C:\Documents and Settings\Admin\Рабочий стол\pic.jpg"/>
          <p:cNvPicPr/>
          <p:nvPr/>
        </p:nvPicPr>
        <p:blipFill>
          <a:blip r:embed="rId3"/>
          <a:srcRect l="0" t="0" r="28" b="0"/>
          <a:stretch/>
        </p:blipFill>
        <p:spPr>
          <a:xfrm>
            <a:off x="0" y="0"/>
            <a:ext cx="2428920" cy="3619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{2B5456AA-0021-4006-B403-F8A56EF2F6A7}"/>
          <p:cNvPicPr/>
          <p:nvPr/>
        </p:nvPicPr>
        <p:blipFill>
          <a:blip r:embed="rId4"/>
          <a:srcRect l="0" t="0" r="55" b="39"/>
          <a:stretch/>
        </p:blipFill>
        <p:spPr>
          <a:xfrm>
            <a:off x="2192400" y="1500120"/>
            <a:ext cx="6808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57:39Z</dcterms:created>
  <dc:creator>Seven</dc:creator>
  <dc:description/>
  <dc:language>en-US</dc:language>
  <cp:lastModifiedBy>ВИКТОРИЯ</cp:lastModifiedBy>
  <dcterms:modified xsi:type="dcterms:W3CDTF">2012-12-16T22:24:14Z</dcterms:modified>
  <cp:revision>1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26000000000001024140</vt:lpwstr>
  </property>
</Properties>
</file>