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a6ff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8C95-1F3D-484B-99D6-67974B2EF3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18B8-51F5-4773-A243-9B0DCB79B4B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DBEF-9EDE-4881-AD3F-692DCBA2C4A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75B-8228-4597-97FD-D7A37656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62A-8AD5-40C4-9381-76C73D20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4B6-C31E-466A-A5B6-FC4BC896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E4A6-7E82-4EA2-B3F3-FAA955CE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8364-E092-4698-A635-87B0C7B2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7A4A-A9DE-4FAD-96CA-C9BAA585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1385-6102-483B-B3A3-3D0B91D7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E80B-69BA-4093-A68F-7ED5CD77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B2C7-9B66-436A-AB9A-8A51F2FB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B6C8-3F9A-4853-8762-609A7BFE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5D49-04FF-49BA-AFEE-2DF4C376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069-AF76-4FAF-8CC0-2931014A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1778-3EAA-4420-B7F5-F7101F19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A5BA-F51D-4000-AD1C-C8503CB5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1FC9-03A6-4B07-BC0A-4C2F633C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D05E-CC63-485D-AE5C-01CCC95A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3458-7FEC-4C10-A6DE-2978DE97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AD364-08FA-48CE-98C0-9B6A5DCC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193EC-06B8-421E-9442-7A2668E3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E84F1-9E8D-40D4-9ACB-34ECF923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25053-5B2B-49A9-BCCB-FE9039C0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8D31-1B6D-475C-99DC-9D6D8631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C647-BB43-40D8-9B7A-4D66D573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5B07E-3253-4F5F-B8BA-F1A71327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12E3D-E828-49F5-B640-3C40B615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BB364-AFDF-45D3-A941-E094D8C7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B1BAF-E760-4E7C-B031-AE9ACC32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DFDB8-7874-4768-AAFA-14BE361B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75E70-9003-48C0-ABFA-9C9FDC73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FB8C5-7CBE-432D-B7ED-98D387ED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24E90-AD1B-4ACB-BB70-F24173CF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FDC91-BC2B-4E71-901E-EFC7E279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4A829-E860-49DC-A828-66D22041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9F1-B6F7-4F98-8411-B3916488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CD451-3D85-472A-A973-00C53FA8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890A9-EBF7-4608-A6A0-A6A5F9FD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00255-300A-4D62-9A55-0D362AC4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E8835-82AA-4CDC-9DD6-ECCED9B7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2F8ED-893B-4C8D-89D1-D4F0B5D6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CB89B-EE12-4EB9-8CEF-9F4E8511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EF6D7-12C7-4C2A-992D-E708F14B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20A7F-5AD5-4CB3-ADC9-5BC9113D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F3EED-658A-49C3-9110-D662AFAA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2A56A-15DA-4562-A6D0-884EBB40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5722-3217-4E3B-8422-D5504305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2E3AD-07AD-4A55-B073-8839EBCE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5510D-A004-4ACD-8DD4-644821C8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37CE4-35A8-4EB6-B577-348CEBF4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A3CA8-0AF7-4FF8-9F8B-F961DAA2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402EF-DAEE-498A-A308-EFFE4761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52D65-D562-421F-AA6F-50EBFA3B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D0ACF-CFDC-403B-AB9A-6B800DC7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DAA9C-7EB3-4819-B4AD-39F5186E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5451E-0726-43C5-958A-BFF6A23F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0B7C7-1F2F-47D0-A294-A96455AF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333-E35D-448C-8697-CB54AD6B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D6E86-82A2-4D48-9DAB-EFA43D38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31AEA-C516-421E-92CB-49563901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5B2C7-46FA-4E7B-ACA7-7FA04E6D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4F1B0-EB19-4DA5-9A2E-F9CDF15C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27D1B-314C-4F16-BE92-BB756C6E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FE936-57E4-4530-BBC1-29812FB5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B601D-9581-4712-B77F-B786D679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91A2F-1B3F-4548-A074-0FEA4BC8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13C05-F4FA-41B0-8302-B4E5D92B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79460-F9CE-4D5E-9B23-F3BECC5A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1EC-096F-4FB8-A9B7-82B19D4D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6433F-6596-4D00-B962-86DBCD6D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F2DAC-526C-44EA-BA19-4F16C001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1A18D-B1C9-4D8C-B408-CF604E70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DB7B9-8FD2-4704-A0E2-FAFEC23B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B97C2-0786-434D-9E15-1BCC4FBB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B56F9-749A-4143-8704-70622DCE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E859F-F9A3-4614-8CD1-30DE1E55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D8860-4BD0-4D17-8090-53D357C3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312A0-E4A0-47C2-8625-C8922A99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7B5E6-4D31-4C9F-92EA-CADB0CF7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11E5-27DE-469A-8B3C-27201B18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C0668-4AEE-4AA3-878B-5B0EB999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C24AA-F96F-4316-A589-67177750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48F61-050A-46DF-AF4F-F57518EE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94D93-CF50-4FE2-8694-B51816D3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A4B25-01E7-43B8-A6B7-4E5E9226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12EDB-9E72-4445-85BD-4FC9200E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A5BA4-4BC2-4AA6-B4A4-DA8819F7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264C2-B5E0-4FA0-807A-6D194E7A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071C8-B0FA-4683-9D1C-4A60635E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D8DE9-4F58-48E5-AB0A-68BCE6FD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278-5209-47D0-8E30-8B3D1DBE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B899C-DB09-4594-8F9B-BAC88D59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D16BF-4F1E-4677-BDDF-B13DBD1B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1898D-CB4E-4580-91A2-4E8A673D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198C0-892B-4BCE-821F-3C691636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4B4E6-B188-43EB-B1EA-72E68B0B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6754D-B5F6-487B-9F9B-E4557D0B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6EDC6-CBE0-4CBB-B37F-BA568AE4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90aa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9db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a6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b98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b98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b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79B5-71BB-4E1B-A7B5-28F983D45EE4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7419-45EA-40E4-9C1D-CF2C0226190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90aa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9db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2b3"/>
              </a:gs>
              <a:gs pos="100000">
                <a:srgbClr val="70ae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a6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b98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b98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b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6D8C-7A86-4115-8C03-865154E937FB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36C0-B266-4B9C-931E-D023B5C0E8A3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90aa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9db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a6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b98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b98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b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C899-A32C-4B83-AB15-187DBDB0B6FD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AB6A-CAA9-48C2-8085-B44D43F3A3B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2b3"/>
              </a:gs>
              <a:gs pos="100000">
                <a:srgbClr val="70ae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9db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90aa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a6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b98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b98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b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2C8E-A3AC-4A2B-ADE9-E7665C1E9559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3380-CB77-4A30-BFB4-290F1FDD18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90aa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9db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a6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b98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b98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b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EE19-8069-4968-BDA7-237A50C119F3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611E-42DC-4921-B59C-F02E428C28C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a6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b98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b98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b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6CB6-A2B9-4685-A38E-AEE21FB7E054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D234-0A0E-4D59-B6C5-B4FF47E7ABE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a6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b98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b98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b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DF9F-25A4-4E70-B60D-DE138D5C7B5B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91A2-F733-477D-886D-1CB3E2E204F8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a6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4a6ff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b98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b98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b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D689-73D2-48E4-8CDA-1629D79E7CDF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A37B-84FE-41A5-A04E-2873152CA19A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603360" y="755640"/>
            <a:ext cx="8358120" cy="2646360"/>
          </a:xfrm>
          <a:prstGeom prst="rect">
            <a:avLst/>
          </a:prstGeom>
          <a:ln w="0">
            <a:noFill/>
          </a:ln>
        </p:spPr>
      </p:pic>
      <p:pic>
        <p:nvPicPr>
          <p:cNvPr id="353" name="Подзаголовок 2" descr=""/>
          <p:cNvPicPr/>
          <p:nvPr/>
        </p:nvPicPr>
        <p:blipFill>
          <a:blip r:embed="rId2"/>
          <a:stretch/>
        </p:blipFill>
        <p:spPr>
          <a:xfrm>
            <a:off x="895320" y="3870360"/>
            <a:ext cx="8309160" cy="1890720"/>
          </a:xfrm>
          <a:prstGeom prst="rect">
            <a:avLst/>
          </a:prstGeom>
          <a:ln w="0">
            <a:noFill/>
          </a:ln>
        </p:spPr>
      </p:pic>
      <p:sp>
        <p:nvSpPr>
          <p:cNvPr id="354" name="Номер слайда 3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37AA-CA93-45FF-A3DF-31FF389E0B16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536400" y="73080"/>
            <a:ext cx="8242560" cy="13478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" descr=""/>
          <p:cNvPicPr/>
          <p:nvPr/>
        </p:nvPicPr>
        <p:blipFill>
          <a:blip r:embed="rId2"/>
          <a:srcRect l="0" t="0" r="43" b="32"/>
          <a:stretch/>
        </p:blipFill>
        <p:spPr>
          <a:xfrm>
            <a:off x="684360" y="1474920"/>
            <a:ext cx="7908840" cy="530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9" name="Номер слайда 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DC03-4DED-465A-AF9A-3BB97F6F9F93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41" name="TextBox 2"/>
          <p:cNvSpPr/>
          <p:nvPr/>
        </p:nvSpPr>
        <p:spPr>
          <a:xfrm>
            <a:off x="108000" y="1628640"/>
            <a:ext cx="87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entury Gothic"/>
              </a:rPr>
              <a:t>На тіло, занурене в рідину або газ,діє виштовхувальна сила,що напрямлена вертикально вгору і дорівнює вазі рідини або газу в об’ємі зануреної частини тіла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Century Gothic"/>
              </a:rPr>
              <a:t>В умовах невагомості закон Архімеда не виконується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02C2-B884-4279-8A44-60B18CDB10EB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8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- Машини для зрошення полів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- Гвинт для підняття великих  вантажів,військових кидальних машин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- Запровадив поняття центра ваг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- Математично вивів закони важеля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- Заклав основи гідростатик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CAE0-7FBC-47E0-9002-98BFABA548AC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96560" cy="15476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C:\Users\Comfy\Desktop\Корабль.jpg"/>
          <p:cNvPicPr/>
          <p:nvPr/>
        </p:nvPicPr>
        <p:blipFill>
          <a:blip r:embed="rId2"/>
          <a:stretch/>
        </p:blipFill>
        <p:spPr>
          <a:xfrm>
            <a:off x="1200240" y="1657440"/>
            <a:ext cx="7205400" cy="5048280"/>
          </a:xfrm>
          <a:prstGeom prst="rect">
            <a:avLst/>
          </a:prstGeom>
          <a:ln w="0">
            <a:noFill/>
          </a:ln>
        </p:spPr>
      </p:pic>
      <p:sp>
        <p:nvSpPr>
          <p:cNvPr id="448" name="Номер слайда 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D7ED-F295-4C2A-8A9F-E7F1C2802367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8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431200" cy="14619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C:\Users\Comfy\Desktop\Кулі.jpg"/>
          <p:cNvPicPr/>
          <p:nvPr/>
        </p:nvPicPr>
        <p:blipFill>
          <a:blip r:embed="rId2"/>
          <a:stretch/>
        </p:blipFill>
        <p:spPr>
          <a:xfrm>
            <a:off x="1011240" y="1657440"/>
            <a:ext cx="7297560" cy="5145120"/>
          </a:xfrm>
          <a:prstGeom prst="rect">
            <a:avLst/>
          </a:prstGeom>
          <a:ln w="0">
            <a:noFill/>
          </a:ln>
        </p:spPr>
      </p:pic>
      <p:sp>
        <p:nvSpPr>
          <p:cNvPr id="451" name="Объект 2"/>
          <p:cNvSpPr/>
          <p:nvPr/>
        </p:nvSpPr>
        <p:spPr>
          <a:xfrm>
            <a:off x="3985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Номер слайда 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403A-7BD1-42FC-B6FE-0DE79B22A32D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8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17373600" cy="15476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C:\Users\Comfy\Desktop\Изобретение\Нефть 2.jpg"/>
          <p:cNvPicPr/>
          <p:nvPr/>
        </p:nvPicPr>
        <p:blipFill>
          <a:blip r:embed="rId2"/>
          <a:stretch/>
        </p:blipFill>
        <p:spPr>
          <a:xfrm>
            <a:off x="395280" y="1916280"/>
            <a:ext cx="4282920" cy="4321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C:\Users\Comfy\Desktop\Изобретение\Нефть.jpg"/>
          <p:cNvPicPr/>
          <p:nvPr/>
        </p:nvPicPr>
        <p:blipFill>
          <a:blip r:embed="rId3"/>
          <a:stretch/>
        </p:blipFill>
        <p:spPr>
          <a:xfrm>
            <a:off x="5003640" y="1916280"/>
            <a:ext cx="3583080" cy="4389120"/>
          </a:xfrm>
          <a:prstGeom prst="rect">
            <a:avLst/>
          </a:prstGeom>
          <a:ln w="0">
            <a:noFill/>
          </a:ln>
        </p:spPr>
      </p:pic>
      <p:sp>
        <p:nvSpPr>
          <p:cNvPr id="456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7023-CC27-45B0-8AAA-175970199238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C:\Users\Comfy\Desktop\Изобретение\пипетка 3.jpg"/>
          <p:cNvPicPr/>
          <p:nvPr/>
        </p:nvPicPr>
        <p:blipFill>
          <a:blip r:embed="rId2"/>
          <a:stretch/>
        </p:blipFill>
        <p:spPr>
          <a:xfrm rot="211800">
            <a:off x="469440" y="1782720"/>
            <a:ext cx="3611520" cy="2567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C:\Users\Comfy\Desktop\Изобретение\пипетки.jpg"/>
          <p:cNvPicPr/>
          <p:nvPr/>
        </p:nvPicPr>
        <p:blipFill>
          <a:blip r:embed="rId3"/>
          <a:stretch/>
        </p:blipFill>
        <p:spPr>
          <a:xfrm>
            <a:off x="5219640" y="1784520"/>
            <a:ext cx="3600360" cy="25984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C:\Users\Comfy\Desktop\Изобретение\пипетки.jpg"/>
          <p:cNvPicPr/>
          <p:nvPr/>
        </p:nvPicPr>
        <p:blipFill>
          <a:blip r:embed="rId4"/>
          <a:stretch/>
        </p:blipFill>
        <p:spPr>
          <a:xfrm>
            <a:off x="2712960" y="4383000"/>
            <a:ext cx="3730680" cy="2362320"/>
          </a:xfrm>
          <a:prstGeom prst="rect">
            <a:avLst/>
          </a:prstGeom>
          <a:ln w="0">
            <a:noFill/>
          </a:ln>
        </p:spPr>
      </p:pic>
      <p:sp>
        <p:nvSpPr>
          <p:cNvPr id="461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497F-3205-4525-8E43-DAC7BB31C7A7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spcBef>
                <a:spcPts val="901"/>
              </a:spcBef>
              <a:buClr>
                <a:srgbClr val="4b98ff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Century Gothic"/>
              </a:rPr>
              <a:t>Параграф 23 вивчити,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buClr>
                <a:srgbClr val="4b98ff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Century Gothic"/>
              </a:rPr>
              <a:t>вправа 23( 1, 3) письмово,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buClr>
                <a:srgbClr val="4b98ff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Century Gothic"/>
              </a:rPr>
              <a:t>Виконати експериментальну задачу: знайти густину картоплі,користуючись законом Архімеда.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8891-C04E-45E0-922B-8B4EF562DB6A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8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8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8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250560" y="1341360"/>
            <a:ext cx="84358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1. Конкурс теоретиків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2. Конкурс дослідників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3. Конкурс знавців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4. Конкурс практиків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9A29-197A-4A9C-85D8-FC77ED32A6D0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47"/>
          <p:cNvGrpSpPr/>
          <p:nvPr/>
        </p:nvGrpSpPr>
        <p:grpSpPr>
          <a:xfrm>
            <a:off x="639720" y="1665360"/>
            <a:ext cx="7937640" cy="4276800"/>
            <a:chOff x="639720" y="1665360"/>
            <a:chExt cx="7937640" cy="4276800"/>
          </a:xfrm>
        </p:grpSpPr>
        <p:sp>
          <p:nvSpPr>
            <p:cNvPr id="360" name="Rectangle 48"/>
            <p:cNvSpPr/>
            <p:nvPr/>
          </p:nvSpPr>
          <p:spPr>
            <a:xfrm>
              <a:off x="4913640" y="166536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61" name="Rectangle 49"/>
            <p:cNvSpPr/>
            <p:nvPr/>
          </p:nvSpPr>
          <p:spPr>
            <a:xfrm>
              <a:off x="4303080" y="166536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62" name="Rectangle 50"/>
            <p:cNvSpPr/>
            <p:nvPr/>
          </p:nvSpPr>
          <p:spPr>
            <a:xfrm>
              <a:off x="5524200" y="166536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63" name="Rectangle 51"/>
            <p:cNvSpPr/>
            <p:nvPr/>
          </p:nvSpPr>
          <p:spPr>
            <a:xfrm>
              <a:off x="6135120" y="166536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64" name="Rectangle 52"/>
            <p:cNvSpPr/>
            <p:nvPr/>
          </p:nvSpPr>
          <p:spPr>
            <a:xfrm>
              <a:off x="6745680" y="166536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65" name="Rectangle 53"/>
            <p:cNvSpPr/>
            <p:nvPr/>
          </p:nvSpPr>
          <p:spPr>
            <a:xfrm>
              <a:off x="3692520" y="166536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66" name="Rectangle 54"/>
            <p:cNvSpPr/>
            <p:nvPr/>
          </p:nvSpPr>
          <p:spPr>
            <a:xfrm>
              <a:off x="7356240" y="166536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67" name="Rectangle 55"/>
            <p:cNvSpPr/>
            <p:nvPr/>
          </p:nvSpPr>
          <p:spPr>
            <a:xfrm>
              <a:off x="613512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68" name="Rectangle 56"/>
            <p:cNvSpPr/>
            <p:nvPr/>
          </p:nvSpPr>
          <p:spPr>
            <a:xfrm>
              <a:off x="6135120" y="289620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69" name="Rectangle 57"/>
            <p:cNvSpPr/>
            <p:nvPr/>
          </p:nvSpPr>
          <p:spPr>
            <a:xfrm>
              <a:off x="6135120" y="35053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0" name="Rectangle 58"/>
            <p:cNvSpPr/>
            <p:nvPr/>
          </p:nvSpPr>
          <p:spPr>
            <a:xfrm>
              <a:off x="6135120" y="41144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1" name="Rectangle 59"/>
            <p:cNvSpPr/>
            <p:nvPr/>
          </p:nvSpPr>
          <p:spPr>
            <a:xfrm>
              <a:off x="6135120" y="47239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2" name="Rectangle 60"/>
            <p:cNvSpPr/>
            <p:nvPr/>
          </p:nvSpPr>
          <p:spPr>
            <a:xfrm>
              <a:off x="6135120" y="53330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3" name="Rectangle 61"/>
            <p:cNvSpPr/>
            <p:nvPr/>
          </p:nvSpPr>
          <p:spPr>
            <a:xfrm>
              <a:off x="552420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4" name="Rectangle 62"/>
            <p:cNvSpPr/>
            <p:nvPr/>
          </p:nvSpPr>
          <p:spPr>
            <a:xfrm>
              <a:off x="491364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5" name="Rectangle 63"/>
            <p:cNvSpPr/>
            <p:nvPr/>
          </p:nvSpPr>
          <p:spPr>
            <a:xfrm>
              <a:off x="430308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6" name="Rectangle 64"/>
            <p:cNvSpPr/>
            <p:nvPr/>
          </p:nvSpPr>
          <p:spPr>
            <a:xfrm>
              <a:off x="369252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7" name="Rectangle 65"/>
            <p:cNvSpPr/>
            <p:nvPr/>
          </p:nvSpPr>
          <p:spPr>
            <a:xfrm>
              <a:off x="308196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8" name="Rectangle 66"/>
            <p:cNvSpPr/>
            <p:nvPr/>
          </p:nvSpPr>
          <p:spPr>
            <a:xfrm>
              <a:off x="186084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79" name="Rectangle 67"/>
            <p:cNvSpPr/>
            <p:nvPr/>
          </p:nvSpPr>
          <p:spPr>
            <a:xfrm>
              <a:off x="125028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0" name="Rectangle 68"/>
            <p:cNvSpPr/>
            <p:nvPr/>
          </p:nvSpPr>
          <p:spPr>
            <a:xfrm>
              <a:off x="63972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1" name="Rectangle 69"/>
            <p:cNvSpPr/>
            <p:nvPr/>
          </p:nvSpPr>
          <p:spPr>
            <a:xfrm>
              <a:off x="2471400" y="228708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2" name="Rectangle 70"/>
            <p:cNvSpPr/>
            <p:nvPr/>
          </p:nvSpPr>
          <p:spPr>
            <a:xfrm>
              <a:off x="5524200" y="289620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3" name="Rectangle 71"/>
            <p:cNvSpPr/>
            <p:nvPr/>
          </p:nvSpPr>
          <p:spPr>
            <a:xfrm>
              <a:off x="6745680" y="35053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4" name="Rectangle 72"/>
            <p:cNvSpPr/>
            <p:nvPr/>
          </p:nvSpPr>
          <p:spPr>
            <a:xfrm>
              <a:off x="7356240" y="35053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5" name="Rectangle 73"/>
            <p:cNvSpPr/>
            <p:nvPr/>
          </p:nvSpPr>
          <p:spPr>
            <a:xfrm>
              <a:off x="5524200" y="35053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6" name="Rectangle 74"/>
            <p:cNvSpPr/>
            <p:nvPr/>
          </p:nvSpPr>
          <p:spPr>
            <a:xfrm>
              <a:off x="4913640" y="35053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7" name="Rectangle 75"/>
            <p:cNvSpPr/>
            <p:nvPr/>
          </p:nvSpPr>
          <p:spPr>
            <a:xfrm>
              <a:off x="5524200" y="41144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8" name="Rectangle 76"/>
            <p:cNvSpPr/>
            <p:nvPr/>
          </p:nvSpPr>
          <p:spPr>
            <a:xfrm>
              <a:off x="4303080" y="41144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89" name="Rectangle 77"/>
            <p:cNvSpPr/>
            <p:nvPr/>
          </p:nvSpPr>
          <p:spPr>
            <a:xfrm>
              <a:off x="4913640" y="41144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0" name="Rectangle 78"/>
            <p:cNvSpPr/>
            <p:nvPr/>
          </p:nvSpPr>
          <p:spPr>
            <a:xfrm>
              <a:off x="6745680" y="47239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1" name="Rectangle 79"/>
            <p:cNvSpPr/>
            <p:nvPr/>
          </p:nvSpPr>
          <p:spPr>
            <a:xfrm>
              <a:off x="7356240" y="47239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2" name="Rectangle 80"/>
            <p:cNvSpPr/>
            <p:nvPr/>
          </p:nvSpPr>
          <p:spPr>
            <a:xfrm>
              <a:off x="5524200" y="47239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3" name="Rectangle 81"/>
            <p:cNvSpPr/>
            <p:nvPr/>
          </p:nvSpPr>
          <p:spPr>
            <a:xfrm>
              <a:off x="4913640" y="47239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4" name="Rectangle 82"/>
            <p:cNvSpPr/>
            <p:nvPr/>
          </p:nvSpPr>
          <p:spPr>
            <a:xfrm>
              <a:off x="4303080" y="47239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5" name="Rectangle 83"/>
            <p:cNvSpPr/>
            <p:nvPr/>
          </p:nvSpPr>
          <p:spPr>
            <a:xfrm>
              <a:off x="3692520" y="47239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6" name="Rectangle 84"/>
            <p:cNvSpPr/>
            <p:nvPr/>
          </p:nvSpPr>
          <p:spPr>
            <a:xfrm>
              <a:off x="3081960" y="47239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7" name="Rectangle 85"/>
            <p:cNvSpPr/>
            <p:nvPr/>
          </p:nvSpPr>
          <p:spPr>
            <a:xfrm>
              <a:off x="5524200" y="53330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8" name="Rectangle 86"/>
            <p:cNvSpPr/>
            <p:nvPr/>
          </p:nvSpPr>
          <p:spPr>
            <a:xfrm>
              <a:off x="7356240" y="53330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99" name="Rectangle 87"/>
            <p:cNvSpPr/>
            <p:nvPr/>
          </p:nvSpPr>
          <p:spPr>
            <a:xfrm>
              <a:off x="7966800" y="53330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00" name="Rectangle 88"/>
            <p:cNvSpPr/>
            <p:nvPr/>
          </p:nvSpPr>
          <p:spPr>
            <a:xfrm>
              <a:off x="6745680" y="53330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01" name="Rectangle 89"/>
            <p:cNvSpPr/>
            <p:nvPr/>
          </p:nvSpPr>
          <p:spPr>
            <a:xfrm>
              <a:off x="4913640" y="289620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02" name="Rectangle 90"/>
            <p:cNvSpPr/>
            <p:nvPr/>
          </p:nvSpPr>
          <p:spPr>
            <a:xfrm>
              <a:off x="4303080" y="350532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03" name="Rectangle 91"/>
            <p:cNvSpPr/>
            <p:nvPr/>
          </p:nvSpPr>
          <p:spPr>
            <a:xfrm>
              <a:off x="4913640" y="5333040"/>
              <a:ext cx="61056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04" name="TextBox 93"/>
          <p:cNvSpPr/>
          <p:nvPr/>
        </p:nvSpPr>
        <p:spPr>
          <a:xfrm>
            <a:off x="3211560" y="166068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TextBox 94"/>
          <p:cNvSpPr/>
          <p:nvPr/>
        </p:nvSpPr>
        <p:spPr>
          <a:xfrm>
            <a:off x="101520" y="2311560"/>
            <a:ext cx="4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TextBox 97"/>
          <p:cNvSpPr/>
          <p:nvPr/>
        </p:nvSpPr>
        <p:spPr>
          <a:xfrm flipH="1">
            <a:off x="4469760" y="2928960"/>
            <a:ext cx="3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TextBox 102"/>
          <p:cNvSpPr/>
          <p:nvPr/>
        </p:nvSpPr>
        <p:spPr>
          <a:xfrm>
            <a:off x="3868560" y="4140360"/>
            <a:ext cx="4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Прямоугольник 103"/>
          <p:cNvSpPr/>
          <p:nvPr/>
        </p:nvSpPr>
        <p:spPr>
          <a:xfrm>
            <a:off x="3890520" y="35323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TextBox 105"/>
          <p:cNvSpPr/>
          <p:nvPr/>
        </p:nvSpPr>
        <p:spPr>
          <a:xfrm>
            <a:off x="2669760" y="4761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TextBox 107"/>
          <p:cNvSpPr/>
          <p:nvPr/>
        </p:nvSpPr>
        <p:spPr>
          <a:xfrm>
            <a:off x="4299120" y="5334120"/>
            <a:ext cx="6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TextBox 108"/>
          <p:cNvSpPr/>
          <p:nvPr/>
        </p:nvSpPr>
        <p:spPr>
          <a:xfrm>
            <a:off x="3719520" y="1749600"/>
            <a:ext cx="45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    А    С    К  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Л    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TextBox 109"/>
          <p:cNvSpPr/>
          <p:nvPr/>
        </p:nvSpPr>
        <p:spPr>
          <a:xfrm>
            <a:off x="666720" y="2311560"/>
            <a:ext cx="61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Д   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И    Н    А   М   О   М   Е    </a:t>
            </a: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Т    </a:t>
            </a:r>
            <a:r>
              <a:rPr b="0" lang="uk-UA" sz="3200" spc="-1" strike="noStrike">
                <a:solidFill>
                  <a:srgbClr val="ff0000"/>
                </a:solidFill>
                <a:latin typeface="Century Gothic"/>
              </a:rPr>
              <a:t>Р</a:t>
            </a: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TextBox 111"/>
          <p:cNvSpPr/>
          <p:nvPr/>
        </p:nvSpPr>
        <p:spPr>
          <a:xfrm>
            <a:off x="4816440" y="289728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Р    У    </a:t>
            </a:r>
            <a:r>
              <a:rPr b="0" lang="uk-UA" sz="3200" spc="-1" strike="noStrike">
                <a:solidFill>
                  <a:srgbClr val="ff0000"/>
                </a:solidFill>
                <a:latin typeface="Century Gothic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TextBox 112"/>
          <p:cNvSpPr/>
          <p:nvPr/>
        </p:nvSpPr>
        <p:spPr>
          <a:xfrm>
            <a:off x="4335480" y="3532320"/>
            <a:ext cx="36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В    А    Ж    </a:t>
            </a:r>
            <a:r>
              <a:rPr b="0" lang="uk-UA" sz="2800" spc="-1" strike="noStrike">
                <a:solidFill>
                  <a:srgbClr val="ff0000"/>
                </a:solidFill>
                <a:latin typeface="Century Gothic"/>
              </a:rPr>
              <a:t>І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     Л    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TextBox 113"/>
          <p:cNvSpPr/>
          <p:nvPr/>
        </p:nvSpPr>
        <p:spPr>
          <a:xfrm>
            <a:off x="4303800" y="411480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О   Б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’  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Є    </a:t>
            </a:r>
            <a:r>
              <a:rPr b="0" lang="uk-UA" sz="2800" spc="-1" strike="noStrike">
                <a:solidFill>
                  <a:srgbClr val="ff0000"/>
                </a:solidFill>
                <a:latin typeface="Century Gothic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TextBox 115"/>
          <p:cNvSpPr/>
          <p:nvPr/>
        </p:nvSpPr>
        <p:spPr>
          <a:xfrm>
            <a:off x="3060720" y="4697280"/>
            <a:ext cx="49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Б   А    Р    О   М    </a:t>
            </a:r>
            <a:r>
              <a:rPr b="0" lang="uk-UA" sz="28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    Т     Р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TextBox 116"/>
          <p:cNvSpPr/>
          <p:nvPr/>
        </p:nvSpPr>
        <p:spPr>
          <a:xfrm>
            <a:off x="4915080" y="5334120"/>
            <a:ext cx="36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Р    І     </a:t>
            </a:r>
            <a:r>
              <a:rPr b="0" lang="uk-UA" sz="2800" spc="-1" strike="noStrike">
                <a:solidFill>
                  <a:srgbClr val="ff0000"/>
                </a:solidFill>
                <a:latin typeface="Century Gothic"/>
              </a:rPr>
              <a:t>Д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    И   Н    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Номер слайда 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9CA1-6A33-4411-A26A-6E66339B85A3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44440" y="85680"/>
            <a:ext cx="8655120" cy="15843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ffffff"/>
                </a:solidFill>
                <a:latin typeface="Century Gothic"/>
              </a:rPr>
              <a:t>Мета: 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на досліді виявити виштовхувальну силу,що діє на занурений в рідину циліндр,визначити цю силу та з’ясувати,як вона залежить від густини рідини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1. Визначити вагу тіла в повітрі Р1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2. Визначити вагу тіла у воді Р2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3. Обчислити значення  сили,користуючись  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виразом:  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                              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                       </a:t>
            </a:r>
            <a:r>
              <a:rPr b="0" i="1" lang="en-US" sz="2200" spc="-1" strike="noStrike">
                <a:solidFill>
                  <a:srgbClr val="ffffff"/>
                </a:solidFill>
                <a:latin typeface="Century Gothic"/>
              </a:rPr>
              <a:t>F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в=Р1-Р2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4.  Визначити вагу тіла в олії Р3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5. Обчислити значення  сили,користуючись 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виразом:                    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                              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                                  </a:t>
            </a:r>
            <a:r>
              <a:rPr b="0" i="1" lang="en-US" sz="2200" spc="-1" strike="noStrike">
                <a:solidFill>
                  <a:srgbClr val="ffffff"/>
                </a:solidFill>
                <a:latin typeface="Century Gothic"/>
              </a:rPr>
              <a:t>F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в=Р1-Р3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uk-UA" sz="2200" spc="-1" strike="noStrike">
                <a:solidFill>
                  <a:srgbClr val="ffffff"/>
                </a:solidFill>
                <a:latin typeface="Century Gothic"/>
              </a:rPr>
              <a:t>6. Порівняйте значення виштовхувальних сил та зробіть висновок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0B70-B0EB-4F7F-8D16-CE1083296C6B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Century Gothic"/>
              </a:rPr>
              <a:t>Більша виштовхувальна сила діятиме в рідині  з більшою густиною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5F7B-EEBB-42B3-9598-7602848404C2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553600" cy="15476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на досліді виявити виштовхувальну силу ,що діє на занурене в рідину тіло,визначити цю силу та з’ясувати,як вона залежить від об’єму зануреного тіла(картоплин різного розміру)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Визначити вагу меншого тіла в повітрі Р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Визначити вагу меншого тіла в рідині Р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Обчислити значення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Р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Визначити вагу більшого тіла в повітрі Р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Визначити вагу більшого тіла в рідині  Р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Обчислити значення: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Р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Порівняйте значення виштовхувальних сил  та зробіть висновок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2C8A-EBE0-472E-B389-08617275827C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ffffff"/>
                </a:solidFill>
                <a:latin typeface="Century Gothic"/>
              </a:rPr>
              <a:t>Більша виштовхувальна сила в рідині  діятиме на тіло більшого об</a:t>
            </a:r>
            <a:r>
              <a:rPr b="0" i="1" lang="en-US" sz="4800" spc="-1" strike="noStrike">
                <a:solidFill>
                  <a:srgbClr val="ffffff"/>
                </a:solidFill>
                <a:latin typeface="Century Gothic"/>
              </a:rPr>
              <a:t>’</a:t>
            </a:r>
            <a:r>
              <a:rPr b="0" i="1" lang="uk-UA" sz="4800" spc="-1" strike="noStrike">
                <a:solidFill>
                  <a:srgbClr val="ffffff"/>
                </a:solidFill>
                <a:latin typeface="Century Gothic"/>
              </a:rPr>
              <a:t>єму.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1FD1-68B9-450D-98C5-2EA736C46424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"/>
          <p:cNvPicPr/>
          <p:nvPr/>
        </p:nvPicPr>
        <p:blipFill>
          <a:blip r:embed="rId2"/>
          <a:srcRect l="0" t="-1223" r="-50" b="15"/>
          <a:stretch/>
        </p:blipFill>
        <p:spPr>
          <a:xfrm rot="479400">
            <a:off x="317520" y="1409400"/>
            <a:ext cx="3382920" cy="461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3" name="TextBox 4"/>
          <p:cNvSpPr/>
          <p:nvPr/>
        </p:nvSpPr>
        <p:spPr>
          <a:xfrm>
            <a:off x="3780000" y="1628640"/>
            <a:ext cx="475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Давньогрецький математик, фізик та інженер, один з найвидатніших вчених античності. Обчислив площу сегмента параболи, поверхню та об'єм кулі, кульового сегмента й циліндра. Обчислив наближене значення числа </a:t>
            </a:r>
            <a:r>
              <a:rPr b="0" i="1" lang="el-GR" sz="2400" spc="-1" strike="noStrike">
                <a:solidFill>
                  <a:srgbClr val="ffffff"/>
                </a:solidFill>
                <a:latin typeface="Century Gothic"/>
              </a:rPr>
              <a:t>π, </a:t>
            </a: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сформулював основні положення гідростатики, створив низку машин і споруд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Номер слайда 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26DD-096C-4E98-A246-BEAF04AF8B6B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ff"/>
            </a:gs>
            <a:gs pos="100000">
              <a:srgbClr val="002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Номер слайда 1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70EC-C6E6-4487-8A37-68CD1FA9B801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6" name="К уроку Архимедова Сила.avi" descr=""/>
          <p:cNvPicPr/>
          <p:nvPr/>
        </p:nvPicPr>
        <p:blipFill>
          <a:blip r:embed="rId1"/>
          <a:stretch/>
        </p:blipFill>
        <p:spPr>
          <a:xfrm>
            <a:off x="142920" y="268200"/>
            <a:ext cx="878688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1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9:40:50Z</dcterms:created>
  <dc:creator>Comfy</dc:creator>
  <dc:description/>
  <dc:language>en-US</dc:language>
  <cp:lastModifiedBy>Admin</cp:lastModifiedBy>
  <dcterms:modified xsi:type="dcterms:W3CDTF">2012-12-25T08:06:25Z</dcterms:modified>
  <cp:revision>59</cp:revision>
  <dc:subject/>
  <dc:title>Тема уроку: Виштовхувальна сила. Закон Архімед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2e000000000001024140</vt:lpwstr>
  </property>
</Properties>
</file>