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a6ff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4F2E-E631-40F3-A259-4064101E1C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50DD-47B0-4261-ACED-319A9A4BC2B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2FAB-8607-412F-8564-9765DE39829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476C-8205-440C-B05A-62D9433F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EDC8-0A87-4F17-9D93-B9E3E6D8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DA8C-FF7F-427F-9C77-F3C1ACEA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36DA-34DF-4ED8-A455-5CB55A1B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E6DB-D4C5-4B5B-9EE8-7A87489E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2190-313C-49AC-AC2C-0E2A24B8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2850-E2EF-450F-9B49-03612CBB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3ABD-A436-406C-9180-642B71AC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9AB9-7FF4-493F-9FF9-A7664A26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E8D9-29E9-4E86-A530-7BBE5228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9317-7521-42C4-A77C-C87F6D03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AF79-6216-47B5-886E-1ACD3C0C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58C1-5FC0-4C83-8067-7F04AFED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E8D6-EC4A-496C-A6D9-4D59C7DD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AE3D-C357-4C8C-89C6-D8B841E8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8EDB-F0B7-469C-918E-CAAA09F1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8234-E172-4906-9FB1-E2CE1013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CEF1C-199B-47C5-97BA-2B59FD4A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2BCE7-5C0A-4BA4-AF50-D87FE58C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506EE-F2EB-4BBF-8E5F-F08BD1E1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A5E0D-2FC6-4713-A4F6-19FB48AD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83123-EC86-4AFB-BC2A-51AE4BF8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D05-1E8B-4C6A-9ACC-4141F951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622EF-B123-45E9-9E90-11DC059B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2264C-F920-41CA-A8AB-697CF7C5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DAF47-B816-4DF3-B8A0-57FA7EC2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DDF0B-EE9F-4FEA-9450-67A017D9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2BD9D-AF8B-4683-9632-9058ACFF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F9E8D-8174-4F8A-A2E9-7381903D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8ECB1-A9BD-4759-9220-B89D6065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516BE-3D36-4A72-939F-D8031120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C06AB-7EE1-492F-9E2D-98CFC9F2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F560B-1CB8-4CF9-86A7-CA2E93BB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006E-6264-479F-BDBA-C840CB70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93D66-7B36-4D38-8F6B-692BF6C1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8CF72-54E2-434F-83D1-CBBB96DB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FDF60-E4FB-437B-8BDA-287AC2C6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34C06-DECF-4ED6-BE84-61884DA6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E38F3-1C17-4ACF-934D-AD069F29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3BE3C-10C8-40CA-9F71-92966A94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58F3D-DE25-47FA-9B3A-57BDB44A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3F28A-4A90-43D5-9F1D-DA2982E1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B6DA3-829F-4D3E-8AE8-3F98BDB5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937F8-CEB6-4B98-A6EA-2802E94B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60D0-9277-4DBF-A115-DD81FCC6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F1AE4-E001-4105-8367-195336E5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71A3F-C15A-40BF-8EA9-131F825D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2B89C-87A2-4BFD-8DAA-517458C0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AE4C9-7A82-4836-8F84-570BD806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3E447-5E96-4DBE-9876-7399FC47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53FA4-055D-4489-8097-B55DFA0D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439A7-6189-42A2-AD56-D05D3C57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2F0CA-6129-4541-A230-954E2FCE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354EF-0080-4C7F-86A8-210323D6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18CFC-CDF8-43AF-A819-80EEA5CD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83C-AFFC-4BB9-A48E-7B6B6ED4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97063-8914-4BA7-A775-133B4CBD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46951-F810-4169-84BC-9F61246F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591D8-CA4A-4D3A-9047-B3B30E95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69AEC-D18C-4478-A1B8-15DFAD61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BD260-977E-4C4B-B94E-F42529A4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5966A-6FC0-4FBA-910D-7E3E802A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403D5-9778-4CCF-A454-2B4E44DA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1B75E-1BEF-4061-B131-EB5C8358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743EB-9BA6-44C1-9D44-54BEDC8A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E53A9-5555-4888-B9E3-71D59FC4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2DF3-7292-4A08-A5C5-EA4CCD7F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32ED6-0A27-4BD2-9738-007F51F0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E5C28-7907-49BF-8CC9-72D9B256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539DB-1F87-43DD-A4E8-2C4F2C31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1777C-288F-4E88-93F6-3323F3EE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048AB-709F-4213-A550-8937786D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A3F29-03A0-4D75-A02C-FF1308E2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64BA9-0C49-4B16-B1DC-7CB01DE9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F6821-E8E3-40F7-9A44-17FC8CED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D0E16-B4F0-4777-A96B-6B8BEDAC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551D1-5A66-43B6-9149-F52E8B0D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461-6320-441E-9058-D5FFE3DD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61794-6484-4AF3-864A-5BFFE367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DF383-D2D7-4EE2-A77A-42D8C264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6394C-9E90-4F6A-A95E-ECADF03C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6D4BB-E364-428B-9D24-D5305B24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FEF7F-EFFC-435C-B402-AA6B002A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2D64A-8BED-4CDB-A690-8BFC6009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5C014-38F0-42B9-B49A-CCFFCDCE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1E22A-371F-4987-8670-3D3781E7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C7D6E-E1B7-4B39-8214-47C706F5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BFF18-935E-4090-9320-5DD8BFFE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73F-C207-4100-B38A-3FF949DB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FE393-E69F-4778-A1A2-B93BC490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F2137-4629-4F28-B768-82970A43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E176B-5325-4C45-974D-A1E5CB2F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372F1-0F9D-4C52-895F-4E66B9F5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ECFDE-0EFF-4D40-B932-874F05DE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CB861-FE8C-4311-B17C-4EC0874C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65B55-36A4-4D22-BB73-130CF123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90aa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9db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a6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b98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b98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b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5E90-E136-4451-B422-A5278EFED5B9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E589-40CD-4314-888A-029B4EF74AC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90aa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9db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a52b3"/>
              </a:gs>
              <a:gs pos="100000">
                <a:srgbClr val="70ae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a6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b98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b98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b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E76D-6826-422C-BD7B-FCDE1DD40CE8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B550-154D-49CD-AD4B-17D5CC133BBC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90aa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9db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a6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b98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b98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b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2F2D-1894-4444-BF26-9C599F8D719F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851B-9C0C-4671-BB38-682A7DF10ED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a52b3"/>
              </a:gs>
              <a:gs pos="100000">
                <a:srgbClr val="70ae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9db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90aa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a6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b98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b98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b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A8B8-A486-4FD3-9953-55C6784285FB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42E1-71FD-497F-898E-297EC7F652A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90aa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9db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a6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b98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b98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b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EE37-55B3-4106-ABF4-8AE27A08E55D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4111-0613-47FF-BC8B-5DFA9E0EE78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a6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b98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b98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b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75EB-080B-4530-BC0F-06695AC22749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BF7C-3F47-4BB8-9DD4-8EE55A4D803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a6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b98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b98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b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1C65-2FF4-40B8-A7DD-2103C6C137C6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3953-59B0-4780-BABA-F9B5C966A272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a6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b98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b98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b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05FC-8C46-4462-A163-3179BC3DB479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7CFF-E38B-4D65-A362-64F63BFF2FDF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603360" y="755640"/>
            <a:ext cx="8358120" cy="2646360"/>
          </a:xfrm>
          <a:prstGeom prst="rect">
            <a:avLst/>
          </a:prstGeom>
          <a:ln w="0">
            <a:noFill/>
          </a:ln>
        </p:spPr>
      </p:pic>
      <p:pic>
        <p:nvPicPr>
          <p:cNvPr id="353" name="Подзаголовок 2" descr=""/>
          <p:cNvPicPr/>
          <p:nvPr/>
        </p:nvPicPr>
        <p:blipFill>
          <a:blip r:embed="rId2"/>
          <a:stretch/>
        </p:blipFill>
        <p:spPr>
          <a:xfrm>
            <a:off x="895320" y="3870360"/>
            <a:ext cx="8309160" cy="1890720"/>
          </a:xfrm>
          <a:prstGeom prst="rect">
            <a:avLst/>
          </a:prstGeom>
          <a:ln w="0">
            <a:noFill/>
          </a:ln>
        </p:spPr>
      </p:pic>
      <p:sp>
        <p:nvSpPr>
          <p:cNvPr id="354" name="Номер слайда 3"/>
          <p:cNvSpPr/>
          <p:nvPr/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4C1F-FCF1-4E44-96EF-09354728ECF6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536400" y="73080"/>
            <a:ext cx="8242560" cy="13478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" descr=""/>
          <p:cNvPicPr/>
          <p:nvPr/>
        </p:nvPicPr>
        <p:blipFill>
          <a:blip r:embed="rId2"/>
          <a:srcRect l="0" t="0" r="43" b="32"/>
          <a:stretch/>
        </p:blipFill>
        <p:spPr>
          <a:xfrm>
            <a:off x="684360" y="1474920"/>
            <a:ext cx="7908840" cy="530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9" name="Номер слайда 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6696-725F-4CDF-BFF3-E44FC62FBC67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41" name="TextBox 2"/>
          <p:cNvSpPr/>
          <p:nvPr/>
        </p:nvSpPr>
        <p:spPr>
          <a:xfrm>
            <a:off x="108000" y="1628640"/>
            <a:ext cx="87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entury Gothic"/>
              </a:rPr>
              <a:t>На тіло, занурене в рідину або газ,діє виштовхувальна сила,що напрямлена вертикально вгору і дорівнює вазі рідини або газу в об’ємі зануреної частини тіла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Century Gothic"/>
              </a:rPr>
              <a:t>В умовах невагомості закон Архімеда не виконується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4F87-432B-453E-A8CD-A984E728CF4D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8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- Машини для зрошення полів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- Гвинт для підняття великих  вантажів,військових кидальних машин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- Запровадив поняття центра ваги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- Математично вивів закони важеля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- Заклав основи гідростатики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D596-3C3E-4AF2-B974-3C85F81590CA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96560" cy="15476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C:\Users\Comfy\Desktop\Корабль.jpg"/>
          <p:cNvPicPr/>
          <p:nvPr/>
        </p:nvPicPr>
        <p:blipFill>
          <a:blip r:embed="rId2"/>
          <a:stretch/>
        </p:blipFill>
        <p:spPr>
          <a:xfrm>
            <a:off x="1200240" y="1657440"/>
            <a:ext cx="7205400" cy="5048280"/>
          </a:xfrm>
          <a:prstGeom prst="rect">
            <a:avLst/>
          </a:prstGeom>
          <a:ln w="0">
            <a:noFill/>
          </a:ln>
        </p:spPr>
      </p:pic>
      <p:sp>
        <p:nvSpPr>
          <p:cNvPr id="448" name="Номер слайда 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9196-2790-41C2-AE0D-913BBA785FE6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8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431200" cy="14619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C:\Users\Comfy\Desktop\Кулі.jpg"/>
          <p:cNvPicPr/>
          <p:nvPr/>
        </p:nvPicPr>
        <p:blipFill>
          <a:blip r:embed="rId2"/>
          <a:stretch/>
        </p:blipFill>
        <p:spPr>
          <a:xfrm>
            <a:off x="1011240" y="1657440"/>
            <a:ext cx="7297560" cy="5145120"/>
          </a:xfrm>
          <a:prstGeom prst="rect">
            <a:avLst/>
          </a:prstGeom>
          <a:ln w="0">
            <a:noFill/>
          </a:ln>
        </p:spPr>
      </p:pic>
      <p:sp>
        <p:nvSpPr>
          <p:cNvPr id="451" name="Объект 2"/>
          <p:cNvSpPr/>
          <p:nvPr/>
        </p:nvSpPr>
        <p:spPr>
          <a:xfrm>
            <a:off x="3985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Номер слайда 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78E0-3733-4B47-BBB4-88CFD0C3DA5C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8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17373600" cy="15476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" descr="C:\Users\Comfy\Desktop\Изобретение\Нефть 2.jpg"/>
          <p:cNvPicPr/>
          <p:nvPr/>
        </p:nvPicPr>
        <p:blipFill>
          <a:blip r:embed="rId2"/>
          <a:stretch/>
        </p:blipFill>
        <p:spPr>
          <a:xfrm>
            <a:off x="395280" y="1916280"/>
            <a:ext cx="4282920" cy="43210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" descr="C:\Users\Comfy\Desktop\Изобретение\Нефть.jpg"/>
          <p:cNvPicPr/>
          <p:nvPr/>
        </p:nvPicPr>
        <p:blipFill>
          <a:blip r:embed="rId3"/>
          <a:stretch/>
        </p:blipFill>
        <p:spPr>
          <a:xfrm>
            <a:off x="5003640" y="1916280"/>
            <a:ext cx="3583080" cy="4389120"/>
          </a:xfrm>
          <a:prstGeom prst="rect">
            <a:avLst/>
          </a:prstGeom>
          <a:ln w="0">
            <a:noFill/>
          </a:ln>
        </p:spPr>
      </p:pic>
      <p:sp>
        <p:nvSpPr>
          <p:cNvPr id="456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51D0-4E45-4D32-8A9B-1ED0A8DCDBBC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C:\Users\Comfy\Desktop\Изобретение\пипетка 3.jpg"/>
          <p:cNvPicPr/>
          <p:nvPr/>
        </p:nvPicPr>
        <p:blipFill>
          <a:blip r:embed="rId2"/>
          <a:stretch/>
        </p:blipFill>
        <p:spPr>
          <a:xfrm rot="211800">
            <a:off x="469440" y="1782720"/>
            <a:ext cx="3611520" cy="25671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C:\Users\Comfy\Desktop\Изобретение\пипетки.jpg"/>
          <p:cNvPicPr/>
          <p:nvPr/>
        </p:nvPicPr>
        <p:blipFill>
          <a:blip r:embed="rId3"/>
          <a:stretch/>
        </p:blipFill>
        <p:spPr>
          <a:xfrm>
            <a:off x="5219640" y="1784520"/>
            <a:ext cx="3600360" cy="25984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" descr="C:\Users\Comfy\Desktop\Изобретение\пипетки.jpg"/>
          <p:cNvPicPr/>
          <p:nvPr/>
        </p:nvPicPr>
        <p:blipFill>
          <a:blip r:embed="rId4"/>
          <a:stretch/>
        </p:blipFill>
        <p:spPr>
          <a:xfrm>
            <a:off x="2712960" y="4383000"/>
            <a:ext cx="3730680" cy="2362320"/>
          </a:xfrm>
          <a:prstGeom prst="rect">
            <a:avLst/>
          </a:prstGeom>
          <a:ln w="0">
            <a:noFill/>
          </a:ln>
        </p:spPr>
      </p:pic>
      <p:sp>
        <p:nvSpPr>
          <p:cNvPr id="461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D146-B339-4C86-9F09-54F68D8CB870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spcBef>
                <a:spcPts val="901"/>
              </a:spcBef>
              <a:buClr>
                <a:srgbClr val="4b98ff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Century Gothic"/>
              </a:rPr>
              <a:t>Параграф 23 вивчити,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buClr>
                <a:srgbClr val="4b98ff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Century Gothic"/>
              </a:rPr>
              <a:t>вправа 23( 1, 3) письмово,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buClr>
                <a:srgbClr val="4b98ff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Century Gothic"/>
              </a:rPr>
              <a:t>Виконати експериментальну задачу: знайти густину картоплі,користуючись законом Архімеда.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D36B-EA82-49A2-AE13-E566BCDC3888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8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8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8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8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250560" y="1341360"/>
            <a:ext cx="84358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1. Конкурс теоретиків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2. Конкурс дослідників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3. Конкурс знавців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4. Конкурс практиків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FBCA-5AD6-4717-8D2D-4D8C4711B9A1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pSp>
        <p:nvGrpSpPr>
          <p:cNvPr id="359" name="Group 47"/>
          <p:cNvGrpSpPr/>
          <p:nvPr/>
        </p:nvGrpSpPr>
        <p:grpSpPr>
          <a:xfrm>
            <a:off x="639720" y="1665360"/>
            <a:ext cx="7937640" cy="4276800"/>
            <a:chOff x="639720" y="1665360"/>
            <a:chExt cx="7937640" cy="4276800"/>
          </a:xfrm>
        </p:grpSpPr>
        <p:sp>
          <p:nvSpPr>
            <p:cNvPr id="360" name="Rectangle 48"/>
            <p:cNvSpPr/>
            <p:nvPr/>
          </p:nvSpPr>
          <p:spPr>
            <a:xfrm>
              <a:off x="4913640" y="166536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61" name="Rectangle 49"/>
            <p:cNvSpPr/>
            <p:nvPr/>
          </p:nvSpPr>
          <p:spPr>
            <a:xfrm>
              <a:off x="4303080" y="166536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62" name="Rectangle 50"/>
            <p:cNvSpPr/>
            <p:nvPr/>
          </p:nvSpPr>
          <p:spPr>
            <a:xfrm>
              <a:off x="5524200" y="166536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63" name="Rectangle 51"/>
            <p:cNvSpPr/>
            <p:nvPr/>
          </p:nvSpPr>
          <p:spPr>
            <a:xfrm>
              <a:off x="6135120" y="166536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64" name="Rectangle 52"/>
            <p:cNvSpPr/>
            <p:nvPr/>
          </p:nvSpPr>
          <p:spPr>
            <a:xfrm>
              <a:off x="6745680" y="166536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65" name="Rectangle 53"/>
            <p:cNvSpPr/>
            <p:nvPr/>
          </p:nvSpPr>
          <p:spPr>
            <a:xfrm>
              <a:off x="3692520" y="166536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66" name="Rectangle 54"/>
            <p:cNvSpPr/>
            <p:nvPr/>
          </p:nvSpPr>
          <p:spPr>
            <a:xfrm>
              <a:off x="7356240" y="166536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67" name="Rectangle 55"/>
            <p:cNvSpPr/>
            <p:nvPr/>
          </p:nvSpPr>
          <p:spPr>
            <a:xfrm>
              <a:off x="6135120" y="228708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68" name="Rectangle 56"/>
            <p:cNvSpPr/>
            <p:nvPr/>
          </p:nvSpPr>
          <p:spPr>
            <a:xfrm>
              <a:off x="6135120" y="289620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69" name="Rectangle 57"/>
            <p:cNvSpPr/>
            <p:nvPr/>
          </p:nvSpPr>
          <p:spPr>
            <a:xfrm>
              <a:off x="6135120" y="35053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70" name="Rectangle 58"/>
            <p:cNvSpPr/>
            <p:nvPr/>
          </p:nvSpPr>
          <p:spPr>
            <a:xfrm>
              <a:off x="6135120" y="411444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71" name="Rectangle 59"/>
            <p:cNvSpPr/>
            <p:nvPr/>
          </p:nvSpPr>
          <p:spPr>
            <a:xfrm>
              <a:off x="6135120" y="47239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72" name="Rectangle 60"/>
            <p:cNvSpPr/>
            <p:nvPr/>
          </p:nvSpPr>
          <p:spPr>
            <a:xfrm>
              <a:off x="6135120" y="533304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73" name="Rectangle 61"/>
            <p:cNvSpPr/>
            <p:nvPr/>
          </p:nvSpPr>
          <p:spPr>
            <a:xfrm>
              <a:off x="5524200" y="228708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74" name="Rectangle 62"/>
            <p:cNvSpPr/>
            <p:nvPr/>
          </p:nvSpPr>
          <p:spPr>
            <a:xfrm>
              <a:off x="4913640" y="228708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75" name="Rectangle 63"/>
            <p:cNvSpPr/>
            <p:nvPr/>
          </p:nvSpPr>
          <p:spPr>
            <a:xfrm>
              <a:off x="4303080" y="228708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76" name="Rectangle 64"/>
            <p:cNvSpPr/>
            <p:nvPr/>
          </p:nvSpPr>
          <p:spPr>
            <a:xfrm>
              <a:off x="3692520" y="228708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77" name="Rectangle 65"/>
            <p:cNvSpPr/>
            <p:nvPr/>
          </p:nvSpPr>
          <p:spPr>
            <a:xfrm>
              <a:off x="3081960" y="228708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78" name="Rectangle 66"/>
            <p:cNvSpPr/>
            <p:nvPr/>
          </p:nvSpPr>
          <p:spPr>
            <a:xfrm>
              <a:off x="1860840" y="228708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79" name="Rectangle 67"/>
            <p:cNvSpPr/>
            <p:nvPr/>
          </p:nvSpPr>
          <p:spPr>
            <a:xfrm>
              <a:off x="1250280" y="228708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80" name="Rectangle 68"/>
            <p:cNvSpPr/>
            <p:nvPr/>
          </p:nvSpPr>
          <p:spPr>
            <a:xfrm>
              <a:off x="639720" y="228708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81" name="Rectangle 69"/>
            <p:cNvSpPr/>
            <p:nvPr/>
          </p:nvSpPr>
          <p:spPr>
            <a:xfrm>
              <a:off x="2471400" y="228708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82" name="Rectangle 70"/>
            <p:cNvSpPr/>
            <p:nvPr/>
          </p:nvSpPr>
          <p:spPr>
            <a:xfrm>
              <a:off x="5524200" y="289620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83" name="Rectangle 71"/>
            <p:cNvSpPr/>
            <p:nvPr/>
          </p:nvSpPr>
          <p:spPr>
            <a:xfrm>
              <a:off x="6745680" y="35053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84" name="Rectangle 72"/>
            <p:cNvSpPr/>
            <p:nvPr/>
          </p:nvSpPr>
          <p:spPr>
            <a:xfrm>
              <a:off x="7356240" y="35053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85" name="Rectangle 73"/>
            <p:cNvSpPr/>
            <p:nvPr/>
          </p:nvSpPr>
          <p:spPr>
            <a:xfrm>
              <a:off x="5524200" y="35053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86" name="Rectangle 74"/>
            <p:cNvSpPr/>
            <p:nvPr/>
          </p:nvSpPr>
          <p:spPr>
            <a:xfrm>
              <a:off x="4913640" y="35053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87" name="Rectangle 75"/>
            <p:cNvSpPr/>
            <p:nvPr/>
          </p:nvSpPr>
          <p:spPr>
            <a:xfrm>
              <a:off x="5524200" y="411444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88" name="Rectangle 76"/>
            <p:cNvSpPr/>
            <p:nvPr/>
          </p:nvSpPr>
          <p:spPr>
            <a:xfrm>
              <a:off x="4303080" y="411444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89" name="Rectangle 77"/>
            <p:cNvSpPr/>
            <p:nvPr/>
          </p:nvSpPr>
          <p:spPr>
            <a:xfrm>
              <a:off x="4913640" y="411444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90" name="Rectangle 78"/>
            <p:cNvSpPr/>
            <p:nvPr/>
          </p:nvSpPr>
          <p:spPr>
            <a:xfrm>
              <a:off x="6745680" y="47239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91" name="Rectangle 79"/>
            <p:cNvSpPr/>
            <p:nvPr/>
          </p:nvSpPr>
          <p:spPr>
            <a:xfrm>
              <a:off x="7356240" y="47239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92" name="Rectangle 80"/>
            <p:cNvSpPr/>
            <p:nvPr/>
          </p:nvSpPr>
          <p:spPr>
            <a:xfrm>
              <a:off x="5524200" y="47239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93" name="Rectangle 81"/>
            <p:cNvSpPr/>
            <p:nvPr/>
          </p:nvSpPr>
          <p:spPr>
            <a:xfrm>
              <a:off x="4913640" y="47239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94" name="Rectangle 82"/>
            <p:cNvSpPr/>
            <p:nvPr/>
          </p:nvSpPr>
          <p:spPr>
            <a:xfrm>
              <a:off x="4303080" y="47239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95" name="Rectangle 83"/>
            <p:cNvSpPr/>
            <p:nvPr/>
          </p:nvSpPr>
          <p:spPr>
            <a:xfrm>
              <a:off x="3692520" y="47239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96" name="Rectangle 84"/>
            <p:cNvSpPr/>
            <p:nvPr/>
          </p:nvSpPr>
          <p:spPr>
            <a:xfrm>
              <a:off x="3081960" y="47239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97" name="Rectangle 85"/>
            <p:cNvSpPr/>
            <p:nvPr/>
          </p:nvSpPr>
          <p:spPr>
            <a:xfrm>
              <a:off x="5524200" y="533304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98" name="Rectangle 86"/>
            <p:cNvSpPr/>
            <p:nvPr/>
          </p:nvSpPr>
          <p:spPr>
            <a:xfrm>
              <a:off x="7356240" y="533304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99" name="Rectangle 87"/>
            <p:cNvSpPr/>
            <p:nvPr/>
          </p:nvSpPr>
          <p:spPr>
            <a:xfrm>
              <a:off x="7966800" y="533304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00" name="Rectangle 88"/>
            <p:cNvSpPr/>
            <p:nvPr/>
          </p:nvSpPr>
          <p:spPr>
            <a:xfrm>
              <a:off x="6745680" y="533304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01" name="Rectangle 89"/>
            <p:cNvSpPr/>
            <p:nvPr/>
          </p:nvSpPr>
          <p:spPr>
            <a:xfrm>
              <a:off x="4913640" y="289620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02" name="Rectangle 90"/>
            <p:cNvSpPr/>
            <p:nvPr/>
          </p:nvSpPr>
          <p:spPr>
            <a:xfrm>
              <a:off x="4303080" y="35053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03" name="Rectangle 91"/>
            <p:cNvSpPr/>
            <p:nvPr/>
          </p:nvSpPr>
          <p:spPr>
            <a:xfrm>
              <a:off x="4913640" y="533304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04" name="TextBox 93"/>
          <p:cNvSpPr/>
          <p:nvPr/>
        </p:nvSpPr>
        <p:spPr>
          <a:xfrm>
            <a:off x="3211560" y="166068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TextBox 94"/>
          <p:cNvSpPr/>
          <p:nvPr/>
        </p:nvSpPr>
        <p:spPr>
          <a:xfrm>
            <a:off x="101520" y="2311560"/>
            <a:ext cx="4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TextBox 97"/>
          <p:cNvSpPr/>
          <p:nvPr/>
        </p:nvSpPr>
        <p:spPr>
          <a:xfrm flipH="1">
            <a:off x="4469760" y="2928960"/>
            <a:ext cx="3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7" name="TextBox 102"/>
          <p:cNvSpPr/>
          <p:nvPr/>
        </p:nvSpPr>
        <p:spPr>
          <a:xfrm>
            <a:off x="3868560" y="4140360"/>
            <a:ext cx="4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Прямоугольник 103"/>
          <p:cNvSpPr/>
          <p:nvPr/>
        </p:nvSpPr>
        <p:spPr>
          <a:xfrm>
            <a:off x="3890520" y="35323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TextBox 105"/>
          <p:cNvSpPr/>
          <p:nvPr/>
        </p:nvSpPr>
        <p:spPr>
          <a:xfrm>
            <a:off x="2669760" y="4761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TextBox 107"/>
          <p:cNvSpPr/>
          <p:nvPr/>
        </p:nvSpPr>
        <p:spPr>
          <a:xfrm>
            <a:off x="4299120" y="5334120"/>
            <a:ext cx="61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TextBox 108"/>
          <p:cNvSpPr/>
          <p:nvPr/>
        </p:nvSpPr>
        <p:spPr>
          <a:xfrm>
            <a:off x="3719520" y="1749600"/>
            <a:ext cx="45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    А    С    К  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Л    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TextBox 109"/>
          <p:cNvSpPr/>
          <p:nvPr/>
        </p:nvSpPr>
        <p:spPr>
          <a:xfrm>
            <a:off x="666720" y="2311560"/>
            <a:ext cx="61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Д    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И    Н    А   М   О   М   Е    </a:t>
            </a: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Т    </a:t>
            </a:r>
            <a:r>
              <a:rPr b="0" lang="uk-UA" sz="3200" spc="-1" strike="noStrike">
                <a:solidFill>
                  <a:srgbClr val="ff0000"/>
                </a:solidFill>
                <a:latin typeface="Century Gothic"/>
              </a:rPr>
              <a:t>Р</a:t>
            </a: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TextBox 111"/>
          <p:cNvSpPr/>
          <p:nvPr/>
        </p:nvSpPr>
        <p:spPr>
          <a:xfrm>
            <a:off x="4816440" y="289728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Р    У    </a:t>
            </a:r>
            <a:r>
              <a:rPr b="0" lang="uk-UA" sz="3200" spc="-1" strike="noStrike">
                <a:solidFill>
                  <a:srgbClr val="ff0000"/>
                </a:solidFill>
                <a:latin typeface="Century Gothic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TextBox 112"/>
          <p:cNvSpPr/>
          <p:nvPr/>
        </p:nvSpPr>
        <p:spPr>
          <a:xfrm>
            <a:off x="4335480" y="3532320"/>
            <a:ext cx="36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В    А    Ж    </a:t>
            </a:r>
            <a:r>
              <a:rPr b="0" lang="uk-UA" sz="2800" spc="-1" strike="noStrike">
                <a:solidFill>
                  <a:srgbClr val="ff0000"/>
                </a:solidFill>
                <a:latin typeface="Century Gothic"/>
              </a:rPr>
              <a:t>І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     Л    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5" name="TextBox 113"/>
          <p:cNvSpPr/>
          <p:nvPr/>
        </p:nvSpPr>
        <p:spPr>
          <a:xfrm>
            <a:off x="4303800" y="411480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О   Б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’   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Є    </a:t>
            </a:r>
            <a:r>
              <a:rPr b="0" lang="uk-UA" sz="2800" spc="-1" strike="noStrike">
                <a:solidFill>
                  <a:srgbClr val="ff0000"/>
                </a:solidFill>
                <a:latin typeface="Century Gothic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TextBox 115"/>
          <p:cNvSpPr/>
          <p:nvPr/>
        </p:nvSpPr>
        <p:spPr>
          <a:xfrm>
            <a:off x="3060720" y="4697280"/>
            <a:ext cx="49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Б   А    Р    О   М    </a:t>
            </a:r>
            <a:r>
              <a:rPr b="0" lang="uk-UA" sz="28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    Т     Р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TextBox 116"/>
          <p:cNvSpPr/>
          <p:nvPr/>
        </p:nvSpPr>
        <p:spPr>
          <a:xfrm>
            <a:off x="4915080" y="5334120"/>
            <a:ext cx="36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Р    І     </a:t>
            </a:r>
            <a:r>
              <a:rPr b="0" lang="uk-UA" sz="2800" spc="-1" strike="noStrike">
                <a:solidFill>
                  <a:srgbClr val="ff0000"/>
                </a:solidFill>
                <a:latin typeface="Century Gothic"/>
              </a:rPr>
              <a:t>Д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    И   Н    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Номер слайда 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FBDF-7A9B-4206-98F0-34BB0B046245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44440" y="85680"/>
            <a:ext cx="8655120" cy="15843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ffffff"/>
                </a:solidFill>
                <a:latin typeface="Century Gothic"/>
              </a:rPr>
              <a:t>Мета: 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на досліді виявити виштовхувальну силу,що діє на занурений в рідину циліндр,визначити цю силу та з’ясувати,як вона залежить від густини рідини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1. Визначити вагу тіла в повітрі Р1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2. Визначити вагу тіла у воді Р2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3. Обчислити значення  сили,користуючись  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виразом:  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                              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                       </a:t>
            </a:r>
            <a:r>
              <a:rPr b="0" i="1" lang="en-US" sz="2200" spc="-1" strike="noStrike">
                <a:solidFill>
                  <a:srgbClr val="ffffff"/>
                </a:solidFill>
                <a:latin typeface="Century Gothic"/>
              </a:rPr>
              <a:t>F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в=Р1-Р2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4.  Визначити вагу тіла в олії Р3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5. Обчислити значення  сили,користуючись 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виразом:                    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                              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                                  </a:t>
            </a:r>
            <a:r>
              <a:rPr b="0" i="1" lang="en-US" sz="2200" spc="-1" strike="noStrike">
                <a:solidFill>
                  <a:srgbClr val="ffffff"/>
                </a:solidFill>
                <a:latin typeface="Century Gothic"/>
              </a:rPr>
              <a:t>F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в=Р1-Р3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6. Порівняйте значення виштовхувальних сил та зробіть висновок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79EE-8326-4A0C-A1D8-EEC6DDC19DB9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Більша виштовхувальна сила діятиме в рідині  з більшою густиною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2FB5-8B96-4B77-B76F-F21216568159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553600" cy="15476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а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на досліді виявити виштовхувальну силу ,що діє на занурене в рідину тіло,визначити цю силу та з’ясувати,як вона залежить від об’єму зануреного тіла(картоплин різного розміру)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Визначити вагу меншого тіла в повітрі Р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Визначити вагу меншого тіла в рідині Р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Обчислити значення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Р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Р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Визначити вагу більшого тіла в повітрі Р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Визначити вагу більшого тіла в рідині  Р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Обчислити значення: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Р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Р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Порівняйте значення виштовхувальних сил  та зробіть висновок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7D74-A402-46B9-AF1A-B7CEB8F5F638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ffffff"/>
                </a:solidFill>
                <a:latin typeface="Century Gothic"/>
              </a:rPr>
              <a:t>Більша виштовхувальна сила в рідині  діятиме на тіло більшого об</a:t>
            </a:r>
            <a:r>
              <a:rPr b="0" i="1" lang="en-US" sz="4800" spc="-1" strike="noStrike">
                <a:solidFill>
                  <a:srgbClr val="ffffff"/>
                </a:solidFill>
                <a:latin typeface="Century Gothic"/>
              </a:rPr>
              <a:t>’</a:t>
            </a:r>
            <a:r>
              <a:rPr b="0" i="1" lang="uk-UA" sz="4800" spc="-1" strike="noStrike">
                <a:solidFill>
                  <a:srgbClr val="ffffff"/>
                </a:solidFill>
                <a:latin typeface="Century Gothic"/>
              </a:rPr>
              <a:t>єму.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CAD1-53B2-4FF5-9A95-177B82825790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"/>
          <p:cNvPicPr/>
          <p:nvPr/>
        </p:nvPicPr>
        <p:blipFill>
          <a:blip r:embed="rId2"/>
          <a:srcRect l="0" t="-1223" r="-50" b="15"/>
          <a:stretch/>
        </p:blipFill>
        <p:spPr>
          <a:xfrm rot="479400">
            <a:off x="317520" y="1409400"/>
            <a:ext cx="3382920" cy="461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3" name="TextBox 4"/>
          <p:cNvSpPr/>
          <p:nvPr/>
        </p:nvSpPr>
        <p:spPr>
          <a:xfrm>
            <a:off x="3780000" y="1628640"/>
            <a:ext cx="475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entury Gothic"/>
              </a:rPr>
              <a:t>Давньогрецький математик, фізик та інженер, один з найвидатніших вчених античності. Обчислив площу сегмента параболи, поверхню та об'єм кулі, кульового сегмента й циліндра. Обчислив наближене значення числа </a:t>
            </a:r>
            <a:r>
              <a:rPr b="0" i="1" lang="el-GR" sz="2400" spc="-1" strike="noStrike">
                <a:solidFill>
                  <a:srgbClr val="ffffff"/>
                </a:solidFill>
                <a:latin typeface="Century Gothic"/>
              </a:rPr>
              <a:t>π, </a:t>
            </a:r>
            <a:r>
              <a:rPr b="0" i="1" lang="ru-RU" sz="2400" spc="-1" strike="noStrike">
                <a:solidFill>
                  <a:srgbClr val="ffffff"/>
                </a:solidFill>
                <a:latin typeface="Century Gothic"/>
              </a:rPr>
              <a:t>сформулював основні положення гідростатики, створив низку машин і споруд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4" name="Номер слайда 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C523-C9E5-4C7D-B3A9-E6AF0A18A299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Номер слайда 1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BDC0-07A2-44C8-90FD-63CBDD093AAB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36" name="К уроку Архимедова Сила.avi" descr=""/>
          <p:cNvPicPr/>
          <p:nvPr/>
        </p:nvPicPr>
        <p:blipFill>
          <a:blip r:embed="rId1"/>
          <a:stretch/>
        </p:blipFill>
        <p:spPr>
          <a:xfrm>
            <a:off x="142920" y="268200"/>
            <a:ext cx="878688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1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9:40:50Z</dcterms:created>
  <dc:creator>Comfy</dc:creator>
  <dc:description/>
  <dc:language>en-US</dc:language>
  <cp:lastModifiedBy>Admin</cp:lastModifiedBy>
  <dcterms:modified xsi:type="dcterms:W3CDTF">2012-12-25T08:06:25Z</dcterms:modified>
  <cp:revision>59</cp:revision>
  <dc:subject/>
  <dc:title>Тема уроку: Виштовхувальна сила. Закон Архімед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2e000000000001024140</vt:lpwstr>
  </property>
</Properties>
</file>