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D1A-6C0D-4CFB-8B64-68C8E87C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47B-5231-4610-A151-FAC1E9F0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55F-3783-40D5-A487-7CA4E380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0572-EF87-45BB-9F7A-3F33929E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F54B-3EC3-4433-B064-75E75DA1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01CC-17E2-4574-81D7-CC7CE54D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AAA-3A40-4F9A-9E2A-BCA76AC9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AAB3-73F3-4051-9D24-8EC7663E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1BE8-6FB3-4878-A673-147190F6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0F4-AC52-497E-9D75-D5A53AC1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B4C-E934-49B6-A19E-D62C7942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4A0-82E0-4A0C-9965-F01AC5B8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AA54-29F6-43B6-A029-9B452D04C0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Мои документы\Мои рисунки\mayak_vperedi_1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Calibri"/>
              </a:rPr>
              <a:t>ДУМКА НА ЗГАД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Calibri"/>
              </a:rPr>
              <a:t>ТРИ ШЛЯХИ ВЕДУТЬ ДО ЗНАНН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Calibri"/>
              </a:rPr>
              <a:t>ШЛЯХ МІРКУВАННЯ – ЦЕ ШЛЯХ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Calibri"/>
              </a:rPr>
              <a:t>                                                   </a:t>
            </a:r>
            <a:r>
              <a:rPr b="0" lang="uk-UA" sz="3200" spc="-1" strike="noStrike">
                <a:solidFill>
                  <a:srgbClr val="ffff00"/>
                </a:solidFill>
                <a:latin typeface="Calibri"/>
              </a:rPr>
              <a:t>НАЙБЛАГОРОДНІЙШ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Calibri"/>
              </a:rPr>
              <a:t>ШЛЯХ НАСЛІДУВАННЯ – ЦЕ ШЛЯХ НАЙЛЕГШ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Calibri"/>
              </a:rPr>
              <a:t>ШЛЯХ ДОСВІДУ – ЦЕ ШЛЯХ НАЙБІЛЬШ ГІР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Calibri"/>
              </a:rPr>
              <a:t>НЕ ВАЖЛИВО, ЯКИМ ШЛЯХОМ ЛЮДИНА ОДЕРЖУЄ ІСТИННІ ЗНАННЯ, ВАЖЛИВИЙ РЕЗУЛЬТ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Calibri"/>
              </a:rPr>
              <a:t>КОНФУЦІ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9.gif"/>
          <p:cNvPicPr/>
          <p:nvPr/>
        </p:nvPicPr>
        <p:blipFill>
          <a:blip r:embed="rId1"/>
          <a:stretch/>
        </p:blipFill>
        <p:spPr>
          <a:xfrm>
            <a:off x="5286240" y="4357800"/>
            <a:ext cx="3857760" cy="25002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0_6af12_f0fe57e5_XL.gif"/>
          <p:cNvPicPr/>
          <p:nvPr/>
        </p:nvPicPr>
        <p:blipFill>
          <a:blip r:embed="rId2"/>
          <a:stretch/>
        </p:blipFill>
        <p:spPr>
          <a:xfrm>
            <a:off x="0" y="0"/>
            <a:ext cx="4952880" cy="3147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9"/>
          <p:cNvSpPr/>
          <p:nvPr/>
        </p:nvSpPr>
        <p:spPr>
          <a:xfrm>
            <a:off x="0" y="30718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e46c0a"/>
                </a:solidFill>
                <a:latin typeface="Comic Sans MS"/>
              </a:rPr>
              <a:t>Дякуємо за увагу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19:56Z</dcterms:created>
  <dc:creator>Admin</dc:creator>
  <dc:description/>
  <dc:language>en-US</dc:language>
  <cp:lastModifiedBy>Admin</cp:lastModifiedBy>
  <dcterms:modified xsi:type="dcterms:W3CDTF">2012-11-11T19:07:06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4000000000001024140</vt:lpwstr>
  </property>
</Properties>
</file>