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F63-28C1-4C81-A323-40D645DC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AC5-FB65-4C21-977B-FD043482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89C-AF46-4AC2-AEAF-814BB6BB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47E-8129-4BF3-A1D6-22B773E6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6FEE-7E60-4ECA-AAF9-0E440A3D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917D-696B-4459-B5D6-55A5DC5A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968-7F2D-4366-81B2-FCCD3A3D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B50C-5E78-4078-8A32-F2343963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1D2A-E160-489E-9977-C133B384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62B5-4AB7-41F9-B5F3-5F49016D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54F7-6323-49FE-8FCD-2EF7024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90B-11B3-46C9-964E-A95E45F8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621A-43C9-4DFB-9EEC-1BF791D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468B-0DC0-4422-8D67-61CA8ADD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A23-024A-4597-8EA3-E787B039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F8B6-909A-45DF-AE79-2AF901A8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0F3C-0EC2-455D-9DA8-7762F019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90D-2AFB-4AB1-AFEC-1FFA2B7B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586-2FD9-44DB-A6B8-AF15726B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794-D836-4A7A-BBC3-BCA3B94B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CCD-3062-4D9E-AAD8-4D04C0E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60E-5774-4509-A3AB-D5593526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53D-F1BC-45B3-A73F-DFD87764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5B6-C28A-4A5E-9466-1AB694E5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1A81-DB9B-42BE-8271-60B4566D44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9293-ED1E-427F-9617-87F0DDDE58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km.ru/images/04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sj.ru/img.asp?92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6840" y="856800"/>
            <a:ext cx="678204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Виробництво, передача та використання електричної енергі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Урок фізики в 11 клас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407196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Як існувала б наша планета, якщо люди жили б на ній без теплоти, магніту, світла та електричних променів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А. Міцкевич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" descr="Картинка 5 из 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0080" y="1852560"/>
            <a:ext cx="39002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евеликий екскурс в історію:електрифікація Україн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1639800" y="1706400"/>
            <a:ext cx="5937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ревага електроенергії перед іншими видами енергії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ff2929"/>
                </a:solidFill>
                <a:latin typeface="Arial"/>
              </a:rPr>
              <a:t>Передача по дротах в будь-який населений пункт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2929"/>
                </a:solidFill>
                <a:latin typeface="Arial"/>
              </a:rPr>
              <a:t>Легке перетворення в будь-які види енергії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2929"/>
                </a:solidFill>
                <a:latin typeface="Arial"/>
              </a:rPr>
              <a:t>Легке отримання інших видів енергії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Залежно від виду перетворюється енергії електростанції бувають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Вітря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Теплов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Гідравліч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Атом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Прилив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Геотермальні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Основні споживачі електроенергі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Промисловість (майже 70%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Транспор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Сільське господарство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Arial"/>
              </a:rPr>
              <a:t>Побутові потреби населенн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grafik3[1]"/>
          <p:cNvPicPr/>
          <p:nvPr/>
        </p:nvPicPr>
        <p:blipFill>
          <a:blip r:embed="rId1"/>
          <a:stretch/>
        </p:blipFill>
        <p:spPr>
          <a:xfrm>
            <a:off x="4643280" y="1928880"/>
            <a:ext cx="3816360" cy="38545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Як існувала б наша планета, якщо люди жили б на ній без теплоти, магніту, світла та електричних променів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        </a:t>
            </a:r>
            <a:r>
              <a:rPr b="0" lang="ru-RU" sz="2700" spc="-1" strike="noStrike">
                <a:solidFill>
                  <a:srgbClr val="ff2929"/>
                </a:solidFill>
                <a:latin typeface="Arial"/>
              </a:rPr>
              <a:t>А. Міцкевич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Картинка 24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5200" y="1994040"/>
            <a:ext cx="382932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0:34:12Z</dcterms:created>
  <dc:creator>PrOGeR</dc:creator>
  <dc:description/>
  <dc:language>en-US</dc:language>
  <cp:lastModifiedBy>Натася)))</cp:lastModifiedBy>
  <dcterms:modified xsi:type="dcterms:W3CDTF">2012-11-08T06:35:12Z</dcterms:modified>
  <cp:revision>6</cp:revision>
  <dc:subject/>
  <dc:title>Производство, передача  и использование  электрической энерг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1b000000000001024140</vt:lpwstr>
  </property>
</Properties>
</file>