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DCF7-EED0-4107-B6A1-EAD64C64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23D-7C4A-49E8-BD38-2F263B22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51FA-108C-4E42-83FA-669E0EFB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E401-0448-4DDB-84B6-F531B78A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F2C3-F33C-42CC-9395-30050776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8DA5-D04E-436C-BAC7-C848D5AF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E2A6-3457-4AE7-9C43-7C3B5A0A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9CC5-E923-4DC2-A9BE-774E1CF1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FE73-8FB9-46C7-A4D0-50DA9D52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965E-F73D-4558-BA5B-A2BDD059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C043-C57C-4E4D-879F-382F7845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2FB-E3B0-457E-AEC4-47ABB69E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7627-BAF6-492C-9464-0338BBF403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Мои документы\Мои рисунки\mayak_vperedi_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Calibri"/>
              </a:rPr>
              <a:t>ДУМКА НА ЗГАД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Calibri"/>
              </a:rPr>
              <a:t>ТРИ ШЛЯХИ ВЕДУТЬ ДО ЗНАНН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Calibri"/>
              </a:rPr>
              <a:t>ШЛЯХ МІРКУВАННЯ – ЦЕ ШЛЯХ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Calibri"/>
              </a:rPr>
              <a:t>                                                   </a:t>
            </a:r>
            <a:r>
              <a:rPr b="0" lang="uk-UA" sz="3200" spc="-1" strike="noStrike">
                <a:solidFill>
                  <a:srgbClr val="ffff00"/>
                </a:solidFill>
                <a:latin typeface="Calibri"/>
              </a:rPr>
              <a:t>НАЙБЛАГОРОДНІЙШ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Calibri"/>
              </a:rPr>
              <a:t>ШЛЯХ НАСЛІДУВАННЯ – ЦЕ ШЛЯХ НАЙЛЕГШ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Calibri"/>
              </a:rPr>
              <a:t>ШЛЯХ ДОСВІДУ – ЦЕ ШЛЯХ НАЙБІЛЬШ ГІР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Calibri"/>
              </a:rPr>
              <a:t>НЕ ВАЖЛИВО, ЯКИМ ШЛЯХОМ ЛЮДИНА ОДЕРЖУЄ ІСТИННІ ЗНАННЯ, ВАЖЛИВИЙ РЕЗУЛЬТ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Calibri"/>
              </a:rPr>
              <a:t>КОНФУЦІ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9.gif"/>
          <p:cNvPicPr/>
          <p:nvPr/>
        </p:nvPicPr>
        <p:blipFill>
          <a:blip r:embed="rId1"/>
          <a:stretch/>
        </p:blipFill>
        <p:spPr>
          <a:xfrm>
            <a:off x="5286240" y="4357800"/>
            <a:ext cx="3857760" cy="25002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0_6af12_f0fe57e5_XL.gif"/>
          <p:cNvPicPr/>
          <p:nvPr/>
        </p:nvPicPr>
        <p:blipFill>
          <a:blip r:embed="rId2"/>
          <a:stretch/>
        </p:blipFill>
        <p:spPr>
          <a:xfrm>
            <a:off x="0" y="0"/>
            <a:ext cx="4952880" cy="3147840"/>
          </a:xfrm>
          <a:prstGeom prst="rect">
            <a:avLst/>
          </a:prstGeom>
          <a:ln w="0">
            <a:noFill/>
          </a:ln>
        </p:spPr>
      </p:pic>
      <p:sp>
        <p:nvSpPr>
          <p:cNvPr id="45" name="TextBox 9"/>
          <p:cNvSpPr/>
          <p:nvPr/>
        </p:nvSpPr>
        <p:spPr>
          <a:xfrm>
            <a:off x="0" y="30718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e46c0a"/>
                </a:solidFill>
                <a:latin typeface="Comic Sans MS"/>
              </a:rPr>
              <a:t>Дякуємо за увагу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8:19:56Z</dcterms:created>
  <dc:creator>Admin</dc:creator>
  <dc:description/>
  <dc:language>en-US</dc:language>
  <cp:lastModifiedBy>Admin</cp:lastModifiedBy>
  <dcterms:modified xsi:type="dcterms:W3CDTF">2012-11-11T19:07:06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4000000000001024140</vt:lpwstr>
  </property>
</Properties>
</file>