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8CA-4E25-4D05-B566-0815BBF7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B1E-7BCB-4305-9D2A-054CE55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452-154E-40C8-9106-F1F1282B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467-9579-4140-8EC1-C6FBD4C2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C141-D935-400E-AC3E-8A954405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1A26-5816-4719-9FF6-A9BC7729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DFFF-D4BF-4F0E-822A-CE1B624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54C8-97FE-40EB-A56A-5AA0DF6B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8A93-1945-4E02-A81A-C6C3CF01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3F97-E025-4730-B4C6-82DBFC4B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DE3D-F42D-44DB-BE92-5975697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476-8987-4548-9AA6-41FE48DA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03C1-7847-483E-819F-59677BF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CF83-6095-4A57-9C55-96F8C607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0629-080A-47A9-9BF1-46322729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64B-2F70-4449-846A-1DE94E66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2633-A8E5-4D25-AC19-9CC63AE5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059-542D-4173-BC54-A5996AAE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28A-F439-4F10-A974-07F028B4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9D4-0F8C-4C25-9B0B-91F630A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806-58F2-4549-B4E5-D467D202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0F6-58B2-4524-9A29-E1006EF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0DB-854E-4341-B420-CE09CF7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5E4-7582-4ECD-B1D4-5521BE2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294-30E5-473D-848B-8D5B0629F1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D5B-0E09-402C-BE01-31B5215DA35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km.ru/images/04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sj.ru/img.asp?92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6840" y="856800"/>
            <a:ext cx="678204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Виробництво, передача та використання електричної енергі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Урок фізики в 11 клас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407196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Як існувала б наша планета, якщо люди жили б на ній без теплоти, магніту, світла та електричних променів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А. Міцкеви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" descr="Картинка 5 из 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0080" y="1852560"/>
            <a:ext cx="39002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евеликий екскурс в історію:електрифікація Украї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5937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евага електроенергії перед іншими видами енергії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2929"/>
                </a:solidFill>
                <a:latin typeface="Arial"/>
              </a:rPr>
              <a:t>Передача по дротах в будь-який населений пункт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2929"/>
                </a:solidFill>
                <a:latin typeface="Arial"/>
              </a:rPr>
              <a:t>Легке перетворення в будь-які види енергії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2929"/>
                </a:solidFill>
                <a:latin typeface="Arial"/>
              </a:rPr>
              <a:t>Легке отримання інших видів енергії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алежно від виду перетворюється енергії електростанції бувают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Вітря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Теплов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Гідравліч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Атом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Прилив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Геотермаль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Основні споживачі електроенергі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Промисловість (майже 70%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Транспор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Сільське господарств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Побутові потреби населенн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grafik3[1]"/>
          <p:cNvPicPr/>
          <p:nvPr/>
        </p:nvPicPr>
        <p:blipFill>
          <a:blip r:embed="rId1"/>
          <a:stretch/>
        </p:blipFill>
        <p:spPr>
          <a:xfrm>
            <a:off x="4643280" y="1928880"/>
            <a:ext cx="3816360" cy="3854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Як існувала б наша планета, якщо люди жили б на ній без теплоти, магніту, світла та електричних променів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А. Міцкеви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Картинка 24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1994040"/>
            <a:ext cx="382932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0:34:12Z</dcterms:created>
  <dc:creator>PrOGeR</dc:creator>
  <dc:description/>
  <dc:language>en-US</dc:language>
  <cp:lastModifiedBy>Натася)))</cp:lastModifiedBy>
  <dcterms:modified xsi:type="dcterms:W3CDTF">2012-11-08T06:35:12Z</dcterms:modified>
  <cp:revision>6</cp:revision>
  <dc:subject/>
  <dc:title>Производство, передача  и использование  электрической энерг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1b000000000001024140</vt:lpwstr>
  </property>
</Properties>
</file>