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10.gif" ContentType="image/gif"/>
  <Override PartName="/ppt/media/image6.gif" ContentType="image/gif"/>
  <Override PartName="/ppt/media/image9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9AA-DDC6-405F-8044-34FAEC0D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CD1-A67F-41F1-A9C1-8C8482FC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A76-C559-4A0A-BDCB-7548A5C9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836-6F0E-4ECB-BDF5-4C919708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194C-299B-4680-819D-F4A77D43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255D-47C2-4233-8D75-AFBD61AF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8311-90C1-4165-8736-75CAB927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6047-C1AB-414A-96DC-582BF76D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48AA-DF62-45A0-94B4-EF1B9AFD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C02E-06F7-42DF-AF39-D679038B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42D4-D3BD-4C42-A7E4-F2092472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6A2-9197-406B-919C-B9C0F805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0663-A001-419E-893C-02AC2CC1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0A47-3409-4C3E-B408-FF239573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7204-2A29-4327-8674-B3CAFB07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9048-53DC-4552-93C0-33634198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8540-D189-4A21-967A-4BBEF3C7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8EF-A5E5-4F4E-9B0D-5D9663A4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7D4-CD98-4FD5-A21E-862DCBB9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243-3998-4228-833B-5B18C7EE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17E-016F-4FDA-BF64-AC25A468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3A7-E1B4-48D5-B43C-A83DD664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663-079E-4DA2-BFFF-9AA6449F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863-B684-4ACC-A97E-0296D2C5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E0FE-CA63-4366-8945-36FB2AEB8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5A62-94AB-484A-BB18-184D48E9E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" Target="slide2.xml"/><Relationship Id="rId5" Type="http://schemas.openxmlformats.org/officeDocument/2006/relationships/image" Target="../media/image5.gif"/><Relationship Id="rId6" Type="http://schemas.openxmlformats.org/officeDocument/2006/relationships/slide" Target="slide2.xm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" Target="slide3.xml"/><Relationship Id="rId5" Type="http://schemas.openxmlformats.org/officeDocument/2006/relationships/image" Target="../media/image5.gif"/><Relationship Id="rId6" Type="http://schemas.openxmlformats.org/officeDocument/2006/relationships/slide" Target="slide4.xm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4.gif"/><Relationship Id="rId4" Type="http://schemas.openxmlformats.org/officeDocument/2006/relationships/slide" Target="slide4.xml"/><Relationship Id="rId5" Type="http://schemas.openxmlformats.org/officeDocument/2006/relationships/image" Target="../media/image6.gif"/><Relationship Id="rId6" Type="http://schemas.openxmlformats.org/officeDocument/2006/relationships/slide" Target="slide5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4.gif"/><Relationship Id="rId4" Type="http://schemas.openxmlformats.org/officeDocument/2006/relationships/slide" Target="slide6.xml"/><Relationship Id="rId5" Type="http://schemas.openxmlformats.org/officeDocument/2006/relationships/image" Target="../media/image6.gif"/><Relationship Id="rId6" Type="http://schemas.openxmlformats.org/officeDocument/2006/relationships/slide" Target="slide5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6.gif"/><Relationship Id="rId4" Type="http://schemas.openxmlformats.org/officeDocument/2006/relationships/slide" Target="slide6.xml"/><Relationship Id="rId5" Type="http://schemas.openxmlformats.org/officeDocument/2006/relationships/image" Target="../media/image5.gif"/><Relationship Id="rId6" Type="http://schemas.openxmlformats.org/officeDocument/2006/relationships/slide" Target="slide6.xm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6.gif"/><Relationship Id="rId4" Type="http://schemas.openxmlformats.org/officeDocument/2006/relationships/slide" Target="slide7.xml"/><Relationship Id="rId5" Type="http://schemas.openxmlformats.org/officeDocument/2006/relationships/image" Target="../media/image5.gif"/><Relationship Id="rId6" Type="http://schemas.openxmlformats.org/officeDocument/2006/relationships/slide" Target="slide8.xm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90792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00"/>
                </a:solidFill>
                <a:latin typeface="Arial"/>
              </a:rPr>
              <a:t>Світлові явищ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Оптичні явища в природі. Джерела світ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4941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7 кл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210996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За який час світло проходить відстань від Сонця до Землі, що дорівнює 150000000 км? Швидкість світла у вакуумі дорівнює 300000 км/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826920" y="35733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2050920" y="4653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327672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11640" y="573408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50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35002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4500000000000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4581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9900"/>
                </a:solidFill>
                <a:latin typeface="Arial"/>
              </a:rPr>
              <a:t>4500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08000" y="549360"/>
            <a:ext cx="4608720" cy="3771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403280" y="4292640"/>
            <a:ext cx="61214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ЯКУЮ ЗА РОБОТУ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36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4f81bd"/>
                </a:solidFill>
                <a:latin typeface="Arial"/>
              </a:rPr>
              <a:t>Фізичні тіла, атоми та молекули яких випромінюють світло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 Фізичні тіла, атоми та молекули яких поглинають світл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ізичні тіла, атоми та молекули яких випромінюють і поглинають світл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Що називають джерелами світл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0360" y="508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32720" y="537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:\Documents and Settings\Aida\Рабочий стол\НОвая ГРАФИКА сборник\КАРТИНКИ СБОРНИК_ школьные\3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51640" y="580536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02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лежно від температури джерел світла їх поділяють на 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24360" y="4869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88000" y="551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H:\Documents and Settings\Aida\Рабочий стол\НОвая ГРАФИКА сборник\КАРТИНКИ СБОРНИК_ школьные\3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59636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1773360"/>
            <a:ext cx="82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Точкові та тепл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669900"/>
                </a:solidFill>
                <a:latin typeface="Arial"/>
              </a:rPr>
              <a:t>Протяжні та люмінесцент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Теплові та люмінесцентні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Які бувають джерела світл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56360" y="4941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:\Documents and Settings\Aida\Рабочий стол\НОвая ГРАФИКА сборник\КАРТИНКИ СБОРНИК_ школьные\3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9500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:\Documents and Settings\Aida\Рабочий стол\НОвая ГРАФИКА сборник\КАРТИНКИ СБОРНИК_ школьные\2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32720" y="551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1484280"/>
            <a:ext cx="8137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4800" spc="-1" strike="noStrike">
                <a:solidFill>
                  <a:srgbClr val="c0504d"/>
                </a:solidFill>
                <a:latin typeface="Arial"/>
              </a:rPr>
              <a:t>Штучн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669900"/>
                </a:solidFill>
                <a:latin typeface="Arial"/>
              </a:rPr>
              <a:t>Природні та штучні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0000ff"/>
                </a:solidFill>
                <a:latin typeface="Arial"/>
              </a:rPr>
              <a:t>Природн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Що називають приймачами світл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0360" y="5229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:\Documents and Settings\Aida\Рабочий стол\НОвая ГРАФИКА сборник\КАРТИНКИ СБОРНИК_ школьные\3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87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:\Documents and Settings\Aida\Рабочий стол\НОвая ГРАФИКА сборник\КАРТИНКИ СБОРНИК_ школьные\2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32720" y="5589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700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669900"/>
                </a:solidFill>
                <a:latin typeface="Arial"/>
              </a:rPr>
              <a:t>Тіла, які випромінюють світ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c0504d"/>
                </a:solidFill>
                <a:latin typeface="Arial"/>
              </a:rPr>
              <a:t>Пристрої, за допомогою яких тіла світя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Пристрої, за допомогою яких можна виявити світлове випромінювання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Яке джерело називають протяжним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:\Documents and Settings\Aida\Рабочий стол\НОвая ГРАФИКА сборник\КАРТИНКИ СБОРНИК_ школьные\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32720" y="5661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H:\Documents and Settings\Aida\Рабочий стол\НОвая ГРАФИКА сборник\КАРТИНКИ СБОРНИК_ школьные\1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6000" y="5445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148428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1. Якщо його розміри є відносно невеликими порівняно з відстанню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. Якщо його розміри дорівнюють відстані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669900"/>
                </a:solidFill>
                <a:latin typeface="Arial"/>
              </a:rPr>
              <a:t>3. Якщо його розміри є набагато більшими порівняно з відстанню від нього до приймача світла</a:t>
            </a:r>
            <a:r>
              <a:rPr b="1" lang="uk-UA" sz="2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5373720"/>
            <a:ext cx="26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7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Яке джерело світла називають точковими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9900"/>
                </a:solidFill>
                <a:latin typeface="Arial"/>
              </a:rPr>
              <a:t>Якщо його розміри є відносно невеликими порівняно з відстанню від нього до приймача світла</a:t>
            </a:r>
            <a:r>
              <a:rPr b="1" lang="uk-UA" sz="3200" spc="-1" strike="noStrike">
                <a:solidFill>
                  <a:srgbClr val="6699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Якщо його розміри дорівнюють відстані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Якщо його розміри є набагото більшими порівняно з відстанню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:\Documents and Settings\Aida\Рабочий стол\НОвая ГРАФИКА сборник\КАРТИНКИ СБОРНИК_ школьные\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558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9308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H:\Documents and Settings\Aida\Рабочий стол\НОвая ГРАФИКА сборник\КАРТИНКИ СБОРНИК_ школьные\1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00720" y="5589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92360" y="558972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Залежно від співвідношення розміру джерела світла і відстані від нього до приймача світла розрізняють такі джерела світ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очкові та протяжні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точкові та тепл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протяжні та тепл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2"/>
          <a:stretch/>
        </p:blipFill>
        <p:spPr>
          <a:xfrm>
            <a:off x="7451640" y="587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804000" y="544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4"/>
          <a:stretch/>
        </p:blipFill>
        <p:spPr>
          <a:xfrm>
            <a:off x="6084720" y="508464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362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Однією з одиниць довжини, яку застосовують в астрономії, є світловий рік. Один світловий рік дорівнює відстані, що її проходить світло у вакуумі за один рік. Скільки кілометрів становить світловий рік, якщо швидкість світла у вакуумі дорівнює 300000км/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324000" y="465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4500720" y="465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97964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076720" y="4354560"/>
            <a:ext cx="3816360" cy="1162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900000" y="4365720"/>
            <a:ext cx="3384720" cy="10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700360" y="5465880"/>
            <a:ext cx="360036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Admin</cp:lastModifiedBy>
  <dcterms:modified xsi:type="dcterms:W3CDTF">2012-05-16T04:58:3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4140</vt:lpwstr>
  </property>
</Properties>
</file>