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gif" ContentType="image/gif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277-EA1C-4BBC-818F-14604399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1DB-30C0-4751-B3C3-ABDCBFA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1F4-1B80-433F-A917-4DB4ECC5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742-29CD-452E-A0C2-4BA36615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2390-DEF9-489E-B30A-F12F826D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C9B1-94FC-4F4C-84CE-C18E6F60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8E1-E0EC-46CA-BCF2-62D5E6EC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26A6-44AF-4152-AFE2-6DAC6BF5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829B-3D5A-4C27-BD1B-6B95DD71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C59B-5F1D-41BD-8B12-DB174212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E710-C226-49B1-B113-BB923331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214-F54F-40B7-8526-E897B2C3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F86-AD37-4FC5-BCF6-F36D7CB4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F2C-028C-41F9-BA57-FABA31BB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4B4D-0D64-4928-AC7C-521A0797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1AC9-C272-4AE2-90F4-01037603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0C83-1F9E-48A4-AEA8-4AB44055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E79-9E81-45A4-B9EA-355630E3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A48-40B2-4F92-B5D9-5F3D6648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36F-0D7F-45F3-B526-5EB690A7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8EC-2289-4934-8650-76027021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217-5018-4166-86C2-E8E867C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AA5-F0F2-496E-B9B6-6635E818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35A-4334-4855-8655-92E4BEC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98F7-7CF3-43EF-9074-8BAFA12FD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A291-2874-43CC-A5F8-AF8BEFB37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2.xml"/><Relationship Id="rId5" Type="http://schemas.openxmlformats.org/officeDocument/2006/relationships/image" Target="../media/image5.gif"/><Relationship Id="rId6" Type="http://schemas.openxmlformats.org/officeDocument/2006/relationships/slide" Target="slide2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" Target="slide3.xml"/><Relationship Id="rId5" Type="http://schemas.openxmlformats.org/officeDocument/2006/relationships/image" Target="../media/image5.gif"/><Relationship Id="rId6" Type="http://schemas.openxmlformats.org/officeDocument/2006/relationships/slide" Target="slide4.xm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4.gif"/><Relationship Id="rId4" Type="http://schemas.openxmlformats.org/officeDocument/2006/relationships/slide" Target="slide4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4.gif"/><Relationship Id="rId4" Type="http://schemas.openxmlformats.org/officeDocument/2006/relationships/slide" Target="slide6.xml"/><Relationship Id="rId5" Type="http://schemas.openxmlformats.org/officeDocument/2006/relationships/image" Target="../media/image6.gif"/><Relationship Id="rId6" Type="http://schemas.openxmlformats.org/officeDocument/2006/relationships/slide" Target="slide5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6.xml"/><Relationship Id="rId5" Type="http://schemas.openxmlformats.org/officeDocument/2006/relationships/image" Target="../media/image5.gif"/><Relationship Id="rId6" Type="http://schemas.openxmlformats.org/officeDocument/2006/relationships/slide" Target="slide6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7.xml"/><Relationship Id="rId5" Type="http://schemas.openxmlformats.org/officeDocument/2006/relationships/image" Target="../media/image5.gif"/><Relationship Id="rId6" Type="http://schemas.openxmlformats.org/officeDocument/2006/relationships/slide" Target="slide8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00"/>
                </a:solidFill>
                <a:latin typeface="Arial"/>
              </a:rPr>
              <a:t>Світлові явищ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Оптичні явища в природі. Джерела світ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76720" y="4941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7 кл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10996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За який час світло проходить відстань від Сонця до Землі, що дорівнює 150000000 км? Швидкість світла у вакуумі дорівнює 300000 км/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826920" y="3573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2050920" y="4653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327672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11640" y="573408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5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500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45000000000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45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45000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4608720" cy="3771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403280" y="4292640"/>
            <a:ext cx="61214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ЯКУЮ ЗА РОБОТУ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4f81bd"/>
                </a:solidFill>
                <a:latin typeface="Arial"/>
              </a:rPr>
              <a:t>Фізичні тіла, атоми та молекули яких випромінюють світло</a:t>
            </a:r>
            <a:r>
              <a:rPr b="1" lang="uk-UA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Фізичні тіла, атоми та молекули яких поглинають світл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ізичні тіла, атоми та молекули яких випромінюють і поглинають світ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Що називають джерел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37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58053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Залежно від температури джерел світла їх поділяють на 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486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88000" y="551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:\Documents and Settings\Aida\Рабочий стол\НОвая ГРАФИКА сборник\КАРТИНКИ СБОРНИК_ школьные\3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96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773360"/>
            <a:ext cx="82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669900"/>
                </a:solidFill>
                <a:latin typeface="Arial"/>
              </a:rPr>
              <a:t>Протяжні та люмінесцент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еплові та люмінесцент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і бувають джерела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56360" y="4941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9500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1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1484280"/>
            <a:ext cx="8137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4800" spc="-1" strike="noStrike">
                <a:solidFill>
                  <a:srgbClr val="c0504d"/>
                </a:solidFill>
                <a:latin typeface="Arial"/>
              </a:rPr>
              <a:t>Штуч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669900"/>
                </a:solidFill>
                <a:latin typeface="Arial"/>
              </a:rPr>
              <a:t>Природні та штучні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Природн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Що називають приймачами світл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H:\Documents and Settings\Aida\Рабочий стол\НОвая ГРАФИКА сборник\КАРТИНКИ СБОРНИК_ школьные\1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0360" y="522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:\Documents and Settings\Aida\Рабочий стол\НОвая ГРАФИКА сборник\КАРТИНКИ СБОРНИК_ школьные\3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:\Documents and Settings\Aida\Рабочий стол\НОвая ГРАФИКА сборник\КАРТИНКИ СБОРНИК_ школьные\2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32720" y="5589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669900"/>
                </a:solidFill>
                <a:latin typeface="Arial"/>
              </a:rPr>
              <a:t>Тіла, які випромінюють світ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c0504d"/>
                </a:solidFill>
                <a:latin typeface="Arial"/>
              </a:rPr>
              <a:t>Пристрої, за допомогою яких тіла світ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Пристрої, за допомогою яких можна виявити світлове випромінювання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називають протяжним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32720" y="5661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6000" y="5445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1. Якщо його розміри є відносно невелик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. 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3. Якщо його розміри є набагато більшими порівняно з відстанню від нього до приймача світла</a:t>
            </a:r>
            <a:r>
              <a:rPr b="1" lang="uk-UA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5373720"/>
            <a:ext cx="266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7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Яке джерело світла називають точковими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00"/>
                </a:solidFill>
                <a:latin typeface="Arial"/>
              </a:rPr>
              <a:t>Якщо його розміри є відносно невеликими порівняно з відстанню від нього до приймача світла</a:t>
            </a:r>
            <a:r>
              <a:rPr b="1" lang="uk-UA" sz="32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Якщо його розміри дорівнюють відстані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Якщо його розміри є набагото більшими порівняно з відстанню від нього до приймач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:\Documents and Settings\Aida\Рабочий стол\НОвая ГРАФИКА сборник\КАРТИНКИ СБОРНИК_ школьные\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:\Documents and Settings\Aida\Рабочий стол\НОвая ГРАФИКА сборник\КАРТИНКИ СБОРНИК_ школьные\2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H:\Documents and Settings\Aida\Рабочий стол\НОвая ГРАФИКА сборник\КАРТИНКИ СБОРНИК_ школьные\1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0720" y="5589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2360" y="558972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алежно від співвідношення розміру джерела світла і відстані від нього до приймача світла розрізняють такі джерела світ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очкові та протяжні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c0504d"/>
                </a:solidFill>
                <a:latin typeface="Arial"/>
              </a:rPr>
              <a:t>точков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33cc33"/>
                </a:solidFill>
                <a:latin typeface="Arial"/>
              </a:rPr>
              <a:t>протяжні та тепл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2"/>
          <a:stretch/>
        </p:blipFill>
        <p:spPr>
          <a:xfrm>
            <a:off x="7451640" y="5877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804000" y="544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4"/>
          <a:stretch/>
        </p:blipFill>
        <p:spPr>
          <a:xfrm>
            <a:off x="6084720" y="508464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03640" y="5013360"/>
            <a:ext cx="266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Правильна відпові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Однією з одиниць довжини, яку застосовують в астрономії, є світловий рік. Один світловий рік дорівнює відстані, що її проходить світло у вакуумі за один рік. Скільки кілометрів становить світловий рік, якщо швидкість світла у вакуумі дорівнює 300000км/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32400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4500720" y="465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979640" y="5950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76720" y="4354560"/>
            <a:ext cx="381636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900000" y="4365720"/>
            <a:ext cx="3384720" cy="10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700360" y="5465880"/>
            <a:ext cx="360036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Admin</cp:lastModifiedBy>
  <dcterms:modified xsi:type="dcterms:W3CDTF">2012-05-16T04:58:33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4140</vt:lpwstr>
  </property>
</Properties>
</file>