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51.jpeg" ContentType="image/jpeg"/>
  <Override PartName="/ppt/media/image6.jpeg" ContentType="image/jpeg"/>
  <Override PartName="/ppt/media/image50.png" ContentType="image/png"/>
  <Override PartName="/ppt/media/image48.jpeg" ContentType="image/jpeg"/>
  <Override PartName="/ppt/media/image1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56.gif" ContentType="image/gif"/>
  <Override PartName="/ppt/media/image49.png" ContentType="image/png"/>
  <Override PartName="/ppt/media/image23.jpeg" ContentType="image/jpeg"/>
  <Override PartName="/ppt/media/image42.png" ContentType="image/png"/>
  <Override PartName="/ppt/media/image54.gif" ContentType="image/gif"/>
  <Override PartName="/ppt/media/image35.jpeg" ContentType="image/jpeg"/>
  <Override PartName="/ppt/media/image1.jpeg" ContentType="image/jpeg"/>
  <Override PartName="/ppt/media/image52.png" ContentType="image/png"/>
  <Override PartName="/ppt/media/image12.gif" ContentType="image/gif"/>
  <Override PartName="/ppt/media/image17.jpeg" ContentType="image/jpeg"/>
  <Override PartName="/ppt/media/image15.jpeg" ContentType="image/jpeg"/>
  <Override PartName="/ppt/media/image1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8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media/image13.gif" ContentType="image/gif"/>
  <Override PartName="/ppt/media/image7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58.png" ContentType="image/png"/>
  <Override PartName="/ppt/media/image46.jpeg" ContentType="image/jpeg"/>
  <Override PartName="/ppt/media/image55.gif" ContentType="image/gif"/>
  <Override PartName="/ppt/media/image24.jpeg" ContentType="image/jpeg"/>
  <Override PartName="/ppt/media/image37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png" ContentType="image/png"/>
  <Override PartName="/ppt/media/image3.jpeg" ContentType="image/jpeg"/>
  <Override PartName="/ppt/media/image41.png" ContentType="image/png"/>
  <Override PartName="/ppt/media/image43.jpeg" ContentType="image/jpeg"/>
  <Override PartName="/ppt/media/image26.jpeg" ContentType="image/jpeg"/>
  <Override PartName="/ppt/media/image47.gif" ContentType="image/gif"/>
  <Override PartName="/ppt/media/image53.png" ContentType="image/png"/>
  <Override PartName="/ppt/media/image60.gif" ContentType="image/gi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598-71E4-4F85-AE76-E0083095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C4C-5CC0-4568-B8F2-205AF0AF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345-12CD-4706-A65E-3B6190EB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503-70AD-4D92-AC76-15B8C164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125B-5722-4BFA-81AB-E46EC84B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5DE4-ECFC-43E5-BAC3-D615BD66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2838-D853-4761-8307-1744AE86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246D-95F9-4242-8642-2E6D9032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2163-408D-4937-9CE3-EA654460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A900-F222-4463-B162-98A6D265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1819-1F1A-4424-BCD5-4A9D6123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F48-71FA-48EC-BFB8-70C4E168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FA49-2F0E-4944-8F3F-B361713E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75C8-4D00-4EF3-941D-A8C185D9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1BD2-C12C-4BAB-8749-06123F3D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7C04-DACB-4ABA-9CD1-C13AABE5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65AC-9A05-426B-9193-F5E23697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C2663-C307-472C-9D62-D7F51A86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3A3F-1127-4881-9BC1-F6095F00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C45F-F816-4520-9953-13DBA454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004F-8B89-46E5-8B33-313F4D87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6B18-7FEA-4E48-8B32-3A4886D4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F08-2108-4653-A975-52425EA0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CF9B-7408-417C-B3FB-A51171E8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E76C9-6187-47D3-820D-591656DF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C09B-1120-43FF-9254-7E9527DE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8D7C-8A53-4909-A4C8-5938E64A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1055-5CFF-49C9-8398-A1F31B42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99715-3DAB-486D-B2A4-24236649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01B5-FB52-430C-BAB8-8DDD7360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0E26C-3B7A-4C0C-BFC4-E0E131DC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65152-DFAF-4927-8E57-93D27E53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C5BA9-687F-4CF9-9DD1-846F3116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55B-9A36-489F-B94B-85E2F0CA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F536B-4293-4B30-B2D6-A832A8FE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2443-73F5-4271-AC1F-E1FEA0DF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02F0-7CE0-4D3F-8FAC-A343CC39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CFF6-5843-414D-8F1E-6D0789DB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7DEE7-E88C-4F6B-A6FB-B6FB9E45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36A34-3CA3-465A-AB21-B2A67A1D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7E8BF-3236-42CD-81F9-A6707553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9283-8C07-49C2-973C-BCE026AB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D4BE2-BAA9-43D4-BCBD-B9BE8809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0F729-8B75-442A-B73F-F09355B9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221-6B88-4AC3-A025-B2B35C22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B1588-448C-49D4-9820-FC20ADEF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383EE-3C38-4696-8CAE-B53C2E11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AA0A-85CF-4297-8CBF-AEDA76AD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A639-F73F-4F08-A4C0-1E7D3F91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279EC-2D8F-4D59-9A05-EE02FB9D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EA0D4-C357-4C06-89E4-EF5F99A5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93C80-CBC7-45B9-AD24-04F41FA4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56AC1-4D00-4703-90A9-3D9C3D70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2E00E-D5E9-4C1A-8703-073838F2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2521B-5510-47C6-9723-855EB05E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A47-3044-4DDC-925A-436712B3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FB371-2EE6-43BB-B223-70CAABF3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56F0A-ED77-428D-AB7E-FFA27E5F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2F195-1754-41D2-8286-22F1B482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1A1D-C991-446C-95CC-BC64C859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64E5-0CF1-4C68-A1D1-5F902F81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ECD8E-2054-484B-A26C-5B668C33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256B9-3109-464C-94DE-314436F8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F6F6-368E-40FD-8B28-1A4467E1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0F916-3C48-4610-AE55-E14446A8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DB109-E8C3-4542-97B7-7FBB27FD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731-7FC3-4FB6-91B4-625D5B44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16667-E9ED-41CF-836C-1728171D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E12A0-2057-4B72-8195-4699148E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D5F14-1A8F-4A1F-90F0-9B9DFA7C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6C56F-48A5-4478-B4F4-EC3C0FE2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8854-1DF3-421F-8700-773831A5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44EE8-4523-49F5-96DA-FD21F0B4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56854-26DA-4025-89CB-CEA732A0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E6731-5A51-4261-A538-18667275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D4DA0-EEE8-4F6F-9D82-29F77073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1CD9C-9B75-41EA-B832-4334F886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4AD-3E42-40CF-BC75-2D787489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2681A-8B9A-4E8C-A764-D25D58E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EC6F2-EED8-4174-A68B-0DCF2C1D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A7DA5-262C-4275-A1B6-7B8C006C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09F95-F7D3-4D52-ADC9-0FECA9AD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DCDF4-4B86-4033-8333-5CF7376F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BA4-A62B-4FBF-B7ED-19AB62E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D653-8297-4F06-B26A-38EFE7E9A5E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4449-8556-4FAE-8E62-10ADE9378A5E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9CE1-EF7B-4672-9B61-52022B8C50E4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70D9-7EA2-4D6C-883E-A05908E2365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669A-F675-40D2-9D28-F5C70FE9B70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7D57-A369-44D6-B772-163ABC9E447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6386-F2CD-49FF-86C6-5B245610A14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39.png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9.jpeg"/><Relationship Id="rId3" Type="http://schemas.openxmlformats.org/officeDocument/2006/relationships/image" Target="../media/image60.gif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4"/>
          <p:cNvSpPr txBox="1"/>
          <p:nvPr/>
        </p:nvSpPr>
        <p:spPr>
          <a:xfrm>
            <a:off x="1042920" y="1413000"/>
            <a:ext cx="70581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ітлові явищ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ttp://www.fizika.ru/theory/tema-12/12g-i1.gif"/>
          <p:cNvPicPr/>
          <p:nvPr/>
        </p:nvPicPr>
        <p:blipFill>
          <a:blip r:embed="rId1"/>
          <a:stretch/>
        </p:blipFill>
        <p:spPr>
          <a:xfrm>
            <a:off x="0" y="1857240"/>
            <a:ext cx="2928960" cy="2239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http://www.fizika.ru/theory/tema-12/12g-i2.jpg"/>
          <p:cNvPicPr/>
          <p:nvPr/>
        </p:nvPicPr>
        <p:blipFill>
          <a:blip r:embed="rId2"/>
          <a:stretch/>
        </p:blipFill>
        <p:spPr>
          <a:xfrm>
            <a:off x="6087960" y="1500120"/>
            <a:ext cx="3056040" cy="2108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3"/>
          <a:stretch/>
        </p:blipFill>
        <p:spPr>
          <a:xfrm>
            <a:off x="2928960" y="3714840"/>
            <a:ext cx="3143160" cy="3000240"/>
          </a:xfrm>
          <a:prstGeom prst="rect">
            <a:avLst/>
          </a:prstGeom>
          <a:ln w="0">
            <a:noFill/>
          </a:ln>
        </p:spPr>
      </p:pic>
      <p:sp>
        <p:nvSpPr>
          <p:cNvPr id="352" name="WordArt 7"/>
          <p:cNvSpPr txBox="1"/>
          <p:nvPr/>
        </p:nvSpPr>
        <p:spPr>
          <a:xfrm>
            <a:off x="3132000" y="26028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оске дзеркал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Текст 3"/>
          <p:cNvSpPr/>
          <p:nvPr/>
        </p:nvSpPr>
        <p:spPr>
          <a:xfrm>
            <a:off x="142920" y="1571760"/>
            <a:ext cx="278604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://www.fizika.ru/theory/tema-12/12h-i1.gif"/>
          <p:cNvPicPr/>
          <p:nvPr/>
        </p:nvPicPr>
        <p:blipFill>
          <a:blip r:embed="rId1"/>
          <a:stretch/>
        </p:blipFill>
        <p:spPr>
          <a:xfrm>
            <a:off x="2928960" y="1714680"/>
            <a:ext cx="5888160" cy="2000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fizika.ru/theory/tema-12/12h-i2.jpg"/>
          <p:cNvPicPr/>
          <p:nvPr/>
        </p:nvPicPr>
        <p:blipFill>
          <a:blip r:embed="rId2"/>
          <a:stretch/>
        </p:blipFill>
        <p:spPr>
          <a:xfrm>
            <a:off x="428760" y="4572000"/>
            <a:ext cx="7662600" cy="1857240"/>
          </a:xfrm>
          <a:prstGeom prst="rect">
            <a:avLst/>
          </a:prstGeom>
          <a:ln w="0">
            <a:noFill/>
          </a:ln>
        </p:spPr>
      </p:pic>
      <p:sp>
        <p:nvSpPr>
          <p:cNvPr id="356" name="WordArt 6"/>
          <p:cNvSpPr txBox="1"/>
          <p:nvPr/>
        </p:nvSpPr>
        <p:spPr>
          <a:xfrm>
            <a:off x="3924360" y="404640"/>
            <a:ext cx="4333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феричне дзерка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www.fizika.ru/theory/tema-12/12i-i1.gif"/>
          <p:cNvPicPr/>
          <p:nvPr/>
        </p:nvPicPr>
        <p:blipFill>
          <a:blip r:embed="rId1"/>
          <a:stretch/>
        </p:blipFill>
        <p:spPr>
          <a:xfrm>
            <a:off x="1857240" y="1571760"/>
            <a:ext cx="6513480" cy="2214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fiz.1september.ru/2006/18/08-09.gif"/>
          <p:cNvPicPr/>
          <p:nvPr/>
        </p:nvPicPr>
        <p:blipFill>
          <a:blip r:embed="rId2"/>
          <a:stretch/>
        </p:blipFill>
        <p:spPr>
          <a:xfrm>
            <a:off x="3929040" y="4071960"/>
            <a:ext cx="3086280" cy="2476440"/>
          </a:xfrm>
          <a:prstGeom prst="rect">
            <a:avLst/>
          </a:prstGeom>
          <a:ln w="0">
            <a:noFill/>
          </a:ln>
        </p:spPr>
      </p:pic>
      <p:sp>
        <p:nvSpPr>
          <p:cNvPr id="359" name="WordArt 6"/>
          <p:cNvSpPr txBox="1"/>
          <p:nvPr/>
        </p:nvSpPr>
        <p:spPr>
          <a:xfrm>
            <a:off x="3780000" y="40464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ломлення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www.light-miner.com/lessons/1/105/images/5.jpeg"/>
          <p:cNvPicPr/>
          <p:nvPr/>
        </p:nvPicPr>
        <p:blipFill>
          <a:blip r:embed="rId1"/>
          <a:stretch/>
        </p:blipFill>
        <p:spPr>
          <a:xfrm>
            <a:off x="3357720" y="2143080"/>
            <a:ext cx="4929120" cy="36972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5"/>
          <p:cNvSpPr txBox="1"/>
          <p:nvPr/>
        </p:nvSpPr>
        <p:spPr>
          <a:xfrm>
            <a:off x="3780000" y="40464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ломлення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www.fizika.ru/theory/tema-12/12l-i1.gif"/>
          <p:cNvPicPr/>
          <p:nvPr/>
        </p:nvPicPr>
        <p:blipFill>
          <a:blip r:embed="rId1"/>
          <a:stretch/>
        </p:blipFill>
        <p:spPr>
          <a:xfrm>
            <a:off x="1357200" y="1785960"/>
            <a:ext cx="6923160" cy="2071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://www.fizika.ru/theory/tema-12/12l-i2.gif"/>
          <p:cNvPicPr/>
          <p:nvPr/>
        </p:nvPicPr>
        <p:blipFill>
          <a:blip r:embed="rId2"/>
          <a:stretch/>
        </p:blipFill>
        <p:spPr>
          <a:xfrm>
            <a:off x="6143760" y="4071960"/>
            <a:ext cx="2666880" cy="2467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://www.skorta.ru/pic/15970.jpg"/>
          <p:cNvPicPr/>
          <p:nvPr/>
        </p:nvPicPr>
        <p:blipFill>
          <a:blip r:embed="rId3"/>
          <a:stretch/>
        </p:blipFill>
        <p:spPr>
          <a:xfrm>
            <a:off x="571680" y="426888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365" name="WordArt 7"/>
          <p:cNvSpPr txBox="1"/>
          <p:nvPr/>
        </p:nvSpPr>
        <p:spPr>
          <a:xfrm>
            <a:off x="3276720" y="404640"/>
            <a:ext cx="446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інз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fizika.ru/theory/tema-12/12m-i1.jpg"/>
          <p:cNvPicPr/>
          <p:nvPr/>
        </p:nvPicPr>
        <p:blipFill>
          <a:blip r:embed="rId1"/>
          <a:stretch/>
        </p:blipFill>
        <p:spPr>
          <a:xfrm>
            <a:off x="142920" y="1500120"/>
            <a:ext cx="4157640" cy="2786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fizika.ru/theory/tema-12/12m-i2.gif"/>
          <p:cNvPicPr/>
          <p:nvPr/>
        </p:nvPicPr>
        <p:blipFill>
          <a:blip r:embed="rId2"/>
          <a:stretch/>
        </p:blipFill>
        <p:spPr>
          <a:xfrm>
            <a:off x="968400" y="4643280"/>
            <a:ext cx="7958160" cy="1857600"/>
          </a:xfrm>
          <a:prstGeom prst="rect">
            <a:avLst/>
          </a:prstGeom>
          <a:ln w="0">
            <a:noFill/>
          </a:ln>
        </p:spPr>
      </p:pic>
      <p:sp>
        <p:nvSpPr>
          <p:cNvPr id="368" name="WordArt 6"/>
          <p:cNvSpPr txBox="1"/>
          <p:nvPr/>
        </p:nvSpPr>
        <p:spPr>
          <a:xfrm>
            <a:off x="3276720" y="404640"/>
            <a:ext cx="446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інз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" descr="http://www.college.ru/PHYSICS/courses/op25part2/content/chapter3/section/paragraph4/images/3-4-1.gif"/>
          <p:cNvPicPr/>
          <p:nvPr/>
        </p:nvPicPr>
        <p:blipFill>
          <a:blip r:embed="rId1"/>
          <a:stretch/>
        </p:blipFill>
        <p:spPr>
          <a:xfrm>
            <a:off x="0" y="1571760"/>
            <a:ext cx="3257640" cy="2619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http://www.fizika.ru/images/1x1.gif"/>
          <p:cNvPicPr/>
          <p:nvPr/>
        </p:nvPicPr>
        <p:blipFill>
          <a:blip r:embed="rId2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ttp://www.fizika.ru/theory/tema-12/12p-i3.gif"/>
          <p:cNvPicPr/>
          <p:nvPr/>
        </p:nvPicPr>
        <p:blipFill>
          <a:blip r:embed="rId3"/>
          <a:stretch/>
        </p:blipFill>
        <p:spPr>
          <a:xfrm>
            <a:off x="2954160" y="4286160"/>
            <a:ext cx="5621400" cy="2286000"/>
          </a:xfrm>
          <a:prstGeom prst="rect">
            <a:avLst/>
          </a:prstGeom>
          <a:ln w="0">
            <a:noFill/>
          </a:ln>
        </p:spPr>
      </p:pic>
      <p:sp>
        <p:nvSpPr>
          <p:cNvPr id="372" name="WordArt 7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орушенні зору зображення віддалених предметів у випадку ненапруженого ока можуть утворитися перед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ітківкою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близорукість), або за сітківкою (дальнозоркіст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1" descr="http://www.college.ru/PHYSICS/courses/op25part2/content/chapter3/section/paragraph4/images/3-4-2.gif"/>
          <p:cNvPicPr/>
          <p:nvPr/>
        </p:nvPicPr>
        <p:blipFill>
          <a:blip r:embed="rId1"/>
          <a:stretch/>
        </p:blipFill>
        <p:spPr>
          <a:xfrm>
            <a:off x="4214880" y="1857240"/>
            <a:ext cx="3929040" cy="4786560"/>
          </a:xfrm>
          <a:prstGeom prst="rect">
            <a:avLst/>
          </a:prstGeom>
          <a:ln w="0">
            <a:noFill/>
          </a:ln>
        </p:spPr>
      </p:pic>
      <p:sp>
        <p:nvSpPr>
          <p:cNvPr id="375" name="WordArt 5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ррекція дальнозоркості і близорукості ока за допомогою окуляр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Picture 1" descr="http://www.college.ru/PHYSICS/courses/op25part2/content/chapter3/section/paragraph4/images/3-4-3.gif"/>
          <p:cNvPicPr/>
          <p:nvPr/>
        </p:nvPicPr>
        <p:blipFill>
          <a:blip r:embed="rId1"/>
          <a:stretch/>
        </p:blipFill>
        <p:spPr>
          <a:xfrm>
            <a:off x="3467160" y="1428840"/>
            <a:ext cx="5676840" cy="3181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http://www.photoforum.ru/f/photo/000/114/114193_80.jpg"/>
          <p:cNvPicPr/>
          <p:nvPr/>
        </p:nvPicPr>
        <p:blipFill>
          <a:blip r:embed="rId2"/>
          <a:stretch/>
        </p:blipFill>
        <p:spPr>
          <a:xfrm>
            <a:off x="357120" y="3929040"/>
            <a:ext cx="4373640" cy="2689200"/>
          </a:xfrm>
          <a:prstGeom prst="rect">
            <a:avLst/>
          </a:prstGeom>
          <a:ln w="0">
            <a:noFill/>
          </a:ln>
        </p:spPr>
      </p:pic>
      <p:sp>
        <p:nvSpPr>
          <p:cNvPr id="379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Лупа.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1" descr="http://www.college.ru/PHYSICS/courses/op25part2/content/chapter3/section/paragraph5/images/3-5-1.gif"/>
          <p:cNvPicPr/>
          <p:nvPr/>
        </p:nvPicPr>
        <p:blipFill>
          <a:blip r:embed="rId1"/>
          <a:stretch/>
        </p:blipFill>
        <p:spPr>
          <a:xfrm>
            <a:off x="3143160" y="1643040"/>
            <a:ext cx="5286600" cy="2857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http://www.weblancer.net/files/portfolio/294/29428/24073.jpg"/>
          <p:cNvPicPr/>
          <p:nvPr/>
        </p:nvPicPr>
        <p:blipFill>
          <a:blip r:embed="rId2"/>
          <a:stretch/>
        </p:blipFill>
        <p:spPr>
          <a:xfrm>
            <a:off x="3000240" y="4714920"/>
            <a:ext cx="2428920" cy="1947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www.fizika.ru/theory/tema-12/12p-i1.gif"/>
          <p:cNvPicPr/>
          <p:nvPr/>
        </p:nvPicPr>
        <p:blipFill>
          <a:blip r:embed="rId3"/>
          <a:stretch/>
        </p:blipFill>
        <p:spPr>
          <a:xfrm>
            <a:off x="5643720" y="4786200"/>
            <a:ext cx="3143160" cy="1959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http://www.fizika.ru/images/1x1.gif"/>
          <p:cNvPicPr/>
          <p:nvPr/>
        </p:nvPicPr>
        <p:blipFill>
          <a:blip r:embed="rId4"/>
          <a:stretch/>
        </p:blipFill>
        <p:spPr>
          <a:xfrm>
            <a:off x="155520" y="-85248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http://physics.nad.ru/Physics/Lens.gif"/>
          <p:cNvPicPr/>
          <p:nvPr/>
        </p:nvPicPr>
        <p:blipFill>
          <a:blip r:embed="rId5"/>
          <a:stretch/>
        </p:blipFill>
        <p:spPr>
          <a:xfrm>
            <a:off x="428760" y="5286240"/>
            <a:ext cx="1785960" cy="1339920"/>
          </a:xfrm>
          <a:prstGeom prst="rect">
            <a:avLst/>
          </a:prstGeom>
          <a:ln w="0">
            <a:noFill/>
          </a:ln>
        </p:spPr>
      </p:pic>
      <p:sp>
        <p:nvSpPr>
          <p:cNvPr id="386" name="WordArt 9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843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Гарячі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http://www.fizika.ru/theory/tema-12/12a-i1.jpg"/>
          <p:cNvPicPr/>
          <p:nvPr/>
        </p:nvPicPr>
        <p:blipFill>
          <a:blip r:embed="rId1"/>
          <a:srcRect l="0" t="0" r="-247" b="0"/>
          <a:stretch/>
        </p:blipFill>
        <p:spPr>
          <a:xfrm>
            <a:off x="3071880" y="1714680"/>
            <a:ext cx="2293920" cy="1971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6215040" y="4214880"/>
            <a:ext cx="2674800" cy="23572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0"/>
          <p:cNvSpPr/>
          <p:nvPr/>
        </p:nvSpPr>
        <p:spPr>
          <a:xfrm>
            <a:off x="6227640" y="37861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уговий ро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1"/>
          <p:cNvSpPr/>
          <p:nvPr/>
        </p:nvSpPr>
        <p:spPr>
          <a:xfrm>
            <a:off x="3000240" y="3714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лавка мет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http://www.photoline.ru/critic/pic/1123446132.jpg"/>
          <p:cNvPicPr/>
          <p:nvPr/>
        </p:nvPicPr>
        <p:blipFill>
          <a:blip r:embed="rId3"/>
          <a:stretch/>
        </p:blipFill>
        <p:spPr>
          <a:xfrm>
            <a:off x="3143160" y="4572000"/>
            <a:ext cx="2826000" cy="2019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3"/>
          <p:cNvSpPr/>
          <p:nvPr/>
        </p:nvSpPr>
        <p:spPr>
          <a:xfrm>
            <a:off x="3214800" y="4143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лум’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http://www.astrolab.ru/cgi-bin/img.cgi?i=20/00000007.jpg&amp;p=galery"/>
          <p:cNvPicPr/>
          <p:nvPr/>
        </p:nvPicPr>
        <p:blipFill>
          <a:blip r:embed="rId4"/>
          <a:stretch/>
        </p:blipFill>
        <p:spPr>
          <a:xfrm>
            <a:off x="6715080" y="1643040"/>
            <a:ext cx="2195640" cy="2100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5"/>
          <p:cNvSpPr/>
          <p:nvPr/>
        </p:nvSpPr>
        <p:spPr>
          <a:xfrm>
            <a:off x="5572080" y="27860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нц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WordArt 12"/>
          <p:cNvSpPr txBox="1"/>
          <p:nvPr/>
        </p:nvSpPr>
        <p:spPr>
          <a:xfrm>
            <a:off x="3203640" y="260280"/>
            <a:ext cx="5040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жерела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rbel"/>
              </a:rPr>
              <a:t>Мікроскоп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Picture 3" descr="http://cccp1917.narod.ru/graph/scope.jpg"/>
          <p:cNvPicPr/>
          <p:nvPr/>
        </p:nvPicPr>
        <p:blipFill>
          <a:blip r:embed="rId1"/>
          <a:stretch/>
        </p:blipFill>
        <p:spPr>
          <a:xfrm>
            <a:off x="214200" y="2786040"/>
            <a:ext cx="2381400" cy="3606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" descr="http://www.college.ru/PHYSICS/courses/op25part2/content/chapter3/section/paragraph5/images/3-5-2.gif"/>
          <p:cNvPicPr/>
          <p:nvPr/>
        </p:nvPicPr>
        <p:blipFill>
          <a:blip r:embed="rId2"/>
          <a:stretch/>
        </p:blipFill>
        <p:spPr>
          <a:xfrm>
            <a:off x="2857680" y="2357280"/>
            <a:ext cx="6003720" cy="2428920"/>
          </a:xfrm>
          <a:prstGeom prst="rect">
            <a:avLst/>
          </a:prstGeom>
          <a:ln w="0">
            <a:noFill/>
          </a:ln>
        </p:spPr>
      </p:pic>
      <p:sp>
        <p:nvSpPr>
          <p:cNvPr id="390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Хід променів в астрономічному </a:t>
            </a:r>
            <a:r>
              <a:rPr b="1" i="1" lang="uk-UA" sz="1800" spc="-1" strike="noStrike">
                <a:solidFill>
                  <a:srgbClr val="000000"/>
                </a:solidFill>
                <a:latin typeface="Corbel"/>
              </a:rPr>
              <a:t>телескопі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Око спостерігача акомодоване на безкінечність, тому промені від кожної точки віддаленого предмета виходять із окуляра паралельними пучками. Такой хід променів називають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телескопічним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1" descr="http://www.college.ru/PHYSICS/courses/op25part2/content/chapter3/section/paragraph5/images/3-5-3.gif"/>
          <p:cNvPicPr/>
          <p:nvPr/>
        </p:nvPicPr>
        <p:blipFill>
          <a:blip r:embed="rId1"/>
          <a:stretch/>
        </p:blipFill>
        <p:spPr>
          <a:xfrm>
            <a:off x="3071880" y="1714680"/>
            <a:ext cx="5817960" cy="1428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http://shop.astrogorizont.com/images/product_images/popup_images/22_0.jpg"/>
          <p:cNvPicPr/>
          <p:nvPr/>
        </p:nvPicPr>
        <p:blipFill>
          <a:blip r:embed="rId2"/>
          <a:stretch/>
        </p:blipFill>
        <p:spPr>
          <a:xfrm>
            <a:off x="5572080" y="3286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94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ектор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Цей пристрій призначений для отримання збільшеного зображення предметі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користовується в кінотеатрах для демонстрування фільмі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2" descr="http://www.fizika.ru/theory/tema-12/12p-i2.gif"/>
          <p:cNvPicPr/>
          <p:nvPr/>
        </p:nvPicPr>
        <p:blipFill>
          <a:blip r:embed="rId1"/>
          <a:stretch/>
        </p:blipFill>
        <p:spPr>
          <a:xfrm>
            <a:off x="3214800" y="2143080"/>
            <a:ext cx="5143320" cy="2965320"/>
          </a:xfrm>
          <a:prstGeom prst="rect">
            <a:avLst/>
          </a:prstGeom>
          <a:ln w="0">
            <a:noFill/>
          </a:ln>
        </p:spPr>
      </p:pic>
      <p:sp>
        <p:nvSpPr>
          <p:cNvPr id="397" name="WordArt 5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Corbel"/>
              </a:rPr>
              <a:t>Дисперсія світла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на скляній призмі дозволяє розкласти біле світло на кольори. Цю картинку називають спектра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Prism.gif"/>
          <p:cNvPicPr/>
          <p:nvPr/>
        </p:nvPicPr>
        <p:blipFill>
          <a:blip r:embed="rId2"/>
          <a:stretch/>
        </p:blipFill>
        <p:spPr>
          <a:xfrm>
            <a:off x="3286080" y="471492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raznoe280"/>
          <p:cNvPicPr/>
          <p:nvPr/>
        </p:nvPicPr>
        <p:blipFill>
          <a:blip r:embed="rId3"/>
          <a:stretch/>
        </p:blipFill>
        <p:spPr>
          <a:xfrm>
            <a:off x="6553080" y="4714920"/>
            <a:ext cx="2333880" cy="185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9" descr="120px-Light_dispersion_conceptual"/>
          <p:cNvPicPr/>
          <p:nvPr/>
        </p:nvPicPr>
        <p:blipFill>
          <a:blip r:embed="rId4"/>
          <a:stretch/>
        </p:blipFill>
        <p:spPr>
          <a:xfrm>
            <a:off x="4071960" y="1643040"/>
            <a:ext cx="3352680" cy="2097000"/>
          </a:xfrm>
          <a:prstGeom prst="rect">
            <a:avLst/>
          </a:prstGeom>
          <a:ln w="0">
            <a:noFill/>
          </a:ln>
        </p:spPr>
      </p:pic>
      <p:sp>
        <p:nvSpPr>
          <p:cNvPr id="403" name="WordArt 8"/>
          <p:cNvSpPr txBox="1"/>
          <p:nvPr/>
        </p:nvSpPr>
        <p:spPr>
          <a:xfrm>
            <a:off x="0" y="0"/>
            <a:ext cx="2627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лі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зкладанн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ітла на спектр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http://www.fizika.ru/theory/tema-12/12o-i1.jpg"/>
          <p:cNvPicPr/>
          <p:nvPr/>
        </p:nvPicPr>
        <p:blipFill>
          <a:blip r:embed="rId2"/>
          <a:stretch/>
        </p:blipFill>
        <p:spPr>
          <a:xfrm>
            <a:off x="642960" y="2786040"/>
            <a:ext cx="8183520" cy="2857680"/>
          </a:xfrm>
          <a:prstGeom prst="rect">
            <a:avLst/>
          </a:prstGeom>
          <a:ln w="0">
            <a:noFill/>
          </a:ln>
        </p:spPr>
      </p:pic>
      <p:sp>
        <p:nvSpPr>
          <p:cNvPr id="406" name="WordArt 6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астина світлового спектра поглинається, аколір предметів утворюється відбитими частинами спект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ttp://digitalwork.narod.ru/pics/pic17.gif"/>
          <p:cNvPicPr/>
          <p:nvPr/>
        </p:nvPicPr>
        <p:blipFill>
          <a:blip r:embed="rId2"/>
          <a:stretch/>
        </p:blipFill>
        <p:spPr>
          <a:xfrm>
            <a:off x="2928960" y="2571840"/>
            <a:ext cx="6000840" cy="3286080"/>
          </a:xfrm>
          <a:prstGeom prst="rect">
            <a:avLst/>
          </a:prstGeom>
          <a:ln w="0">
            <a:noFill/>
          </a:ln>
        </p:spPr>
      </p:pic>
      <p:sp>
        <p:nvSpPr>
          <p:cNvPr id="410" name="WordArt 7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орове сприйняття кольорі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http://avemeri.by.ru/syndychok/izobr/rm2.jpg"/>
          <p:cNvPicPr/>
          <p:nvPr/>
        </p:nvPicPr>
        <p:blipFill>
          <a:blip r:embed="rId2"/>
          <a:stretch/>
        </p:blipFill>
        <p:spPr>
          <a:xfrm>
            <a:off x="5715000" y="3429000"/>
            <a:ext cx="3257640" cy="3257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RGB.gif"/>
          <p:cNvPicPr/>
          <p:nvPr/>
        </p:nvPicPr>
        <p:blipFill>
          <a:blip r:embed="rId3"/>
          <a:stretch/>
        </p:blipFill>
        <p:spPr>
          <a:xfrm>
            <a:off x="2286000" y="2000160"/>
            <a:ext cx="3344760" cy="2500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sdo.uspi.ru/mathem&amp;inform/dopoln/dop_lek13/Image283.gif"/>
          <p:cNvPicPr/>
          <p:nvPr/>
        </p:nvPicPr>
        <p:blipFill>
          <a:blip r:embed="rId4"/>
          <a:stretch/>
        </p:blipFill>
        <p:spPr>
          <a:xfrm>
            <a:off x="500040" y="4487760"/>
            <a:ext cx="1857240" cy="2202120"/>
          </a:xfrm>
          <a:prstGeom prst="rect">
            <a:avLst/>
          </a:prstGeom>
          <a:ln w="0">
            <a:noFill/>
          </a:ln>
        </p:spPr>
      </p:pic>
      <p:sp>
        <p:nvSpPr>
          <p:cNvPr id="416" name="WordArt 8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дивіться в центр кол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Через деякий час колір крапок змінить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8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http://flogiston.ru/img/image6su.gif"/>
          <p:cNvPicPr/>
          <p:nvPr/>
        </p:nvPicPr>
        <p:blipFill>
          <a:blip r:embed="rId2"/>
          <a:stretch/>
        </p:blipFill>
        <p:spPr>
          <a:xfrm>
            <a:off x="3929040" y="1857240"/>
            <a:ext cx="4448160" cy="4448160"/>
          </a:xfrm>
          <a:prstGeom prst="rect">
            <a:avLst/>
          </a:prstGeom>
          <a:ln w="0">
            <a:noFill/>
          </a:ln>
        </p:spPr>
      </p:pic>
      <p:sp>
        <p:nvSpPr>
          <p:cNvPr id="420" name="WordArt 6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843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Холодні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3000240" y="400068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ампи дненного сві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3000240" y="37148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юмінесцентне сві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6215040" y="2000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кран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телевізо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http://www.vitawater.ru/user_img/phpuUo0a4.jpg"/>
          <p:cNvPicPr/>
          <p:nvPr/>
        </p:nvPicPr>
        <p:blipFill>
          <a:blip r:embed="rId1"/>
          <a:stretch/>
        </p:blipFill>
        <p:spPr>
          <a:xfrm>
            <a:off x="3071880" y="1714680"/>
            <a:ext cx="2293920" cy="1971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ttp://www.centrmetall-m.ru/img/svet/201_1.jpg"/>
          <p:cNvPicPr/>
          <p:nvPr/>
        </p:nvPicPr>
        <p:blipFill>
          <a:blip r:embed="rId2"/>
          <a:stretch/>
        </p:blipFill>
        <p:spPr>
          <a:xfrm>
            <a:off x="3000240" y="4357800"/>
            <a:ext cx="3095640" cy="2384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http://www.goodgoods.ru/pages/img/big/3977.jpg"/>
          <p:cNvPicPr/>
          <p:nvPr/>
        </p:nvPicPr>
        <p:blipFill>
          <a:blip r:embed="rId3"/>
          <a:stretch/>
        </p:blipFill>
        <p:spPr>
          <a:xfrm>
            <a:off x="6222960" y="2714760"/>
            <a:ext cx="2683080" cy="3833640"/>
          </a:xfrm>
          <a:prstGeom prst="rect">
            <a:avLst/>
          </a:prstGeom>
          <a:ln w="0">
            <a:noFill/>
          </a:ln>
        </p:spPr>
      </p:pic>
      <p:sp>
        <p:nvSpPr>
          <p:cNvPr id="321" name="WordArt 10"/>
          <p:cNvSpPr txBox="1"/>
          <p:nvPr/>
        </p:nvSpPr>
        <p:spPr>
          <a:xfrm>
            <a:off x="3203640" y="260280"/>
            <a:ext cx="5040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жерела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вітлові промені поширюються прямоліній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http://www.fizika.ru/theory/tema-12/12d-i1.jpg"/>
          <p:cNvPicPr/>
          <p:nvPr/>
        </p:nvPicPr>
        <p:blipFill>
          <a:blip r:embed="rId1"/>
          <a:stretch/>
        </p:blipFill>
        <p:spPr>
          <a:xfrm>
            <a:off x="3214800" y="1785960"/>
            <a:ext cx="2832120" cy="1643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http://www.fizika.ru/theory/tema-12/12d-i2.jpg"/>
          <p:cNvPicPr/>
          <p:nvPr/>
        </p:nvPicPr>
        <p:blipFill>
          <a:blip r:embed="rId2"/>
          <a:stretch/>
        </p:blipFill>
        <p:spPr>
          <a:xfrm>
            <a:off x="6143760" y="1785960"/>
            <a:ext cx="2833560" cy="1643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http://www.fizika.ru/theory/tema-12/12d-i3.gif"/>
          <p:cNvPicPr/>
          <p:nvPr/>
        </p:nvPicPr>
        <p:blipFill>
          <a:blip r:embed="rId3"/>
          <a:stretch/>
        </p:blipFill>
        <p:spPr>
          <a:xfrm>
            <a:off x="3857760" y="3571920"/>
            <a:ext cx="4471920" cy="2571840"/>
          </a:xfrm>
          <a:prstGeom prst="rect">
            <a:avLst/>
          </a:prstGeom>
          <a:ln w="0">
            <a:noFill/>
          </a:ln>
        </p:spPr>
      </p:pic>
      <p:sp>
        <p:nvSpPr>
          <p:cNvPr id="326" name="WordArt 8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Сонячне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14" descr="Затмение 29 марта 2006 года, время указано в UTC"/>
          <p:cNvPicPr/>
          <p:nvPr/>
        </p:nvPicPr>
        <p:blipFill>
          <a:blip r:embed="rId1"/>
          <a:stretch/>
        </p:blipFill>
        <p:spPr>
          <a:xfrm>
            <a:off x="3000240" y="1500120"/>
            <a:ext cx="2928960" cy="3164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Солнечное затмение 1 августа 2008 года"/>
          <p:cNvPicPr/>
          <p:nvPr/>
        </p:nvPicPr>
        <p:blipFill>
          <a:blip r:embed="rId2"/>
          <a:stretch/>
        </p:blipFill>
        <p:spPr>
          <a:xfrm>
            <a:off x="6060960" y="3429000"/>
            <a:ext cx="2975040" cy="3211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3"/>
          <a:stretch/>
        </p:blipFill>
        <p:spPr>
          <a:xfrm>
            <a:off x="1000080" y="4714920"/>
            <a:ext cx="3665520" cy="1977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4"/>
          <a:stretch/>
        </p:blipFill>
        <p:spPr>
          <a:xfrm>
            <a:off x="6000840" y="1714680"/>
            <a:ext cx="2928960" cy="1476360"/>
          </a:xfrm>
          <a:prstGeom prst="rect">
            <a:avLst/>
          </a:prstGeom>
          <a:ln w="0">
            <a:noFill/>
          </a:ln>
        </p:spPr>
      </p:pic>
      <p:sp>
        <p:nvSpPr>
          <p:cNvPr id="332" name="WordArt 8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Місячне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2" descr="http://www.college.ru/astronomy/course/content/chapter1/section3/paragraph5/images/01030501.jpg"/>
          <p:cNvPicPr/>
          <p:nvPr/>
        </p:nvPicPr>
        <p:blipFill>
          <a:blip r:embed="rId1"/>
          <a:stretch/>
        </p:blipFill>
        <p:spPr>
          <a:xfrm>
            <a:off x="3071880" y="1714680"/>
            <a:ext cx="2946240" cy="2357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5357880" y="4286160"/>
            <a:ext cx="3647880" cy="2333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http://www.booksite.ru/fulltext/1/001/010/001/267427167.jpg"/>
          <p:cNvPicPr/>
          <p:nvPr/>
        </p:nvPicPr>
        <p:blipFill>
          <a:blip r:embed="rId3"/>
          <a:stretch/>
        </p:blipFill>
        <p:spPr>
          <a:xfrm>
            <a:off x="285840" y="4429080"/>
            <a:ext cx="4762440" cy="1990800"/>
          </a:xfrm>
          <a:prstGeom prst="rect">
            <a:avLst/>
          </a:prstGeom>
          <a:ln w="0">
            <a:noFill/>
          </a:ln>
        </p:spPr>
      </p:pic>
      <p:sp>
        <p:nvSpPr>
          <p:cNvPr id="337" name="WordArt 7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Фази Місячного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8" descr="http://moscowaleks.narod.ru/foto01/moonecl091103.JPG"/>
          <p:cNvPicPr/>
          <p:nvPr/>
        </p:nvPicPr>
        <p:blipFill>
          <a:blip r:embed="rId1"/>
          <a:stretch/>
        </p:blipFill>
        <p:spPr>
          <a:xfrm>
            <a:off x="3143160" y="1785960"/>
            <a:ext cx="5813640" cy="4643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ecoportal.ru/images/news/24734.jpg"/>
          <p:cNvPicPr/>
          <p:nvPr/>
        </p:nvPicPr>
        <p:blipFill>
          <a:blip r:embed="rId2"/>
          <a:stretch/>
        </p:blipFill>
        <p:spPr>
          <a:xfrm>
            <a:off x="285840" y="4572000"/>
            <a:ext cx="2495520" cy="1533600"/>
          </a:xfrm>
          <a:prstGeom prst="rect">
            <a:avLst/>
          </a:prstGeom>
          <a:ln w="0">
            <a:noFill/>
          </a:ln>
        </p:spPr>
      </p:pic>
      <p:sp>
        <p:nvSpPr>
          <p:cNvPr id="341" name="WordArt 6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а-обскура (темна кімната)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ак були створені перші фотографії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http://www.intuit.ru/department/history/ithistory/6/06-01.jpg"/>
          <p:cNvPicPr/>
          <p:nvPr/>
        </p:nvPicPr>
        <p:blipFill>
          <a:blip r:embed="rId1"/>
          <a:srcRect l="0" t="0" r="81" b="0"/>
          <a:stretch/>
        </p:blipFill>
        <p:spPr>
          <a:xfrm>
            <a:off x="2903400" y="1484280"/>
            <a:ext cx="6248520" cy="5373720"/>
          </a:xfrm>
          <a:prstGeom prst="rect">
            <a:avLst/>
          </a:prstGeom>
          <a:ln w="0">
            <a:noFill/>
          </a:ln>
        </p:spPr>
      </p:pic>
      <p:sp>
        <p:nvSpPr>
          <p:cNvPr id="344" name="WordArt 5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http://www.fizika.ru/theory/tema-12/12e-i1.jpg"/>
          <p:cNvPicPr/>
          <p:nvPr/>
        </p:nvPicPr>
        <p:blipFill>
          <a:blip r:embed="rId1"/>
          <a:stretch/>
        </p:blipFill>
        <p:spPr>
          <a:xfrm>
            <a:off x="214200" y="1643040"/>
            <a:ext cx="2646360" cy="1714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http://www.fizika.ru/theory/tema-12/12e-i2.jpg"/>
          <p:cNvPicPr/>
          <p:nvPr/>
        </p:nvPicPr>
        <p:blipFill>
          <a:blip r:embed="rId2"/>
          <a:stretch/>
        </p:blipFill>
        <p:spPr>
          <a:xfrm>
            <a:off x="214200" y="4143240"/>
            <a:ext cx="2646360" cy="1714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http://www.fizika.ru/theory/tema-12/12e-i3.gif"/>
          <p:cNvPicPr/>
          <p:nvPr/>
        </p:nvPicPr>
        <p:blipFill>
          <a:blip r:embed="rId3"/>
          <a:stretch/>
        </p:blipFill>
        <p:spPr>
          <a:xfrm>
            <a:off x="3143160" y="2571840"/>
            <a:ext cx="5767560" cy="2357280"/>
          </a:xfrm>
          <a:prstGeom prst="rect">
            <a:avLst/>
          </a:prstGeom>
          <a:ln w="0">
            <a:noFill/>
          </a:ln>
        </p:spPr>
      </p:pic>
      <p:sp>
        <p:nvSpPr>
          <p:cNvPr id="348" name="WordArt 7"/>
          <p:cNvSpPr txBox="1"/>
          <p:nvPr/>
        </p:nvSpPr>
        <p:spPr>
          <a:xfrm>
            <a:off x="3203640" y="333360"/>
            <a:ext cx="54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ідбивання світл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5:02:40Z</dcterms:created>
  <dc:creator>Papa</dc:creator>
  <dc:description/>
  <dc:language>en-US</dc:language>
  <cp:lastModifiedBy>SamLab.ws</cp:lastModifiedBy>
  <dcterms:modified xsi:type="dcterms:W3CDTF">2012-06-05T15:56:04Z</dcterms:modified>
  <cp:revision>23</cp:revision>
  <dc:subject/>
  <dc:title>Световые яв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a000000000001024140</vt:lpwstr>
  </property>
</Properties>
</file>