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gif" ContentType="image/gif"/>
  <Override PartName="/ppt/media/image9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C94-F40E-46F7-A28D-804786DC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091-1441-4B92-AC75-F1630DB5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946-6B38-4691-9782-F1EA64AB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AE0-6C57-4435-8A95-4197D97D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1662-A554-49B3-85C8-3D55444C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6292-A7B7-45F7-B8C6-E75EC647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B757-E020-40C8-968E-7A755BCF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7D69-D61D-474B-8283-B95761D0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9FA5-670C-4109-B98A-195AF2E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8BF1-8099-4F78-B0EC-2C8525A8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82FA-D161-4B88-9627-5584D97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847-B532-4DE7-AE62-612FC327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B9F1-54CF-484B-8F2A-522B17E4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ED7B-9EE6-422E-A9D2-066013EE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38B3-B9AD-48D7-9456-B2BD70B6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02C3-EADF-460F-8B2D-9E6BEF23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9AFC-8497-4805-A34E-EE4603C0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846-679A-4EA0-830C-FB8BA520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13F-2528-405E-9FDC-36E648EE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6C2-CD03-473C-9B7D-AFD9100B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B85-6B6E-461B-BBDE-7CC84893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CBB-A3C4-4CEF-8ACF-706C0DDE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842-64E1-4F27-AB8C-1D173E04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D68-FAD0-4C83-A09C-77D0AE64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5E05-7C8F-43A0-8CBD-7BBC28BCC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973E-3106-4370-8BD2-1F6D93DB7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" Target="slide2.xml"/><Relationship Id="rId5" Type="http://schemas.openxmlformats.org/officeDocument/2006/relationships/image" Target="../media/image5.gif"/><Relationship Id="rId6" Type="http://schemas.openxmlformats.org/officeDocument/2006/relationships/slide" Target="slide2.xm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" Target="slide3.xml"/><Relationship Id="rId5" Type="http://schemas.openxmlformats.org/officeDocument/2006/relationships/image" Target="../media/image5.gif"/><Relationship Id="rId6" Type="http://schemas.openxmlformats.org/officeDocument/2006/relationships/slide" Target="slide4.xm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4.gif"/><Relationship Id="rId4" Type="http://schemas.openxmlformats.org/officeDocument/2006/relationships/slide" Target="slide4.xml"/><Relationship Id="rId5" Type="http://schemas.openxmlformats.org/officeDocument/2006/relationships/image" Target="../media/image6.gif"/><Relationship Id="rId6" Type="http://schemas.openxmlformats.org/officeDocument/2006/relationships/slide" Target="slide5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4.gif"/><Relationship Id="rId4" Type="http://schemas.openxmlformats.org/officeDocument/2006/relationships/slide" Target="slide6.xml"/><Relationship Id="rId5" Type="http://schemas.openxmlformats.org/officeDocument/2006/relationships/image" Target="../media/image6.gif"/><Relationship Id="rId6" Type="http://schemas.openxmlformats.org/officeDocument/2006/relationships/slide" Target="slide5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6.xml"/><Relationship Id="rId5" Type="http://schemas.openxmlformats.org/officeDocument/2006/relationships/image" Target="../media/image5.gif"/><Relationship Id="rId6" Type="http://schemas.openxmlformats.org/officeDocument/2006/relationships/slide" Target="slide6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7.xml"/><Relationship Id="rId5" Type="http://schemas.openxmlformats.org/officeDocument/2006/relationships/image" Target="../media/image5.gif"/><Relationship Id="rId6" Type="http://schemas.openxmlformats.org/officeDocument/2006/relationships/slide" Target="slide8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00"/>
                </a:solidFill>
                <a:latin typeface="Arial"/>
              </a:rPr>
              <a:t>Світлові явищ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Оптичні явища в природі. Джерела світ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4941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7 кл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210996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За який час світло проходить відстань від Сонця до Землі, що дорівнює 150000000 км? Швидкість світла у вакуумі дорівнює 300000 км/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826920" y="3573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2050920" y="4653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327672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7340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5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500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450000000000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458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9900"/>
                </a:solidFill>
                <a:latin typeface="Arial"/>
              </a:rPr>
              <a:t>450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8000" y="549360"/>
            <a:ext cx="4608720" cy="3771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403280" y="4292640"/>
            <a:ext cx="61214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ЯКУЮ ЗА РОБОТУ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36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4f81bd"/>
                </a:solidFill>
                <a:latin typeface="Arial"/>
              </a:rPr>
              <a:t>Фізичні тіла, атоми та молекули яких випромінюють світло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 Фізичні тіла, атоми та молекули яких поглинають світл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ізичні тіла, атоми та молекули яких випромінюють і поглинають світл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Що називають джерелами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32720" y="537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:\Documents and Settings\Aida\Рабочий стол\НОвая ГРАФИКА сборник\КАРТИНКИ СБОРНИК_ школьные\3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51640" y="58053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лежно від температури джерел світла їх поділяють на 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4869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88000" y="551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:\Documents and Settings\Aida\Рабочий стол\НОвая ГРАФИКА сборник\КАРТИНКИ СБОРНИК_ школьные\3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9636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77336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Точков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669900"/>
                </a:solidFill>
                <a:latin typeface="Arial"/>
              </a:rPr>
              <a:t>Протяжні та люмінесцент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Теплові та люмінесцентні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і бувають джерела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56360" y="4941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:\Documents and Settings\Aida\Рабочий стол\НОвая ГРАФИКА сборник\КАРТИНКИ СБОРНИК_ школьные\3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9500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:\Documents and Settings\Aida\Рабочий стол\НОвая ГРАФИКА сборник\КАРТИНКИ СБОРНИК_ школьные\2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32720" y="551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1484280"/>
            <a:ext cx="8137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4800" spc="-1" strike="noStrike">
                <a:solidFill>
                  <a:srgbClr val="c0504d"/>
                </a:solidFill>
                <a:latin typeface="Arial"/>
              </a:rPr>
              <a:t>Штучн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669900"/>
                </a:solidFill>
                <a:latin typeface="Arial"/>
              </a:rPr>
              <a:t>Природні та штучні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Природн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Що називають приймачами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5229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:\Documents and Settings\Aida\Рабочий стол\НОвая ГРАФИКА сборник\КАРТИНКИ СБОРНИК_ школьные\3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87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:\Documents and Settings\Aida\Рабочий стол\НОвая ГРАФИКА сборник\КАРТИНКИ СБОРНИК_ школьные\2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32720" y="5589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70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669900"/>
                </a:solidFill>
                <a:latin typeface="Arial"/>
              </a:rPr>
              <a:t>Тіла, які випромінюють світ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c0504d"/>
                </a:solidFill>
                <a:latin typeface="Arial"/>
              </a:rPr>
              <a:t>Пристрої, за допомогою яких тіла світ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Пристрої, за допомогою яких можна виявити світлове випромінювання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е джерело називають протяжним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:\Documents and Settings\Aida\Рабочий стол\НОвая ГРАФИКА сборник\КАРТИНКИ СБОРНИК_ школьные\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32720" y="566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H:\Documents and Settings\Aida\Рабочий стол\НОвая ГРАФИКА сборник\КАРТИНКИ СБОРНИК_ школьные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6000" y="5445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14842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1. Якщо його розміри є відносно невеликими порівняно з відстанню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. Якщо його розміри дорівнюють відстані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3. Якщо його розміри є набагато більшими порівняно з відстанню від нього до приймача світла</a:t>
            </a:r>
            <a:r>
              <a:rPr b="1" lang="uk-UA" sz="2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5373720"/>
            <a:ext cx="26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7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е джерело світла називають точковими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Якщо його розміри є відносно невеликими порівняно з відстанню від нього до приймача світла</a:t>
            </a: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Якщо його розміри дорівнюють відстані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Якщо його розміри є набагото більшими порівняно з відстанню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:\Documents and Settings\Aida\Рабочий стол\НОвая ГРАФИКА сборник\КАРТИНКИ СБОРНИК_ школьные\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H:\Documents and Settings\Aida\Рабочий стол\НОвая ГРАФИКА сборник\КАРТИНКИ СБОРНИК_ школьные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5589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92360" y="558972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алежно від співвідношення розміру джерела світла і відстані від нього до приймача світла розрізняють такі джерела світ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очкові та протяжні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точков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протяжн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2"/>
          <a:stretch/>
        </p:blipFill>
        <p:spPr>
          <a:xfrm>
            <a:off x="7451640" y="587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804000" y="544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4"/>
          <a:stretch/>
        </p:blipFill>
        <p:spPr>
          <a:xfrm>
            <a:off x="6084720" y="508464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362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Однією з одиниць довжини, яку застосовують в астрономії, є світловий рік. Один світловий рік дорівнює відстані, що її проходить світло у вакуумі за один рік. Скільки кілометрів становить світловий рік, якщо швидкість світла у вакуумі дорівнює 300000км/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324000" y="465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4500720" y="465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979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076720" y="4354560"/>
            <a:ext cx="3816360" cy="1162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900000" y="4365720"/>
            <a:ext cx="3384720" cy="10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700360" y="5465880"/>
            <a:ext cx="360036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Admin</cp:lastModifiedBy>
  <dcterms:modified xsi:type="dcterms:W3CDTF">2012-05-16T04:58:3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4140</vt:lpwstr>
  </property>
</Properties>
</file>