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2EC-B03A-4188-B6E5-74A1DE72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974-CD1C-414C-874B-674E9BC5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9F3-5F9F-431E-80C0-59BE7AE9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CD6-DD5B-4BC5-8855-6EF5D2B0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FD10-A8A7-41FD-BD35-7B1D12E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449A-E161-457D-B617-D1075321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4E2C-F6E9-4B57-96A2-4B43464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3AB6-7182-4090-A915-E22FF3D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5EAA-E2DF-4429-AB53-A68D40F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205D-14D5-43DC-817F-72EDED1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F849-BA04-481F-8B38-A6DE922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DF9-4DF7-4E60-B79D-5B19DB1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2A1F-67DB-43D1-8D66-F05F334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F56-099A-469F-A2BB-50C1727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C35-5E42-46B7-A73C-DE66DB2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E02-F00F-476D-9946-366C526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EA0-EFA7-4B7E-8258-7C739C2B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F9A-5B85-4D1D-BD6B-C9FECEF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286-3DB5-4683-9F83-EB9BF17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76B-DBFC-4B72-B7B5-2BDC339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2E3-E54C-446B-91B4-C409D8E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9B5-8D51-4DC5-ABEC-9E06C44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7CA-622E-4AD8-96F9-EAEED0E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67F-18AD-456F-8044-3EBFE28D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057-1B73-405E-9760-2285EBB94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667-2D00-4071-AA43-1394EB18B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5.gif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image" Target="../media/image5.gif"/><Relationship Id="rId6" Type="http://schemas.openxmlformats.org/officeDocument/2006/relationships/slide" Target="slide4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4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6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7.xml"/><Relationship Id="rId5" Type="http://schemas.openxmlformats.org/officeDocument/2006/relationships/image" Target="../media/image5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Arial"/>
              </a:rPr>
              <a:t>Світлові явищ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Оптичні явища в природі. Джерела світ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4941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7 кл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10996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За який час світло проходить відстань від Сонця до Землі, що дорівнює 150000000 км? Швидкість світла у вакуумі дорівнює 300000 км/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82692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2050920" y="465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327672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7340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5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500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45000000000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5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45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4608720" cy="3771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03280" y="4292640"/>
            <a:ext cx="61214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ЯКУЮ ЗА РОБОТУ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f81bd"/>
                </a:solidFill>
                <a:latin typeface="Arial"/>
              </a:rPr>
              <a:t>Фізичні тіла, атоми та молекули яких випромінюють світло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Фізичні тіла, атоми та молекули яких поглинають світл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ізичні тіла, атоми та молекули яких випромінюють і поглинають світ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Що називають джерел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37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5805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лежно від температури джерел світла їх поділяють на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96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77336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Протяжні та люмінесцент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еплові та люмінесцент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і бувають джерела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4941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950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1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484280"/>
            <a:ext cx="813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800" spc="-1" strike="noStrike">
                <a:solidFill>
                  <a:srgbClr val="c0504d"/>
                </a:solidFill>
                <a:latin typeface="Arial"/>
              </a:rPr>
              <a:t>Штуч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669900"/>
                </a:solidFill>
                <a:latin typeface="Arial"/>
              </a:rPr>
              <a:t>Природні та штучні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Природ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Що називають приймач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8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9900"/>
                </a:solidFill>
                <a:latin typeface="Arial"/>
              </a:rPr>
              <a:t>Тіла, які випромінюють світ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c0504d"/>
                </a:solidFill>
                <a:latin typeface="Arial"/>
              </a:rPr>
              <a:t>Пристрої, за допомогою яких тіла світ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Пристрої, за допомогою яких можна виявити світлове випромінювання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називають протяжним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6000" y="5445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1. Якщо його розміри є відносно невелик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 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3. Якщо його розміри є набагато більшими порівняно з відстанню від нього до приймача світла</a:t>
            </a:r>
            <a:r>
              <a:rPr b="1" lang="uk-UA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537372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світла називають точковими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Якщо його розміри є відносно невеликими порівняно з відстанню від нього до приймача світла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Якщо його розміри є набагото більш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5589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58972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алежно від співвідношення розміру джерела світла і відстані від нього до приймача світла розрізняють такі джерела світ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очкові та протяж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тяжн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2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804000" y="544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4"/>
          <a:stretch/>
        </p:blipFill>
        <p:spPr>
          <a:xfrm>
            <a:off x="6084720" y="508464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Однією з одиниць довжини, яку застосовують в астрономії, є світловий рік. Один світловий рік дорівнює відстані, що її проходить світло у вакуумі за один рік. Скільки кілометрів становить світловий рік, якщо швидкість світла у вакуумі дорівнює 300000км/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32400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450072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979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76720" y="4354560"/>
            <a:ext cx="381636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900000" y="436572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700360" y="5465880"/>
            <a:ext cx="36003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Admin</cp:lastModifiedBy>
  <dcterms:modified xsi:type="dcterms:W3CDTF">2012-05-16T04:58:3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4140</vt:lpwstr>
  </property>
</Properties>
</file>