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51.jpeg" ContentType="image/jpeg"/>
  <Override PartName="/ppt/media/image6.jpeg" ContentType="image/jpeg"/>
  <Override PartName="/ppt/media/image50.png" ContentType="image/png"/>
  <Override PartName="/ppt/media/image48.jpeg" ContentType="image/jpeg"/>
  <Override PartName="/ppt/media/image1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56.gif" ContentType="image/gif"/>
  <Override PartName="/ppt/media/image49.png" ContentType="image/png"/>
  <Override PartName="/ppt/media/image23.jpeg" ContentType="image/jpeg"/>
  <Override PartName="/ppt/media/image42.png" ContentType="image/png"/>
  <Override PartName="/ppt/media/image54.gif" ContentType="image/gif"/>
  <Override PartName="/ppt/media/image35.jpeg" ContentType="image/jpeg"/>
  <Override PartName="/ppt/media/image1.jpeg" ContentType="image/jpeg"/>
  <Override PartName="/ppt/media/image52.png" ContentType="image/png"/>
  <Override PartName="/ppt/media/image12.gif" ContentType="image/gif"/>
  <Override PartName="/ppt/media/image17.jpeg" ContentType="image/jpeg"/>
  <Override PartName="/ppt/media/image15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8.jpeg" ContentType="image/jpeg"/>
  <Override PartName="/ppt/media/image22.jpeg" ContentType="image/jpeg"/>
  <Override PartName="/ppt/media/image39.png" ContentType="image/png"/>
  <Override PartName="/ppt/media/image14.jpeg" ContentType="image/jpeg"/>
  <Override PartName="/ppt/media/image13.gif" ContentType="image/gif"/>
  <Override PartName="/ppt/media/image7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58.png" ContentType="image/png"/>
  <Override PartName="/ppt/media/image46.jpeg" ContentType="image/jpeg"/>
  <Override PartName="/ppt/media/image55.gif" ContentType="image/gif"/>
  <Override PartName="/ppt/media/image24.jpeg" ContentType="image/jpeg"/>
  <Override PartName="/ppt/media/image37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png" ContentType="image/png"/>
  <Override PartName="/ppt/media/image3.jpeg" ContentType="image/jpeg"/>
  <Override PartName="/ppt/media/image41.png" ContentType="image/png"/>
  <Override PartName="/ppt/media/image43.jpeg" ContentType="image/jpeg"/>
  <Override PartName="/ppt/media/image26.jpeg" ContentType="image/jpeg"/>
  <Override PartName="/ppt/media/image47.gif" ContentType="image/gif"/>
  <Override PartName="/ppt/media/image53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31E-604C-466B-95A2-C3F23F7E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141-ADCA-4A0E-A865-20DA731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D7E-6E69-4D60-B596-2759E01B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851-F4C4-48BC-971A-560FF8F8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629-9BDB-4569-9C45-F0E797C3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F97-046D-433F-A845-9C8EEB4D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0DA5-75D1-4F2E-AE73-6EF75729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F7F3-1925-4E74-8B07-8CA42F9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B950-6A9B-42C1-BB3E-47CB1ADF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8D77-3294-428D-BC05-5F4D0EF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41B-CFEB-4074-9DCE-3902970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5F7-E265-4C29-9701-FC0C8070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6A55-BB38-4812-921F-071D680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9BE-F3B8-497D-A5B7-4C5C11E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5F8C-5F1D-4C1D-80CE-2E8BB0C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F977-483B-4A5D-8DDB-6E0B8DDF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82D-3294-4242-97A5-E88F8895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F4CF-E419-4A64-8BB3-8D0C03B5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0A0E-5B82-422F-A357-270373F3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E752-DE96-465C-8E36-3700C6B2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0990-23BE-4AB1-818D-04D9B596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C0DB-D110-447D-9F13-499B09E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C20-FFF5-4F85-943B-1A2679D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F371-2B2F-47FB-AC78-28C8509A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7CA20-621C-411E-9522-21471AF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23D3-15A5-4D0B-90E8-25A19857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8B99-FEDF-41F9-97C3-DA89B65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B8DB-5928-42DC-B5FD-AFE1699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4362-0A21-47F1-AF03-84153C96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BAE8-C424-4EC1-B311-5A3FD46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5512-EDF1-475E-9465-BD4FDCF2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B41F-DC28-48EC-8296-2964ECD4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5323-42D8-464F-8A6D-922F892E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6E9-B433-4AC2-985B-5437F218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813A-B847-4507-94F2-0FF9677B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EA020-D83E-4B21-B1DF-E8CE3F6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AA83-FB6B-4D45-B930-32E13A8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ADAE-B1FF-4505-A412-93F8F189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6F91-E5CA-4E77-A467-2ECB878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4AC3-1E94-441E-8A4F-642569D0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FB54-0D81-4D28-96E7-F1DF5728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DA4F-E0EB-41D4-9429-E4E29C59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08BA-CA2C-407B-867B-ACE80E75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1B3F-90C3-4398-A64C-A13F720B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194-8B21-46ED-A4E6-CA75CF6C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DE0A-E504-4E17-BD30-DA8160C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49A03-B717-4198-B874-DD1A0E8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48668-8867-4350-A73E-4E1C1072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D15E-7355-4BA0-8AF6-56CB94DD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D293-5907-4152-8CE4-CBFAEEB9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B8934-B5EB-4E99-8255-349BFEC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892E-058B-4DF7-B8F1-0463FA9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F4D24-BFC6-48E2-8605-F4B5C98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D803F-DE9D-41AC-932E-E14FB9A9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0642-C3E7-46D7-9F13-32FF0F93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1F7-6C62-40DB-8894-351C0B0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69C1-426A-4EE7-9147-6302FF79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36C9-49E8-4B6B-B579-7231BE52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ABE3-ABE5-459D-98AF-ECE6EB5D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73B5-DD06-4258-A8D8-CC34E72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F6ECD-1A5E-4E26-A887-0581C18C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18DB-E7EA-4EB0-9600-C02B4CE5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89A5-5473-4F5E-9465-E628412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E59A-88BE-46DE-9980-1180A641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59995-4467-49CD-88AA-882BE37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E9FC-6198-427F-B4E6-BC6FF88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2F1-6ECB-4F8C-93A7-E697D18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3DC2E-807F-4A5D-95E5-C78BC07D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4C32-4833-49C1-84B5-35DC4365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711A-4C94-4602-A1E6-41F0B507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8A61-ADEB-44EA-BDAE-AA3F1C7E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C1E73-02D0-4851-9D25-92F96D68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5AAB-CF74-44E1-82BB-21DAFFC4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EB08-E10C-4421-8CE8-941E99E5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7E3B-9757-4AF7-B51F-BE3E666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D0AE-516E-49A6-B24C-E9DA82CC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9C60C-6300-432D-A502-C1C8C44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520-78F3-4066-B7D0-64E353C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6BFED-339C-4E08-BC37-099CDCB5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4DDC-DD03-4CD7-BC47-AA421775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220B-C6E6-4C4B-9A3F-7D9AE43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11F2-D03A-4832-ACD9-AEB2ED4C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FFE7-4409-40EC-8F8A-38F4DF30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2C4-DF80-46BE-B418-35A221F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FCB-0752-4DC2-B256-93FF8C7DCDC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EAB-DC6B-44DD-BFE9-E255FB349CE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B4FD-6197-4371-B7F8-7AAF06B4A64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4178-E2E6-4115-8FD0-FB9581D03B8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940-DAD7-4F31-AD79-1AAE6B8630F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0DFB-7F01-495D-B69A-BF98F08A6BD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8712-1ADC-4906-A8A9-095855B2460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9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1042920" y="1413000"/>
            <a:ext cx="7058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ітлові явищ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www.fizika.ru/theory/tema-12/12g-i1.gif"/>
          <p:cNvPicPr/>
          <p:nvPr/>
        </p:nvPicPr>
        <p:blipFill>
          <a:blip r:embed="rId1"/>
          <a:stretch/>
        </p:blipFill>
        <p:spPr>
          <a:xfrm>
            <a:off x="0" y="1857240"/>
            <a:ext cx="2928960" cy="2239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fizika.ru/theory/tema-12/12g-i2.jpg"/>
          <p:cNvPicPr/>
          <p:nvPr/>
        </p:nvPicPr>
        <p:blipFill>
          <a:blip r:embed="rId2"/>
          <a:stretch/>
        </p:blipFill>
        <p:spPr>
          <a:xfrm>
            <a:off x="6087960" y="1500120"/>
            <a:ext cx="3056040" cy="2108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2928960" y="3714840"/>
            <a:ext cx="3143160" cy="30002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7"/>
          <p:cNvSpPr txBox="1"/>
          <p:nvPr/>
        </p:nvSpPr>
        <p:spPr>
          <a:xfrm>
            <a:off x="3132000" y="26028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ске дзеркал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Текст 3"/>
          <p:cNvSpPr/>
          <p:nvPr/>
        </p:nvSpPr>
        <p:spPr>
          <a:xfrm>
            <a:off x="142920" y="1571760"/>
            <a:ext cx="278604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www.fizika.ru/theory/tema-12/12h-i1.gif"/>
          <p:cNvPicPr/>
          <p:nvPr/>
        </p:nvPicPr>
        <p:blipFill>
          <a:blip r:embed="rId1"/>
          <a:stretch/>
        </p:blipFill>
        <p:spPr>
          <a:xfrm>
            <a:off x="2928960" y="1714680"/>
            <a:ext cx="5888160" cy="2000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fizika.ru/theory/tema-12/12h-i2.jpg"/>
          <p:cNvPicPr/>
          <p:nvPr/>
        </p:nvPicPr>
        <p:blipFill>
          <a:blip r:embed="rId2"/>
          <a:stretch/>
        </p:blipFill>
        <p:spPr>
          <a:xfrm>
            <a:off x="428760" y="4572000"/>
            <a:ext cx="7662600" cy="1857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6"/>
          <p:cNvSpPr txBox="1"/>
          <p:nvPr/>
        </p:nvSpPr>
        <p:spPr>
          <a:xfrm>
            <a:off x="3924360" y="404640"/>
            <a:ext cx="43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еричне д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www.fizika.ru/theory/tema-12/12i-i1.gif"/>
          <p:cNvPicPr/>
          <p:nvPr/>
        </p:nvPicPr>
        <p:blipFill>
          <a:blip r:embed="rId1"/>
          <a:stretch/>
        </p:blipFill>
        <p:spPr>
          <a:xfrm>
            <a:off x="1857240" y="1571760"/>
            <a:ext cx="6513480" cy="221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fiz.1september.ru/2006/18/08-09.gif"/>
          <p:cNvPicPr/>
          <p:nvPr/>
        </p:nvPicPr>
        <p:blipFill>
          <a:blip r:embed="rId2"/>
          <a:stretch/>
        </p:blipFill>
        <p:spPr>
          <a:xfrm>
            <a:off x="3929040" y="4071960"/>
            <a:ext cx="3086280" cy="2476440"/>
          </a:xfrm>
          <a:prstGeom prst="rect">
            <a:avLst/>
          </a:prstGeom>
          <a:ln w="0">
            <a:noFill/>
          </a:ln>
        </p:spPr>
      </p:pic>
      <p:sp>
        <p:nvSpPr>
          <p:cNvPr id="359" name="WordArt 6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www.light-miner.com/lessons/1/105/images/5.jpeg"/>
          <p:cNvPicPr/>
          <p:nvPr/>
        </p:nvPicPr>
        <p:blipFill>
          <a:blip r:embed="rId1"/>
          <a:stretch/>
        </p:blipFill>
        <p:spPr>
          <a:xfrm>
            <a:off x="3357720" y="21430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3780000" y="404640"/>
            <a:ext cx="47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ломлення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www.fizika.ru/theory/tema-12/12l-i1.gif"/>
          <p:cNvPicPr/>
          <p:nvPr/>
        </p:nvPicPr>
        <p:blipFill>
          <a:blip r:embed="rId1"/>
          <a:stretch/>
        </p:blipFill>
        <p:spPr>
          <a:xfrm>
            <a:off x="1357200" y="1785960"/>
            <a:ext cx="6923160" cy="2071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http://www.fizika.ru/theory/tema-12/12l-i2.gif"/>
          <p:cNvPicPr/>
          <p:nvPr/>
        </p:nvPicPr>
        <p:blipFill>
          <a:blip r:embed="rId2"/>
          <a:stretch/>
        </p:blipFill>
        <p:spPr>
          <a:xfrm>
            <a:off x="6143760" y="4071960"/>
            <a:ext cx="2666880" cy="2467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skorta.ru/pic/15970.jpg"/>
          <p:cNvPicPr/>
          <p:nvPr/>
        </p:nvPicPr>
        <p:blipFill>
          <a:blip r:embed="rId3"/>
          <a:stretch/>
        </p:blipFill>
        <p:spPr>
          <a:xfrm>
            <a:off x="571680" y="42688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365" name="WordArt 7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fizika.ru/theory/tema-12/12m-i1.jpg"/>
          <p:cNvPicPr/>
          <p:nvPr/>
        </p:nvPicPr>
        <p:blipFill>
          <a:blip r:embed="rId1"/>
          <a:stretch/>
        </p:blipFill>
        <p:spPr>
          <a:xfrm>
            <a:off x="142920" y="1500120"/>
            <a:ext cx="4157640" cy="2786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fizika.ru/theory/tema-12/12m-i2.gif"/>
          <p:cNvPicPr/>
          <p:nvPr/>
        </p:nvPicPr>
        <p:blipFill>
          <a:blip r:embed="rId2"/>
          <a:stretch/>
        </p:blipFill>
        <p:spPr>
          <a:xfrm>
            <a:off x="968400" y="4643280"/>
            <a:ext cx="7958160" cy="18576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6"/>
          <p:cNvSpPr txBox="1"/>
          <p:nvPr/>
        </p:nvSpPr>
        <p:spPr>
          <a:xfrm>
            <a:off x="3276720" y="404640"/>
            <a:ext cx="446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інз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1" descr="http://www.college.ru/PHYSICS/courses/op25part2/content/chapter3/section/paragraph4/images/3-4-1.gif"/>
          <p:cNvPicPr/>
          <p:nvPr/>
        </p:nvPicPr>
        <p:blipFill>
          <a:blip r:embed="rId1"/>
          <a:stretch/>
        </p:blipFill>
        <p:spPr>
          <a:xfrm>
            <a:off x="0" y="1571760"/>
            <a:ext cx="3257640" cy="261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http://www.fizika.ru/images/1x1.gif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ttp://www.fizika.ru/theory/tema-12/12p-i3.gif"/>
          <p:cNvPicPr/>
          <p:nvPr/>
        </p:nvPicPr>
        <p:blipFill>
          <a:blip r:embed="rId3"/>
          <a:stretch/>
        </p:blipFill>
        <p:spPr>
          <a:xfrm>
            <a:off x="2954160" y="4286160"/>
            <a:ext cx="5621400" cy="2286000"/>
          </a:xfrm>
          <a:prstGeom prst="rect">
            <a:avLst/>
          </a:prstGeom>
          <a:ln w="0">
            <a:noFill/>
          </a:ln>
        </p:spPr>
      </p:pic>
      <p:sp>
        <p:nvSpPr>
          <p:cNvPr id="372" name="WordArt 7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орушенні зору зображення віддалених предметів у випадку ненапруженого ока можуть утворитися перед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ітківкою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близорукість), або за сітківкою (дальнозор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1" descr="http://www.college.ru/PHYSICS/courses/op25part2/content/chapter3/section/paragraph4/images/3-4-2.gif"/>
          <p:cNvPicPr/>
          <p:nvPr/>
        </p:nvPicPr>
        <p:blipFill>
          <a:blip r:embed="rId1"/>
          <a:stretch/>
        </p:blipFill>
        <p:spPr>
          <a:xfrm>
            <a:off x="4214880" y="1857240"/>
            <a:ext cx="3929040" cy="478656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рекція дальнозоркості і близорукості ока за допомогою окуляр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7" name="Picture 1" descr="http://www.college.ru/PHYSICS/courses/op25part2/content/chapter3/section/paragraph4/images/3-4-3.gif"/>
          <p:cNvPicPr/>
          <p:nvPr/>
        </p:nvPicPr>
        <p:blipFill>
          <a:blip r:embed="rId1"/>
          <a:stretch/>
        </p:blipFill>
        <p:spPr>
          <a:xfrm>
            <a:off x="3467160" y="1428840"/>
            <a:ext cx="5676840" cy="318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http://www.photoforum.ru/f/photo/000/114/114193_80.jpg"/>
          <p:cNvPicPr/>
          <p:nvPr/>
        </p:nvPicPr>
        <p:blipFill>
          <a:blip r:embed="rId2"/>
          <a:stretch/>
        </p:blipFill>
        <p:spPr>
          <a:xfrm>
            <a:off x="357120" y="3929040"/>
            <a:ext cx="4373640" cy="26892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к оптичний прил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упа.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1" descr="http://www.college.ru/PHYSICS/courses/op25part2/content/chapter3/section/paragraph5/images/3-5-1.gif"/>
          <p:cNvPicPr/>
          <p:nvPr/>
        </p:nvPicPr>
        <p:blipFill>
          <a:blip r:embed="rId1"/>
          <a:stretch/>
        </p:blipFill>
        <p:spPr>
          <a:xfrm>
            <a:off x="3143160" y="1643040"/>
            <a:ext cx="5286600" cy="2857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http://www.weblancer.net/files/portfolio/294/29428/24073.jpg"/>
          <p:cNvPicPr/>
          <p:nvPr/>
        </p:nvPicPr>
        <p:blipFill>
          <a:blip r:embed="rId2"/>
          <a:stretch/>
        </p:blipFill>
        <p:spPr>
          <a:xfrm>
            <a:off x="3000240" y="4714920"/>
            <a:ext cx="2428920" cy="19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www.fizika.ru/theory/tema-12/12p-i1.gif"/>
          <p:cNvPicPr/>
          <p:nvPr/>
        </p:nvPicPr>
        <p:blipFill>
          <a:blip r:embed="rId3"/>
          <a:stretch/>
        </p:blipFill>
        <p:spPr>
          <a:xfrm>
            <a:off x="5643720" y="4786200"/>
            <a:ext cx="3143160" cy="1959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http://www.fizika.ru/images/1x1.gif"/>
          <p:cNvPicPr/>
          <p:nvPr/>
        </p:nvPicPr>
        <p:blipFill>
          <a:blip r:embed="rId4"/>
          <a:stretch/>
        </p:blipFill>
        <p:spPr>
          <a:xfrm>
            <a:off x="155520" y="-85248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http://physics.nad.ru/Physics/Lens.gif"/>
          <p:cNvPicPr/>
          <p:nvPr/>
        </p:nvPicPr>
        <p:blipFill>
          <a:blip r:embed="rId5"/>
          <a:stretch/>
        </p:blipFill>
        <p:spPr>
          <a:xfrm>
            <a:off x="428760" y="5286240"/>
            <a:ext cx="1785960" cy="1339920"/>
          </a:xfrm>
          <a:prstGeom prst="rect">
            <a:avLst/>
          </a:prstGeom>
          <a:ln w="0">
            <a:noFill/>
          </a:ln>
        </p:spPr>
      </p:pic>
      <p:sp>
        <p:nvSpPr>
          <p:cNvPr id="386" name="WordArt 9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Гарячі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http://www.fizika.ru/theory/tema-12/12a-i1.jpg"/>
          <p:cNvPicPr/>
          <p:nvPr/>
        </p:nvPicPr>
        <p:blipFill>
          <a:blip r:embed="rId1"/>
          <a:srcRect l="0" t="0" r="-247" b="0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6215040" y="4214880"/>
            <a:ext cx="2674800" cy="23572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0"/>
          <p:cNvSpPr/>
          <p:nvPr/>
        </p:nvSpPr>
        <p:spPr>
          <a:xfrm>
            <a:off x="6227640" y="37861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уговий ро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3000240" y="3714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авка мет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http://www.photoline.ru/critic/pic/1123446132.jpg"/>
          <p:cNvPicPr/>
          <p:nvPr/>
        </p:nvPicPr>
        <p:blipFill>
          <a:blip r:embed="rId3"/>
          <a:stretch/>
        </p:blipFill>
        <p:spPr>
          <a:xfrm>
            <a:off x="3143160" y="4572000"/>
            <a:ext cx="2826000" cy="20192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3"/>
          <p:cNvSpPr/>
          <p:nvPr/>
        </p:nvSpPr>
        <p:spPr>
          <a:xfrm>
            <a:off x="3214800" y="4143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лум’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http://www.astrolab.ru/cgi-bin/img.cgi?i=20/00000007.jpg&amp;p=galery"/>
          <p:cNvPicPr/>
          <p:nvPr/>
        </p:nvPicPr>
        <p:blipFill>
          <a:blip r:embed="rId4"/>
          <a:stretch/>
        </p:blipFill>
        <p:spPr>
          <a:xfrm>
            <a:off x="6715080" y="1643040"/>
            <a:ext cx="2195640" cy="2100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572080" y="2786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нц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WordArt 12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rbel"/>
              </a:rPr>
              <a:t>Мікроскоп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3" descr="http://cccp1917.narod.ru/graph/scope.jpg"/>
          <p:cNvPicPr/>
          <p:nvPr/>
        </p:nvPicPr>
        <p:blipFill>
          <a:blip r:embed="rId1"/>
          <a:stretch/>
        </p:blipFill>
        <p:spPr>
          <a:xfrm>
            <a:off x="214200" y="2786040"/>
            <a:ext cx="2381400" cy="3606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http://www.college.ru/PHYSICS/courses/op25part2/content/chapter3/section/paragraph5/images/3-5-2.gif"/>
          <p:cNvPicPr/>
          <p:nvPr/>
        </p:nvPicPr>
        <p:blipFill>
          <a:blip r:embed="rId2"/>
          <a:stretch/>
        </p:blipFill>
        <p:spPr>
          <a:xfrm>
            <a:off x="2857680" y="2357280"/>
            <a:ext cx="6003720" cy="2428920"/>
          </a:xfrm>
          <a:prstGeom prst="rect">
            <a:avLst/>
          </a:prstGeom>
          <a:ln w="0">
            <a:noFill/>
          </a:ln>
        </p:spPr>
      </p:pic>
      <p:sp>
        <p:nvSpPr>
          <p:cNvPr id="390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Хід променів в астрономічному </a:t>
            </a: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телескопі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Око спостерігача акомодоване на безкінечність, тому промені від кожної точки віддаленого предмета виходять із окуляра паралельними пучками. Такой хід променів називають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телескопічним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1" descr="http://www.college.ru/PHYSICS/courses/op25part2/content/chapter3/section/paragraph5/images/3-5-3.gif"/>
          <p:cNvPicPr/>
          <p:nvPr/>
        </p:nvPicPr>
        <p:blipFill>
          <a:blip r:embed="rId1"/>
          <a:stretch/>
        </p:blipFill>
        <p:spPr>
          <a:xfrm>
            <a:off x="3071880" y="1714680"/>
            <a:ext cx="5817960" cy="1428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http://shop.astrogorizont.com/images/product_images/popup_images/22_0.jpg"/>
          <p:cNvPicPr/>
          <p:nvPr/>
        </p:nvPicPr>
        <p:blipFill>
          <a:blip r:embed="rId2"/>
          <a:stretch/>
        </p:blipFill>
        <p:spPr>
          <a:xfrm>
            <a:off x="5572080" y="3286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6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ектор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Цей пристрій призначений для отримання збільшеного зображення предметі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користовується в кінотеатрах для демонстрування фільмі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2" descr="http://www.fizika.ru/theory/tema-12/12p-i2.gif"/>
          <p:cNvPicPr/>
          <p:nvPr/>
        </p:nvPicPr>
        <p:blipFill>
          <a:blip r:embed="rId1"/>
          <a:stretch/>
        </p:blipFill>
        <p:spPr>
          <a:xfrm>
            <a:off x="3214800" y="2143080"/>
            <a:ext cx="5143320" cy="2965320"/>
          </a:xfrm>
          <a:prstGeom prst="rect">
            <a:avLst/>
          </a:prstGeom>
          <a:ln w="0">
            <a:noFill/>
          </a:ln>
        </p:spPr>
      </p:pic>
      <p:sp>
        <p:nvSpPr>
          <p:cNvPr id="397" name="WordArt 5"/>
          <p:cNvSpPr txBox="1"/>
          <p:nvPr/>
        </p:nvSpPr>
        <p:spPr>
          <a:xfrm>
            <a:off x="327672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тичні прил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2560" y="1571400"/>
            <a:ext cx="278604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Corbel"/>
              </a:rPr>
              <a:t>Дисперсія світла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на скляній призмі дозволяє розкласти біле світло на кольори. Цю картинку називають спектра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Prism.gif"/>
          <p:cNvPicPr/>
          <p:nvPr/>
        </p:nvPicPr>
        <p:blipFill>
          <a:blip r:embed="rId2"/>
          <a:stretch/>
        </p:blipFill>
        <p:spPr>
          <a:xfrm>
            <a:off x="3286080" y="471492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raznoe280"/>
          <p:cNvPicPr/>
          <p:nvPr/>
        </p:nvPicPr>
        <p:blipFill>
          <a:blip r:embed="rId3"/>
          <a:stretch/>
        </p:blipFill>
        <p:spPr>
          <a:xfrm>
            <a:off x="6553080" y="4714920"/>
            <a:ext cx="2333880" cy="185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120px-Light_dispersion_conceptual"/>
          <p:cNvPicPr/>
          <p:nvPr/>
        </p:nvPicPr>
        <p:blipFill>
          <a:blip r:embed="rId4"/>
          <a:stretch/>
        </p:blipFill>
        <p:spPr>
          <a:xfrm>
            <a:off x="4071960" y="1643040"/>
            <a:ext cx="3352680" cy="2097000"/>
          </a:xfrm>
          <a:prstGeom prst="rect">
            <a:avLst/>
          </a:prstGeom>
          <a:ln w="0">
            <a:noFill/>
          </a:ln>
        </p:spPr>
      </p:pic>
      <p:sp>
        <p:nvSpPr>
          <p:cNvPr id="403" name="WordArt 8"/>
          <p:cNvSpPr txBox="1"/>
          <p:nvPr/>
        </p:nvSpPr>
        <p:spPr>
          <a:xfrm>
            <a:off x="0" y="0"/>
            <a:ext cx="26272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і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зклада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ітла на спектр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http://www.fizika.ru/theory/tema-12/12o-i1.jpg"/>
          <p:cNvPicPr/>
          <p:nvPr/>
        </p:nvPicPr>
        <p:blipFill>
          <a:blip r:embed="rId2"/>
          <a:stretch/>
        </p:blipFill>
        <p:spPr>
          <a:xfrm>
            <a:off x="642960" y="2786040"/>
            <a:ext cx="8183520" cy="2857680"/>
          </a:xfrm>
          <a:prstGeom prst="rect">
            <a:avLst/>
          </a:prstGeom>
          <a:ln w="0">
            <a:noFill/>
          </a:ln>
        </p:spPr>
      </p:pic>
      <p:sp>
        <p:nvSpPr>
          <p:cNvPr id="406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астина світлового спектра поглинається, аколір предметів утворюється відбитими частинами спект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digitalwork.narod.ru/pics/pic17.gif"/>
          <p:cNvPicPr/>
          <p:nvPr/>
        </p:nvPicPr>
        <p:blipFill>
          <a:blip r:embed="rId2"/>
          <a:stretch/>
        </p:blipFill>
        <p:spPr>
          <a:xfrm>
            <a:off x="2928960" y="2571840"/>
            <a:ext cx="6000840" cy="3286080"/>
          </a:xfrm>
          <a:prstGeom prst="rect">
            <a:avLst/>
          </a:prstGeom>
          <a:ln w="0">
            <a:noFill/>
          </a:ln>
        </p:spPr>
      </p:pic>
      <p:sp>
        <p:nvSpPr>
          <p:cNvPr id="410" name="WordArt 7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рове сприйняття кольорі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http://avemeri.by.ru/syndychok/izobr/rm2.jpg"/>
          <p:cNvPicPr/>
          <p:nvPr/>
        </p:nvPicPr>
        <p:blipFill>
          <a:blip r:embed="rId2"/>
          <a:stretch/>
        </p:blipFill>
        <p:spPr>
          <a:xfrm>
            <a:off x="5715000" y="3429000"/>
            <a:ext cx="3257640" cy="3257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RGB.gif"/>
          <p:cNvPicPr/>
          <p:nvPr/>
        </p:nvPicPr>
        <p:blipFill>
          <a:blip r:embed="rId3"/>
          <a:stretch/>
        </p:blipFill>
        <p:spPr>
          <a:xfrm>
            <a:off x="2286000" y="2000160"/>
            <a:ext cx="3344760" cy="25005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sdo.uspi.ru/mathem&amp;inform/dopoln/dop_lek13/Image283.gif"/>
          <p:cNvPicPr/>
          <p:nvPr/>
        </p:nvPicPr>
        <p:blipFill>
          <a:blip r:embed="rId4"/>
          <a:stretch/>
        </p:blipFill>
        <p:spPr>
          <a:xfrm>
            <a:off x="500040" y="4487760"/>
            <a:ext cx="1857240" cy="2202120"/>
          </a:xfrm>
          <a:prstGeom prst="rect">
            <a:avLst/>
          </a:prstGeom>
          <a:ln w="0">
            <a:noFill/>
          </a:ln>
        </p:spPr>
      </p:pic>
      <p:sp>
        <p:nvSpPr>
          <p:cNvPr id="416" name="WordArt 8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42560" y="1571760"/>
            <a:ext cx="2786040" cy="5286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ивіться в центр кол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Через деякий час колір крапок змінитьс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2" descr="http://www.fizika.ru/theory/tema-12/12n-i4.gif"/>
          <p:cNvPicPr/>
          <p:nvPr/>
        </p:nvPicPr>
        <p:blipFill>
          <a:blip r:embed="rId1"/>
          <a:stretch/>
        </p:blipFill>
        <p:spPr>
          <a:xfrm>
            <a:off x="3786120" y="214200"/>
            <a:ext cx="414360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http://flogiston.ru/img/image6su.gif"/>
          <p:cNvPicPr/>
          <p:nvPr/>
        </p:nvPicPr>
        <p:blipFill>
          <a:blip r:embed="rId2"/>
          <a:stretch/>
        </p:blipFill>
        <p:spPr>
          <a:xfrm>
            <a:off x="3929040" y="1857240"/>
            <a:ext cx="4448160" cy="4448160"/>
          </a:xfrm>
          <a:prstGeom prst="rect">
            <a:avLst/>
          </a:prstGeom>
          <a:ln w="0">
            <a:noFill/>
          </a:ln>
        </p:spPr>
      </p:pic>
      <p:sp>
        <p:nvSpPr>
          <p:cNvPr id="420" name="WordArt 6"/>
          <p:cNvSpPr txBox="1"/>
          <p:nvPr/>
        </p:nvSpPr>
        <p:spPr>
          <a:xfrm>
            <a:off x="179280" y="18900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ьор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меті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843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Холодні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3000240" y="40006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ампи дненного сві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000240" y="3714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юмінесцентн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6215040" y="2000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кран </a:t>
            </a: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телевізор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www.vitawater.ru/user_img/phpuUo0a4.jpg"/>
          <p:cNvPicPr/>
          <p:nvPr/>
        </p:nvPicPr>
        <p:blipFill>
          <a:blip r:embed="rId1"/>
          <a:stretch/>
        </p:blipFill>
        <p:spPr>
          <a:xfrm>
            <a:off x="3071880" y="1714680"/>
            <a:ext cx="2293920" cy="1971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www.centrmetall-m.ru/img/svet/201_1.jpg"/>
          <p:cNvPicPr/>
          <p:nvPr/>
        </p:nvPicPr>
        <p:blipFill>
          <a:blip r:embed="rId2"/>
          <a:stretch/>
        </p:blipFill>
        <p:spPr>
          <a:xfrm>
            <a:off x="3000240" y="4357800"/>
            <a:ext cx="3095640" cy="2384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oodgoods.ru/pages/img/big/3977.jpg"/>
          <p:cNvPicPr/>
          <p:nvPr/>
        </p:nvPicPr>
        <p:blipFill>
          <a:blip r:embed="rId3"/>
          <a:stretch/>
        </p:blipFill>
        <p:spPr>
          <a:xfrm>
            <a:off x="6222960" y="2714760"/>
            <a:ext cx="2683080" cy="383364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0"/>
          <p:cNvSpPr txBox="1"/>
          <p:nvPr/>
        </p:nvSpPr>
        <p:spPr>
          <a:xfrm>
            <a:off x="3203640" y="260280"/>
            <a:ext cx="5040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жерела світ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вітлові промені поширюються прямоліній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http://www.fizika.ru/theory/tema-12/12d-i1.jpg"/>
          <p:cNvPicPr/>
          <p:nvPr/>
        </p:nvPicPr>
        <p:blipFill>
          <a:blip r:embed="rId1"/>
          <a:stretch/>
        </p:blipFill>
        <p:spPr>
          <a:xfrm>
            <a:off x="3214800" y="1785960"/>
            <a:ext cx="2832120" cy="1643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http://www.fizika.ru/theory/tema-12/12d-i2.jpg"/>
          <p:cNvPicPr/>
          <p:nvPr/>
        </p:nvPicPr>
        <p:blipFill>
          <a:blip r:embed="rId2"/>
          <a:stretch/>
        </p:blipFill>
        <p:spPr>
          <a:xfrm>
            <a:off x="6143760" y="1785960"/>
            <a:ext cx="2833560" cy="1643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http://www.fizika.ru/theory/tema-12/12d-i3.gif"/>
          <p:cNvPicPr/>
          <p:nvPr/>
        </p:nvPicPr>
        <p:blipFill>
          <a:blip r:embed="rId3"/>
          <a:stretch/>
        </p:blipFill>
        <p:spPr>
          <a:xfrm>
            <a:off x="3857760" y="3571920"/>
            <a:ext cx="4471920" cy="2571840"/>
          </a:xfrm>
          <a:prstGeom prst="rect">
            <a:avLst/>
          </a:prstGeom>
          <a:ln w="0">
            <a:noFill/>
          </a:ln>
        </p:spPr>
      </p:pic>
      <p:sp>
        <p:nvSpPr>
          <p:cNvPr id="326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Сон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14" descr="Затмение 29 марта 2006 года, время указано в UTC"/>
          <p:cNvPicPr/>
          <p:nvPr/>
        </p:nvPicPr>
        <p:blipFill>
          <a:blip r:embed="rId1"/>
          <a:stretch/>
        </p:blipFill>
        <p:spPr>
          <a:xfrm>
            <a:off x="3000240" y="1500120"/>
            <a:ext cx="2928960" cy="3164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Солнечное затмение 1 августа 2008 года"/>
          <p:cNvPicPr/>
          <p:nvPr/>
        </p:nvPicPr>
        <p:blipFill>
          <a:blip r:embed="rId2"/>
          <a:stretch/>
        </p:blipFill>
        <p:spPr>
          <a:xfrm>
            <a:off x="6060960" y="3429000"/>
            <a:ext cx="2975040" cy="3211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3"/>
          <a:stretch/>
        </p:blipFill>
        <p:spPr>
          <a:xfrm>
            <a:off x="1000080" y="4714920"/>
            <a:ext cx="3665520" cy="1977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4"/>
          <a:stretch/>
        </p:blipFill>
        <p:spPr>
          <a:xfrm>
            <a:off x="6000840" y="1714680"/>
            <a:ext cx="2928960" cy="1476360"/>
          </a:xfrm>
          <a:prstGeom prst="rect">
            <a:avLst/>
          </a:prstGeom>
          <a:ln w="0">
            <a:noFill/>
          </a:ln>
        </p:spPr>
      </p:pic>
      <p:sp>
        <p:nvSpPr>
          <p:cNvPr id="332" name="WordArt 8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Місячне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www.college.ru/astronomy/course/content/chapter1/section3/paragraph5/images/01030501.jpg"/>
          <p:cNvPicPr/>
          <p:nvPr/>
        </p:nvPicPr>
        <p:blipFill>
          <a:blip r:embed="rId1"/>
          <a:stretch/>
        </p:blipFill>
        <p:spPr>
          <a:xfrm>
            <a:off x="3071880" y="1714680"/>
            <a:ext cx="2946240" cy="235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5357880" y="4286160"/>
            <a:ext cx="3647880" cy="233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www.booksite.ru/fulltext/1/001/010/001/267427167.jpg"/>
          <p:cNvPicPr/>
          <p:nvPr/>
        </p:nvPicPr>
        <p:blipFill>
          <a:blip r:embed="rId3"/>
          <a:stretch/>
        </p:blipFill>
        <p:spPr>
          <a:xfrm>
            <a:off x="285840" y="4429080"/>
            <a:ext cx="4762440" cy="19908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65240" y="1728720"/>
            <a:ext cx="2620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orbel"/>
              </a:rPr>
              <a:t>Фази Місячного затемнення</a:t>
            </a:r>
            <a:endParaRPr b="0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http://moscowaleks.narod.ru/foto01/moonecl091103.JPG"/>
          <p:cNvPicPr/>
          <p:nvPr/>
        </p:nvPicPr>
        <p:blipFill>
          <a:blip r:embed="rId1"/>
          <a:stretch/>
        </p:blipFill>
        <p:spPr>
          <a:xfrm>
            <a:off x="3143160" y="1785960"/>
            <a:ext cx="5813640" cy="4643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http://ecoportal.ru/images/news/24734.jpg"/>
          <p:cNvPicPr/>
          <p:nvPr/>
        </p:nvPicPr>
        <p:blipFill>
          <a:blip r:embed="rId2"/>
          <a:stretch/>
        </p:blipFill>
        <p:spPr>
          <a:xfrm>
            <a:off x="285840" y="4572000"/>
            <a:ext cx="2495520" cy="15336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а-обскура (темна кімната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ак були створені перші фотографії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http://www.intuit.ru/department/history/ithistory/6/06-01.jpg"/>
          <p:cNvPicPr/>
          <p:nvPr/>
        </p:nvPicPr>
        <p:blipFill>
          <a:blip r:embed="rId1"/>
          <a:srcRect l="0" t="0" r="81" b="0"/>
          <a:stretch/>
        </p:blipFill>
        <p:spPr>
          <a:xfrm>
            <a:off x="2903400" y="1484280"/>
            <a:ext cx="6248520" cy="5373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5"/>
          <p:cNvSpPr txBox="1"/>
          <p:nvPr/>
        </p:nvSpPr>
        <p:spPr>
          <a:xfrm>
            <a:off x="320364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ітло і ті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http://www.fizika.ru/theory/tema-12/12e-i1.jpg"/>
          <p:cNvPicPr/>
          <p:nvPr/>
        </p:nvPicPr>
        <p:blipFill>
          <a:blip r:embed="rId1"/>
          <a:stretch/>
        </p:blipFill>
        <p:spPr>
          <a:xfrm>
            <a:off x="214200" y="16430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http://www.fizika.ru/theory/tema-12/12e-i2.jpg"/>
          <p:cNvPicPr/>
          <p:nvPr/>
        </p:nvPicPr>
        <p:blipFill>
          <a:blip r:embed="rId2"/>
          <a:stretch/>
        </p:blipFill>
        <p:spPr>
          <a:xfrm>
            <a:off x="214200" y="4143240"/>
            <a:ext cx="2646360" cy="171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www.fizika.ru/theory/tema-12/12e-i3.gif"/>
          <p:cNvPicPr/>
          <p:nvPr/>
        </p:nvPicPr>
        <p:blipFill>
          <a:blip r:embed="rId3"/>
          <a:stretch/>
        </p:blipFill>
        <p:spPr>
          <a:xfrm>
            <a:off x="3143160" y="2571840"/>
            <a:ext cx="5767560" cy="2357280"/>
          </a:xfrm>
          <a:prstGeom prst="rect">
            <a:avLst/>
          </a:prstGeom>
          <a:ln w="0">
            <a:noFill/>
          </a:ln>
        </p:spPr>
      </p:pic>
      <p:sp>
        <p:nvSpPr>
          <p:cNvPr id="348" name="WordArt 7"/>
          <p:cNvSpPr txBox="1"/>
          <p:nvPr/>
        </p:nvSpPr>
        <p:spPr>
          <a:xfrm>
            <a:off x="3203640" y="333360"/>
            <a:ext cx="54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ідбивання світ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02:40Z</dcterms:created>
  <dc:creator>Papa</dc:creator>
  <dc:description/>
  <dc:language>en-US</dc:language>
  <cp:lastModifiedBy>SamLab.ws</cp:lastModifiedBy>
  <dcterms:modified xsi:type="dcterms:W3CDTF">2012-06-05T15:56:04Z</dcterms:modified>
  <cp:revision>23</cp:revision>
  <dc:subject/>
  <dc:title>Световые яв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a000000000001024140</vt:lpwstr>
  </property>
</Properties>
</file>