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gif" ContentType="image/gif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8.png" ContentType="image/png"/>
  <Override PartName="/ppt/media/image37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1.jpeg" ContentType="image/jpeg"/>
  <Override PartName="/ppt/media/image48.png" ContentType="image/png"/>
  <Override PartName="/ppt/media/image9.jpeg" ContentType="image/jpeg"/>
  <Override PartName="/ppt/media/image36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6.png" ContentType="image/png"/>
  <Override PartName="/ppt/media/image33.wmf" ContentType="image/x-wmf"/>
  <Override PartName="/ppt/media/image72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67.png" ContentType="image/png"/>
  <Override PartName="/ppt/media/image71.png" ContentType="image/png"/>
  <Override PartName="/ppt/media/image69.png" ContentType="image/png"/>
  <Override PartName="/ppt/media/image25.jpeg" ContentType="image/jpeg"/>
  <Override PartName="/ppt/media/image70.png" ContentType="image/png"/>
  <Override PartName="/ppt/media/image68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82.png" ContentType="image/png"/>
  <Override PartName="/ppt/media/image17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80.png" ContentType="image/png"/>
  <Override PartName="/ppt/media/image15.png" ContentType="image/png"/>
  <Override PartName="/ppt/media/image8.wmf" ContentType="image/x-wmf"/>
  <Override PartName="/ppt/media/image40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767-5D84-4F49-BBF0-41DA4B8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4F4-6581-408F-B999-36B06400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DA3-7F1A-4187-8118-7FDB6204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F3A-81B5-414A-BA1D-5007ADFE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188-22A7-4F85-A0C4-CE2D5CCB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F94-BDDE-4A40-AD10-6BE11BF2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483-6109-4813-9CFE-81A32BFE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8F4-C8D6-4294-9613-A09F3D5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AE0-3F16-49FC-ACE3-3810F4A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2F4-3FCF-4032-B469-ACADEE1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45D-495A-4B97-AE1B-A620B2E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D00-E86C-449D-9EF9-DFC00BB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5AB5-5E3F-46F2-8B7F-BC0A335556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8.png"/><Relationship Id="rId5" Type="http://schemas.openxmlformats.org/officeDocument/2006/relationships/image" Target="../media/image50.png"/><Relationship Id="rId6" Type="http://schemas.openxmlformats.org/officeDocument/2006/relationships/image" Target="../media/image49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3.png"/><Relationship Id="rId7" Type="http://schemas.openxmlformats.org/officeDocument/2006/relationships/image" Target="../media/image63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06600" y="134136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ія магнітного поля на провідник зі струмо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Ампер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92680" y="3333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Урок фізики в 11 клас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764320" y="414972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КЗШ №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Учитель фіз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Серьогіна Лілія Володимирі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66480" y="615168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м. Кривий Рі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4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слідити залежність сили Ампера від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від первинного положення спочатку однієї котушки, а потім двох котушок, в однаковому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4959360" cy="115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539640" y="476280"/>
            <a:ext cx="8064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, що діє на провідник зі струмом у магнітному полі, прямо пропорційна силі струму, магнітній індукції, активній довжині провідника і залежить від кута між напрямом струм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113440" y="486900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аралельно магнітним ліні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7" descr=""/>
          <p:cNvPicPr/>
          <p:nvPr/>
        </p:nvPicPr>
        <p:blipFill>
          <a:blip r:embed="rId2"/>
          <a:stretch/>
        </p:blipFill>
        <p:spPr>
          <a:xfrm>
            <a:off x="5776920" y="3933720"/>
            <a:ext cx="216540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9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160720" cy="730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179280" y="4869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ерпендикулярно до магнітних лі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Прямоугольник 3"/>
          <p:cNvGrpSpPr/>
          <p:nvPr/>
        </p:nvGrpSpPr>
        <p:grpSpPr>
          <a:xfrm>
            <a:off x="1590840" y="573120"/>
            <a:ext cx="512640" cy="2968560"/>
            <a:chOff x="1590840" y="573120"/>
            <a:chExt cx="512640" cy="2968560"/>
          </a:xfrm>
        </p:grpSpPr>
        <p:pic>
          <p:nvPicPr>
            <p:cNvPr id="11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90840" y="573120"/>
              <a:ext cx="51264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3044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Прямоугольник 4"/>
          <p:cNvGrpSpPr/>
          <p:nvPr/>
        </p:nvGrpSpPr>
        <p:grpSpPr>
          <a:xfrm>
            <a:off x="2700360" y="573120"/>
            <a:ext cx="519120" cy="2968560"/>
            <a:chOff x="2700360" y="573120"/>
            <a:chExt cx="519120" cy="2968560"/>
          </a:xfrm>
        </p:grpSpPr>
        <p:pic>
          <p:nvPicPr>
            <p:cNvPr id="11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700360" y="573120"/>
              <a:ext cx="51912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Прямоугольник 5"/>
          <p:cNvGrpSpPr/>
          <p:nvPr/>
        </p:nvGrpSpPr>
        <p:grpSpPr>
          <a:xfrm>
            <a:off x="6419880" y="3382920"/>
            <a:ext cx="511200" cy="2975040"/>
            <a:chOff x="6419880" y="3382920"/>
            <a:chExt cx="511200" cy="2975040"/>
          </a:xfrm>
        </p:grpSpPr>
        <p:pic>
          <p:nvPicPr>
            <p:cNvPr id="11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19880" y="3382920"/>
              <a:ext cx="5112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459480" y="340056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Прямоугольник 6"/>
          <p:cNvGrpSpPr/>
          <p:nvPr/>
        </p:nvGrpSpPr>
        <p:grpSpPr>
          <a:xfrm>
            <a:off x="7516800" y="3371760"/>
            <a:ext cx="517680" cy="2973600"/>
            <a:chOff x="7516800" y="3371760"/>
            <a:chExt cx="517680" cy="2973600"/>
          </a:xfrm>
        </p:grpSpPr>
        <p:pic>
          <p:nvPicPr>
            <p:cNvPr id="12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7516800" y="3371760"/>
              <a:ext cx="51768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58200" y="33847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" name="Прямая со стрелкой 8"/>
          <p:cNvCxnSpPr/>
          <p:nvPr/>
        </p:nvCxnSpPr>
        <p:spPr>
          <a:xfrm flipV="1">
            <a:off x="1450440" y="410760"/>
            <a:ext cx="1080" cy="8992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 flipV="1">
            <a:off x="3009600" y="403920"/>
            <a:ext cx="1080" cy="86940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6" name="Прямая со стрелкой 10"/>
          <p:cNvCxnSpPr/>
          <p:nvPr/>
        </p:nvCxnSpPr>
        <p:spPr>
          <a:xfrm flipV="1">
            <a:off x="6292440" y="3179520"/>
            <a:ext cx="1080" cy="8164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7829280" y="5373360"/>
            <a:ext cx="1080" cy="8326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sp>
        <p:nvSpPr>
          <p:cNvPr id="128" name="Дуга 16"/>
          <p:cNvSpPr/>
          <p:nvPr/>
        </p:nvSpPr>
        <p:spPr>
          <a:xfrm>
            <a:off x="755640" y="1582560"/>
            <a:ext cx="1987560" cy="803520"/>
          </a:xfrm>
          <a:custGeom>
            <a:avLst/>
            <a:gdLst/>
            <a:ahLst/>
            <a:rect l="l" t="t" r="r" b="b"/>
            <a:pathLst>
              <a:path stroke="0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  <a:lnTo>
                  <a:pt x="994157" y="401183"/>
                </a:lnTo>
                <a:lnTo>
                  <a:pt x="978221" y="52"/>
                </a:lnTo>
                <a:close/>
              </a:path>
              <a:path fill="none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20"/>
          <p:cNvSpPr/>
          <p:nvPr/>
        </p:nvSpPr>
        <p:spPr>
          <a:xfrm>
            <a:off x="1692360" y="1638360"/>
            <a:ext cx="208764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1179000" y="1879200"/>
            <a:ext cx="542160" cy="81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24"/>
          <p:cNvCxnSpPr/>
          <p:nvPr/>
        </p:nvCxnSpPr>
        <p:spPr>
          <a:xfrm flipV="1">
            <a:off x="6513480" y="3911400"/>
            <a:ext cx="651600" cy="754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 flipV="1">
            <a:off x="2743200" y="1146960"/>
            <a:ext cx="53424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28"/>
          <p:cNvCxnSpPr/>
          <p:nvPr/>
        </p:nvCxnSpPr>
        <p:spPr>
          <a:xfrm flipV="1">
            <a:off x="1749240" y="1974600"/>
            <a:ext cx="446760" cy="10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9215"/>
          <p:cNvCxnSpPr/>
          <p:nvPr/>
        </p:nvCxnSpPr>
        <p:spPr>
          <a:xfrm flipH="1">
            <a:off x="2267640" y="1974600"/>
            <a:ext cx="4676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5" name="TextBox 9223"/>
          <p:cNvSpPr/>
          <p:nvPr/>
        </p:nvSpPr>
        <p:spPr>
          <a:xfrm>
            <a:off x="1038600" y="404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40"/>
          <p:cNvSpPr/>
          <p:nvPr/>
        </p:nvSpPr>
        <p:spPr>
          <a:xfrm>
            <a:off x="5812920" y="30099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1"/>
          <p:cNvSpPr/>
          <p:nvPr/>
        </p:nvSpPr>
        <p:spPr>
          <a:xfrm>
            <a:off x="3022200" y="4255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2"/>
          <p:cNvSpPr/>
          <p:nvPr/>
        </p:nvSpPr>
        <p:spPr>
          <a:xfrm>
            <a:off x="7901280" y="56847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Группа 9227"/>
          <p:cNvGrpSpPr/>
          <p:nvPr/>
        </p:nvGrpSpPr>
        <p:grpSpPr>
          <a:xfrm>
            <a:off x="3179880" y="1130400"/>
            <a:ext cx="569520" cy="648720"/>
            <a:chOff x="3179880" y="1130400"/>
            <a:chExt cx="569520" cy="648720"/>
          </a:xfrm>
        </p:grpSpPr>
        <p:sp>
          <p:nvSpPr>
            <p:cNvPr id="140" name="TextBox 44"/>
            <p:cNvSpPr/>
            <p:nvPr/>
          </p:nvSpPr>
          <p:spPr>
            <a:xfrm>
              <a:off x="3179880" y="11304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Прямая со стрелкой 9226"/>
            <p:cNvCxnSpPr/>
            <p:nvPr/>
          </p:nvCxnSpPr>
          <p:spPr>
            <a:xfrm>
              <a:off x="3356640" y="1261440"/>
              <a:ext cx="216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7850160" y="3384720"/>
            <a:ext cx="822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9240"/>
          <p:cNvGrpSpPr/>
          <p:nvPr/>
        </p:nvGrpSpPr>
        <p:grpSpPr>
          <a:xfrm>
            <a:off x="741600" y="2425680"/>
            <a:ext cx="569520" cy="648720"/>
            <a:chOff x="741600" y="2425680"/>
            <a:chExt cx="569520" cy="648720"/>
          </a:xfrm>
        </p:grpSpPr>
        <p:sp>
          <p:nvSpPr>
            <p:cNvPr id="144" name="TextBox 46"/>
            <p:cNvSpPr/>
            <p:nvPr/>
          </p:nvSpPr>
          <p:spPr>
            <a:xfrm>
              <a:off x="741600" y="2425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Прямая со стрелкой 9233"/>
            <p:cNvCxnSpPr/>
            <p:nvPr/>
          </p:nvCxnSpPr>
          <p:spPr>
            <a:xfrm>
              <a:off x="876960" y="253584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46" name="Picture 4" descr=""/>
          <p:cNvPicPr/>
          <p:nvPr/>
        </p:nvPicPr>
        <p:blipFill>
          <a:blip r:embed="rId6"/>
          <a:stretch/>
        </p:blipFill>
        <p:spPr>
          <a:xfrm>
            <a:off x="6427800" y="3384720"/>
            <a:ext cx="822240" cy="858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7"/>
          <a:stretch/>
        </p:blipFill>
        <p:spPr>
          <a:xfrm>
            <a:off x="1508040" y="1890720"/>
            <a:ext cx="90828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70"/>
          <p:cNvGrpSpPr/>
          <p:nvPr/>
        </p:nvGrpSpPr>
        <p:grpSpPr>
          <a:xfrm>
            <a:off x="2180880" y="1389240"/>
            <a:ext cx="656280" cy="648720"/>
            <a:chOff x="2180880" y="1389240"/>
            <a:chExt cx="656280" cy="648720"/>
          </a:xfrm>
        </p:grpSpPr>
        <p:cxnSp>
          <p:nvCxnSpPr>
            <p:cNvPr id="149" name="Прямая со стрелкой 71"/>
            <p:cNvCxnSpPr/>
            <p:nvPr/>
          </p:nvCxnSpPr>
          <p:spPr>
            <a:xfrm>
              <a:off x="2344680" y="146916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0" name="TextBox 72"/>
            <p:cNvSpPr/>
            <p:nvPr/>
          </p:nvSpPr>
          <p:spPr>
            <a:xfrm>
              <a:off x="2180880" y="1389240"/>
              <a:ext cx="656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Дуга 76"/>
          <p:cNvSpPr/>
          <p:nvPr/>
        </p:nvSpPr>
        <p:spPr>
          <a:xfrm>
            <a:off x="5416560" y="4322880"/>
            <a:ext cx="2141640" cy="747720"/>
          </a:xfrm>
          <a:custGeom>
            <a:avLst/>
            <a:gdLst/>
            <a:ahLst/>
            <a:rect l="l" t="t" r="r" b="b"/>
            <a:pathLst>
              <a:path stroke="0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  <a:lnTo>
                  <a:pt x="1071120" y="373850"/>
                </a:lnTo>
                <a:lnTo>
                  <a:pt x="1118903" y="372"/>
                </a:lnTo>
                <a:close/>
              </a:path>
              <a:path fill="none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8"/>
          <p:cNvSpPr/>
          <p:nvPr/>
        </p:nvSpPr>
        <p:spPr>
          <a:xfrm>
            <a:off x="6513480" y="4322880"/>
            <a:ext cx="208908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35"/>
          <p:cNvCxnSpPr/>
          <p:nvPr/>
        </p:nvCxnSpPr>
        <p:spPr>
          <a:xfrm flipV="1">
            <a:off x="7551360" y="3911040"/>
            <a:ext cx="578520" cy="821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" name="Прямая со стрелкой 50"/>
          <p:cNvCxnSpPr/>
          <p:nvPr/>
        </p:nvCxnSpPr>
        <p:spPr>
          <a:xfrm flipH="1">
            <a:off x="5805360" y="4680000"/>
            <a:ext cx="687960" cy="16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55" name="Прямая со стрелкой 52"/>
          <p:cNvCxnSpPr/>
          <p:nvPr/>
        </p:nvCxnSpPr>
        <p:spPr>
          <a:xfrm flipV="1">
            <a:off x="7557840" y="4681080"/>
            <a:ext cx="703800" cy="151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7916760" y="4640400"/>
            <a:ext cx="908280" cy="85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5232240" y="4665600"/>
            <a:ext cx="908280" cy="85896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вправо 57"/>
          <p:cNvSpPr/>
          <p:nvPr/>
        </p:nvSpPr>
        <p:spPr>
          <a:xfrm flipH="1">
            <a:off x="3850560" y="1339920"/>
            <a:ext cx="1152360" cy="48564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8"/>
          <p:cNvSpPr/>
          <p:nvPr/>
        </p:nvSpPr>
        <p:spPr>
          <a:xfrm>
            <a:off x="4444920" y="385920"/>
            <a:ext cx="459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-в одному напрям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назустрі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притяг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право 98"/>
          <p:cNvSpPr/>
          <p:nvPr/>
        </p:nvSpPr>
        <p:spPr>
          <a:xfrm flipH="1" rot="10800000">
            <a:off x="3778920" y="4584600"/>
            <a:ext cx="1152360" cy="48600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0"/>
          <p:cNvSpPr/>
          <p:nvPr/>
        </p:nvSpPr>
        <p:spPr>
          <a:xfrm>
            <a:off x="336600" y="3814920"/>
            <a:ext cx="41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 – в різних напрям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протилеж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відштовх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635280" y="5814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У результаті дії сили Ампера рамка зі струмом може обертатися в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Описание: mag_ind1"/>
          <p:cNvPicPr/>
          <p:nvPr/>
        </p:nvPicPr>
        <p:blipFill>
          <a:blip r:embed="rId1"/>
          <a:stretch/>
        </p:blipFill>
        <p:spPr>
          <a:xfrm>
            <a:off x="5519880" y="3573360"/>
            <a:ext cx="2939760" cy="297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amper1"/>
          <p:cNvPicPr/>
          <p:nvPr/>
        </p:nvPicPr>
        <p:blipFill>
          <a:blip r:embed="rId2"/>
          <a:stretch/>
        </p:blipFill>
        <p:spPr>
          <a:xfrm>
            <a:off x="287280" y="0"/>
            <a:ext cx="4537080" cy="4608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755640" y="4662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Явище обертання рамки зі струмом у магнітному полі використовують у роботі електродвигун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76280" y="18900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7"/>
          <p:cNvGrpSpPr/>
          <p:nvPr/>
        </p:nvGrpSpPr>
        <p:grpSpPr>
          <a:xfrm>
            <a:off x="3701880" y="1514520"/>
            <a:ext cx="1238400" cy="1231560"/>
            <a:chOff x="3701880" y="1514520"/>
            <a:chExt cx="1238400" cy="1231560"/>
          </a:xfrm>
        </p:grpSpPr>
        <p:pic>
          <p:nvPicPr>
            <p:cNvPr id="169" name="Picture 12" descr=""/>
            <p:cNvPicPr/>
            <p:nvPr/>
          </p:nvPicPr>
          <p:blipFill>
            <a:blip r:embed="rId2"/>
            <a:stretch/>
          </p:blipFill>
          <p:spPr>
            <a:xfrm>
              <a:off x="3701880" y="1514520"/>
              <a:ext cx="123840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Группа 14"/>
            <p:cNvGrpSpPr/>
            <p:nvPr/>
          </p:nvGrpSpPr>
          <p:grpSpPr>
            <a:xfrm>
              <a:off x="4074840" y="1586520"/>
              <a:ext cx="763200" cy="1159560"/>
              <a:chOff x="4074840" y="1586520"/>
              <a:chExt cx="763200" cy="1159560"/>
            </a:xfrm>
          </p:grpSpPr>
          <p:sp>
            <p:nvSpPr>
              <p:cNvPr id="171" name="Стрелка вправо 13"/>
              <p:cNvSpPr/>
              <p:nvPr/>
            </p:nvSpPr>
            <p:spPr>
              <a:xfrm rot="16200000">
                <a:off x="4230360" y="2138400"/>
                <a:ext cx="866520" cy="348840"/>
              </a:xfrm>
              <a:prstGeom prst="rightArrow">
                <a:avLst>
                  <a:gd name="adj1" fmla="val 50000"/>
                  <a:gd name="adj2" fmla="val 49991"/>
                </a:avLst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4840" y="1586520"/>
                <a:ext cx="44460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Группа 16"/>
          <p:cNvGrpSpPr/>
          <p:nvPr/>
        </p:nvGrpSpPr>
        <p:grpSpPr>
          <a:xfrm>
            <a:off x="3838680" y="5411520"/>
            <a:ext cx="1238040" cy="1446480"/>
            <a:chOff x="3838680" y="5411520"/>
            <a:chExt cx="1238040" cy="1446480"/>
          </a:xfrm>
        </p:grpSpPr>
        <p:pic>
          <p:nvPicPr>
            <p:cNvPr id="174" name="Picture 15" descr=""/>
            <p:cNvPicPr/>
            <p:nvPr/>
          </p:nvPicPr>
          <p:blipFill>
            <a:blip r:embed="rId4"/>
            <a:stretch/>
          </p:blipFill>
          <p:spPr>
            <a:xfrm>
              <a:off x="3838680" y="5894640"/>
              <a:ext cx="123804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15"/>
            <p:cNvGrpSpPr/>
            <p:nvPr/>
          </p:nvGrpSpPr>
          <p:grpSpPr>
            <a:xfrm>
              <a:off x="4145400" y="5411520"/>
              <a:ext cx="719640" cy="896760"/>
              <a:chOff x="4145400" y="5411520"/>
              <a:chExt cx="719640" cy="896760"/>
            </a:xfrm>
          </p:grpSpPr>
          <p:pic>
            <p:nvPicPr>
              <p:cNvPr id="176" name="Picture 14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4457160" y="5411520"/>
                <a:ext cx="40788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400" y="6027480"/>
                <a:ext cx="44424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Группа 23"/>
          <p:cNvGrpSpPr/>
          <p:nvPr/>
        </p:nvGrpSpPr>
        <p:grpSpPr>
          <a:xfrm>
            <a:off x="1243080" y="2511360"/>
            <a:ext cx="6888240" cy="1662120"/>
            <a:chOff x="1243080" y="2511360"/>
            <a:chExt cx="6888240" cy="1662120"/>
          </a:xfrm>
        </p:grpSpPr>
        <p:grpSp>
          <p:nvGrpSpPr>
            <p:cNvPr id="179" name="Группа 9"/>
            <p:cNvGrpSpPr/>
            <p:nvPr/>
          </p:nvGrpSpPr>
          <p:grpSpPr>
            <a:xfrm>
              <a:off x="1622880" y="2868840"/>
              <a:ext cx="6508440" cy="1304640"/>
              <a:chOff x="1622880" y="2868840"/>
              <a:chExt cx="6508440" cy="1304640"/>
            </a:xfrm>
          </p:grpSpPr>
          <p:pic>
            <p:nvPicPr>
              <p:cNvPr id="180" name="Picture 7" descr=""/>
              <p:cNvPicPr/>
              <p:nvPr/>
            </p:nvPicPr>
            <p:blipFill>
              <a:blip r:embed="rId7"/>
              <a:stretch/>
            </p:blipFill>
            <p:spPr>
              <a:xfrm>
                <a:off x="1622880" y="2878920"/>
                <a:ext cx="23457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3400" y="2868840"/>
                <a:ext cx="2347920" cy="13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6320" y="2878920"/>
                <a:ext cx="780840" cy="77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Box 21"/>
            <p:cNvSpPr/>
            <p:nvPr/>
          </p:nvSpPr>
          <p:spPr>
            <a:xfrm>
              <a:off x="1243080" y="251136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Группа 24"/>
          <p:cNvGrpSpPr/>
          <p:nvPr/>
        </p:nvGrpSpPr>
        <p:grpSpPr>
          <a:xfrm>
            <a:off x="1208160" y="4000680"/>
            <a:ext cx="6923160" cy="1736640"/>
            <a:chOff x="1208160" y="4000680"/>
            <a:chExt cx="6923160" cy="1736640"/>
          </a:xfrm>
        </p:grpSpPr>
        <p:grpSp>
          <p:nvGrpSpPr>
            <p:cNvPr id="185" name="Группа 8"/>
            <p:cNvGrpSpPr/>
            <p:nvPr/>
          </p:nvGrpSpPr>
          <p:grpSpPr>
            <a:xfrm>
              <a:off x="1600560" y="4425120"/>
              <a:ext cx="6530760" cy="1312200"/>
              <a:chOff x="1600560" y="4425120"/>
              <a:chExt cx="6530760" cy="1312200"/>
            </a:xfrm>
          </p:grpSpPr>
          <p:pic>
            <p:nvPicPr>
              <p:cNvPr id="186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0560" y="4425120"/>
                <a:ext cx="2368440" cy="13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69360" y="4425120"/>
                <a:ext cx="2361960" cy="131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Группа 7"/>
              <p:cNvGrpSpPr/>
              <p:nvPr/>
            </p:nvGrpSpPr>
            <p:grpSpPr>
              <a:xfrm>
                <a:off x="4257000" y="4533480"/>
                <a:ext cx="720000" cy="648000"/>
                <a:chOff x="4257000" y="4533480"/>
                <a:chExt cx="720000" cy="648000"/>
              </a:xfrm>
            </p:grpSpPr>
            <p:grpSp>
              <p:nvGrpSpPr>
                <p:cNvPr id="189" name="Овал 5"/>
                <p:cNvGrpSpPr/>
                <p:nvPr/>
              </p:nvGrpSpPr>
              <p:grpSpPr>
                <a:xfrm>
                  <a:off x="4257000" y="4533480"/>
                  <a:ext cx="720000" cy="648000"/>
                  <a:chOff x="4257000" y="4533480"/>
                  <a:chExt cx="720000" cy="648000"/>
                </a:xfrm>
              </p:grpSpPr>
              <p:pic>
                <p:nvPicPr>
                  <p:cNvPr id="190" name="Овал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57000" y="4533480"/>
                    <a:ext cx="72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4355640" y="4606920"/>
                    <a:ext cx="321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Овал 6"/>
                <p:cNvSpPr/>
                <p:nvPr/>
              </p:nvSpPr>
              <p:spPr>
                <a:xfrm>
                  <a:off x="4466160" y="4704480"/>
                  <a:ext cx="100800" cy="8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TextBox 22"/>
            <p:cNvSpPr/>
            <p:nvPr/>
          </p:nvSpPr>
          <p:spPr>
            <a:xfrm>
              <a:off x="1208160" y="40006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Picture 2" descr=""/>
          <p:cNvPicPr/>
          <p:nvPr/>
        </p:nvPicPr>
        <p:blipFill>
          <a:blip r:embed="rId13"/>
          <a:stretch/>
        </p:blipFill>
        <p:spPr>
          <a:xfrm>
            <a:off x="-23760" y="-152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1040" y="401760"/>
            <a:ext cx="822960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20"/>
          <p:cNvGrpSpPr/>
          <p:nvPr/>
        </p:nvGrpSpPr>
        <p:grpSpPr>
          <a:xfrm>
            <a:off x="493560" y="2406600"/>
            <a:ext cx="3430800" cy="2102040"/>
            <a:chOff x="493560" y="2406600"/>
            <a:chExt cx="3430800" cy="2102040"/>
          </a:xfrm>
        </p:grpSpPr>
        <p:grpSp>
          <p:nvGrpSpPr>
            <p:cNvPr id="197" name="Прямоугольник 2"/>
            <p:cNvGrpSpPr/>
            <p:nvPr/>
          </p:nvGrpSpPr>
          <p:grpSpPr>
            <a:xfrm>
              <a:off x="883440" y="2781000"/>
              <a:ext cx="1022760" cy="1727640"/>
              <a:chOff x="883440" y="2781000"/>
              <a:chExt cx="1022760" cy="1727640"/>
            </a:xfrm>
          </p:grpSpPr>
          <p:pic>
            <p:nvPicPr>
              <p:cNvPr id="198" name="Прямо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3440" y="2781000"/>
                <a:ext cx="10227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923760" y="2791440"/>
                <a:ext cx="64944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Прямоугольник 4"/>
            <p:cNvGrpSpPr/>
            <p:nvPr/>
          </p:nvGrpSpPr>
          <p:grpSpPr>
            <a:xfrm>
              <a:off x="2896200" y="2770560"/>
              <a:ext cx="1028160" cy="1727640"/>
              <a:chOff x="2896200" y="2770560"/>
              <a:chExt cx="1028160" cy="1727640"/>
            </a:xfrm>
          </p:grpSpPr>
          <p:pic>
            <p:nvPicPr>
              <p:cNvPr id="201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6200" y="2770560"/>
                <a:ext cx="10281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2937600" y="2791440"/>
                <a:ext cx="649440" cy="13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Стрелка вправо 6"/>
            <p:cNvSpPr/>
            <p:nvPr/>
          </p:nvSpPr>
          <p:spPr>
            <a:xfrm rot="16200000">
              <a:off x="1574640" y="3309480"/>
              <a:ext cx="1426680" cy="389520"/>
            </a:xfrm>
            <a:prstGeom prst="rightArrow">
              <a:avLst>
                <a:gd name="adj1" fmla="val 50000"/>
                <a:gd name="adj2" fmla="val 47767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8"/>
            <p:cNvSpPr/>
            <p:nvPr/>
          </p:nvSpPr>
          <p:spPr>
            <a:xfrm>
              <a:off x="1811880" y="2605320"/>
              <a:ext cx="3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493560" y="2406600"/>
              <a:ext cx="4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Группа 22"/>
          <p:cNvGrpSpPr/>
          <p:nvPr/>
        </p:nvGrpSpPr>
        <p:grpSpPr>
          <a:xfrm>
            <a:off x="5057640" y="2406600"/>
            <a:ext cx="3816360" cy="2451240"/>
            <a:chOff x="5057640" y="2406600"/>
            <a:chExt cx="3816360" cy="2451240"/>
          </a:xfrm>
        </p:grpSpPr>
        <p:pic>
          <p:nvPicPr>
            <p:cNvPr id="207" name="Picture 3" descr=""/>
            <p:cNvPicPr/>
            <p:nvPr/>
          </p:nvPicPr>
          <p:blipFill>
            <a:blip r:embed="rId4"/>
            <a:stretch/>
          </p:blipFill>
          <p:spPr>
            <a:xfrm>
              <a:off x="7740720" y="2853360"/>
              <a:ext cx="113328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"/>
            <p:cNvPicPr/>
            <p:nvPr/>
          </p:nvPicPr>
          <p:blipFill>
            <a:blip r:embed="rId5"/>
            <a:stretch/>
          </p:blipFill>
          <p:spPr>
            <a:xfrm>
              <a:off x="5508360" y="2837520"/>
              <a:ext cx="117612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6"/>
            <a:stretch/>
          </p:blipFill>
          <p:spPr>
            <a:xfrm>
              <a:off x="6633720" y="3318480"/>
              <a:ext cx="7808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5057640" y="24066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3"/>
          <p:cNvSpPr/>
          <p:nvPr/>
        </p:nvSpPr>
        <p:spPr>
          <a:xfrm>
            <a:off x="879480" y="476280"/>
            <a:ext cx="7786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найти напрям сили Ампер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7"/>
          <a:stretch/>
        </p:blipFill>
        <p:spPr>
          <a:xfrm>
            <a:off x="6176880" y="4273560"/>
            <a:ext cx="12384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21"/>
          <p:cNvGrpSpPr/>
          <p:nvPr/>
        </p:nvGrpSpPr>
        <p:grpSpPr>
          <a:xfrm>
            <a:off x="1357200" y="4842000"/>
            <a:ext cx="2567160" cy="718200"/>
            <a:chOff x="1357200" y="4842000"/>
            <a:chExt cx="2567160" cy="718200"/>
          </a:xfrm>
        </p:grpSpPr>
        <p:sp>
          <p:nvSpPr>
            <p:cNvPr id="214" name="TextBox 14"/>
            <p:cNvSpPr/>
            <p:nvPr/>
          </p:nvSpPr>
          <p:spPr>
            <a:xfrm>
              <a:off x="1357200" y="4842000"/>
              <a:ext cx="25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до на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Прямая со стрелкой 19"/>
            <p:cNvCxnSpPr/>
            <p:nvPr/>
          </p:nvCxnSpPr>
          <p:spPr>
            <a:xfrm>
              <a:off x="1584360" y="4995720"/>
              <a:ext cx="360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216" name="Picture 2" descr=""/>
          <p:cNvPicPr/>
          <p:nvPr/>
        </p:nvPicPr>
        <p:blipFill>
          <a:blip r:embed="rId8"/>
          <a:stretch/>
        </p:blipFill>
        <p:spPr>
          <a:xfrm>
            <a:off x="131760" y="-125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266840" y="1576440"/>
            <a:ext cx="2432160" cy="180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42960" y="1916280"/>
            <a:ext cx="1238400" cy="1006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1116000" y="3833640"/>
            <a:ext cx="2109960" cy="159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681200" y="5421240"/>
            <a:ext cx="1238040" cy="144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5292720" y="1576440"/>
            <a:ext cx="2646360" cy="20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6"/>
          <a:stretch/>
        </p:blipFill>
        <p:spPr>
          <a:xfrm>
            <a:off x="4670280" y="1852560"/>
            <a:ext cx="1243080" cy="10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7"/>
          <a:stretch/>
        </p:blipFill>
        <p:spPr>
          <a:xfrm>
            <a:off x="5292720" y="3882960"/>
            <a:ext cx="27432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7"/>
          <p:cNvGrpSpPr/>
          <p:nvPr/>
        </p:nvGrpSpPr>
        <p:grpSpPr>
          <a:xfrm>
            <a:off x="5553000" y="5472000"/>
            <a:ext cx="2952720" cy="718200"/>
            <a:chOff x="5553000" y="5472000"/>
            <a:chExt cx="2952720" cy="718200"/>
          </a:xfrm>
        </p:grpSpPr>
        <p:sp>
          <p:nvSpPr>
            <p:cNvPr id="225" name="TextBox 4"/>
            <p:cNvSpPr/>
            <p:nvPr/>
          </p:nvSpPr>
          <p:spPr>
            <a:xfrm>
              <a:off x="5553000" y="5472000"/>
              <a:ext cx="2952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ді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Прямая со стрелкой 6"/>
            <p:cNvCxnSpPr/>
            <p:nvPr/>
          </p:nvCxnSpPr>
          <p:spPr>
            <a:xfrm>
              <a:off x="5715720" y="5614920"/>
              <a:ext cx="38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227" name="Picture 2" descr=""/>
          <p:cNvPicPr/>
          <p:nvPr/>
        </p:nvPicPr>
        <p:blipFill>
          <a:blip r:embed="rId8"/>
          <a:stretch/>
        </p:blipFill>
        <p:spPr>
          <a:xfrm>
            <a:off x="639720" y="260280"/>
            <a:ext cx="7785000" cy="1090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9"/>
          <a:stretch/>
        </p:blipFill>
        <p:spPr>
          <a:xfrm>
            <a:off x="0" y="-160200"/>
            <a:ext cx="15606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407628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2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468360" y="98100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1. Як зміниться сила Ампера, що діє на провідник зі струмом в однорідному магнітному полі, при збільшенні індукції магнітного поля в 2 рази? Провідник розташований перпендикулярно до вектора магнітної індукції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1332000" y="5084640"/>
            <a:ext cx="295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627280" y="334800"/>
            <a:ext cx="39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стові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90400" y="347940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9 раз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9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68360" y="40464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2. Як зміниться сила Ампера, що діє на прямолінійний провідник зі струмом в однорідному магнітному полі, при зменшенні сили струму в провіднику в 3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9"/>
          <p:cNvSpPr/>
          <p:nvPr/>
        </p:nvSpPr>
        <p:spPr>
          <a:xfrm>
            <a:off x="1187280" y="3933720"/>
            <a:ext cx="309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-189000"/>
            <a:ext cx="15602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24000" y="-24300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79600" y="349200"/>
            <a:ext cx="803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3. Як зміниться сила Ампера, що діє на прямолінійний провідник зі струмом в однорідному магнітному полі, при збільшенні сили струму в провіднику в 2 рази та зменшенні довжини провідника в 2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00000" y="386064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не зміни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4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>
            <a:off x="1476360" y="5373720"/>
            <a:ext cx="20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а ур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крити залежність сили дії магнітного поля на провідник зі струмом від індукції магнітного поля, сили струму в провіднику, довжини активної частини провідника і кута між напрямом струму в провідник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битися засвоєння і уміння застосовувати в різних ситуаціях правила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Book Antiqua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ивати уміння спостерігати, порівнювати і узагальнювати результати експерименту, розвивати в учнів навички самостійного набування зна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684360" y="620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4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-171360"/>
            <a:ext cx="1560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379760" cy="2519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9"/>
          <p:cNvSpPr/>
          <p:nvPr/>
        </p:nvSpPr>
        <p:spPr>
          <a:xfrm>
            <a:off x="684360" y="537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64000" y="5896080"/>
            <a:ext cx="749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5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95280" y="-316080"/>
            <a:ext cx="1554120" cy="1932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954600" y="1789200"/>
            <a:ext cx="4362480" cy="2863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971640" y="506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1619280" y="5584680"/>
            <a:ext cx="57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60012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6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600120" y="5157720"/>
            <a:ext cx="7419960" cy="749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3559320" y="1789200"/>
            <a:ext cx="5178240" cy="3252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5"/>
          <p:cNvSpPr/>
          <p:nvPr/>
        </p:nvSpPr>
        <p:spPr>
          <a:xfrm>
            <a:off x="1100160" y="5732640"/>
            <a:ext cx="59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11120" y="412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7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11120" y="5373720"/>
            <a:ext cx="7419960" cy="74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5"/>
          <p:cNvSpPr/>
          <p:nvPr/>
        </p:nvSpPr>
        <p:spPr>
          <a:xfrm>
            <a:off x="3276720" y="595008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1782720" y="2133720"/>
            <a:ext cx="6048360" cy="2590560"/>
            <a:chOff x="1782720" y="2133720"/>
            <a:chExt cx="6048360" cy="2590560"/>
          </a:xfrm>
        </p:grpSpPr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1782720" y="2133720"/>
              <a:ext cx="29876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" descr=""/>
            <p:cNvPicPr/>
            <p:nvPr/>
          </p:nvPicPr>
          <p:blipFill>
            <a:blip r:embed="rId4"/>
            <a:stretch/>
          </p:blipFill>
          <p:spPr>
            <a:xfrm>
              <a:off x="5499360" y="2190600"/>
              <a:ext cx="233172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68360" y="-24300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4360" y="40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8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5"/>
          <p:cNvSpPr/>
          <p:nvPr/>
        </p:nvSpPr>
        <p:spPr>
          <a:xfrm>
            <a:off x="3492360" y="6010200"/>
            <a:ext cx="90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1"/>
          <p:cNvGrpSpPr/>
          <p:nvPr/>
        </p:nvGrpSpPr>
        <p:grpSpPr>
          <a:xfrm>
            <a:off x="1476360" y="2133720"/>
            <a:ext cx="5975280" cy="2609640"/>
            <a:chOff x="1476360" y="2133720"/>
            <a:chExt cx="5975280" cy="2609640"/>
          </a:xfrm>
        </p:grpSpPr>
        <p:pic>
          <p:nvPicPr>
            <p:cNvPr id="269" name="Picture 2" descr=""/>
            <p:cNvPicPr/>
            <p:nvPr/>
          </p:nvPicPr>
          <p:blipFill>
            <a:blip r:embed="rId3"/>
            <a:stretch/>
          </p:blipFill>
          <p:spPr>
            <a:xfrm>
              <a:off x="1476360" y="2133720"/>
              <a:ext cx="303444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" descr=""/>
            <p:cNvPicPr/>
            <p:nvPr/>
          </p:nvPicPr>
          <p:blipFill>
            <a:blip r:embed="rId4"/>
            <a:stretch/>
          </p:blipFill>
          <p:spPr>
            <a:xfrm>
              <a:off x="5292000" y="2398320"/>
              <a:ext cx="2159640" cy="208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-345960"/>
            <a:ext cx="1554120" cy="19317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9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5"/>
          <p:cNvSpPr/>
          <p:nvPr/>
        </p:nvSpPr>
        <p:spPr>
          <a:xfrm>
            <a:off x="1116000" y="6021360"/>
            <a:ext cx="689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1"/>
          <p:cNvGrpSpPr/>
          <p:nvPr/>
        </p:nvGrpSpPr>
        <p:grpSpPr>
          <a:xfrm>
            <a:off x="1441440" y="2124000"/>
            <a:ext cx="6049800" cy="2610000"/>
            <a:chOff x="1441440" y="2124000"/>
            <a:chExt cx="6049800" cy="2610000"/>
          </a:xfrm>
        </p:grpSpPr>
        <p:pic>
          <p:nvPicPr>
            <p:cNvPr id="276" name="Picture 2" descr=""/>
            <p:cNvPicPr/>
            <p:nvPr/>
          </p:nvPicPr>
          <p:blipFill>
            <a:blip r:embed="rId3"/>
            <a:stretch/>
          </p:blipFill>
          <p:spPr>
            <a:xfrm>
              <a:off x="1441440" y="2124000"/>
              <a:ext cx="3035520" cy="26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4"/>
            <a:stretch/>
          </p:blipFill>
          <p:spPr>
            <a:xfrm>
              <a:off x="5117760" y="2124000"/>
              <a:ext cx="2373480" cy="229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503280" y="121608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1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овідник зі струмом силою 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4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А вміщений у магнітне поле з індукцією 0,5 Тл. З якою силою діє поле на провідник довжиною 50 см, розміщений під кутом 9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вектора магнітної індукції? Чому дорівнює сила, коли напрям струму утворює з напрямом вектора індукції кут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? Чому дорівнює сила, коли провідник зі струмом розміщений вздовж ліній магнітної індукції пол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68360" y="363600"/>
            <a:ext cx="4680000" cy="65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язування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3412440" y="5376960"/>
            <a:ext cx="52603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,5Н; 1,75Н; 0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95280" y="333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2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однорідному магнітному полі з індукцією 0,8 Тл на прямий провідник зі струмом 30А, довжина активної частини якого10см, діє сила 1,5Н. Під яким кутом до вектора індукції розташований провід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796000" y="2362320"/>
            <a:ext cx="273672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9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395280" y="30654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3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 струму в горизонтально розташованому провіднику завдовжки 20 см і масою 4 г дорівнює 10 А. Знайти індукцію магнітного поля, в яке потрібно помістити провідник, щоб сила тяжіння урівноважилася силою Ампера. Провідник розташований перпендикулярно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5261040" y="5862600"/>
            <a:ext cx="348768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20мТ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684360" y="620640"/>
            <a:ext cx="8064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4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Яку роботу виконує однорідне магнітне поле з індукцією 15мТл під час переміщення провідника довжиною 2м зі струмом 10А на відстань 20см у напрямі дії сили? Провідник розташований під кутом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5091480" y="3679920"/>
            <a:ext cx="343296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0мДж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395280" y="658800"/>
            <a:ext cx="828036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машнє завд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Є.В. Коршак «Фізика 11» вивчити §26-28, повторити §24-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Ф.Я. Божинова «Збірник задач. Фізика 11», розв’язати задачі №11.10, 11.18, 11.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41200"/>
          <a:ext cx="8229600" cy="650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3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хомий електричний за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гнітне поле – особлива форма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го гви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ї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54280" y="330120"/>
            <a:ext cx="1844640" cy="94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654280" y="1341360"/>
            <a:ext cx="1844640" cy="102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740120" y="330120"/>
            <a:ext cx="165600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4726080" y="1371600"/>
            <a:ext cx="1655640" cy="992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5"/>
          <a:stretch/>
        </p:blipFill>
        <p:spPr>
          <a:xfrm>
            <a:off x="6885000" y="511200"/>
            <a:ext cx="152064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7"/>
          <a:stretch/>
        </p:blipFill>
        <p:spPr>
          <a:xfrm>
            <a:off x="3011400" y="2895480"/>
            <a:ext cx="962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6972480" y="2781360"/>
            <a:ext cx="134460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9"/>
          <a:stretch/>
        </p:blipFill>
        <p:spPr>
          <a:xfrm>
            <a:off x="4932360" y="4819680"/>
            <a:ext cx="13190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0"/>
          <a:stretch/>
        </p:blipFill>
        <p:spPr>
          <a:xfrm>
            <a:off x="879480" y="4878360"/>
            <a:ext cx="125712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6" descr="C:\TEMP\FineReader10\media\image1.jpeg"/>
          <p:cNvPicPr/>
          <p:nvPr/>
        </p:nvPicPr>
        <p:blipFill>
          <a:blip r:embed="rId11">
            <a:lum contrast="40000"/>
          </a:blip>
          <a:srcRect l="0" t="0" r="0" b="-59"/>
          <a:stretch/>
        </p:blipFill>
        <p:spPr>
          <a:xfrm>
            <a:off x="2654280" y="4819680"/>
            <a:ext cx="18255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"/>
          <p:cNvPicPr/>
          <p:nvPr/>
        </p:nvPicPr>
        <p:blipFill>
          <a:blip r:embed="rId12"/>
          <a:stretch/>
        </p:blipFill>
        <p:spPr>
          <a:xfrm>
            <a:off x="539640" y="311040"/>
            <a:ext cx="1938600" cy="223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9" descr=""/>
          <p:cNvPicPr/>
          <p:nvPr/>
        </p:nvPicPr>
        <p:blipFill>
          <a:blip r:embed="rId13"/>
          <a:stretch/>
        </p:blipFill>
        <p:spPr>
          <a:xfrm>
            <a:off x="2606760" y="311040"/>
            <a:ext cx="189216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"/>
          <p:cNvPicPr/>
          <p:nvPr/>
        </p:nvPicPr>
        <p:blipFill>
          <a:blip r:embed="rId14"/>
          <a:stretch/>
        </p:blipFill>
        <p:spPr>
          <a:xfrm>
            <a:off x="4613400" y="274680"/>
            <a:ext cx="1957320" cy="21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15"/>
          <a:stretch/>
        </p:blipFill>
        <p:spPr>
          <a:xfrm>
            <a:off x="6708600" y="312840"/>
            <a:ext cx="1872000" cy="21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"/>
          <p:cNvPicPr/>
          <p:nvPr/>
        </p:nvPicPr>
        <p:blipFill>
          <a:blip r:embed="rId16"/>
          <a:stretch/>
        </p:blipFill>
        <p:spPr>
          <a:xfrm>
            <a:off x="563400" y="2660760"/>
            <a:ext cx="1890720" cy="187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"/>
          <p:cNvPicPr/>
          <p:nvPr/>
        </p:nvPicPr>
        <p:blipFill>
          <a:blip r:embed="rId17"/>
          <a:stretch/>
        </p:blipFill>
        <p:spPr>
          <a:xfrm>
            <a:off x="2643120" y="2714760"/>
            <a:ext cx="1847880" cy="184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"/>
          <p:cNvPicPr/>
          <p:nvPr/>
        </p:nvPicPr>
        <p:blipFill>
          <a:blip r:embed="rId18"/>
          <a:stretch/>
        </p:blipFill>
        <p:spPr>
          <a:xfrm>
            <a:off x="4613400" y="2746440"/>
            <a:ext cx="19634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5" descr=""/>
          <p:cNvPicPr/>
          <p:nvPr/>
        </p:nvPicPr>
        <p:blipFill>
          <a:blip r:embed="rId19"/>
          <a:stretch/>
        </p:blipFill>
        <p:spPr>
          <a:xfrm>
            <a:off x="6700680" y="2728800"/>
            <a:ext cx="179892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6" descr=""/>
          <p:cNvPicPr/>
          <p:nvPr/>
        </p:nvPicPr>
        <p:blipFill>
          <a:blip r:embed="rId20"/>
          <a:stretch/>
        </p:blipFill>
        <p:spPr>
          <a:xfrm>
            <a:off x="539640" y="4737240"/>
            <a:ext cx="183528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7" descr=""/>
          <p:cNvPicPr/>
          <p:nvPr/>
        </p:nvPicPr>
        <p:blipFill>
          <a:blip r:embed="rId21"/>
          <a:stretch/>
        </p:blipFill>
        <p:spPr>
          <a:xfrm>
            <a:off x="2595600" y="4807080"/>
            <a:ext cx="1884240" cy="179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8" descr=""/>
          <p:cNvPicPr/>
          <p:nvPr/>
        </p:nvPicPr>
        <p:blipFill>
          <a:blip r:embed="rId22"/>
          <a:stretch/>
        </p:blipFill>
        <p:spPr>
          <a:xfrm>
            <a:off x="4711680" y="480708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9" descr=""/>
          <p:cNvPicPr/>
          <p:nvPr/>
        </p:nvPicPr>
        <p:blipFill>
          <a:blip r:embed="rId23"/>
          <a:stretch/>
        </p:blipFill>
        <p:spPr>
          <a:xfrm>
            <a:off x="6748560" y="4802040"/>
            <a:ext cx="1877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24000" y="11592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4000" y="1773360"/>
          <a:ext cx="8569080" cy="16761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4000" y="350028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4000" y="5181480"/>
          <a:ext cx="8569080" cy="172584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рис 1"/>
          <p:cNvPicPr/>
          <p:nvPr/>
        </p:nvPicPr>
        <p:blipFill>
          <a:blip r:embed="rId1"/>
          <a:srcRect l="0" t="0" r="-29" b="0"/>
          <a:stretch/>
        </p:blipFill>
        <p:spPr>
          <a:xfrm>
            <a:off x="5867280" y="260280"/>
            <a:ext cx="2305080" cy="1917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5680" y="434880"/>
            <a:ext cx="373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Між полюсами постійного магніту розміщено провідник зі струмом. Замкнемо клю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5"/>
          <p:cNvSpPr/>
          <p:nvPr/>
        </p:nvSpPr>
        <p:spPr>
          <a:xfrm>
            <a:off x="3995640" y="932040"/>
            <a:ext cx="1871640" cy="57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63560" y="2538360"/>
            <a:ext cx="605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Коли по провіднику проходить стр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47600" y="530064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3610080" y="37368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мінюємо напрям стру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5294160" y="530064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 проміжок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0000" y="3143160"/>
            <a:ext cx="262728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905440" y="3124080"/>
            <a:ext cx="2621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611280" y="312840"/>
            <a:ext cx="763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Змінимо напрям магнітних ліній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804960"/>
            <a:ext cx="2620800" cy="22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659560" y="795240"/>
            <a:ext cx="258444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міжок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7200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62080" y="3827520"/>
            <a:ext cx="8631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На провідник зі струмом у магнітному полі діє си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прям сили, з якою магнітне поле діє на провідник зі струмом, залежить від напряму струму в провіднику та напряму магнітних ліній поля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684360" y="476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, з якою магнітне поле діє на провідник зі струмом, називається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ою Ампера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прям сили Ампера можна визначити за правилом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81000" y="2276640"/>
            <a:ext cx="2448000" cy="336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51280" y="211536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авило лівої 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кщо ліву руку розташувати так, щоб лінії магнітного поля входили в долоню, а чотири витягнуті пальці вказували напрямок струму в провіднику, то відігнутий на 90</a:t>
            </a:r>
            <a:r>
              <a:rPr b="1" i="1" lang="uk-UA" sz="24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0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еликий палець укаже напрямок сили Амп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089800" y="174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ід чого залежить сила Ампер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908680" y="836640"/>
            <a:ext cx="3130560" cy="285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50920" y="473400"/>
            <a:ext cx="56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ження залежності сили Ампера від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бра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периментальну уста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ок реостата встановити на максимальний опі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кнути електричне коло на декілька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09520" y="3692520"/>
            <a:ext cx="831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постерігаємо відхилення котушки від первинного поло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Дослід повторити при різних значеннях сили струму, яка             змінюється за допомогою реос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Дротяний моток відхиляється на більший кут, якщо збільшити силу струму. Сила Ампера збільшується із збільшенням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659640" y="264960"/>
            <a:ext cx="2031840" cy="2617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95280" y="3070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2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котушки від первинного положення спочатку при одному, а потім при двох магні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індукції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09520" y="3030480"/>
            <a:ext cx="878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3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напряму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нити відносне розташування мотка і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ажіть напрям магнітного поля, напрям струму і передбачуваний рух мотка відносно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Якщо напрям магнітної індукції перпендикулярний площі витка, то відхилення максимальне, паралельний – відхилення витка не спостерігає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9:45:17Z</dcterms:created>
  <dc:creator>Дмитрий Каленюк</dc:creator>
  <dc:description/>
  <dc:language>en-US</dc:language>
  <cp:lastModifiedBy>Дмитрий Каленюк</cp:lastModifiedBy>
  <dcterms:modified xsi:type="dcterms:W3CDTF">2012-01-18T20:14:34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c000000000001024140</vt:lpwstr>
  </property>
</Properties>
</file>