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1.png" ContentType="image/png"/>
  <Override PartName="/ppt/media/image4.jpeg" ContentType="image/jpeg"/>
  <Override PartName="/ppt/media/image49.png" ContentType="image/png"/>
  <Override PartName="/ppt/media/image46.gif" ContentType="image/gif"/>
  <Override PartName="/ppt/media/image45.png" ContentType="image/png"/>
  <Override PartName="/ppt/media/image44.png" ContentType="image/png"/>
  <Override PartName="/ppt/media/image43.png" ContentType="image/png"/>
  <Override PartName="/ppt/media/image41.png" ContentType="image/png"/>
  <Override PartName="/ppt/media/image3.jpeg" ContentType="image/jpeg"/>
  <Override PartName="/ppt/media/image39.png" ContentType="image/png"/>
  <Override PartName="/ppt/media/image38.png" ContentType="image/png"/>
  <Override PartName="/ppt/media/image37.png" ContentType="image/png"/>
  <Override PartName="/ppt/media/image35.wmf" ContentType="image/x-wmf"/>
  <Override PartName="/ppt/media/image78.png" ContentType="image/png"/>
  <Override PartName="/ppt/media/image34.wmf" ContentType="image/x-wmf"/>
  <Override PartName="/ppt/media/image77.png" ContentType="image/png"/>
  <Override PartName="/ppt/media/image31.jpeg" ContentType="image/jpeg"/>
  <Override PartName="/ppt/media/image48.png" ContentType="image/png"/>
  <Override PartName="/ppt/media/image9.jpeg" ContentType="image/jpeg"/>
  <Override PartName="/ppt/media/image36.png" ContentType="image/png"/>
  <Override PartName="/ppt/media/image13.png" ContentType="image/png"/>
  <Override PartName="/ppt/media/image12.jpeg" ContentType="image/jpeg"/>
  <Override PartName="/ppt/media/image29.jpeg" ContentType="image/jpeg"/>
  <Override PartName="/ppt/media/image30.jpeg" ContentType="image/jpeg"/>
  <Override PartName="/ppt/media/image19.png" ContentType="image/png"/>
  <Override PartName="/ppt/media/image84.png" ContentType="image/png"/>
  <Override PartName="/ppt/media/image22.png" ContentType="image/png"/>
  <Override PartName="/ppt/media/image59.png" ContentType="image/png"/>
  <Override PartName="/ppt/media/image24.png" ContentType="image/png"/>
  <Override PartName="/ppt/media/image7.wmf" ContentType="image/x-wmf"/>
  <Override PartName="/ppt/media/image58.png" ContentType="image/png"/>
  <Override PartName="/ppt/media/image23.png" ContentType="image/png"/>
  <Override PartName="/ppt/media/image60.png" ContentType="image/png"/>
  <Override PartName="/ppt/media/image62.png" ContentType="image/png"/>
  <Override PartName="/ppt/media/image11.jpeg" ContentType="image/jpeg"/>
  <Override PartName="/ppt/media/image28.jpeg" ContentType="image/jpe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87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75.png" ContentType="image/png"/>
  <Override PartName="/ppt/media/image86.png" ContentType="image/png"/>
  <Override PartName="/ppt/media/image74.png" ContentType="image/png"/>
  <Override PartName="/ppt/media/image76.png" ContentType="image/png"/>
  <Override PartName="/ppt/media/image33.wmf" ContentType="image/x-wmf"/>
  <Override PartName="/ppt/media/image72.png" ContentType="image/png"/>
  <Override PartName="/ppt/media/image85.png" ContentType="image/png"/>
  <Override PartName="/ppt/media/image73.png" ContentType="image/png"/>
  <Override PartName="/ppt/media/image79.png" ContentType="image/png"/>
  <Override PartName="/ppt/media/image26.jpeg" ContentType="image/jpeg"/>
  <Override PartName="/ppt/media/image42.png" ContentType="image/png"/>
  <Override PartName="/ppt/media/image67.png" ContentType="image/png"/>
  <Override PartName="/ppt/media/image71.png" ContentType="image/png"/>
  <Override PartName="/ppt/media/image69.png" ContentType="image/png"/>
  <Override PartName="/ppt/media/image25.jpeg" ContentType="image/jpeg"/>
  <Override PartName="/ppt/media/image70.png" ContentType="image/png"/>
  <Override PartName="/ppt/media/image68.png" ContentType="image/png"/>
  <Override PartName="/ppt/media/image20.png" ContentType="image/png"/>
  <Override PartName="/ppt/media/image2.jpeg" ContentType="image/jpeg"/>
  <Override PartName="/ppt/media/image57.png" ContentType="image/png"/>
  <Override PartName="/ppt/media/image82.png" ContentType="image/png"/>
  <Override PartName="/ppt/media/image17.png" ContentType="image/png"/>
  <Override PartName="/ppt/media/image32.jpeg" ContentType="image/jpeg"/>
  <Override PartName="/ppt/media/image81.png" ContentType="image/png"/>
  <Override PartName="/ppt/media/image16.png" ContentType="image/png"/>
  <Override PartName="/ppt/media/image14.png" ContentType="image/png"/>
  <Override PartName="/ppt/media/image21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27.jpeg" ContentType="image/jpeg"/>
  <Override PartName="/ppt/media/image52.png" ContentType="image/png"/>
  <Override PartName="/ppt/media/image80.png" ContentType="image/png"/>
  <Override PartName="/ppt/media/image15.png" ContentType="image/png"/>
  <Override PartName="/ppt/media/image8.wmf" ContentType="image/x-wmf"/>
  <Override PartName="/ppt/media/image40.png" ContentType="image/png"/>
  <Override PartName="/ppt/media/image18.png" ContentType="image/png"/>
  <Override PartName="/ppt/media/image83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D1F9-DDF4-4106-9E38-B8FFD537D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2B7A-20B6-4C87-8D25-6DDCD2C0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F21E-D879-4401-A750-C38186678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2250-C0E2-4090-9B27-C843FF311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44DE-960E-4DCC-B105-C7A5074C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6307-9D45-4F83-AAC9-CFE65EF9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C8D8-B1B8-42E1-8547-FD4FA3D3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DC90-5A31-4E75-B74D-E01337BC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870D-246E-4282-A1AB-DF7C00AC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78FC-8579-459E-81A2-009A8D13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153B-A5F1-4866-809C-6B8F8109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6AF5-E155-4DEC-A3DC-3E5EE3F2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5100-8784-46E1-9446-C8C9D8532D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48.png"/><Relationship Id="rId5" Type="http://schemas.openxmlformats.org/officeDocument/2006/relationships/image" Target="../media/image50.png"/><Relationship Id="rId6" Type="http://schemas.openxmlformats.org/officeDocument/2006/relationships/image" Target="../media/image49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image" Target="../media/image53.png"/><Relationship Id="rId10" Type="http://schemas.openxmlformats.org/officeDocument/2006/relationships/image" Target="../media/image54.png"/><Relationship Id="rId11" Type="http://schemas.openxmlformats.org/officeDocument/2006/relationships/image" Target="../media/image55.png"/><Relationship Id="rId12" Type="http://schemas.openxmlformats.org/officeDocument/2006/relationships/image" Target="../media/image56.png"/><Relationship Id="rId13" Type="http://schemas.openxmlformats.org/officeDocument/2006/relationships/image" Target="../media/image57.pn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53.png"/><Relationship Id="rId7" Type="http://schemas.openxmlformats.org/officeDocument/2006/relationships/image" Target="../media/image63.png"/><Relationship Id="rId8" Type="http://schemas.openxmlformats.org/officeDocument/2006/relationships/image" Target="../media/image57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image" Target="../media/image71.png"/><Relationship Id="rId9" Type="http://schemas.openxmlformats.org/officeDocument/2006/relationships/image" Target="../media/image72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79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79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79.png"/><Relationship Id="rId3" Type="http://schemas.openxmlformats.org/officeDocument/2006/relationships/image" Target="../media/image86.png"/><Relationship Id="rId4" Type="http://schemas.openxmlformats.org/officeDocument/2006/relationships/image" Target="../media/image8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606600" y="1341360"/>
            <a:ext cx="813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ія магнітного поля на провідник зі струмом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ила Ампера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2992680" y="333360"/>
            <a:ext cx="33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Урок фізики в 11 клас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5764320" y="4149720"/>
            <a:ext cx="30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ff"/>
                </a:solidFill>
                <a:latin typeface="Times New Roman"/>
              </a:rPr>
              <a:t>КЗШ №1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ff"/>
                </a:solidFill>
                <a:latin typeface="Times New Roman"/>
              </a:rPr>
              <a:t>Учитель фізик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ff"/>
                </a:solidFill>
                <a:latin typeface="Times New Roman"/>
              </a:rPr>
              <a:t>Серьогіна Лілія Володимирів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3966480" y="615168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ff"/>
                </a:solidFill>
                <a:latin typeface="Times New Roman"/>
              </a:rPr>
              <a:t>м. Кривий Рі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95280" y="76500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Дослід 4.</a:t>
            </a: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 Дослідити залежність сили Ампера від довжини провід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остерігаємо відхилення від первинного положення спочатку однієї котушки, а потім двох котушок, в однаковому магнітному полі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Висновок:</a:t>
            </a: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0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Сила Ампера збільшується із збільшенням довжини провід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Объект 4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4959360" cy="1152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05" name="Прямоугольник 2"/>
          <p:cNvSpPr/>
          <p:nvPr/>
        </p:nvSpPr>
        <p:spPr>
          <a:xfrm>
            <a:off x="539640" y="476280"/>
            <a:ext cx="806472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Сила, що діє на провідник зі струмом у магнітному полі, прямо пропорційна силі струму, магнітній індукції, активній довжині провідника і залежить від кута між напрямом струму і напрямом ліній магнітної індукції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5113440" y="4869000"/>
            <a:ext cx="34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провідник розташований паралельно магнітним лінія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Объект 7" descr=""/>
          <p:cNvPicPr/>
          <p:nvPr/>
        </p:nvPicPr>
        <p:blipFill>
          <a:blip r:embed="rId2"/>
          <a:stretch/>
        </p:blipFill>
        <p:spPr>
          <a:xfrm>
            <a:off x="5776920" y="3933720"/>
            <a:ext cx="2165400" cy="7905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Объект 9" descr=""/>
          <p:cNvPicPr/>
          <p:nvPr/>
        </p:nvPicPr>
        <p:blipFill>
          <a:blip r:embed="rId3"/>
          <a:stretch/>
        </p:blipFill>
        <p:spPr>
          <a:xfrm>
            <a:off x="1116000" y="4005360"/>
            <a:ext cx="2160720" cy="73008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10"/>
          <p:cNvSpPr/>
          <p:nvPr/>
        </p:nvSpPr>
        <p:spPr>
          <a:xfrm>
            <a:off x="179280" y="4869000"/>
            <a:ext cx="39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провідник розташований перпендикулярно до магнітних ліні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500"/>
                            </p:stCondLst>
                            <p:childTnLst>
                              <p:par>
                                <p:cTn id="365" nodeType="afterEffect" fill="hold" presetClass="entr" presetID="5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6500"/>
                            </p:stCondLst>
                            <p:childTnLst>
                              <p:par>
                                <p:cTn id="371" nodeType="afterEffect" fill="hold" presetClass="entr" presetID="5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Прямоугольник 3"/>
          <p:cNvGrpSpPr/>
          <p:nvPr/>
        </p:nvGrpSpPr>
        <p:grpSpPr>
          <a:xfrm>
            <a:off x="1590840" y="573120"/>
            <a:ext cx="512640" cy="2968560"/>
            <a:chOff x="1590840" y="573120"/>
            <a:chExt cx="512640" cy="2968560"/>
          </a:xfrm>
        </p:grpSpPr>
        <p:pic>
          <p:nvPicPr>
            <p:cNvPr id="113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590840" y="573120"/>
              <a:ext cx="512640" cy="29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630440" y="587520"/>
              <a:ext cx="108000" cy="25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Прямоугольник 4"/>
          <p:cNvGrpSpPr/>
          <p:nvPr/>
        </p:nvGrpSpPr>
        <p:grpSpPr>
          <a:xfrm>
            <a:off x="2700360" y="573120"/>
            <a:ext cx="519120" cy="2968560"/>
            <a:chOff x="2700360" y="573120"/>
            <a:chExt cx="519120" cy="2968560"/>
          </a:xfrm>
        </p:grpSpPr>
        <p:pic>
          <p:nvPicPr>
            <p:cNvPr id="116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2700360" y="573120"/>
              <a:ext cx="519120" cy="29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743200" y="587520"/>
              <a:ext cx="108000" cy="25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Прямоугольник 5"/>
          <p:cNvGrpSpPr/>
          <p:nvPr/>
        </p:nvGrpSpPr>
        <p:grpSpPr>
          <a:xfrm>
            <a:off x="6419880" y="3382920"/>
            <a:ext cx="511200" cy="2975040"/>
            <a:chOff x="6419880" y="3382920"/>
            <a:chExt cx="511200" cy="2975040"/>
          </a:xfrm>
        </p:grpSpPr>
        <p:pic>
          <p:nvPicPr>
            <p:cNvPr id="119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6419880" y="3382920"/>
              <a:ext cx="511200" cy="29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6459480" y="3400560"/>
              <a:ext cx="108000" cy="25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Прямоугольник 6"/>
          <p:cNvGrpSpPr/>
          <p:nvPr/>
        </p:nvGrpSpPr>
        <p:grpSpPr>
          <a:xfrm>
            <a:off x="7516800" y="3371760"/>
            <a:ext cx="517680" cy="2973600"/>
            <a:chOff x="7516800" y="3371760"/>
            <a:chExt cx="517680" cy="2973600"/>
          </a:xfrm>
        </p:grpSpPr>
        <p:pic>
          <p:nvPicPr>
            <p:cNvPr id="122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7516800" y="3371760"/>
              <a:ext cx="517680" cy="29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7558200" y="3384720"/>
              <a:ext cx="108000" cy="25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4" name="Прямая со стрелкой 8"/>
          <p:cNvCxnSpPr/>
          <p:nvPr/>
        </p:nvCxnSpPr>
        <p:spPr>
          <a:xfrm flipV="1">
            <a:off x="1450440" y="410760"/>
            <a:ext cx="1080" cy="899280"/>
          </a:xfrm>
          <a:prstGeom prst="straightConnector1">
            <a:avLst/>
          </a:prstGeom>
          <a:ln w="38160">
            <a:solidFill>
              <a:srgbClr val="4f5e3c"/>
            </a:solidFill>
            <a:miter/>
            <a:tailEnd len="med" type="arrow" w="med"/>
          </a:ln>
        </p:spPr>
      </p:cxnSp>
      <p:cxnSp>
        <p:nvCxnSpPr>
          <p:cNvPr id="125" name="Прямая со стрелкой 9"/>
          <p:cNvCxnSpPr/>
          <p:nvPr/>
        </p:nvCxnSpPr>
        <p:spPr>
          <a:xfrm flipV="1">
            <a:off x="3009600" y="403920"/>
            <a:ext cx="1080" cy="869400"/>
          </a:xfrm>
          <a:prstGeom prst="straightConnector1">
            <a:avLst/>
          </a:prstGeom>
          <a:ln w="38160">
            <a:solidFill>
              <a:srgbClr val="4f5e3c"/>
            </a:solidFill>
            <a:miter/>
            <a:tailEnd len="med" type="arrow" w="med"/>
          </a:ln>
        </p:spPr>
      </p:cxnSp>
      <p:cxnSp>
        <p:nvCxnSpPr>
          <p:cNvPr id="126" name="Прямая со стрелкой 10"/>
          <p:cNvCxnSpPr/>
          <p:nvPr/>
        </p:nvCxnSpPr>
        <p:spPr>
          <a:xfrm flipV="1">
            <a:off x="6292440" y="3179520"/>
            <a:ext cx="1080" cy="816480"/>
          </a:xfrm>
          <a:prstGeom prst="straightConnector1">
            <a:avLst/>
          </a:prstGeom>
          <a:ln w="38160">
            <a:solidFill>
              <a:srgbClr val="4f5e3c"/>
            </a:solidFill>
            <a:miter/>
            <a:tailEnd len="med" type="arrow" w="med"/>
          </a:ln>
        </p:spPr>
      </p:cxnSp>
      <p:cxnSp>
        <p:nvCxnSpPr>
          <p:cNvPr id="127" name="Прямая со стрелкой 11"/>
          <p:cNvCxnSpPr/>
          <p:nvPr/>
        </p:nvCxnSpPr>
        <p:spPr>
          <a:xfrm>
            <a:off x="7829280" y="5373360"/>
            <a:ext cx="1080" cy="832680"/>
          </a:xfrm>
          <a:prstGeom prst="straightConnector1">
            <a:avLst/>
          </a:prstGeom>
          <a:ln w="38160">
            <a:solidFill>
              <a:srgbClr val="4f5e3c"/>
            </a:solidFill>
            <a:miter/>
            <a:tailEnd len="med" type="arrow" w="med"/>
          </a:ln>
        </p:spPr>
      </p:cxnSp>
      <p:sp>
        <p:nvSpPr>
          <p:cNvPr id="128" name="Дуга 16"/>
          <p:cNvSpPr/>
          <p:nvPr/>
        </p:nvSpPr>
        <p:spPr>
          <a:xfrm>
            <a:off x="755640" y="1582560"/>
            <a:ext cx="1987560" cy="803520"/>
          </a:xfrm>
          <a:custGeom>
            <a:avLst/>
            <a:gdLst/>
            <a:ahLst/>
            <a:rect l="l" t="t" r="r" b="b"/>
            <a:pathLst>
              <a:path stroke="0" w="1988314" h="802365">
                <a:moveTo>
                  <a:pt x="978221" y="52"/>
                </a:moveTo>
                <a:cubicBezTo>
                  <a:pt x="1450766" y="-3005"/>
                  <a:pt x="1863328" y="128608"/>
                  <a:pt x="1965025" y="314856"/>
                </a:cubicBezTo>
                <a:cubicBezTo>
                  <a:pt x="2096861" y="556302"/>
                  <a:pt x="1661366" y="787940"/>
                  <a:pt x="1049650" y="801741"/>
                </a:cubicBezTo>
                <a:cubicBezTo>
                  <a:pt x="644249" y="810887"/>
                  <a:pt x="265807" y="719628"/>
                  <a:pt x="93713" y="571222"/>
                </a:cubicBezTo>
                <a:cubicBezTo>
                  <a:pt x="-197332" y="320238"/>
                  <a:pt x="214807" y="28592"/>
                  <a:pt x="898291" y="1870"/>
                </a:cubicBezTo>
                <a:lnTo>
                  <a:pt x="994157" y="401183"/>
                </a:lnTo>
                <a:lnTo>
                  <a:pt x="978221" y="52"/>
                </a:lnTo>
                <a:close/>
              </a:path>
              <a:path fill="none" w="1988314" h="802365">
                <a:moveTo>
                  <a:pt x="978221" y="52"/>
                </a:moveTo>
                <a:cubicBezTo>
                  <a:pt x="1450766" y="-3005"/>
                  <a:pt x="1863328" y="128608"/>
                  <a:pt x="1965025" y="314856"/>
                </a:cubicBezTo>
                <a:cubicBezTo>
                  <a:pt x="2096861" y="556302"/>
                  <a:pt x="1661366" y="787940"/>
                  <a:pt x="1049650" y="801741"/>
                </a:cubicBezTo>
                <a:cubicBezTo>
                  <a:pt x="644249" y="810887"/>
                  <a:pt x="265807" y="719628"/>
                  <a:pt x="93713" y="571222"/>
                </a:cubicBezTo>
                <a:cubicBezTo>
                  <a:pt x="-197332" y="320238"/>
                  <a:pt x="214807" y="28592"/>
                  <a:pt x="898291" y="187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Дуга 20"/>
          <p:cNvSpPr/>
          <p:nvPr/>
        </p:nvSpPr>
        <p:spPr>
          <a:xfrm>
            <a:off x="1692360" y="1638360"/>
            <a:ext cx="2087640" cy="747720"/>
          </a:xfrm>
          <a:custGeom>
            <a:avLst/>
            <a:gdLst/>
            <a:ahLst/>
            <a:rect l="l" t="t" r="r" b="b"/>
            <a:pathLst>
              <a:path stroke="0" w="2088233" h="747700">
                <a:moveTo>
                  <a:pt x="1160898" y="2346"/>
                </a:moveTo>
                <a:cubicBezTo>
                  <a:pt x="1917179" y="32824"/>
                  <a:pt x="2331230" y="333456"/>
                  <a:pt x="1938356" y="566839"/>
                </a:cubicBezTo>
                <a:cubicBezTo>
                  <a:pt x="1741064" y="684039"/>
                  <a:pt x="1380701" y="753278"/>
                  <a:pt x="998875" y="747349"/>
                </a:cubicBezTo>
                <a:cubicBezTo>
                  <a:pt x="407971" y="738173"/>
                  <a:pt x="-43687" y="555256"/>
                  <a:pt x="3299" y="344151"/>
                </a:cubicBezTo>
                <a:cubicBezTo>
                  <a:pt x="45829" y="153065"/>
                  <a:pt x="485123" y="4459"/>
                  <a:pt x="1020356" y="97"/>
                </a:cubicBezTo>
                <a:lnTo>
                  <a:pt x="1044117" y="373850"/>
                </a:lnTo>
                <a:lnTo>
                  <a:pt x="1160898" y="2346"/>
                </a:lnTo>
                <a:close/>
              </a:path>
              <a:path fill="none" w="2088233" h="747700">
                <a:moveTo>
                  <a:pt x="1160898" y="2346"/>
                </a:moveTo>
                <a:cubicBezTo>
                  <a:pt x="1917179" y="32824"/>
                  <a:pt x="2331230" y="333456"/>
                  <a:pt x="1938356" y="566839"/>
                </a:cubicBezTo>
                <a:cubicBezTo>
                  <a:pt x="1741064" y="684039"/>
                  <a:pt x="1380701" y="753278"/>
                  <a:pt x="998875" y="747349"/>
                </a:cubicBezTo>
                <a:cubicBezTo>
                  <a:pt x="407971" y="738173"/>
                  <a:pt x="-43687" y="555256"/>
                  <a:pt x="3299" y="344151"/>
                </a:cubicBezTo>
                <a:cubicBezTo>
                  <a:pt x="45829" y="153065"/>
                  <a:pt x="485123" y="4459"/>
                  <a:pt x="1020356" y="9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Прямая со стрелкой 22"/>
          <p:cNvCxnSpPr/>
          <p:nvPr/>
        </p:nvCxnSpPr>
        <p:spPr>
          <a:xfrm flipH="1">
            <a:off x="1179000" y="1879200"/>
            <a:ext cx="542160" cy="810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1" name="Прямая со стрелкой 24"/>
          <p:cNvCxnSpPr/>
          <p:nvPr/>
        </p:nvCxnSpPr>
        <p:spPr>
          <a:xfrm flipV="1">
            <a:off x="6513480" y="3911400"/>
            <a:ext cx="651600" cy="754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2" name="Прямая со стрелкой 25"/>
          <p:cNvCxnSpPr/>
          <p:nvPr/>
        </p:nvCxnSpPr>
        <p:spPr>
          <a:xfrm flipV="1">
            <a:off x="2743200" y="1146960"/>
            <a:ext cx="534240" cy="864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3" name="Прямая со стрелкой 28"/>
          <p:cNvCxnSpPr/>
          <p:nvPr/>
        </p:nvCxnSpPr>
        <p:spPr>
          <a:xfrm flipV="1">
            <a:off x="1749240" y="1974600"/>
            <a:ext cx="446760" cy="100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34" name="Прямая со стрелкой 9215"/>
          <p:cNvCxnSpPr/>
          <p:nvPr/>
        </p:nvCxnSpPr>
        <p:spPr>
          <a:xfrm flipH="1">
            <a:off x="2267640" y="1974600"/>
            <a:ext cx="467640" cy="10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35" name="TextBox 9223"/>
          <p:cNvSpPr/>
          <p:nvPr/>
        </p:nvSpPr>
        <p:spPr>
          <a:xfrm>
            <a:off x="1038600" y="40464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40"/>
          <p:cNvSpPr/>
          <p:nvPr/>
        </p:nvSpPr>
        <p:spPr>
          <a:xfrm>
            <a:off x="5812920" y="300996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41"/>
          <p:cNvSpPr/>
          <p:nvPr/>
        </p:nvSpPr>
        <p:spPr>
          <a:xfrm>
            <a:off x="3022200" y="4255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42"/>
          <p:cNvSpPr/>
          <p:nvPr/>
        </p:nvSpPr>
        <p:spPr>
          <a:xfrm>
            <a:off x="7901280" y="568476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Группа 9227"/>
          <p:cNvGrpSpPr/>
          <p:nvPr/>
        </p:nvGrpSpPr>
        <p:grpSpPr>
          <a:xfrm>
            <a:off x="3179880" y="1130400"/>
            <a:ext cx="569520" cy="648720"/>
            <a:chOff x="3179880" y="1130400"/>
            <a:chExt cx="569520" cy="648720"/>
          </a:xfrm>
        </p:grpSpPr>
        <p:sp>
          <p:nvSpPr>
            <p:cNvPr id="140" name="TextBox 44"/>
            <p:cNvSpPr/>
            <p:nvPr/>
          </p:nvSpPr>
          <p:spPr>
            <a:xfrm>
              <a:off x="3179880" y="11304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3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1" i="1" lang="uk-UA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1" name="Прямая со стрелкой 9226"/>
            <p:cNvCxnSpPr/>
            <p:nvPr/>
          </p:nvCxnSpPr>
          <p:spPr>
            <a:xfrm>
              <a:off x="3356640" y="1261440"/>
              <a:ext cx="2167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42" name="Picture 3" descr=""/>
          <p:cNvPicPr/>
          <p:nvPr/>
        </p:nvPicPr>
        <p:blipFill>
          <a:blip r:embed="rId5"/>
          <a:stretch/>
        </p:blipFill>
        <p:spPr>
          <a:xfrm>
            <a:off x="7850160" y="3384720"/>
            <a:ext cx="822240" cy="858600"/>
          </a:xfrm>
          <a:prstGeom prst="rect">
            <a:avLst/>
          </a:prstGeom>
          <a:ln w="0">
            <a:noFill/>
          </a:ln>
        </p:spPr>
      </p:pic>
      <p:grpSp>
        <p:nvGrpSpPr>
          <p:cNvPr id="143" name="Группа 9240"/>
          <p:cNvGrpSpPr/>
          <p:nvPr/>
        </p:nvGrpSpPr>
        <p:grpSpPr>
          <a:xfrm>
            <a:off x="741600" y="2425680"/>
            <a:ext cx="569520" cy="648720"/>
            <a:chOff x="741600" y="2425680"/>
            <a:chExt cx="569520" cy="648720"/>
          </a:xfrm>
        </p:grpSpPr>
        <p:sp>
          <p:nvSpPr>
            <p:cNvPr id="144" name="TextBox 46"/>
            <p:cNvSpPr/>
            <p:nvPr/>
          </p:nvSpPr>
          <p:spPr>
            <a:xfrm>
              <a:off x="741600" y="24256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3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1" i="1" lang="uk-UA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5" name="Прямая со стрелкой 9233"/>
            <p:cNvCxnSpPr/>
            <p:nvPr/>
          </p:nvCxnSpPr>
          <p:spPr>
            <a:xfrm>
              <a:off x="876960" y="2535840"/>
              <a:ext cx="298080" cy="6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pic>
        <p:nvPicPr>
          <p:cNvPr id="146" name="Picture 4" descr=""/>
          <p:cNvPicPr/>
          <p:nvPr/>
        </p:nvPicPr>
        <p:blipFill>
          <a:blip r:embed="rId6"/>
          <a:stretch/>
        </p:blipFill>
        <p:spPr>
          <a:xfrm>
            <a:off x="6427800" y="3384720"/>
            <a:ext cx="822240" cy="858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7"/>
          <a:stretch/>
        </p:blipFill>
        <p:spPr>
          <a:xfrm>
            <a:off x="1508040" y="1890720"/>
            <a:ext cx="908280" cy="858960"/>
          </a:xfrm>
          <a:prstGeom prst="rect">
            <a:avLst/>
          </a:prstGeom>
          <a:ln w="0">
            <a:noFill/>
          </a:ln>
        </p:spPr>
      </p:pic>
      <p:grpSp>
        <p:nvGrpSpPr>
          <p:cNvPr id="148" name="Группа 70"/>
          <p:cNvGrpSpPr/>
          <p:nvPr/>
        </p:nvGrpSpPr>
        <p:grpSpPr>
          <a:xfrm>
            <a:off x="2180880" y="1389240"/>
            <a:ext cx="656280" cy="648720"/>
            <a:chOff x="2180880" y="1389240"/>
            <a:chExt cx="656280" cy="648720"/>
          </a:xfrm>
        </p:grpSpPr>
        <p:cxnSp>
          <p:nvCxnSpPr>
            <p:cNvPr id="149" name="Прямая со стрелкой 71"/>
            <p:cNvCxnSpPr/>
            <p:nvPr/>
          </p:nvCxnSpPr>
          <p:spPr>
            <a:xfrm>
              <a:off x="2344680" y="1469160"/>
              <a:ext cx="298080" cy="6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50" name="TextBox 72"/>
            <p:cNvSpPr/>
            <p:nvPr/>
          </p:nvSpPr>
          <p:spPr>
            <a:xfrm>
              <a:off x="2180880" y="1389240"/>
              <a:ext cx="656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Book Antiqua"/>
                </a:rPr>
                <a:t>F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Book Antiqua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Дуга 76"/>
          <p:cNvSpPr/>
          <p:nvPr/>
        </p:nvSpPr>
        <p:spPr>
          <a:xfrm>
            <a:off x="5416560" y="4322880"/>
            <a:ext cx="2141640" cy="747720"/>
          </a:xfrm>
          <a:custGeom>
            <a:avLst/>
            <a:gdLst/>
            <a:ahLst/>
            <a:rect l="l" t="t" r="r" b="b"/>
            <a:pathLst>
              <a:path stroke="0" w="2142240" h="747700">
                <a:moveTo>
                  <a:pt x="1118903" y="372"/>
                </a:moveTo>
                <a:cubicBezTo>
                  <a:pt x="1786562" y="10778"/>
                  <a:pt x="2264180" y="229703"/>
                  <a:pt x="2115340" y="457109"/>
                </a:cubicBezTo>
                <a:cubicBezTo>
                  <a:pt x="2003069" y="628643"/>
                  <a:pt x="1563291" y="749636"/>
                  <a:pt x="1059199" y="747677"/>
                </a:cubicBezTo>
                <a:cubicBezTo>
                  <a:pt x="491120" y="745470"/>
                  <a:pt x="26796" y="588846"/>
                  <a:pt x="1097" y="390761"/>
                </a:cubicBezTo>
                <a:cubicBezTo>
                  <a:pt x="-26100" y="181128"/>
                  <a:pt x="446273" y="4747"/>
                  <a:pt x="1047360" y="92"/>
                </a:cubicBezTo>
                <a:lnTo>
                  <a:pt x="1071120" y="373850"/>
                </a:lnTo>
                <a:lnTo>
                  <a:pt x="1118903" y="372"/>
                </a:lnTo>
                <a:close/>
              </a:path>
              <a:path fill="none" w="2142240" h="747700">
                <a:moveTo>
                  <a:pt x="1118903" y="372"/>
                </a:moveTo>
                <a:cubicBezTo>
                  <a:pt x="1786562" y="10778"/>
                  <a:pt x="2264180" y="229703"/>
                  <a:pt x="2115340" y="457109"/>
                </a:cubicBezTo>
                <a:cubicBezTo>
                  <a:pt x="2003069" y="628643"/>
                  <a:pt x="1563291" y="749636"/>
                  <a:pt x="1059199" y="747677"/>
                </a:cubicBezTo>
                <a:cubicBezTo>
                  <a:pt x="491120" y="745470"/>
                  <a:pt x="26796" y="588846"/>
                  <a:pt x="1097" y="390761"/>
                </a:cubicBezTo>
                <a:cubicBezTo>
                  <a:pt x="-26100" y="181128"/>
                  <a:pt x="446273" y="4747"/>
                  <a:pt x="1047360" y="9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Дуга 78"/>
          <p:cNvSpPr/>
          <p:nvPr/>
        </p:nvSpPr>
        <p:spPr>
          <a:xfrm>
            <a:off x="6513480" y="4322880"/>
            <a:ext cx="2089080" cy="747720"/>
          </a:xfrm>
          <a:custGeom>
            <a:avLst/>
            <a:gdLst/>
            <a:ahLst/>
            <a:rect l="l" t="t" r="r" b="b"/>
            <a:pathLst>
              <a:path stroke="0" w="2088233" h="747700">
                <a:moveTo>
                  <a:pt x="1160898" y="2346"/>
                </a:moveTo>
                <a:cubicBezTo>
                  <a:pt x="1917179" y="32824"/>
                  <a:pt x="2331230" y="333456"/>
                  <a:pt x="1938356" y="566839"/>
                </a:cubicBezTo>
                <a:cubicBezTo>
                  <a:pt x="1741064" y="684039"/>
                  <a:pt x="1380701" y="753278"/>
                  <a:pt x="998875" y="747349"/>
                </a:cubicBezTo>
                <a:cubicBezTo>
                  <a:pt x="407971" y="738173"/>
                  <a:pt x="-43687" y="555256"/>
                  <a:pt x="3299" y="344151"/>
                </a:cubicBezTo>
                <a:cubicBezTo>
                  <a:pt x="45829" y="153065"/>
                  <a:pt x="485123" y="4459"/>
                  <a:pt x="1020356" y="97"/>
                </a:cubicBezTo>
                <a:lnTo>
                  <a:pt x="1044117" y="373850"/>
                </a:lnTo>
                <a:lnTo>
                  <a:pt x="1160898" y="2346"/>
                </a:lnTo>
                <a:close/>
              </a:path>
              <a:path fill="none" w="2088233" h="747700">
                <a:moveTo>
                  <a:pt x="1160898" y="2346"/>
                </a:moveTo>
                <a:cubicBezTo>
                  <a:pt x="1917179" y="32824"/>
                  <a:pt x="2331230" y="333456"/>
                  <a:pt x="1938356" y="566839"/>
                </a:cubicBezTo>
                <a:cubicBezTo>
                  <a:pt x="1741064" y="684039"/>
                  <a:pt x="1380701" y="753278"/>
                  <a:pt x="998875" y="747349"/>
                </a:cubicBezTo>
                <a:cubicBezTo>
                  <a:pt x="407971" y="738173"/>
                  <a:pt x="-43687" y="555256"/>
                  <a:pt x="3299" y="344151"/>
                </a:cubicBezTo>
                <a:cubicBezTo>
                  <a:pt x="45829" y="153065"/>
                  <a:pt x="485123" y="4459"/>
                  <a:pt x="1020356" y="9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Прямая со стрелкой 35"/>
          <p:cNvCxnSpPr/>
          <p:nvPr/>
        </p:nvCxnSpPr>
        <p:spPr>
          <a:xfrm flipV="1">
            <a:off x="7551360" y="3911040"/>
            <a:ext cx="578520" cy="821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4" name="Прямая со стрелкой 50"/>
          <p:cNvCxnSpPr/>
          <p:nvPr/>
        </p:nvCxnSpPr>
        <p:spPr>
          <a:xfrm flipH="1">
            <a:off x="5805360" y="4680000"/>
            <a:ext cx="687960" cy="1656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55" name="Прямая со стрелкой 52"/>
          <p:cNvCxnSpPr/>
          <p:nvPr/>
        </p:nvCxnSpPr>
        <p:spPr>
          <a:xfrm flipV="1">
            <a:off x="7557840" y="4681080"/>
            <a:ext cx="703800" cy="151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pic>
        <p:nvPicPr>
          <p:cNvPr id="156" name="Picture 10" descr=""/>
          <p:cNvPicPr/>
          <p:nvPr/>
        </p:nvPicPr>
        <p:blipFill>
          <a:blip r:embed="rId8"/>
          <a:stretch/>
        </p:blipFill>
        <p:spPr>
          <a:xfrm>
            <a:off x="7916760" y="4640400"/>
            <a:ext cx="908280" cy="858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"/>
          <p:cNvPicPr/>
          <p:nvPr/>
        </p:nvPicPr>
        <p:blipFill>
          <a:blip r:embed="rId9"/>
          <a:stretch/>
        </p:blipFill>
        <p:spPr>
          <a:xfrm>
            <a:off x="5232240" y="4665600"/>
            <a:ext cx="908280" cy="858960"/>
          </a:xfrm>
          <a:prstGeom prst="rect">
            <a:avLst/>
          </a:prstGeom>
          <a:ln w="0">
            <a:noFill/>
          </a:ln>
        </p:spPr>
      </p:pic>
      <p:sp>
        <p:nvSpPr>
          <p:cNvPr id="158" name="Стрелка вправо 57"/>
          <p:cNvSpPr/>
          <p:nvPr/>
        </p:nvSpPr>
        <p:spPr>
          <a:xfrm flipH="1">
            <a:off x="3850560" y="1339920"/>
            <a:ext cx="1152360" cy="485640"/>
          </a:xfrm>
          <a:prstGeom prst="rightArrow">
            <a:avLst>
              <a:gd name="adj1" fmla="val 50000"/>
              <a:gd name="adj2" fmla="val 49907"/>
            </a:avLst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58"/>
          <p:cNvSpPr/>
          <p:nvPr/>
        </p:nvSpPr>
        <p:spPr>
          <a:xfrm>
            <a:off x="4444920" y="385920"/>
            <a:ext cx="459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сила струму-в одному напрямк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сили ампера – назустрі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провідники притягують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Стрелка вправо 98"/>
          <p:cNvSpPr/>
          <p:nvPr/>
        </p:nvSpPr>
        <p:spPr>
          <a:xfrm flipH="1" rot="10800000">
            <a:off x="3778920" y="4584600"/>
            <a:ext cx="1152360" cy="486000"/>
          </a:xfrm>
          <a:prstGeom prst="rightArrow">
            <a:avLst>
              <a:gd name="adj1" fmla="val 50000"/>
              <a:gd name="adj2" fmla="val 49870"/>
            </a:avLst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60"/>
          <p:cNvSpPr/>
          <p:nvPr/>
        </p:nvSpPr>
        <p:spPr>
          <a:xfrm>
            <a:off x="336600" y="3814920"/>
            <a:ext cx="415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сила струму – в різних напрямк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сили Ампера – протилежн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провідники відштовхують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21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1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1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2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2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9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2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8" nodeType="afterEffect" fill="hold" presetClass="entr" presetID="21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9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1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9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6000"/>
                            </p:stCondLst>
                            <p:childTnLst>
                              <p:par>
                                <p:cTn id="495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8" nodeType="after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10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3000"/>
                            </p:stCondLst>
                            <p:childTnLst>
                              <p:par>
                                <p:cTn id="52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50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3635280" y="581400"/>
            <a:ext cx="48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У результаті дії сили Ампера рамка зі струмом може обертатися в магнітному полі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6" descr="Описание: mag_ind1"/>
          <p:cNvPicPr/>
          <p:nvPr/>
        </p:nvPicPr>
        <p:blipFill>
          <a:blip r:embed="rId1"/>
          <a:stretch/>
        </p:blipFill>
        <p:spPr>
          <a:xfrm>
            <a:off x="5519880" y="3573360"/>
            <a:ext cx="2939760" cy="29797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5" descr="amper1"/>
          <p:cNvPicPr/>
          <p:nvPr/>
        </p:nvPicPr>
        <p:blipFill>
          <a:blip r:embed="rId2"/>
          <a:stretch/>
        </p:blipFill>
        <p:spPr>
          <a:xfrm>
            <a:off x="287280" y="0"/>
            <a:ext cx="4537080" cy="460836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5"/>
          <p:cNvSpPr/>
          <p:nvPr/>
        </p:nvSpPr>
        <p:spPr>
          <a:xfrm>
            <a:off x="755640" y="46623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Явище обертання рамки зі струмом у магнітному полі використовують у роботі електродвигуні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50" nodeType="afterEffect" fill="hold" presetClass="entr" presetID="16" presetSubtype="2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Заголовок 1" descr=""/>
          <p:cNvPicPr/>
          <p:nvPr/>
        </p:nvPicPr>
        <p:blipFill>
          <a:blip r:embed="rId1"/>
          <a:stretch/>
        </p:blipFill>
        <p:spPr>
          <a:xfrm>
            <a:off x="476280" y="189000"/>
            <a:ext cx="8229600" cy="1139760"/>
          </a:xfrm>
          <a:prstGeom prst="rect">
            <a:avLst/>
          </a:prstGeom>
          <a:ln w="0">
            <a:noFill/>
          </a:ln>
        </p:spPr>
      </p:pic>
      <p:grpSp>
        <p:nvGrpSpPr>
          <p:cNvPr id="168" name="Группа 17"/>
          <p:cNvGrpSpPr/>
          <p:nvPr/>
        </p:nvGrpSpPr>
        <p:grpSpPr>
          <a:xfrm>
            <a:off x="3701880" y="1514520"/>
            <a:ext cx="1238400" cy="1231560"/>
            <a:chOff x="3701880" y="1514520"/>
            <a:chExt cx="1238400" cy="1231560"/>
          </a:xfrm>
        </p:grpSpPr>
        <p:pic>
          <p:nvPicPr>
            <p:cNvPr id="169" name="Picture 12" descr=""/>
            <p:cNvPicPr/>
            <p:nvPr/>
          </p:nvPicPr>
          <p:blipFill>
            <a:blip r:embed="rId2"/>
            <a:stretch/>
          </p:blipFill>
          <p:spPr>
            <a:xfrm>
              <a:off x="3701880" y="1514520"/>
              <a:ext cx="1238400" cy="963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0" name="Группа 14"/>
            <p:cNvGrpSpPr/>
            <p:nvPr/>
          </p:nvGrpSpPr>
          <p:grpSpPr>
            <a:xfrm>
              <a:off x="4074840" y="1586520"/>
              <a:ext cx="763200" cy="1159560"/>
              <a:chOff x="4074840" y="1586520"/>
              <a:chExt cx="763200" cy="1159560"/>
            </a:xfrm>
          </p:grpSpPr>
          <p:sp>
            <p:nvSpPr>
              <p:cNvPr id="171" name="Стрелка вправо 13"/>
              <p:cNvSpPr/>
              <p:nvPr/>
            </p:nvSpPr>
            <p:spPr>
              <a:xfrm rot="16200000">
                <a:off x="4230360" y="2138400"/>
                <a:ext cx="866520" cy="348840"/>
              </a:xfrm>
              <a:prstGeom prst="rightArrow">
                <a:avLst>
                  <a:gd name="adj1" fmla="val 50000"/>
                  <a:gd name="adj2" fmla="val 49991"/>
                </a:avLst>
              </a:prstGeom>
              <a:solidFill>
                <a:srgbClr val="ffff00"/>
              </a:solidFill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2" name="Picture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4074840" y="1586520"/>
                <a:ext cx="444600" cy="188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73" name="Группа 16"/>
          <p:cNvGrpSpPr/>
          <p:nvPr/>
        </p:nvGrpSpPr>
        <p:grpSpPr>
          <a:xfrm>
            <a:off x="3838680" y="5411520"/>
            <a:ext cx="1238040" cy="1446480"/>
            <a:chOff x="3838680" y="5411520"/>
            <a:chExt cx="1238040" cy="1446480"/>
          </a:xfrm>
        </p:grpSpPr>
        <p:pic>
          <p:nvPicPr>
            <p:cNvPr id="174" name="Picture 15" descr=""/>
            <p:cNvPicPr/>
            <p:nvPr/>
          </p:nvPicPr>
          <p:blipFill>
            <a:blip r:embed="rId4"/>
            <a:stretch/>
          </p:blipFill>
          <p:spPr>
            <a:xfrm>
              <a:off x="3838680" y="5894640"/>
              <a:ext cx="1238040" cy="963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5" name="Группа 15"/>
            <p:cNvGrpSpPr/>
            <p:nvPr/>
          </p:nvGrpSpPr>
          <p:grpSpPr>
            <a:xfrm>
              <a:off x="4145400" y="5411520"/>
              <a:ext cx="719640" cy="896760"/>
              <a:chOff x="4145400" y="5411520"/>
              <a:chExt cx="719640" cy="896760"/>
            </a:xfrm>
          </p:grpSpPr>
          <p:pic>
            <p:nvPicPr>
              <p:cNvPr id="176" name="Picture 14" descr=""/>
              <p:cNvPicPr/>
              <p:nvPr/>
            </p:nvPicPr>
            <p:blipFill>
              <a:blip r:embed="rId5"/>
              <a:stretch/>
            </p:blipFill>
            <p:spPr>
              <a:xfrm rot="10800000">
                <a:off x="4457160" y="5411520"/>
                <a:ext cx="407880" cy="89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Pictur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4145400" y="6027480"/>
                <a:ext cx="444240" cy="188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78" name="Группа 23"/>
          <p:cNvGrpSpPr/>
          <p:nvPr/>
        </p:nvGrpSpPr>
        <p:grpSpPr>
          <a:xfrm>
            <a:off x="1243080" y="2511360"/>
            <a:ext cx="6888240" cy="1662120"/>
            <a:chOff x="1243080" y="2511360"/>
            <a:chExt cx="6888240" cy="1662120"/>
          </a:xfrm>
        </p:grpSpPr>
        <p:grpSp>
          <p:nvGrpSpPr>
            <p:cNvPr id="179" name="Группа 9"/>
            <p:cNvGrpSpPr/>
            <p:nvPr/>
          </p:nvGrpSpPr>
          <p:grpSpPr>
            <a:xfrm>
              <a:off x="1622880" y="2868840"/>
              <a:ext cx="6508440" cy="1304640"/>
              <a:chOff x="1622880" y="2868840"/>
              <a:chExt cx="6508440" cy="1304640"/>
            </a:xfrm>
          </p:grpSpPr>
          <p:pic>
            <p:nvPicPr>
              <p:cNvPr id="180" name="Picture 7" descr=""/>
              <p:cNvPicPr/>
              <p:nvPr/>
            </p:nvPicPr>
            <p:blipFill>
              <a:blip r:embed="rId7"/>
              <a:stretch/>
            </p:blipFill>
            <p:spPr>
              <a:xfrm>
                <a:off x="1622880" y="2878920"/>
                <a:ext cx="2345760" cy="129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Picture 8" descr=""/>
              <p:cNvPicPr/>
              <p:nvPr/>
            </p:nvPicPr>
            <p:blipFill>
              <a:blip r:embed="rId8"/>
              <a:stretch/>
            </p:blipFill>
            <p:spPr>
              <a:xfrm>
                <a:off x="5783400" y="2868840"/>
                <a:ext cx="2347920" cy="13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Picture 9" descr=""/>
              <p:cNvPicPr/>
              <p:nvPr/>
            </p:nvPicPr>
            <p:blipFill>
              <a:blip r:embed="rId9"/>
              <a:stretch/>
            </p:blipFill>
            <p:spPr>
              <a:xfrm>
                <a:off x="4306320" y="2878920"/>
                <a:ext cx="780840" cy="775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3" name="TextBox 21"/>
            <p:cNvSpPr/>
            <p:nvPr/>
          </p:nvSpPr>
          <p:spPr>
            <a:xfrm>
              <a:off x="1243080" y="2511360"/>
              <a:ext cx="57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Группа 24"/>
          <p:cNvGrpSpPr/>
          <p:nvPr/>
        </p:nvGrpSpPr>
        <p:grpSpPr>
          <a:xfrm>
            <a:off x="1208160" y="4000680"/>
            <a:ext cx="6923160" cy="1736640"/>
            <a:chOff x="1208160" y="4000680"/>
            <a:chExt cx="6923160" cy="1736640"/>
          </a:xfrm>
        </p:grpSpPr>
        <p:grpSp>
          <p:nvGrpSpPr>
            <p:cNvPr id="185" name="Группа 8"/>
            <p:cNvGrpSpPr/>
            <p:nvPr/>
          </p:nvGrpSpPr>
          <p:grpSpPr>
            <a:xfrm>
              <a:off x="1600560" y="4425120"/>
              <a:ext cx="6530760" cy="1312200"/>
              <a:chOff x="1600560" y="4425120"/>
              <a:chExt cx="6530760" cy="1312200"/>
            </a:xfrm>
          </p:grpSpPr>
          <p:pic>
            <p:nvPicPr>
              <p:cNvPr id="186" name="Picture 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00560" y="4425120"/>
                <a:ext cx="2368440" cy="1310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Picture 4" descr=""/>
              <p:cNvPicPr/>
              <p:nvPr/>
            </p:nvPicPr>
            <p:blipFill>
              <a:blip r:embed="rId11"/>
              <a:stretch/>
            </p:blipFill>
            <p:spPr>
              <a:xfrm>
                <a:off x="5769360" y="4425120"/>
                <a:ext cx="2361960" cy="1312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8" name="Группа 7"/>
              <p:cNvGrpSpPr/>
              <p:nvPr/>
            </p:nvGrpSpPr>
            <p:grpSpPr>
              <a:xfrm>
                <a:off x="4257000" y="4533480"/>
                <a:ext cx="720000" cy="648000"/>
                <a:chOff x="4257000" y="4533480"/>
                <a:chExt cx="720000" cy="648000"/>
              </a:xfrm>
            </p:grpSpPr>
            <p:grpSp>
              <p:nvGrpSpPr>
                <p:cNvPr id="189" name="Овал 5"/>
                <p:cNvGrpSpPr/>
                <p:nvPr/>
              </p:nvGrpSpPr>
              <p:grpSpPr>
                <a:xfrm>
                  <a:off x="4257000" y="4533480"/>
                  <a:ext cx="720000" cy="648000"/>
                  <a:chOff x="4257000" y="4533480"/>
                  <a:chExt cx="720000" cy="648000"/>
                </a:xfrm>
              </p:grpSpPr>
              <p:pic>
                <p:nvPicPr>
                  <p:cNvPr id="190" name="Овал 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57000" y="4533480"/>
                    <a:ext cx="72000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1" name=""/>
                  <p:cNvSpPr/>
                  <p:nvPr/>
                </p:nvSpPr>
                <p:spPr>
                  <a:xfrm>
                    <a:off x="4355640" y="4606920"/>
                    <a:ext cx="321480" cy="28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2" name="Овал 6"/>
                <p:cNvSpPr/>
                <p:nvPr/>
              </p:nvSpPr>
              <p:spPr>
                <a:xfrm>
                  <a:off x="4466160" y="4704480"/>
                  <a:ext cx="100800" cy="8928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3" name="TextBox 22"/>
            <p:cNvSpPr/>
            <p:nvPr/>
          </p:nvSpPr>
          <p:spPr>
            <a:xfrm>
              <a:off x="1208160" y="400068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4" name="Picture 2" descr=""/>
          <p:cNvPicPr/>
          <p:nvPr/>
        </p:nvPicPr>
        <p:blipFill>
          <a:blip r:embed="rId13"/>
          <a:stretch/>
        </p:blipFill>
        <p:spPr>
          <a:xfrm>
            <a:off x="-23760" y="-152280"/>
            <a:ext cx="15606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311040" y="401760"/>
            <a:ext cx="8229600" cy="793800"/>
          </a:xfrm>
          <a:prstGeom prst="rect">
            <a:avLst/>
          </a:prstGeom>
          <a:ln w="0">
            <a:noFill/>
          </a:ln>
        </p:spPr>
      </p:pic>
      <p:grpSp>
        <p:nvGrpSpPr>
          <p:cNvPr id="196" name="Группа 20"/>
          <p:cNvGrpSpPr/>
          <p:nvPr/>
        </p:nvGrpSpPr>
        <p:grpSpPr>
          <a:xfrm>
            <a:off x="493560" y="2406600"/>
            <a:ext cx="3430800" cy="2102040"/>
            <a:chOff x="493560" y="2406600"/>
            <a:chExt cx="3430800" cy="2102040"/>
          </a:xfrm>
        </p:grpSpPr>
        <p:grpSp>
          <p:nvGrpSpPr>
            <p:cNvPr id="197" name="Прямоугольник 2"/>
            <p:cNvGrpSpPr/>
            <p:nvPr/>
          </p:nvGrpSpPr>
          <p:grpSpPr>
            <a:xfrm>
              <a:off x="883440" y="2781000"/>
              <a:ext cx="1022760" cy="1727640"/>
              <a:chOff x="883440" y="2781000"/>
              <a:chExt cx="1022760" cy="1727640"/>
            </a:xfrm>
          </p:grpSpPr>
          <p:pic>
            <p:nvPicPr>
              <p:cNvPr id="198" name="Прямоугольник 2" descr=""/>
              <p:cNvPicPr/>
              <p:nvPr/>
            </p:nvPicPr>
            <p:blipFill>
              <a:blip r:embed="rId2"/>
              <a:stretch/>
            </p:blipFill>
            <p:spPr>
              <a:xfrm>
                <a:off x="883440" y="2781000"/>
                <a:ext cx="1022760" cy="172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923760" y="2791440"/>
                <a:ext cx="649440" cy="140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Прямоугольник 4"/>
            <p:cNvGrpSpPr/>
            <p:nvPr/>
          </p:nvGrpSpPr>
          <p:grpSpPr>
            <a:xfrm>
              <a:off x="2896200" y="2770560"/>
              <a:ext cx="1028160" cy="1727640"/>
              <a:chOff x="2896200" y="2770560"/>
              <a:chExt cx="1028160" cy="1727640"/>
            </a:xfrm>
          </p:grpSpPr>
          <p:pic>
            <p:nvPicPr>
              <p:cNvPr id="201" name="Прямоугольник 4" descr=""/>
              <p:cNvPicPr/>
              <p:nvPr/>
            </p:nvPicPr>
            <p:blipFill>
              <a:blip r:embed="rId3"/>
              <a:stretch/>
            </p:blipFill>
            <p:spPr>
              <a:xfrm>
                <a:off x="2896200" y="2770560"/>
                <a:ext cx="1028160" cy="172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>
                <a:off x="2937600" y="2791440"/>
                <a:ext cx="649440" cy="138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Стрелка вправо 6"/>
            <p:cNvSpPr/>
            <p:nvPr/>
          </p:nvSpPr>
          <p:spPr>
            <a:xfrm rot="16200000">
              <a:off x="1574640" y="3309480"/>
              <a:ext cx="1426680" cy="389520"/>
            </a:xfrm>
            <a:prstGeom prst="rightArrow">
              <a:avLst>
                <a:gd name="adj1" fmla="val 50000"/>
                <a:gd name="adj2" fmla="val 47767"/>
              </a:avLst>
            </a:prstGeom>
            <a:solidFill>
              <a:srgbClr val="ffc0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Box 8"/>
            <p:cNvSpPr/>
            <p:nvPr/>
          </p:nvSpPr>
          <p:spPr>
            <a:xfrm>
              <a:off x="1811880" y="2605320"/>
              <a:ext cx="38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Box 10"/>
            <p:cNvSpPr/>
            <p:nvPr/>
          </p:nvSpPr>
          <p:spPr>
            <a:xfrm>
              <a:off x="493560" y="2406600"/>
              <a:ext cx="45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Группа 22"/>
          <p:cNvGrpSpPr/>
          <p:nvPr/>
        </p:nvGrpSpPr>
        <p:grpSpPr>
          <a:xfrm>
            <a:off x="5057640" y="2406600"/>
            <a:ext cx="3816360" cy="2451240"/>
            <a:chOff x="5057640" y="2406600"/>
            <a:chExt cx="3816360" cy="2451240"/>
          </a:xfrm>
        </p:grpSpPr>
        <p:pic>
          <p:nvPicPr>
            <p:cNvPr id="207" name="Picture 3" descr=""/>
            <p:cNvPicPr/>
            <p:nvPr/>
          </p:nvPicPr>
          <p:blipFill>
            <a:blip r:embed="rId4"/>
            <a:stretch/>
          </p:blipFill>
          <p:spPr>
            <a:xfrm>
              <a:off x="7740720" y="2853360"/>
              <a:ext cx="1133280" cy="200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4" descr=""/>
            <p:cNvPicPr/>
            <p:nvPr/>
          </p:nvPicPr>
          <p:blipFill>
            <a:blip r:embed="rId5"/>
            <a:stretch/>
          </p:blipFill>
          <p:spPr>
            <a:xfrm>
              <a:off x="5508360" y="2837520"/>
              <a:ext cx="1176120" cy="200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5" descr=""/>
            <p:cNvPicPr/>
            <p:nvPr/>
          </p:nvPicPr>
          <p:blipFill>
            <a:blip r:embed="rId6"/>
            <a:stretch/>
          </p:blipFill>
          <p:spPr>
            <a:xfrm>
              <a:off x="6633720" y="3318480"/>
              <a:ext cx="7808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Box 12"/>
            <p:cNvSpPr/>
            <p:nvPr/>
          </p:nvSpPr>
          <p:spPr>
            <a:xfrm>
              <a:off x="5057640" y="240660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Прямоугольник 13"/>
          <p:cNvSpPr/>
          <p:nvPr/>
        </p:nvSpPr>
        <p:spPr>
          <a:xfrm>
            <a:off x="879480" y="476280"/>
            <a:ext cx="778680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100" spc="-1" strike="noStrike">
                <a:solidFill>
                  <a:srgbClr val="ff0000"/>
                </a:solidFill>
                <a:latin typeface="Times New Roman"/>
              </a:rPr>
              <a:t>Знайти напрям сили Ампера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7"/>
          <a:stretch/>
        </p:blipFill>
        <p:spPr>
          <a:xfrm>
            <a:off x="6176880" y="4273560"/>
            <a:ext cx="1238400" cy="1444680"/>
          </a:xfrm>
          <a:prstGeom prst="rect">
            <a:avLst/>
          </a:prstGeom>
          <a:ln w="0">
            <a:noFill/>
          </a:ln>
        </p:spPr>
      </p:pic>
      <p:grpSp>
        <p:nvGrpSpPr>
          <p:cNvPr id="213" name="Группа 21"/>
          <p:cNvGrpSpPr/>
          <p:nvPr/>
        </p:nvGrpSpPr>
        <p:grpSpPr>
          <a:xfrm>
            <a:off x="1357200" y="4842000"/>
            <a:ext cx="2567160" cy="718200"/>
            <a:chOff x="1357200" y="4842000"/>
            <a:chExt cx="2567160" cy="718200"/>
          </a:xfrm>
        </p:grpSpPr>
        <p:sp>
          <p:nvSpPr>
            <p:cNvPr id="214" name="TextBox 14"/>
            <p:cNvSpPr/>
            <p:nvPr/>
          </p:nvSpPr>
          <p:spPr>
            <a:xfrm>
              <a:off x="1357200" y="4842000"/>
              <a:ext cx="25671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uk-UA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до на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5" name="Прямая со стрелкой 19"/>
            <p:cNvCxnSpPr/>
            <p:nvPr/>
          </p:nvCxnSpPr>
          <p:spPr>
            <a:xfrm>
              <a:off x="1584360" y="4995720"/>
              <a:ext cx="3607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pic>
        <p:nvPicPr>
          <p:cNvPr id="216" name="Picture 2" descr=""/>
          <p:cNvPicPr/>
          <p:nvPr/>
        </p:nvPicPr>
        <p:blipFill>
          <a:blip r:embed="rId8"/>
          <a:stretch/>
        </p:blipFill>
        <p:spPr>
          <a:xfrm>
            <a:off x="131760" y="-125280"/>
            <a:ext cx="15606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1266840" y="1576440"/>
            <a:ext cx="2432160" cy="18032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642960" y="1916280"/>
            <a:ext cx="1238400" cy="1006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1116000" y="3833640"/>
            <a:ext cx="2109960" cy="15973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"/>
          <p:cNvPicPr/>
          <p:nvPr/>
        </p:nvPicPr>
        <p:blipFill>
          <a:blip r:embed="rId4"/>
          <a:stretch/>
        </p:blipFill>
        <p:spPr>
          <a:xfrm>
            <a:off x="1681200" y="5421240"/>
            <a:ext cx="1238040" cy="1444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"/>
          <p:cNvPicPr/>
          <p:nvPr/>
        </p:nvPicPr>
        <p:blipFill>
          <a:blip r:embed="rId5"/>
          <a:stretch/>
        </p:blipFill>
        <p:spPr>
          <a:xfrm>
            <a:off x="5292720" y="1576440"/>
            <a:ext cx="2646360" cy="2097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"/>
          <p:cNvPicPr/>
          <p:nvPr/>
        </p:nvPicPr>
        <p:blipFill>
          <a:blip r:embed="rId6"/>
          <a:stretch/>
        </p:blipFill>
        <p:spPr>
          <a:xfrm>
            <a:off x="4670280" y="1852560"/>
            <a:ext cx="1243080" cy="1006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"/>
          <p:cNvPicPr/>
          <p:nvPr/>
        </p:nvPicPr>
        <p:blipFill>
          <a:blip r:embed="rId7"/>
          <a:stretch/>
        </p:blipFill>
        <p:spPr>
          <a:xfrm>
            <a:off x="5292720" y="3882960"/>
            <a:ext cx="274320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24" name="Группа 7"/>
          <p:cNvGrpSpPr/>
          <p:nvPr/>
        </p:nvGrpSpPr>
        <p:grpSpPr>
          <a:xfrm>
            <a:off x="5553000" y="5472000"/>
            <a:ext cx="2952720" cy="718200"/>
            <a:chOff x="5553000" y="5472000"/>
            <a:chExt cx="2952720" cy="718200"/>
          </a:xfrm>
        </p:grpSpPr>
        <p:sp>
          <p:nvSpPr>
            <p:cNvPr id="225" name="TextBox 4"/>
            <p:cNvSpPr/>
            <p:nvPr/>
          </p:nvSpPr>
          <p:spPr>
            <a:xfrm>
              <a:off x="5553000" y="5472000"/>
              <a:ext cx="29527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0" lang="uk-UA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 діє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6" name="Прямая со стрелкой 6"/>
            <p:cNvCxnSpPr/>
            <p:nvPr/>
          </p:nvCxnSpPr>
          <p:spPr>
            <a:xfrm>
              <a:off x="5715720" y="5614920"/>
              <a:ext cx="3873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pic>
        <p:nvPicPr>
          <p:cNvPr id="227" name="Picture 2" descr=""/>
          <p:cNvPicPr/>
          <p:nvPr/>
        </p:nvPicPr>
        <p:blipFill>
          <a:blip r:embed="rId8"/>
          <a:stretch/>
        </p:blipFill>
        <p:spPr>
          <a:xfrm>
            <a:off x="639720" y="260280"/>
            <a:ext cx="7785000" cy="1090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9"/>
          <a:stretch/>
        </p:blipFill>
        <p:spPr>
          <a:xfrm>
            <a:off x="0" y="-160200"/>
            <a:ext cx="1560600" cy="19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684360" y="4076280"/>
            <a:ext cx="82296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а) зменшиться в 4 раз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б) збільшиться в 2 раз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в) збільшиться в 4 раз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г) зменшиться в 2 раз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Прямоугольник 5"/>
          <p:cNvSpPr/>
          <p:nvPr/>
        </p:nvSpPr>
        <p:spPr>
          <a:xfrm>
            <a:off x="468360" y="981000"/>
            <a:ext cx="828036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1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uk-UA" sz="3100" spc="-1" strike="noStrike">
                <a:solidFill>
                  <a:srgbClr val="ff0000"/>
                </a:solidFill>
                <a:latin typeface="Times New Roman"/>
              </a:rPr>
              <a:t>1. Як зміниться сила Ампера, що діє на провідник зі струмом в однорідному магнітному полі, при збільшенні індукції магнітного поля в 2 рази? Провідник розташований перпендикулярно до вектора магнітної індукції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Прямая соединительная линия 7"/>
          <p:cNvSpPr/>
          <p:nvPr/>
        </p:nvSpPr>
        <p:spPr>
          <a:xfrm>
            <a:off x="1332000" y="5084640"/>
            <a:ext cx="2952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1560240" cy="193212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"/>
          <p:cNvSpPr/>
          <p:nvPr/>
        </p:nvSpPr>
        <p:spPr>
          <a:xfrm>
            <a:off x="2627280" y="334800"/>
            <a:ext cx="39607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0000ff"/>
                </a:solidFill>
                <a:uFillTx/>
                <a:latin typeface="Times New Roman"/>
              </a:rPr>
              <a:t>Тестові завдання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3000"/>
                            </p:stCondLst>
                            <p:childTnLst>
                              <p:par>
                                <p:cTn id="70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6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590400" y="3479400"/>
            <a:ext cx="8229600" cy="25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а) зменшиться в 3 раз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б) збільшиться в 3 раз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в) збільшиться в 9 разі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г) зменшиться в 9 разі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Box 5"/>
          <p:cNvSpPr/>
          <p:nvPr/>
        </p:nvSpPr>
        <p:spPr>
          <a:xfrm>
            <a:off x="468360" y="404640"/>
            <a:ext cx="8351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2. Як зміниться сила Ампера, що діє на прямолінійний провідник зі струмом в однорідному магнітному полі, при зменшенні сили струму в провіднику в 3 рази? Провідник розташований перпендикулярно до вектора магнітної індукції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Прямая соединительная линия 9"/>
          <p:cNvSpPr/>
          <p:nvPr/>
        </p:nvSpPr>
        <p:spPr>
          <a:xfrm>
            <a:off x="1187280" y="3933720"/>
            <a:ext cx="3097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250920" y="-189000"/>
            <a:ext cx="156024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1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1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324000" y="-243000"/>
            <a:ext cx="1560240" cy="193212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3"/>
          <p:cNvSpPr/>
          <p:nvPr/>
        </p:nvSpPr>
        <p:spPr>
          <a:xfrm>
            <a:off x="579600" y="349200"/>
            <a:ext cx="8038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3. Як зміниться сила Ампера, що діє на прямолінійний провідник зі струмом в однорідному магнітному полі, при збільшенні сили струму в провіднику в 2 рази та зменшенні довжини провідника в 2 рази? Провідник розташований перпендикулярно до вектора магнітної індукції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Прямоугольник 4"/>
          <p:cNvSpPr/>
          <p:nvPr/>
        </p:nvSpPr>
        <p:spPr>
          <a:xfrm>
            <a:off x="900000" y="3860640"/>
            <a:ext cx="457200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а) зменшиться в 2 раз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б) збільшиться в 4 раз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в) не змінитьс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г) зменшиться в 4 раз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ая соединительная линия 6"/>
          <p:cNvSpPr/>
          <p:nvPr/>
        </p:nvSpPr>
        <p:spPr>
          <a:xfrm>
            <a:off x="1476360" y="5373720"/>
            <a:ext cx="20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68360" y="907920"/>
            <a:ext cx="822960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 algn="just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та урок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6440" algn="just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i="1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Розкрити залежність сили дії магнітного поля на провідник зі струмом від індукції магнітного поля, сили струму в провіднику, довжини активної частини провідника і кута між напрямом струму в провіднику і напрямом ліній магнітної індукції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6440" algn="just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	</a:t>
            </a:r>
            <a:r>
              <a:rPr b="0" i="1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Добитися засвоєння і уміння застосовувати в різних ситуаціях правила лівої ру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6440" algn="just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Book Antiqua"/>
                <a:ea typeface="Calibri"/>
              </a:rPr>
              <a:t>	</a:t>
            </a:r>
            <a:r>
              <a:rPr b="0" i="1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Розвивати уміння спостерігати, порівнювати і узагальнювати результати експерименту, розвивати в учнів навички самостійного набування знан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50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6"/>
          <p:cNvSpPr/>
          <p:nvPr/>
        </p:nvSpPr>
        <p:spPr>
          <a:xfrm>
            <a:off x="684360" y="620640"/>
            <a:ext cx="82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	</a:t>
            </a: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4. За правилом лівої руки знайти напрям сили Ампера, яка діє на провідник зі струмом у магнітному полі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539640" y="-171360"/>
            <a:ext cx="1560600" cy="19317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"/>
          <p:cNvPicPr/>
          <p:nvPr/>
        </p:nvPicPr>
        <p:blipFill>
          <a:blip r:embed="rId2"/>
          <a:stretch/>
        </p:blipFill>
        <p:spPr>
          <a:xfrm>
            <a:off x="3924360" y="2205000"/>
            <a:ext cx="4379760" cy="251928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9"/>
          <p:cNvSpPr/>
          <p:nvPr/>
        </p:nvSpPr>
        <p:spPr>
          <a:xfrm>
            <a:off x="684360" y="537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а) 1;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б) 2;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в) 3;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г)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ая соединительная линия 16"/>
          <p:cNvSpPr/>
          <p:nvPr/>
        </p:nvSpPr>
        <p:spPr>
          <a:xfrm>
            <a:off x="5364000" y="5896080"/>
            <a:ext cx="749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0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3"/>
          <p:cNvSpPr/>
          <p:nvPr/>
        </p:nvSpPr>
        <p:spPr>
          <a:xfrm>
            <a:off x="611280" y="404640"/>
            <a:ext cx="81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	</a:t>
            </a: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5. За правилом лівої руки знайти напрям сили Ампера, яка діє на провідник зі струмом у магнітному полі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395280" y="-316080"/>
            <a:ext cx="1554120" cy="19321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"/>
          <p:cNvPicPr/>
          <p:nvPr/>
        </p:nvPicPr>
        <p:blipFill>
          <a:blip r:embed="rId2"/>
          <a:stretch/>
        </p:blipFill>
        <p:spPr>
          <a:xfrm>
            <a:off x="3954600" y="1789200"/>
            <a:ext cx="4362480" cy="2863800"/>
          </a:xfrm>
          <a:prstGeom prst="rect">
            <a:avLst/>
          </a:prstGeom>
          <a:ln w="0">
            <a:noFill/>
          </a:ln>
        </p:spPr>
      </p:pic>
      <p:sp>
        <p:nvSpPr>
          <p:cNvPr id="250" name="Прямоугольник 4"/>
          <p:cNvSpPr/>
          <p:nvPr/>
        </p:nvSpPr>
        <p:spPr>
          <a:xfrm>
            <a:off x="971640" y="50626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а) 1;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б) 2;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в) 3;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г)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ая соединительная линия 6"/>
          <p:cNvSpPr/>
          <p:nvPr/>
        </p:nvSpPr>
        <p:spPr>
          <a:xfrm>
            <a:off x="1619280" y="5584680"/>
            <a:ext cx="576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324000" y="-316080"/>
            <a:ext cx="1554120" cy="193212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3"/>
          <p:cNvSpPr/>
          <p:nvPr/>
        </p:nvSpPr>
        <p:spPr>
          <a:xfrm>
            <a:off x="600120" y="404640"/>
            <a:ext cx="81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	</a:t>
            </a: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6. За правилом лівої руки знайти напрям сили Ампера, яка діє на провідник зі струмом у магнітному полі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2"/>
          <a:stretch/>
        </p:blipFill>
        <p:spPr>
          <a:xfrm>
            <a:off x="600120" y="5157720"/>
            <a:ext cx="7419960" cy="7495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"/>
          <p:cNvPicPr/>
          <p:nvPr/>
        </p:nvPicPr>
        <p:blipFill>
          <a:blip r:embed="rId3"/>
          <a:stretch/>
        </p:blipFill>
        <p:spPr>
          <a:xfrm>
            <a:off x="3559320" y="1789200"/>
            <a:ext cx="5178240" cy="325260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ая соединительная линия 5"/>
          <p:cNvSpPr/>
          <p:nvPr/>
        </p:nvSpPr>
        <p:spPr>
          <a:xfrm>
            <a:off x="1100160" y="5732640"/>
            <a:ext cx="592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0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179280" y="-316080"/>
            <a:ext cx="1554120" cy="193212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3"/>
          <p:cNvSpPr/>
          <p:nvPr/>
        </p:nvSpPr>
        <p:spPr>
          <a:xfrm>
            <a:off x="411120" y="412920"/>
            <a:ext cx="82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	</a:t>
            </a: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7. За правилом лівої руки знайти напрям сили Ампера, яка діє на провідник зі струмом у магнітному полі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2"/>
          <a:stretch/>
        </p:blipFill>
        <p:spPr>
          <a:xfrm>
            <a:off x="411120" y="5373720"/>
            <a:ext cx="7419960" cy="74916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ая соединительная линия 5"/>
          <p:cNvSpPr/>
          <p:nvPr/>
        </p:nvSpPr>
        <p:spPr>
          <a:xfrm>
            <a:off x="3276720" y="5950080"/>
            <a:ext cx="574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Группа 1"/>
          <p:cNvGrpSpPr/>
          <p:nvPr/>
        </p:nvGrpSpPr>
        <p:grpSpPr>
          <a:xfrm>
            <a:off x="1782720" y="2133720"/>
            <a:ext cx="6048360" cy="2590560"/>
            <a:chOff x="1782720" y="2133720"/>
            <a:chExt cx="6048360" cy="2590560"/>
          </a:xfrm>
        </p:grpSpPr>
        <p:pic>
          <p:nvPicPr>
            <p:cNvPr id="262" name="Picture 2" descr=""/>
            <p:cNvPicPr/>
            <p:nvPr/>
          </p:nvPicPr>
          <p:blipFill>
            <a:blip r:embed="rId3"/>
            <a:stretch/>
          </p:blipFill>
          <p:spPr>
            <a:xfrm>
              <a:off x="1782720" y="2133720"/>
              <a:ext cx="2987640" cy="25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3" descr=""/>
            <p:cNvPicPr/>
            <p:nvPr/>
          </p:nvPicPr>
          <p:blipFill>
            <a:blip r:embed="rId4"/>
            <a:stretch/>
          </p:blipFill>
          <p:spPr>
            <a:xfrm>
              <a:off x="5499360" y="2190600"/>
              <a:ext cx="2331720" cy="2246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0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468360" y="-243000"/>
            <a:ext cx="1554120" cy="193212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3"/>
          <p:cNvSpPr/>
          <p:nvPr/>
        </p:nvSpPr>
        <p:spPr>
          <a:xfrm>
            <a:off x="684360" y="404640"/>
            <a:ext cx="799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	</a:t>
            </a: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8. За правилом лівої руки знайти напрям сили Ампера, яка діє на провідник зі струмом у магнітному полі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2"/>
          <a:stretch/>
        </p:blipFill>
        <p:spPr>
          <a:xfrm>
            <a:off x="684360" y="5445000"/>
            <a:ext cx="7419960" cy="74952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ая соединительная линия 5"/>
          <p:cNvSpPr/>
          <p:nvPr/>
        </p:nvSpPr>
        <p:spPr>
          <a:xfrm>
            <a:off x="3492360" y="6010200"/>
            <a:ext cx="901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Группа 1"/>
          <p:cNvGrpSpPr/>
          <p:nvPr/>
        </p:nvGrpSpPr>
        <p:grpSpPr>
          <a:xfrm>
            <a:off x="1476360" y="2133720"/>
            <a:ext cx="5975280" cy="2609640"/>
            <a:chOff x="1476360" y="2133720"/>
            <a:chExt cx="5975280" cy="2609640"/>
          </a:xfrm>
        </p:grpSpPr>
        <p:pic>
          <p:nvPicPr>
            <p:cNvPr id="269" name="Picture 2" descr=""/>
            <p:cNvPicPr/>
            <p:nvPr/>
          </p:nvPicPr>
          <p:blipFill>
            <a:blip r:embed="rId3"/>
            <a:stretch/>
          </p:blipFill>
          <p:spPr>
            <a:xfrm>
              <a:off x="1476360" y="2133720"/>
              <a:ext cx="3034440" cy="26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3" descr=""/>
            <p:cNvPicPr/>
            <p:nvPr/>
          </p:nvPicPr>
          <p:blipFill>
            <a:blip r:embed="rId4"/>
            <a:stretch/>
          </p:blipFill>
          <p:spPr>
            <a:xfrm>
              <a:off x="5292000" y="2398320"/>
              <a:ext cx="2159640" cy="2080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250920" y="-345960"/>
            <a:ext cx="1554120" cy="193176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3"/>
          <p:cNvSpPr/>
          <p:nvPr/>
        </p:nvSpPr>
        <p:spPr>
          <a:xfrm>
            <a:off x="468360" y="404640"/>
            <a:ext cx="81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	</a:t>
            </a: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9. За правилом лівої руки знайти напрям сили Ампера, яка діє на провідник зі струмом у магнітному полі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2"/>
          <a:stretch/>
        </p:blipFill>
        <p:spPr>
          <a:xfrm>
            <a:off x="611280" y="5445000"/>
            <a:ext cx="7419960" cy="74952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ая соединительная линия 5"/>
          <p:cNvSpPr/>
          <p:nvPr/>
        </p:nvSpPr>
        <p:spPr>
          <a:xfrm>
            <a:off x="1116000" y="6021360"/>
            <a:ext cx="6890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Группа 1"/>
          <p:cNvGrpSpPr/>
          <p:nvPr/>
        </p:nvGrpSpPr>
        <p:grpSpPr>
          <a:xfrm>
            <a:off x="1441440" y="2124000"/>
            <a:ext cx="6049800" cy="2610000"/>
            <a:chOff x="1441440" y="2124000"/>
            <a:chExt cx="6049800" cy="2610000"/>
          </a:xfrm>
        </p:grpSpPr>
        <p:pic>
          <p:nvPicPr>
            <p:cNvPr id="276" name="Picture 2" descr=""/>
            <p:cNvPicPr/>
            <p:nvPr/>
          </p:nvPicPr>
          <p:blipFill>
            <a:blip r:embed="rId3"/>
            <a:stretch/>
          </p:blipFill>
          <p:spPr>
            <a:xfrm>
              <a:off x="1441440" y="2124000"/>
              <a:ext cx="3035520" cy="261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3" descr=""/>
            <p:cNvPicPr/>
            <p:nvPr/>
          </p:nvPicPr>
          <p:blipFill>
            <a:blip r:embed="rId4"/>
            <a:stretch/>
          </p:blipFill>
          <p:spPr>
            <a:xfrm>
              <a:off x="5117760" y="2124000"/>
              <a:ext cx="2373480" cy="2293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3"/>
          <p:cNvSpPr/>
          <p:nvPr/>
        </p:nvSpPr>
        <p:spPr>
          <a:xfrm>
            <a:off x="503280" y="1216080"/>
            <a:ext cx="8209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Задача 1.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 Провідник зі струмом силою 1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4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 А вміщений у магнітне поле з індукцією 0,5 Тл. З якою силою діє поле на провідник довжиною 50 см, розміщений під кутом 90</a:t>
            </a:r>
            <a:r>
              <a:rPr b="0" lang="uk-UA" sz="2800" spc="-1" strike="noStrike" baseline="30000">
                <a:solidFill>
                  <a:srgbClr val="0000ff"/>
                </a:solidFill>
                <a:latin typeface="Times New Roman"/>
                <a:ea typeface="Calibri"/>
              </a:rPr>
              <a:t>0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 до вектора магнітної індукції? Чому дорівнює сила, коли напрям струму утворює з напрямом вектора індукції кут 30</a:t>
            </a:r>
            <a:r>
              <a:rPr b="0" lang="uk-UA" sz="2800" spc="-1" strike="noStrike" baseline="30000">
                <a:solidFill>
                  <a:srgbClr val="0000ff"/>
                </a:solidFill>
                <a:latin typeface="Times New Roman"/>
                <a:ea typeface="Calibri"/>
              </a:rPr>
              <a:t>0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? Чому дорівнює сила, коли провідник зі струмом розміщений вздовж ліній магнітної індукції пол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Прямоугольник 4"/>
          <p:cNvSpPr/>
          <p:nvPr/>
        </p:nvSpPr>
        <p:spPr>
          <a:xfrm>
            <a:off x="2268360" y="363600"/>
            <a:ext cx="4680000" cy="654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Calibri"/>
              </a:rPr>
              <a:t>Розв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Calibri"/>
              </a:rPr>
              <a:t>’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Calibri"/>
              </a:rPr>
              <a:t>язування зада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Прямоугольник 5"/>
          <p:cNvSpPr/>
          <p:nvPr/>
        </p:nvSpPr>
        <p:spPr>
          <a:xfrm>
            <a:off x="3412440" y="5376960"/>
            <a:ext cx="5260320" cy="581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повідь: 3,5Н; 1,75Н; 0 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0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3" nodeType="after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3"/>
          <p:cNvSpPr/>
          <p:nvPr/>
        </p:nvSpPr>
        <p:spPr>
          <a:xfrm>
            <a:off x="395280" y="33336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Задача 2. 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В однорідному магнітному полі з індукцією 0,8 Тл на прямий провідник зі струмом 30А, довжина активної частини якого10см, діє сила 1,5Н. Під яким кутом до вектора індукції розташований провідник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Прямоугольник 4"/>
          <p:cNvSpPr/>
          <p:nvPr/>
        </p:nvSpPr>
        <p:spPr>
          <a:xfrm>
            <a:off x="5796000" y="2362320"/>
            <a:ext cx="2736720" cy="654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повідь: 39</a:t>
            </a:r>
            <a:r>
              <a:rPr b="1" lang="uk-UA" sz="3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Прямоугольник 5"/>
          <p:cNvSpPr/>
          <p:nvPr/>
        </p:nvSpPr>
        <p:spPr>
          <a:xfrm>
            <a:off x="395280" y="3065400"/>
            <a:ext cx="83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Задача 3. 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Сила струму в горизонтально розташованому провіднику завдовжки 20 см і масою 4 г дорівнює 10 А. Знайти індукцію магнітного поля, в яке потрібно помістити провідник, щоб сила тяжіння урівноважилася силою Ампера. Провідник розташований перпендикулярно до ліній індукції магнітного пол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Прямоугольник 6"/>
          <p:cNvSpPr/>
          <p:nvPr/>
        </p:nvSpPr>
        <p:spPr>
          <a:xfrm>
            <a:off x="5261040" y="5862600"/>
            <a:ext cx="3487680" cy="654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повідь: 20мТ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0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16" presetSubtype="2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3"/>
          <p:cNvSpPr/>
          <p:nvPr/>
        </p:nvSpPr>
        <p:spPr>
          <a:xfrm>
            <a:off x="684360" y="620640"/>
            <a:ext cx="806436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Задача 4.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 Яку роботу виконує однорідне магнітне поле з індукцією 15мТл під час переміщення провідника довжиною 2м зі струмом 10А на відстань 20см у напрямі дії сили? Провідник розташований під кутом 30</a:t>
            </a:r>
            <a:r>
              <a:rPr b="0" lang="uk-UA" sz="2800" spc="-1" strike="noStrike" baseline="30000">
                <a:solidFill>
                  <a:srgbClr val="0000ff"/>
                </a:solidFill>
                <a:latin typeface="Times New Roman"/>
                <a:ea typeface="Calibri"/>
              </a:rPr>
              <a:t>0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 до ліній індукції магнітного пол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Прямоугольник 4"/>
          <p:cNvSpPr/>
          <p:nvPr/>
        </p:nvSpPr>
        <p:spPr>
          <a:xfrm>
            <a:off x="5091480" y="3679920"/>
            <a:ext cx="3432960" cy="654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повідь: 30мДж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0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Прямоугольник 1"/>
          <p:cNvSpPr/>
          <p:nvPr/>
        </p:nvSpPr>
        <p:spPr>
          <a:xfrm>
            <a:off x="395280" y="658800"/>
            <a:ext cx="828036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Calibri"/>
              </a:rPr>
              <a:t>Домашнє завданн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  <a:ea typeface="Calibri"/>
              </a:rPr>
              <a:t>Є.В. Коршак «Фізика 11» вивчити §26-28, повторити §24-2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  <a:ea typeface="Calibri"/>
              </a:rPr>
              <a:t>Ф.Я. Божинова «Збірник задач. Фізика 11», розв’язати задачі №11.10, 11.18, 11.3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0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457200" y="241200"/>
          <a:ext cx="8229600" cy="65008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238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ухомий електричний заря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200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Магнітне поле – особлива форма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Правило правого гвин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Правило правої ру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л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cb084"/>
                    </a:solidFill>
                  </a:tcPr>
                </a:tc>
              </a:tr>
            </a:tbl>
          </a:graphicData>
        </a:graphic>
      </p:graphicFrame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654280" y="330120"/>
            <a:ext cx="1844640" cy="949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2654280" y="1341360"/>
            <a:ext cx="1844640" cy="1022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4740120" y="330120"/>
            <a:ext cx="1656000" cy="949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4"/>
          <a:stretch/>
        </p:blipFill>
        <p:spPr>
          <a:xfrm>
            <a:off x="4726080" y="1371600"/>
            <a:ext cx="1655640" cy="9921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" descr=""/>
          <p:cNvPicPr/>
          <p:nvPr/>
        </p:nvPicPr>
        <p:blipFill>
          <a:blip r:embed="rId5"/>
          <a:stretch/>
        </p:blipFill>
        <p:spPr>
          <a:xfrm>
            <a:off x="6885000" y="511200"/>
            <a:ext cx="1520640" cy="1658880"/>
          </a:xfrm>
          <a:prstGeom prst="rect">
            <a:avLst/>
          </a:prstGeom>
          <a:ln w="0">
            <a:noFill/>
          </a:ln>
        </p:spPr>
      </p:pic>
      <p:pic>
        <p:nvPicPr>
          <p:cNvPr id="52" name="Объект 5" descr=""/>
          <p:cNvPicPr/>
          <p:nvPr/>
        </p:nvPicPr>
        <p:blipFill>
          <a:blip r:embed="rId6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Объект 8" descr=""/>
          <p:cNvPicPr/>
          <p:nvPr/>
        </p:nvPicPr>
        <p:blipFill>
          <a:blip r:embed="rId7"/>
          <a:stretch/>
        </p:blipFill>
        <p:spPr>
          <a:xfrm>
            <a:off x="3011400" y="2895480"/>
            <a:ext cx="962280" cy="1257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8"/>
          <a:stretch/>
        </p:blipFill>
        <p:spPr>
          <a:xfrm>
            <a:off x="6972480" y="2781360"/>
            <a:ext cx="1344600" cy="1638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9"/>
          <a:stretch/>
        </p:blipFill>
        <p:spPr>
          <a:xfrm>
            <a:off x="4932360" y="4819680"/>
            <a:ext cx="1319040" cy="1733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10"/>
          <a:stretch/>
        </p:blipFill>
        <p:spPr>
          <a:xfrm>
            <a:off x="879480" y="4878360"/>
            <a:ext cx="1257120" cy="16099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6" descr="C:\TEMP\FineReader10\media\image1.jpeg"/>
          <p:cNvPicPr/>
          <p:nvPr/>
        </p:nvPicPr>
        <p:blipFill>
          <a:blip r:embed="rId11">
            <a:lum contrast="40000"/>
          </a:blip>
          <a:srcRect l="0" t="0" r="0" b="-59"/>
          <a:stretch/>
        </p:blipFill>
        <p:spPr>
          <a:xfrm>
            <a:off x="2654280" y="4819680"/>
            <a:ext cx="1825560" cy="1728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8" descr=""/>
          <p:cNvPicPr/>
          <p:nvPr/>
        </p:nvPicPr>
        <p:blipFill>
          <a:blip r:embed="rId12"/>
          <a:stretch/>
        </p:blipFill>
        <p:spPr>
          <a:xfrm>
            <a:off x="539640" y="311040"/>
            <a:ext cx="1938600" cy="2237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9" descr=""/>
          <p:cNvPicPr/>
          <p:nvPr/>
        </p:nvPicPr>
        <p:blipFill>
          <a:blip r:embed="rId13"/>
          <a:stretch/>
        </p:blipFill>
        <p:spPr>
          <a:xfrm>
            <a:off x="2606760" y="311040"/>
            <a:ext cx="1892160" cy="2200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0" descr=""/>
          <p:cNvPicPr/>
          <p:nvPr/>
        </p:nvPicPr>
        <p:blipFill>
          <a:blip r:embed="rId14"/>
          <a:stretch/>
        </p:blipFill>
        <p:spPr>
          <a:xfrm>
            <a:off x="4613400" y="274680"/>
            <a:ext cx="1957320" cy="2195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1" descr=""/>
          <p:cNvPicPr/>
          <p:nvPr/>
        </p:nvPicPr>
        <p:blipFill>
          <a:blip r:embed="rId15"/>
          <a:stretch/>
        </p:blipFill>
        <p:spPr>
          <a:xfrm>
            <a:off x="6708600" y="312840"/>
            <a:ext cx="1872000" cy="2157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2" descr=""/>
          <p:cNvPicPr/>
          <p:nvPr/>
        </p:nvPicPr>
        <p:blipFill>
          <a:blip r:embed="rId16"/>
          <a:stretch/>
        </p:blipFill>
        <p:spPr>
          <a:xfrm>
            <a:off x="563400" y="2660760"/>
            <a:ext cx="1890720" cy="1877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3" descr=""/>
          <p:cNvPicPr/>
          <p:nvPr/>
        </p:nvPicPr>
        <p:blipFill>
          <a:blip r:embed="rId17"/>
          <a:stretch/>
        </p:blipFill>
        <p:spPr>
          <a:xfrm>
            <a:off x="2643120" y="2714760"/>
            <a:ext cx="1847880" cy="1841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4" descr=""/>
          <p:cNvPicPr/>
          <p:nvPr/>
        </p:nvPicPr>
        <p:blipFill>
          <a:blip r:embed="rId18"/>
          <a:stretch/>
        </p:blipFill>
        <p:spPr>
          <a:xfrm>
            <a:off x="4613400" y="2746440"/>
            <a:ext cx="1963440" cy="1785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5" descr=""/>
          <p:cNvPicPr/>
          <p:nvPr/>
        </p:nvPicPr>
        <p:blipFill>
          <a:blip r:embed="rId19"/>
          <a:stretch/>
        </p:blipFill>
        <p:spPr>
          <a:xfrm>
            <a:off x="6700680" y="2728800"/>
            <a:ext cx="1798920" cy="1841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6" descr=""/>
          <p:cNvPicPr/>
          <p:nvPr/>
        </p:nvPicPr>
        <p:blipFill>
          <a:blip r:embed="rId20"/>
          <a:stretch/>
        </p:blipFill>
        <p:spPr>
          <a:xfrm>
            <a:off x="539640" y="4737240"/>
            <a:ext cx="1835280" cy="1822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7" descr=""/>
          <p:cNvPicPr/>
          <p:nvPr/>
        </p:nvPicPr>
        <p:blipFill>
          <a:blip r:embed="rId21"/>
          <a:stretch/>
        </p:blipFill>
        <p:spPr>
          <a:xfrm>
            <a:off x="2595600" y="4807080"/>
            <a:ext cx="1884240" cy="1792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8" descr=""/>
          <p:cNvPicPr/>
          <p:nvPr/>
        </p:nvPicPr>
        <p:blipFill>
          <a:blip r:embed="rId22"/>
          <a:stretch/>
        </p:blipFill>
        <p:spPr>
          <a:xfrm>
            <a:off x="4711680" y="4807080"/>
            <a:ext cx="1828800" cy="1834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9" descr=""/>
          <p:cNvPicPr/>
          <p:nvPr/>
        </p:nvPicPr>
        <p:blipFill>
          <a:blip r:embed="rId23"/>
          <a:stretch/>
        </p:blipFill>
        <p:spPr>
          <a:xfrm>
            <a:off x="6748560" y="4802040"/>
            <a:ext cx="187776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5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8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9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0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0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1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24000" y="115920"/>
          <a:ext cx="8569080" cy="1676520"/>
        </p:xfrm>
        <a:graphic>
          <a:graphicData uri="http://schemas.openxmlformats.org/drawingml/2006/table">
            <a:tbl>
              <a:tblPr/>
              <a:tblGrid>
                <a:gridCol w="779400"/>
                <a:gridCol w="777960"/>
                <a:gridCol w="779400"/>
                <a:gridCol w="779400"/>
                <a:gridCol w="777960"/>
                <a:gridCol w="779400"/>
                <a:gridCol w="779400"/>
                <a:gridCol w="777960"/>
                <a:gridCol w="779400"/>
                <a:gridCol w="779400"/>
                <a:gridCol w="779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В -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4000" y="1773360"/>
          <a:ext cx="8569080" cy="1676160"/>
        </p:xfrm>
        <a:graphic>
          <a:graphicData uri="http://schemas.openxmlformats.org/drawingml/2006/table">
            <a:tbl>
              <a:tblPr/>
              <a:tblGrid>
                <a:gridCol w="779400"/>
                <a:gridCol w="777960"/>
                <a:gridCol w="779400"/>
                <a:gridCol w="779400"/>
                <a:gridCol w="777960"/>
                <a:gridCol w="779400"/>
                <a:gridCol w="779400"/>
                <a:gridCol w="777960"/>
                <a:gridCol w="779400"/>
                <a:gridCol w="779400"/>
                <a:gridCol w="779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В -І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324000" y="3500280"/>
          <a:ext cx="8569080" cy="1676520"/>
        </p:xfrm>
        <a:graphic>
          <a:graphicData uri="http://schemas.openxmlformats.org/drawingml/2006/table">
            <a:tbl>
              <a:tblPr/>
              <a:tblGrid>
                <a:gridCol w="779400"/>
                <a:gridCol w="777960"/>
                <a:gridCol w="779400"/>
                <a:gridCol w="779400"/>
                <a:gridCol w="777960"/>
                <a:gridCol w="779400"/>
                <a:gridCol w="779400"/>
                <a:gridCol w="777960"/>
                <a:gridCol w="779400"/>
                <a:gridCol w="779400"/>
                <a:gridCol w="779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В -ІІ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24000" y="5181480"/>
          <a:ext cx="8569080" cy="1725840"/>
        </p:xfrm>
        <a:graphic>
          <a:graphicData uri="http://schemas.openxmlformats.org/drawingml/2006/table">
            <a:tbl>
              <a:tblPr/>
              <a:tblGrid>
                <a:gridCol w="779400"/>
                <a:gridCol w="777960"/>
                <a:gridCol w="779400"/>
                <a:gridCol w="779400"/>
                <a:gridCol w="777960"/>
                <a:gridCol w="779400"/>
                <a:gridCol w="779400"/>
                <a:gridCol w="777960"/>
                <a:gridCol w="779400"/>
                <a:gridCol w="779400"/>
                <a:gridCol w="779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В -І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Book Antiqua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рис 1"/>
          <p:cNvPicPr/>
          <p:nvPr/>
        </p:nvPicPr>
        <p:blipFill>
          <a:blip r:embed="rId1"/>
          <a:srcRect l="0" t="0" r="-29" b="0"/>
          <a:stretch/>
        </p:blipFill>
        <p:spPr>
          <a:xfrm>
            <a:off x="5867280" y="260280"/>
            <a:ext cx="2305080" cy="19177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4"/>
          <p:cNvSpPr/>
          <p:nvPr/>
        </p:nvSpPr>
        <p:spPr>
          <a:xfrm>
            <a:off x="355680" y="434880"/>
            <a:ext cx="373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Між полюсами постійного магніту розміщено провідник зі струмом. Замкнемо ключ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Стрелка вправо 5"/>
          <p:cNvSpPr/>
          <p:nvPr/>
        </p:nvSpPr>
        <p:spPr>
          <a:xfrm>
            <a:off x="3995640" y="932040"/>
            <a:ext cx="1871640" cy="5760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Прямоугольник 6"/>
          <p:cNvSpPr/>
          <p:nvPr/>
        </p:nvSpPr>
        <p:spPr>
          <a:xfrm>
            <a:off x="1663560" y="2538360"/>
            <a:ext cx="60516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Коли по провіднику проходить стру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Прямоугольник 7"/>
          <p:cNvSpPr/>
          <p:nvPr/>
        </p:nvSpPr>
        <p:spPr>
          <a:xfrm>
            <a:off x="147600" y="5300640"/>
            <a:ext cx="40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провідник виштовхується з проміжку між полюсами магні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Прямоугольник 8"/>
          <p:cNvSpPr/>
          <p:nvPr/>
        </p:nvSpPr>
        <p:spPr>
          <a:xfrm>
            <a:off x="3610080" y="3736800"/>
            <a:ext cx="21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  <a:ea typeface="Calibri"/>
              </a:rPr>
              <a:t>змінюємо напрям струм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Прямоугольник 9"/>
          <p:cNvSpPr/>
          <p:nvPr/>
        </p:nvSpPr>
        <p:spPr>
          <a:xfrm>
            <a:off x="5294160" y="5300640"/>
            <a:ext cx="36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провідник втягується у проміжок між полюсами магні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900000" y="3143160"/>
            <a:ext cx="2627280" cy="2157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5905440" y="3124080"/>
            <a:ext cx="262116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3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500"/>
                            </p:stCondLst>
                            <p:childTnLst>
                              <p:par>
                                <p:cTn id="168" nodeType="after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7" nodeType="afterEffect" fill="hold" presetClass="entr" presetID="5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3" nodeType="after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2"/>
          <p:cNvSpPr/>
          <p:nvPr/>
        </p:nvSpPr>
        <p:spPr>
          <a:xfrm>
            <a:off x="611280" y="312840"/>
            <a:ext cx="7632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Змінимо напрям магнітних ліній по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914400" y="804960"/>
            <a:ext cx="2620800" cy="2236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5659560" y="795240"/>
            <a:ext cx="2584440" cy="22320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3"/>
          <p:cNvSpPr/>
          <p:nvPr/>
        </p:nvSpPr>
        <p:spPr>
          <a:xfrm>
            <a:off x="0" y="29462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Провідник втягується 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проміжок між полюсами магніт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4572000" y="29462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Провідник виштовхується з проміжку між полюсами магніт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262080" y="3827520"/>
            <a:ext cx="8631000" cy="25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Висновок: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На провідник зі струмом у магнітному полі діє си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Напрям сили, з якою магнітне поле діє на провідник зі струмом, залежить від напряму струму в провіднику та напряму магнітних ліній поля.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500"/>
                            </p:stCondLst>
                            <p:childTnLst>
                              <p:par>
                                <p:cTn id="206" nodeType="afterEffect" fill="hold" presetClass="entr" presetID="6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2"/>
          <p:cNvSpPr/>
          <p:nvPr/>
        </p:nvSpPr>
        <p:spPr>
          <a:xfrm>
            <a:off x="684360" y="47628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	</a:t>
            </a: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Сила, з якою магнітне поле діє на провідник зі струмом, називається </a:t>
            </a:r>
            <a:r>
              <a:rPr b="1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силою Ампера</a:t>
            </a: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	</a:t>
            </a: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Напрям сили Ампера можна визначити за правилом лівої ру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981000" y="2276640"/>
            <a:ext cx="2448000" cy="33652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851280" y="2115360"/>
            <a:ext cx="489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Правило лівої ру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Якщо ліву руку розташувати так, щоб лінії магнітного поля входили в долоню, а чотири витягнуті пальці вказували напрямок струму в провіднику, то відігнутий на 90</a:t>
            </a:r>
            <a:r>
              <a:rPr b="1" i="1" lang="uk-UA" sz="2400" spc="-1" strike="noStrike" baseline="30000">
                <a:solidFill>
                  <a:srgbClr val="ff0000"/>
                </a:solidFill>
                <a:latin typeface="Times New Roman"/>
                <a:ea typeface="Calibri"/>
              </a:rPr>
              <a:t>0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 великий палець укаже напрямок сили Ампе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3" nodeType="afterEffect" fill="hold" presetClass="entr" presetID="5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2089800" y="174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Від чого залежить сила Ампер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Рисунок 1" descr=""/>
          <p:cNvPicPr/>
          <p:nvPr/>
        </p:nvPicPr>
        <p:blipFill>
          <a:blip r:embed="rId1"/>
          <a:stretch/>
        </p:blipFill>
        <p:spPr>
          <a:xfrm>
            <a:off x="5908680" y="836640"/>
            <a:ext cx="3130560" cy="28526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250920" y="473400"/>
            <a:ext cx="568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Дослід 1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Дослідження залежності сили Ампера від сили струму в провідни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4928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ібрати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експериментальну установ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4928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вижок реостата встановити на максимальний опі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4928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мкнути електричне коло на декілька секун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209520" y="3692520"/>
            <a:ext cx="8318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Спостерігаємо відхилення котушки від первинного положенн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Дослід повторити при різних значеннях сили струму, яка             змінюється за допомогою реоста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Висновок:</a:t>
            </a:r>
            <a:r>
              <a:rPr b="0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 Дротяний моток відхиляється на більший кут, якщо збільшити силу струму. Сила Ампера збільшується із збільшенням сили струму в провідни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50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950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500"/>
                            </p:stCondLst>
                            <p:childTnLst>
                              <p:par>
                                <p:cTn id="280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"/>
          <p:cNvPicPr/>
          <p:nvPr/>
        </p:nvPicPr>
        <p:blipFill>
          <a:blip r:embed="rId1"/>
          <a:stretch/>
        </p:blipFill>
        <p:spPr>
          <a:xfrm>
            <a:off x="6659640" y="264960"/>
            <a:ext cx="2031840" cy="26179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395280" y="307080"/>
            <a:ext cx="576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Дослід 2.</a:t>
            </a:r>
            <a:r>
              <a:rPr b="1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 </a:t>
            </a: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Дослідити залежність сили Ампера від магнітної індукції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остерігаємо відхилення котушки від первинного положення спочатку при одному, а потім при двох магніт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Висновок:</a:t>
            </a: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0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Сила Ампера збільшується із збільшенням індукції магнітного пол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5"/>
          <p:cNvSpPr/>
          <p:nvPr/>
        </p:nvSpPr>
        <p:spPr>
          <a:xfrm>
            <a:off x="209520" y="3030480"/>
            <a:ext cx="878508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Дослід 3.</a:t>
            </a:r>
            <a:r>
              <a:rPr b="1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 </a:t>
            </a: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Дослідити залежність сили Ампера від напряму магнітного пол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мінити відносне розташування мотка і магні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кажіть напрям магнітного поля, напрям струму і передбачуваний рух мотка відносно магні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Висновок:</a:t>
            </a:r>
            <a:r>
              <a:rPr b="0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 Якщо напрям магнітної індукції перпендикулярний площі витка, то відхилення максимальне, паралельний – відхилення витка не спостерігаєть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70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19:45:17Z</dcterms:created>
  <dc:creator>Дмитрий Каленюк</dc:creator>
  <dc:description/>
  <dc:language>en-US</dc:language>
  <cp:lastModifiedBy>Дмитрий Каленюк</cp:lastModifiedBy>
  <dcterms:modified xsi:type="dcterms:W3CDTF">2012-01-18T20:14:34Z</dcterms:modified>
  <cp:revision>17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1c000000000001024140</vt:lpwstr>
  </property>
</Properties>
</file>