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B974-FA51-4318-BD40-63AA612A9C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7FFF-669B-43E2-BF37-E9110323F07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971-EE61-4175-80AC-CD6D7667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A7B-D08B-4CC4-AC76-57DE9E77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F33D-E5C7-43D0-9DA2-96FFA796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4F3-4CBE-4510-B2F3-F5813C20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592-42E6-49DB-92FB-A495085D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B2C-C345-4EB8-B975-D73238FE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53A1-A652-45FD-8FC1-E7A6E23F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64B3-D9AE-43AA-8D67-5BB27073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CDB-ADA7-4B37-92E0-D0D70367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709-2AE3-4DCC-8330-E7B5F83E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7AA9-A255-4252-8764-056E43B5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F93-DE2C-4CAF-97C5-98688BA5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DC64-1CC0-4613-A661-2C4097BA27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hyperlink" Target="http://forexaw.com/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1" i="1" lang="uk-UA" sz="8000" spc="-1" strike="noStrike">
                <a:solidFill>
                  <a:srgbClr val="7030a0"/>
                </a:solidFill>
                <a:latin typeface="Calibri"/>
              </a:rPr>
              <a:t>віт вологості.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ількість водяної пари, що міститься в одиниці об’єму повітря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називається абсолютною вологістю повітр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F:\Влажность воздуха\фото по темі\Изображение 296.jpg"/>
          <p:cNvPicPr/>
          <p:nvPr/>
        </p:nvPicPr>
        <p:blipFill>
          <a:blip r:embed="rId1"/>
          <a:stretch/>
        </p:blipFill>
        <p:spPr>
          <a:xfrm>
            <a:off x="685800" y="5181480"/>
            <a:ext cx="7845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Calibri"/>
              </a:rPr>
              <a:t>Відносною вологістю повітря називають відношення парціального тиску водяної пари, що є у повітрі при даній температурі до тиску насиченої пари при тій самій температурі.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374328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D:\Работа\рисунки\Новая папка\26002.JPG"/>
          <p:cNvPicPr/>
          <p:nvPr/>
        </p:nvPicPr>
        <p:blipFill>
          <a:blip r:embed="rId2"/>
          <a:stretch/>
        </p:blipFill>
        <p:spPr>
          <a:xfrm>
            <a:off x="685800" y="3581280"/>
            <a:ext cx="37800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Calibri"/>
              </a:rPr>
              <a:t>“ </a:t>
            </a:r>
            <a:r>
              <a:rPr b="0" lang="uk-UA" sz="2200" spc="-1" strike="noStrike">
                <a:solidFill>
                  <a:srgbClr val="0d0d0d"/>
                </a:solidFill>
                <a:latin typeface="Calibri"/>
              </a:rPr>
              <a:t>Молоде грабове гілля спускалось зверху до самого долу на  м’який сніг; дрібний іній обсипав його, ніби тонким пухом та дрібними алмазами; іній блищав, світився , переливався матовим білим  світлом. ” ( І. Нечуй - Левицький)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2" descr="D:\Работа\рисунки\Новая папка\nature_25.jpg"/>
          <p:cNvPicPr/>
          <p:nvPr/>
        </p:nvPicPr>
        <p:blipFill>
          <a:blip r:embed="rId1"/>
          <a:stretch/>
        </p:blipFill>
        <p:spPr>
          <a:xfrm>
            <a:off x="1295280" y="2057400"/>
            <a:ext cx="6705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Вітер подув сильніше, подув теплом із сторони лісу і почав стрясати срібну росу з трав і квітів. ”( І. Франко)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F:\прикольчики\4_1198075612.jpg"/>
          <p:cNvPicPr/>
          <p:nvPr/>
        </p:nvPicPr>
        <p:blipFill>
          <a:blip r:embed="rId1"/>
          <a:stretch/>
        </p:blipFill>
        <p:spPr>
          <a:xfrm>
            <a:off x="1295280" y="2057400"/>
            <a:ext cx="6934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f6228"/>
                </a:solidFill>
                <a:latin typeface="Calibri"/>
              </a:rPr>
              <a:t>Під час роботи над міні-проектом було встановлено зв’язки  між відносною вологістю та особливостями кліматичних поясів Землі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2" descr="D:\Работа\рисунки\Новая папка\Изображение 168.jpg"/>
          <p:cNvPicPr/>
          <p:nvPr/>
        </p:nvPicPr>
        <p:blipFill>
          <a:blip r:embed="rId1"/>
          <a:stretch/>
        </p:blipFill>
        <p:spPr>
          <a:xfrm>
            <a:off x="533520" y="2209680"/>
            <a:ext cx="336060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2" descr="D:\Работа\рисунки\Новая папка\61.jpg"/>
          <p:cNvPicPr/>
          <p:nvPr/>
        </p:nvPicPr>
        <p:blipFill>
          <a:blip r:embed="rId2"/>
          <a:stretch/>
        </p:blipFill>
        <p:spPr>
          <a:xfrm>
            <a:off x="4038480" y="4114800"/>
            <a:ext cx="3957840" cy="25192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64" name="Picture 2" descr="D:\Работа\рисунки\Новая папка\26011.jpg"/>
          <p:cNvPicPr/>
          <p:nvPr/>
        </p:nvPicPr>
        <p:blipFill>
          <a:blip r:embed="rId3"/>
          <a:stretch/>
        </p:blipFill>
        <p:spPr>
          <a:xfrm>
            <a:off x="5029200" y="1523880"/>
            <a:ext cx="34894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0000"/>
                </a:solidFill>
                <a:latin typeface="Calibri"/>
              </a:rPr>
              <a:t>Надмірна вологість викликає корозію металів, псування  овочів ,фруктів та ягід, руйнування споруд.</a:t>
            </a:r>
            <a:br>
              <a:rPr sz="2200"/>
            </a:br>
            <a:r>
              <a:rPr b="0" lang="uk-UA" sz="2200" spc="-1" strike="noStrike">
                <a:solidFill>
                  <a:srgbClr val="ff0000"/>
                </a:solidFill>
                <a:latin typeface="Calibri"/>
              </a:rPr>
              <a:t>Над проектом працювали учні групи № 1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0" lang="uk-UA" sz="2200" spc="-1" strike="noStrike">
                <a:solidFill>
                  <a:srgbClr val="ff0000"/>
                </a:solidFill>
                <a:latin typeface="Calibri"/>
              </a:rPr>
              <a:t>6 Зигаленко І. та Туз Т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D:\Работа\рисунки\0_1d03_cac0f159_XL.jpg"/>
          <p:cNvPicPr/>
          <p:nvPr/>
        </p:nvPicPr>
        <p:blipFill>
          <a:blip r:embed="rId1"/>
          <a:stretch/>
        </p:blipFill>
        <p:spPr>
          <a:xfrm>
            <a:off x="1554120" y="1603440"/>
            <a:ext cx="6035760" cy="4522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Работа\рисунки\Новая папка\090989н54уц.jpg"/>
          <p:cNvPicPr/>
          <p:nvPr/>
        </p:nvPicPr>
        <p:blipFill>
          <a:blip r:embed="rId2"/>
          <a:stretch/>
        </p:blipFill>
        <p:spPr>
          <a:xfrm>
            <a:off x="304920" y="1981080"/>
            <a:ext cx="2639880" cy="32403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5" descr="1.1. Коррозия конструкции Шуховской башни в Москв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03920" y="2743200"/>
            <a:ext cx="334008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na</dc:creator>
  <dc:description/>
  <dc:language>en-US</dc:language>
  <cp:lastModifiedBy>Lena</cp:lastModifiedBy>
  <dcterms:modified xsi:type="dcterms:W3CDTF">2012-03-04T17:51:49Z</dcterms:modified>
  <cp:revision>34</cp:revision>
  <dc:subject/>
  <dc:title>Вологість повітр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15000000000001024140</vt:lpwstr>
  </property>
</Properties>
</file>