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2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3D9-9221-416D-8583-601E3934E4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861-AB6E-4960-A054-595F32F137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B81-C518-4B2A-A2AF-105189A8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749-74E4-4AD0-9842-B42A02EE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04C-8104-4DE3-8668-74B27DE1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D7B-3FD2-4CD4-9779-5A7D084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970-C6EA-4062-B0CC-0421946C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528-131C-4CDE-B7C5-E0B343A0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30A-C32F-4530-B078-437340B4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2AE-7C1C-4B0E-B2E3-85A9A7CE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986-C8D8-4ECF-931E-98426C2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D68C-BE00-4685-99FE-0AC7BC5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54D-2B62-4CD9-9077-3A0BEAE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2F9-FED7-4B1F-B140-6BB5995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BC18-1C66-4B9B-9C06-D745C6752F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orexaw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forexaw.com/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b5395"/>
                </a:solidFill>
                <a:latin typeface="Calibri"/>
              </a:rPr>
              <a:t>Така життєдайна волога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74320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“ </a:t>
            </a: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Світ наш – тільки школа, де ми вчимося пізнавати 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uk-UA" sz="3200" spc="-1" strike="noStrike">
                <a:solidFill>
                  <a:srgbClr val="0070c0"/>
                </a:solidFill>
                <a:latin typeface="Calibri"/>
              </a:rPr>
              <a:t>М. Монтень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F:\Влажность воздуха\фото по темі\Изображение 095.jpg"/>
          <p:cNvPicPr/>
          <p:nvPr/>
        </p:nvPicPr>
        <p:blipFill>
          <a:blip r:embed="rId1"/>
          <a:stretch/>
        </p:blipFill>
        <p:spPr>
          <a:xfrm>
            <a:off x="3279600" y="4876920"/>
            <a:ext cx="2670480" cy="17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Влажность воздуха\фото по темі\Изображение 125.jpg"/>
          <p:cNvPicPr/>
          <p:nvPr/>
        </p:nvPicPr>
        <p:blipFill>
          <a:blip r:embed="rId2"/>
          <a:stretch/>
        </p:blipFill>
        <p:spPr>
          <a:xfrm>
            <a:off x="6248520" y="4041720"/>
            <a:ext cx="26398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Влажность воздуха\фото по темі\водопад .jpg"/>
          <p:cNvPicPr/>
          <p:nvPr/>
        </p:nvPicPr>
        <p:blipFill>
          <a:blip r:embed="rId3"/>
          <a:stretch/>
        </p:blipFill>
        <p:spPr>
          <a:xfrm>
            <a:off x="304920" y="4041720"/>
            <a:ext cx="26398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115964"/>
                </a:solidFill>
                <a:latin typeface="Calibri"/>
              </a:rPr>
              <a:t>Надмірна вологість викликає корозію металів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Содержимое 3" descr="1.2. Корроз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3657600"/>
            <a:ext cx="419112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7.4. Процесс газотермического напыления - газопламенное напыление">
            <a:hlinkClick r:id="rId3"/>
          </p:cNvPr>
          <p:cNvPicPr/>
          <p:nvPr/>
        </p:nvPicPr>
        <p:blipFill>
          <a:blip r:embed="rId4"/>
          <a:srcRect l="0" t="0" r="8" b="0"/>
          <a:stretch/>
        </p:blipFill>
        <p:spPr>
          <a:xfrm>
            <a:off x="228600" y="1523880"/>
            <a:ext cx="449568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D:\Работа\рисунки\Auto\por.jpg"/>
          <p:cNvPicPr/>
          <p:nvPr/>
        </p:nvPicPr>
        <p:blipFill>
          <a:blip r:embed="rId5"/>
          <a:stretch/>
        </p:blipFill>
        <p:spPr>
          <a:xfrm>
            <a:off x="1828800" y="4697280"/>
            <a:ext cx="27925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D:\Работа\рисунки\Auto\picture84.jpg"/>
          <p:cNvPicPr/>
          <p:nvPr/>
        </p:nvPicPr>
        <p:blipFill>
          <a:blip r:embed="rId6"/>
          <a:stretch/>
        </p:blipFill>
        <p:spPr>
          <a:xfrm>
            <a:off x="4800600" y="144792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Задачі для розв’язування на уроці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.Точкою роси називають температуру за якої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…ненасичена пара стає насичен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Б…припиняється перехід із молекул рідини в пару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…рідина закипає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…припиняється перехід із молекул пари в рід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. Скільки кілограмів води міститься у повітрі при температур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 в класі об’ємом 31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якщо пара є насичен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У 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повітря при температурі 18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 міститься 50 г водяної пари. Визначте відносну вологість повіт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Температура повітря дорівнює 20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, а точка роси 8</a:t>
            </a:r>
            <a:r>
              <a:rPr b="0" lang="uk-UA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.Визначіть відносну вологість повіт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20" y="297216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314280" cy="333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5867280" y="3124080"/>
            <a:ext cx="31428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Чому на вітрі холодніш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Порівняйте відстані, на які поширюється звук у сухому та вологому повіт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При температурі повітря 3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 відносна вологість дорівнює 6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Яка його абсолютна вологість?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 Відносна вологість повітря в приміщенні 80%. Яке співвідношення виконується для показів сухого та вологого термометрі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.Вивчити ст.213 -21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236760" y="5486400"/>
            <a:ext cx="115920" cy="152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3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649800"/>
            <a:ext cx="92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“ 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Мозковий штурм .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Що таке пароутворення? Випаровування? Конденсаці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Яку пару називають насичено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Що таке динамічна рівноваг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Який тиск називають тиском насиченої пар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Що називають вологістю повіт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7e9632"/>
                </a:solidFill>
                <a:latin typeface="Calibri"/>
              </a:rPr>
              <a:t>Абсолютна вологість повітря </a:t>
            </a:r>
            <a:r>
              <a:rPr b="0" lang="uk-UA" sz="3200" spc="-1" strike="noStrike">
                <a:solidFill>
                  <a:srgbClr val="06686d"/>
                </a:solidFill>
                <a:latin typeface="Calibri"/>
              </a:rPr>
              <a:t>– це кількість водяної пари, що міститься в одиниці об’є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66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Arial"/>
                <a:ea typeface="Times New Roman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F:\Влажность воздуха\фото по темі\Изображение 595.jpg"/>
          <p:cNvPicPr/>
          <p:nvPr/>
        </p:nvPicPr>
        <p:blipFill>
          <a:blip r:embed="rId1"/>
          <a:stretch/>
        </p:blipFill>
        <p:spPr>
          <a:xfrm>
            <a:off x="5181480" y="1447920"/>
            <a:ext cx="328320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1247760" cy="942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581040" cy="53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399960" cy="723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228600" y="-228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99072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F:\Влажность воздуха\фото по темі\Изображение 243.jpg"/>
          <p:cNvPicPr/>
          <p:nvPr/>
        </p:nvPicPr>
        <p:blipFill>
          <a:blip r:embed="rId5"/>
          <a:stretch/>
        </p:blipFill>
        <p:spPr>
          <a:xfrm>
            <a:off x="609480" y="3429000"/>
            <a:ext cx="3429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46422"/>
                </a:solidFill>
                <a:latin typeface="Calibri"/>
              </a:rPr>
              <a:t>Точка роси – це температура, при якій водяна пара, що знаходиться в атмосферному повітрі стає насичено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52280" y="2057400"/>
            <a:ext cx="8839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ількість водяної пари, що міститься в одиниці об’єму повітря в стані насичення (при точці роси), називається</a:t>
            </a:r>
            <a:r>
              <a:rPr b="0" lang="uk-UA" sz="2400" spc="-1" strike="noStrike">
                <a:solidFill>
                  <a:srgbClr val="7e9632"/>
                </a:solidFill>
                <a:latin typeface="Calibri"/>
              </a:rPr>
              <a:t> максимальною вологістю повітря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Влажность воздуха\фото по темі\Изображение 121.jpg"/>
          <p:cNvPicPr/>
          <p:nvPr/>
        </p:nvPicPr>
        <p:blipFill>
          <a:blip r:embed="rId1"/>
          <a:stretch/>
        </p:blipFill>
        <p:spPr>
          <a:xfrm>
            <a:off x="609480" y="3657600"/>
            <a:ext cx="425448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Работа\рисунки\Новая папка\Sp65_1.jpg"/>
          <p:cNvPicPr/>
          <p:nvPr/>
        </p:nvPicPr>
        <p:blipFill>
          <a:blip r:embed="rId2"/>
          <a:stretch/>
        </p:blipFill>
        <p:spPr>
          <a:xfrm>
            <a:off x="5029200" y="289548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2303e"/>
                </a:solidFill>
                <a:latin typeface="Calibri"/>
              </a:rPr>
              <a:t>Відношення абсолютної вологості повітря до його максимальної вологості при даній температурі називають </a:t>
            </a:r>
            <a:r>
              <a:rPr b="0" i="1" lang="uk-UA" sz="2900" spc="-1" strike="noStrike">
                <a:solidFill>
                  <a:srgbClr val="387026"/>
                </a:solidFill>
                <a:latin typeface="Calibri"/>
              </a:rPr>
              <a:t>відносною вологістю повітр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Влажность воздуха\High_Humidity_Perfect_Storm.jpg"/>
          <p:cNvPicPr/>
          <p:nvPr/>
        </p:nvPicPr>
        <p:blipFill>
          <a:blip r:embed="rId1"/>
          <a:stretch/>
        </p:blipFill>
        <p:spPr>
          <a:xfrm>
            <a:off x="609480" y="2362320"/>
            <a:ext cx="3835440" cy="287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F:\Влажность воздуха\фото по темі\Изображение 584.jpg"/>
          <p:cNvPicPr/>
          <p:nvPr/>
        </p:nvPicPr>
        <p:blipFill>
          <a:blip r:embed="rId2"/>
          <a:stretch/>
        </p:blipFill>
        <p:spPr>
          <a:xfrm>
            <a:off x="4800600" y="3505320"/>
            <a:ext cx="3830760" cy="2879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5257800" y="2209680"/>
            <a:ext cx="247680" cy="41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4"/>
          <a:stretch/>
        </p:blipFill>
        <p:spPr>
          <a:xfrm>
            <a:off x="5943600" y="2209680"/>
            <a:ext cx="1257480" cy="6192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 flipV="1">
            <a:off x="5486400" y="2324880"/>
            <a:ext cx="380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461840" y="13651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047120" y="349200"/>
            <a:ext cx="1049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461840" y="1164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5"/>
          <a:stretch/>
        </p:blipFill>
        <p:spPr>
          <a:xfrm>
            <a:off x="-2666880" y="4114800"/>
            <a:ext cx="1523880" cy="41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6"/>
          <a:stretch/>
        </p:blipFill>
        <p:spPr>
          <a:xfrm>
            <a:off x="-2514600" y="4267080"/>
            <a:ext cx="1523880" cy="419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7"/>
          <a:stretch/>
        </p:blipFill>
        <p:spPr>
          <a:xfrm>
            <a:off x="1600200" y="5791320"/>
            <a:ext cx="1895400" cy="533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6686d"/>
                </a:solidFill>
                <a:latin typeface="Calibri"/>
              </a:rPr>
              <a:t>Тиск, який би чинила водяна пара, коли б не було інших газів називають </a:t>
            </a:r>
            <a:r>
              <a:rPr b="0" lang="uk-UA" sz="2400" spc="-1" strike="noStrike">
                <a:solidFill>
                  <a:srgbClr val="0076a3"/>
                </a:solidFill>
                <a:latin typeface="Calibri"/>
              </a:rPr>
              <a:t>парціальним тиском водяної па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Работа\рисунки\Новая папка\Безымянный 786.bmp"/>
          <p:cNvPicPr/>
          <p:nvPr/>
        </p:nvPicPr>
        <p:blipFill>
          <a:blip r:embed="rId1"/>
          <a:stretch/>
        </p:blipFill>
        <p:spPr>
          <a:xfrm>
            <a:off x="5791320" y="1298520"/>
            <a:ext cx="2566800" cy="1798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Работа\рисунки\Новая папка\191011.JPG"/>
          <p:cNvPicPr/>
          <p:nvPr/>
        </p:nvPicPr>
        <p:blipFill>
          <a:blip r:embed="rId2"/>
          <a:stretch/>
        </p:blipFill>
        <p:spPr>
          <a:xfrm>
            <a:off x="2975040" y="5059440"/>
            <a:ext cx="2693880" cy="17985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3"/>
          <a:stretch/>
        </p:blipFill>
        <p:spPr>
          <a:xfrm>
            <a:off x="457200" y="5410080"/>
            <a:ext cx="2038320" cy="800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9dd9"/>
                </a:solidFill>
                <a:latin typeface="Calibri"/>
              </a:rPr>
              <a:t>Відносною вологістю повітр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зивають відношення парціального тиску р водяної пари, що є в повітрі при даній температурі до тиску насиченої пари при тій же самій температу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6095880" y="5181480"/>
            <a:ext cx="1524240" cy="41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" descr=""/>
          <p:cNvPicPr/>
          <p:nvPr/>
        </p:nvPicPr>
        <p:blipFill>
          <a:blip r:embed="rId5"/>
          <a:stretch/>
        </p:blipFill>
        <p:spPr>
          <a:xfrm>
            <a:off x="8229600" y="4038480"/>
            <a:ext cx="1266840" cy="419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047120" y="349200"/>
            <a:ext cx="10494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baseline="-30000">
                <a:solidFill>
                  <a:srgbClr val="373737"/>
                </a:solidFill>
                <a:latin typeface="Arial"/>
                <a:ea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461840" y="11649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:\Влажность воздуха\фото по темі\Изображение 585.jpg"/>
          <p:cNvPicPr/>
          <p:nvPr/>
        </p:nvPicPr>
        <p:blipFill>
          <a:blip r:embed="rId6"/>
          <a:stretch/>
        </p:blipFill>
        <p:spPr>
          <a:xfrm>
            <a:off x="762120" y="1298520"/>
            <a:ext cx="272412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84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404040"/>
                </a:solidFill>
                <a:latin typeface="Calibri"/>
              </a:rPr>
              <a:t>Прилади для вимірювання відносної вологості повітря:волосяний  гігрометр та психромет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F:\фото-2\105___02\IMG_0154.JPG"/>
          <p:cNvPicPr/>
          <p:nvPr/>
        </p:nvPicPr>
        <p:blipFill>
          <a:blip r:embed="rId1"/>
          <a:stretch/>
        </p:blipFill>
        <p:spPr>
          <a:xfrm>
            <a:off x="914400" y="2286000"/>
            <a:ext cx="3886200" cy="4297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F:\фото-2\105___02\IMG_0161.JPG"/>
          <p:cNvPicPr/>
          <p:nvPr/>
        </p:nvPicPr>
        <p:blipFill>
          <a:blip r:embed="rId2"/>
          <a:srcRect l="0" t="-3964" r="0" b="0"/>
          <a:stretch/>
        </p:blipFill>
        <p:spPr>
          <a:xfrm>
            <a:off x="6324480" y="2362320"/>
            <a:ext cx="2057400" cy="3992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:\фото-2\105___02\IMG_0156.JPG"/>
          <p:cNvPicPr/>
          <p:nvPr/>
        </p:nvPicPr>
        <p:blipFill>
          <a:blip r:embed="rId1"/>
          <a:stretch/>
        </p:blipFill>
        <p:spPr>
          <a:xfrm>
            <a:off x="0" y="4114800"/>
            <a:ext cx="3352680" cy="251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лажность воздуха\фото по темі\natural_012.jpg"/>
          <p:cNvPicPr/>
          <p:nvPr/>
        </p:nvPicPr>
        <p:blipFill>
          <a:blip r:embed="rId2"/>
          <a:stretch/>
        </p:blipFill>
        <p:spPr>
          <a:xfrm>
            <a:off x="6022800" y="1450800"/>
            <a:ext cx="3121200" cy="251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лажность воздуха\фото по темі\Изображение 307.jpg"/>
          <p:cNvPicPr/>
          <p:nvPr/>
        </p:nvPicPr>
        <p:blipFill>
          <a:blip r:embed="rId3"/>
          <a:stretch/>
        </p:blipFill>
        <p:spPr>
          <a:xfrm>
            <a:off x="3121200" y="2590920"/>
            <a:ext cx="32605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В практику все більше входять побутові прилади для зволоження повітря - кондиціонер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3" descr="mont.jpg"/>
          <p:cNvPicPr/>
          <p:nvPr/>
        </p:nvPicPr>
        <p:blipFill>
          <a:blip r:embed="rId1"/>
          <a:stretch/>
        </p:blipFill>
        <p:spPr>
          <a:xfrm>
            <a:off x="228600" y="2133720"/>
            <a:ext cx="617220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:\Влажность воздуха\humidity.jpg"/>
          <p:cNvPicPr/>
          <p:nvPr/>
        </p:nvPicPr>
        <p:blipFill>
          <a:blip r:embed="rId2"/>
          <a:stretch/>
        </p:blipFill>
        <p:spPr>
          <a:xfrm>
            <a:off x="5334120" y="3733920"/>
            <a:ext cx="3633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a</dc:creator>
  <dc:description/>
  <dc:language>en-US</dc:language>
  <cp:lastModifiedBy>Lena</cp:lastModifiedBy>
  <dcterms:modified xsi:type="dcterms:W3CDTF">2012-03-04T17:50:53Z</dcterms:modified>
  <cp:revision>7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3000000000001024140</vt:lpwstr>
  </property>
</Properties>
</file>