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2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CD67-AC81-49D2-BC59-1FF091E455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E82-3BB0-4447-A875-02CAF37279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166-AD7C-4178-B64E-A95E6A0A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563-3787-4F62-8A47-F06608B1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5BB-63F5-4D58-9F7C-6986B16C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104-59BE-449F-B581-18775502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226-B884-489B-AAB3-F926EB3B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1F8-A127-4D96-AED4-66345043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308-2376-4195-941A-D2ECD32F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51E-7050-4A33-99FB-14BA9E74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982-8E0F-4572-97B3-47225429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C88-206B-4F5A-9B1F-B57C5D15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D1E-88C2-4C9B-B198-FFA77964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8A1-B276-4C5A-ABA3-FD5260B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B4B8-6E6B-4721-9F1C-06ECB406A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rexaw.com/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forexaw.com/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b5395"/>
                </a:solidFill>
                <a:latin typeface="Calibri"/>
              </a:rPr>
              <a:t>Така життєдайна волог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74320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70c0"/>
                </a:solidFill>
                <a:latin typeface="Calibri"/>
              </a:rPr>
              <a:t>“ </a:t>
            </a:r>
            <a:r>
              <a:rPr b="1" i="1" lang="uk-UA" sz="3200" spc="-1" strike="noStrike">
                <a:solidFill>
                  <a:srgbClr val="0070c0"/>
                </a:solidFill>
                <a:latin typeface="Calibri"/>
              </a:rPr>
              <a:t>Світ наш – тільки школа, де ми вчимося пізнавати 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70c0"/>
                </a:solidFill>
                <a:latin typeface="Calibri"/>
              </a:rPr>
              <a:t>М. Монтень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F:\Влажность воздуха\фото по темі\Изображение 095.jpg"/>
          <p:cNvPicPr/>
          <p:nvPr/>
        </p:nvPicPr>
        <p:blipFill>
          <a:blip r:embed="rId1"/>
          <a:stretch/>
        </p:blipFill>
        <p:spPr>
          <a:xfrm>
            <a:off x="3279600" y="4876920"/>
            <a:ext cx="2670480" cy="17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F:\Влажность воздуха\фото по темі\Изображение 125.jpg"/>
          <p:cNvPicPr/>
          <p:nvPr/>
        </p:nvPicPr>
        <p:blipFill>
          <a:blip r:embed="rId2"/>
          <a:stretch/>
        </p:blipFill>
        <p:spPr>
          <a:xfrm>
            <a:off x="6248520" y="4041720"/>
            <a:ext cx="2639880" cy="1798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:\Влажность воздуха\фото по темі\водопад .jpg"/>
          <p:cNvPicPr/>
          <p:nvPr/>
        </p:nvPicPr>
        <p:blipFill>
          <a:blip r:embed="rId3"/>
          <a:stretch/>
        </p:blipFill>
        <p:spPr>
          <a:xfrm>
            <a:off x="304920" y="4041720"/>
            <a:ext cx="26398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115964"/>
                </a:solidFill>
                <a:latin typeface="Calibri"/>
              </a:rPr>
              <a:t>Надмірна вологість викликає корозію металів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1.2. Корроз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3657600"/>
            <a:ext cx="4191120" cy="28796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7.4. Процесс газотермического напыления - газопламенное напыление">
            <a:hlinkClick r:id="rId3"/>
          </p:cNvPr>
          <p:cNvPicPr/>
          <p:nvPr/>
        </p:nvPicPr>
        <p:blipFill>
          <a:blip r:embed="rId4"/>
          <a:srcRect l="0" t="0" r="8" b="0"/>
          <a:stretch/>
        </p:blipFill>
        <p:spPr>
          <a:xfrm>
            <a:off x="228600" y="15238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Работа\рисунки\Auto\por.jpg"/>
          <p:cNvPicPr/>
          <p:nvPr/>
        </p:nvPicPr>
        <p:blipFill>
          <a:blip r:embed="rId5"/>
          <a:stretch/>
        </p:blipFill>
        <p:spPr>
          <a:xfrm>
            <a:off x="1828800" y="4697280"/>
            <a:ext cx="27925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Работа\рисунки\Auto\picture84.jpg"/>
          <p:cNvPicPr/>
          <p:nvPr/>
        </p:nvPicPr>
        <p:blipFill>
          <a:blip r:embed="rId6"/>
          <a:stretch/>
        </p:blipFill>
        <p:spPr>
          <a:xfrm>
            <a:off x="4800600" y="144792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Задачі для розв’язування на уроці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.Точкою роси називають температуру за якої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…ненасичена пара стає насичен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Б…припиняється перехід із молекул рідини в пар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…рідина закипає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Г…припиняється перехід із молекул пари в рід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. Скільки кілограмів води міститься у повітрі при температур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 в класі об’ємом 31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якщо пара є насиче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повітря при температурі 18</a:t>
            </a:r>
            <a:r>
              <a:rPr b="0" lang="uk-UA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 міститься 50 г водяної пари. Визначте відносну вологість повіт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Температура повітря дорівнює 2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, а точка роси 8</a:t>
            </a:r>
            <a:r>
              <a:rPr b="0" lang="uk-UA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.Визначіть відносну вологість повіт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20" y="297216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5867280" y="312408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Чому на вітрі холодніш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.Порівняйте відстані, на які поширюється звук у сухому та вологому повіт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При температурі повітря 30</a:t>
            </a:r>
            <a:r>
              <a:rPr b="0" lang="uk-UA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 відносна вологість дорівнює 6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а його абсолютна вологість?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 Відносна вологість повітря в приміщенні 80%. Яке співвідношення виконується для показів сухого та вологого термометрі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.Вивчити ст.213 -21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236760" y="5486400"/>
            <a:ext cx="115920" cy="15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649800"/>
            <a:ext cx="92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“ 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Мозковий штурм 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Що таке пароутворення? Випаровування? Конденсаці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Яку пару називають насичено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Що таке динамічна рівноваг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Який тиск називають тиском насиченої пар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5.Що називають вологістю повіт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e9632"/>
                </a:solidFill>
                <a:latin typeface="Calibri"/>
              </a:rPr>
              <a:t>Абсолютна вологість повітря </a:t>
            </a:r>
            <a:r>
              <a:rPr b="0" lang="uk-UA" sz="3200" spc="-1" strike="noStrike">
                <a:solidFill>
                  <a:srgbClr val="06686d"/>
                </a:solidFill>
                <a:latin typeface="Calibri"/>
              </a:rPr>
              <a:t>– це кількість водяної пари, що міститься в одиниці об’є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66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Arial"/>
                <a:ea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F:\Влажность воздуха\фото по темі\Изображение 595.jpg"/>
          <p:cNvPicPr/>
          <p:nvPr/>
        </p:nvPicPr>
        <p:blipFill>
          <a:blip r:embed="rId1"/>
          <a:stretch/>
        </p:blipFill>
        <p:spPr>
          <a:xfrm>
            <a:off x="5181480" y="1447920"/>
            <a:ext cx="3283200" cy="3240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1247760" cy="942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2133720" y="2362320"/>
            <a:ext cx="581040" cy="53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"/>
          <p:cNvPicPr/>
          <p:nvPr/>
        </p:nvPicPr>
        <p:blipFill>
          <a:blip r:embed="rId4"/>
          <a:stretch/>
        </p:blipFill>
        <p:spPr>
          <a:xfrm>
            <a:off x="3276720" y="2362320"/>
            <a:ext cx="399960" cy="723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28600" y="-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99072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F:\Влажность воздуха\фото по темі\Изображение 243.jpg"/>
          <p:cNvPicPr/>
          <p:nvPr/>
        </p:nvPicPr>
        <p:blipFill>
          <a:blip r:embed="rId5"/>
          <a:stretch/>
        </p:blipFill>
        <p:spPr>
          <a:xfrm>
            <a:off x="609480" y="3429000"/>
            <a:ext cx="3429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46422"/>
                </a:solidFill>
                <a:latin typeface="Calibri"/>
              </a:rPr>
              <a:t>Точка роси – це температура, при якій водяна пара, що знаходиться в атмосферному повітрі стає насичено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280" y="2057400"/>
            <a:ext cx="8839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ількість водяної пари, що міститься в одиниці об’єму повітря в стані насичення (при точці роси), називається</a:t>
            </a:r>
            <a:r>
              <a:rPr b="0" lang="uk-UA" sz="2400" spc="-1" strike="noStrike">
                <a:solidFill>
                  <a:srgbClr val="7e9632"/>
                </a:solidFill>
                <a:latin typeface="Calibri"/>
              </a:rPr>
              <a:t> максимальною вологістю повітр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Влажность воздуха\фото по темі\Изображение 121.jpg"/>
          <p:cNvPicPr/>
          <p:nvPr/>
        </p:nvPicPr>
        <p:blipFill>
          <a:blip r:embed="rId1"/>
          <a:stretch/>
        </p:blipFill>
        <p:spPr>
          <a:xfrm>
            <a:off x="609480" y="3657600"/>
            <a:ext cx="425448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Работа\рисунки\Новая папка\Sp65_1.jpg"/>
          <p:cNvPicPr/>
          <p:nvPr/>
        </p:nvPicPr>
        <p:blipFill>
          <a:blip r:embed="rId2"/>
          <a:stretch/>
        </p:blipFill>
        <p:spPr>
          <a:xfrm>
            <a:off x="5029200" y="289548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2303e"/>
                </a:solidFill>
                <a:latin typeface="Calibri"/>
              </a:rPr>
              <a:t>Відношення абсолютної вологості повітря до його максимальної вологості при даній температурі називають </a:t>
            </a:r>
            <a:r>
              <a:rPr b="0" i="1" lang="uk-UA" sz="2900" spc="-1" strike="noStrike">
                <a:solidFill>
                  <a:srgbClr val="387026"/>
                </a:solidFill>
                <a:latin typeface="Calibri"/>
              </a:rPr>
              <a:t>відносною вологістю повітр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0492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Влажность воздуха\High_Humidity_Perfect_Storm.jpg"/>
          <p:cNvPicPr/>
          <p:nvPr/>
        </p:nvPicPr>
        <p:blipFill>
          <a:blip r:embed="rId1"/>
          <a:stretch/>
        </p:blipFill>
        <p:spPr>
          <a:xfrm>
            <a:off x="609480" y="2362320"/>
            <a:ext cx="3835440" cy="287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F:\Влажность воздуха\фото по темі\Изображение 584.jpg"/>
          <p:cNvPicPr/>
          <p:nvPr/>
        </p:nvPicPr>
        <p:blipFill>
          <a:blip r:embed="rId2"/>
          <a:stretch/>
        </p:blipFill>
        <p:spPr>
          <a:xfrm>
            <a:off x="4800600" y="3505320"/>
            <a:ext cx="3830760" cy="2879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5257800" y="2209680"/>
            <a:ext cx="247680" cy="41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4"/>
          <a:stretch/>
        </p:blipFill>
        <p:spPr>
          <a:xfrm>
            <a:off x="5943600" y="2209680"/>
            <a:ext cx="1257480" cy="619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 flipV="1">
            <a:off x="5486400" y="2324880"/>
            <a:ext cx="3808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30000">
                <a:solidFill>
                  <a:srgbClr val="373737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461840" y="1365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047120" y="349200"/>
            <a:ext cx="10494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baseline="-30000">
                <a:solidFill>
                  <a:srgbClr val="373737"/>
                </a:solidFill>
                <a:latin typeface="Arial"/>
                <a:ea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461840" y="11649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5"/>
          <a:stretch/>
        </p:blipFill>
        <p:spPr>
          <a:xfrm>
            <a:off x="-2666880" y="4114800"/>
            <a:ext cx="1523880" cy="41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6"/>
          <a:stretch/>
        </p:blipFill>
        <p:spPr>
          <a:xfrm>
            <a:off x="-2514600" y="4267080"/>
            <a:ext cx="1523880" cy="419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7"/>
          <a:stretch/>
        </p:blipFill>
        <p:spPr>
          <a:xfrm>
            <a:off x="1600200" y="5791320"/>
            <a:ext cx="1895400" cy="533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6686d"/>
                </a:solidFill>
                <a:latin typeface="Calibri"/>
              </a:rPr>
              <a:t>Тиск, який би чинила водяна пара, коли б не було інших газів називають </a:t>
            </a:r>
            <a:r>
              <a:rPr b="0" lang="uk-UA" sz="2400" spc="-1" strike="noStrike">
                <a:solidFill>
                  <a:srgbClr val="0076a3"/>
                </a:solidFill>
                <a:latin typeface="Calibri"/>
              </a:rPr>
              <a:t>парціальним тиском водяної па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Работа\рисунки\Новая папка\Безымянный 786.bmp"/>
          <p:cNvPicPr/>
          <p:nvPr/>
        </p:nvPicPr>
        <p:blipFill>
          <a:blip r:embed="rId1"/>
          <a:stretch/>
        </p:blipFill>
        <p:spPr>
          <a:xfrm>
            <a:off x="5791320" y="1298520"/>
            <a:ext cx="2566800" cy="1798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Работа\рисунки\Новая папка\191011.JPG"/>
          <p:cNvPicPr/>
          <p:nvPr/>
        </p:nvPicPr>
        <p:blipFill>
          <a:blip r:embed="rId2"/>
          <a:stretch/>
        </p:blipFill>
        <p:spPr>
          <a:xfrm>
            <a:off x="2975040" y="5059440"/>
            <a:ext cx="2693880" cy="1798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3"/>
          <a:stretch/>
        </p:blipFill>
        <p:spPr>
          <a:xfrm>
            <a:off x="457200" y="5410080"/>
            <a:ext cx="2038320" cy="80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9dd9"/>
                </a:solidFill>
                <a:latin typeface="Calibri"/>
              </a:rPr>
              <a:t>Відносною вологістю повітря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зивають відношення парціального тиску р водяної пари, що є в повітрі при даній температурі до тиску насиченої пари при тій же самій температу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4"/>
          <a:stretch/>
        </p:blipFill>
        <p:spPr>
          <a:xfrm>
            <a:off x="6095880" y="5181480"/>
            <a:ext cx="1524240" cy="41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5"/>
          <a:stretch/>
        </p:blipFill>
        <p:spPr>
          <a:xfrm>
            <a:off x="8229600" y="4038480"/>
            <a:ext cx="1266840" cy="419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047120" y="349200"/>
            <a:ext cx="10494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baseline="-30000">
                <a:solidFill>
                  <a:srgbClr val="373737"/>
                </a:solidFill>
                <a:latin typeface="Arial"/>
                <a:ea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461840" y="11649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F:\Влажность воздуха\фото по темі\Изображение 585.jpg"/>
          <p:cNvPicPr/>
          <p:nvPr/>
        </p:nvPicPr>
        <p:blipFill>
          <a:blip r:embed="rId6"/>
          <a:stretch/>
        </p:blipFill>
        <p:spPr>
          <a:xfrm>
            <a:off x="762120" y="1298520"/>
            <a:ext cx="27241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784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404040"/>
                </a:solidFill>
                <a:latin typeface="Calibri"/>
              </a:rPr>
              <a:t>Прилади для вимірювання відносної вологості повітря:волосяний  гігрометр та психромет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фото-2\105___02\IMG_0154.JPG"/>
          <p:cNvPicPr/>
          <p:nvPr/>
        </p:nvPicPr>
        <p:blipFill>
          <a:blip r:embed="rId1"/>
          <a:stretch/>
        </p:blipFill>
        <p:spPr>
          <a:xfrm>
            <a:off x="914400" y="2286000"/>
            <a:ext cx="3886200" cy="429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F:\фото-2\105___02\IMG_0161.JPG"/>
          <p:cNvPicPr/>
          <p:nvPr/>
        </p:nvPicPr>
        <p:blipFill>
          <a:blip r:embed="rId2"/>
          <a:srcRect l="0" t="-3964" r="0" b="0"/>
          <a:stretch/>
        </p:blipFill>
        <p:spPr>
          <a:xfrm>
            <a:off x="6324480" y="2362320"/>
            <a:ext cx="2057400" cy="399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F:\фото-2\105___02\IMG_0156.JPG"/>
          <p:cNvPicPr/>
          <p:nvPr/>
        </p:nvPicPr>
        <p:blipFill>
          <a:blip r:embed="rId1"/>
          <a:stretch/>
        </p:blipFill>
        <p:spPr>
          <a:xfrm>
            <a:off x="0" y="4114800"/>
            <a:ext cx="3352680" cy="251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Влажность воздуха\фото по темі\natural_012.jpg"/>
          <p:cNvPicPr/>
          <p:nvPr/>
        </p:nvPicPr>
        <p:blipFill>
          <a:blip r:embed="rId2"/>
          <a:stretch/>
        </p:blipFill>
        <p:spPr>
          <a:xfrm>
            <a:off x="6022800" y="1450800"/>
            <a:ext cx="3121200" cy="2517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Влажность воздуха\фото по темі\Изображение 307.jpg"/>
          <p:cNvPicPr/>
          <p:nvPr/>
        </p:nvPicPr>
        <p:blipFill>
          <a:blip r:embed="rId3"/>
          <a:stretch/>
        </p:blipFill>
        <p:spPr>
          <a:xfrm>
            <a:off x="3121200" y="2590920"/>
            <a:ext cx="32605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В практику все більше входять побутові прилади для зволоження повітря - кондиціонер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mont.jpg"/>
          <p:cNvPicPr/>
          <p:nvPr/>
        </p:nvPicPr>
        <p:blipFill>
          <a:blip r:embed="rId1"/>
          <a:stretch/>
        </p:blipFill>
        <p:spPr>
          <a:xfrm>
            <a:off x="228600" y="2133720"/>
            <a:ext cx="617220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:\Влажность воздуха\humidity.jpg"/>
          <p:cNvPicPr/>
          <p:nvPr/>
        </p:nvPicPr>
        <p:blipFill>
          <a:blip r:embed="rId2"/>
          <a:stretch/>
        </p:blipFill>
        <p:spPr>
          <a:xfrm>
            <a:off x="5334120" y="3733920"/>
            <a:ext cx="3633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a</dc:creator>
  <dc:description/>
  <dc:language>en-US</dc:language>
  <cp:lastModifiedBy>Lena</cp:lastModifiedBy>
  <dcterms:modified xsi:type="dcterms:W3CDTF">2012-03-04T17:50:53Z</dcterms:modified>
  <cp:revision>7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3000000000001024140</vt:lpwstr>
  </property>
</Properties>
</file>