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8DF1-0A55-4537-B407-CE25E9B737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AA0F-F833-45A4-B8F7-45E448B7D8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DE9-5330-4990-8F32-2D2A995C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9BF-DA61-4893-BC9C-CB5243F3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080-9F94-4DDE-AC41-6A3941E3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899-A008-4694-A10F-BF4EEB12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395-2833-4CF1-81BC-02E38469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3F5-616D-4A43-A716-94E47033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EEA-9C83-4FE3-87A0-6EDEEF68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BA3-FEC8-4FD9-9458-4C870B8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012-30CE-4AEA-9237-3D0182C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A67-0544-4BEB-AE5F-8A6FF226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515-FFE2-4D51-BA12-394E0FFA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E62-59AB-4334-B443-47CFE6E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1B4C-C0AC-472D-BCD1-5178420DEE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forexaw.com/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1" i="1" lang="uk-UA" sz="8000" spc="-1" strike="noStrike">
                <a:solidFill>
                  <a:srgbClr val="7030a0"/>
                </a:solidFill>
                <a:latin typeface="Calibri"/>
              </a:rPr>
              <a:t>віт вологості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ількість водяної пари, що міститься в одиниці об’єму повітр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називається абсолютною вологістю повітр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F:\Влажность воздуха\фото по темі\Изображение 296.jpg"/>
          <p:cNvPicPr/>
          <p:nvPr/>
        </p:nvPicPr>
        <p:blipFill>
          <a:blip r:embed="rId1"/>
          <a:stretch/>
        </p:blipFill>
        <p:spPr>
          <a:xfrm>
            <a:off x="685800" y="5181480"/>
            <a:ext cx="784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alibri"/>
              </a:rPr>
              <a:t>Відносною вологістю повітря називають відношення парціального тиску водяної пари, що є у повітрі при даній температурі до тиску насиченої пари при тій самій температурі.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D:\Работа\рисунки\Новая папка\26002.JPG"/>
          <p:cNvPicPr/>
          <p:nvPr/>
        </p:nvPicPr>
        <p:blipFill>
          <a:blip r:embed="rId2"/>
          <a:stretch/>
        </p:blipFill>
        <p:spPr>
          <a:xfrm>
            <a:off x="685800" y="358128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libri"/>
              </a:rPr>
              <a:t>“ </a:t>
            </a:r>
            <a:r>
              <a:rPr b="0" lang="uk-UA" sz="2200" spc="-1" strike="noStrike">
                <a:solidFill>
                  <a:srgbClr val="0d0d0d"/>
                </a:solidFill>
                <a:latin typeface="Calibri"/>
              </a:rPr>
              <a:t>Молоде грабове гілля спускалось зверху до самого долу на  м’який сніг; дрібний іній обсипав його, ніби тонким пухом та дрібними алмазами; іній блищав, світився , переливався матовим білим  світлом. ” ( І. Нечуй - Левицький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D:\Работа\рисунки\Новая папка\nature_25.jpg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ітер подув сильніше, подув теплом із сторони лісу і почав стрясати срібну росу з трав і квітів. ”( І. Франко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F:\прикольчики\4_1198075612.jpg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f6228"/>
                </a:solidFill>
                <a:latin typeface="Calibri"/>
              </a:rPr>
              <a:t>Під час роботи над міні-проектом було встановлено зв’язки  між відносною вологістю та особливостями кліматичних поясів Землі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D:\Работа\рисунки\Новая папка\Изображение 168.jpg"/>
          <p:cNvPicPr/>
          <p:nvPr/>
        </p:nvPicPr>
        <p:blipFill>
          <a:blip r:embed="rId1"/>
          <a:stretch/>
        </p:blipFill>
        <p:spPr>
          <a:xfrm>
            <a:off x="533520" y="2209680"/>
            <a:ext cx="336060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2" descr="D:\Работа\рисунки\Новая папка\61.jpg"/>
          <p:cNvPicPr/>
          <p:nvPr/>
        </p:nvPicPr>
        <p:blipFill>
          <a:blip r:embed="rId2"/>
          <a:stretch/>
        </p:blipFill>
        <p:spPr>
          <a:xfrm>
            <a:off x="4038480" y="4114800"/>
            <a:ext cx="3957840" cy="2519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64" name="Picture 2" descr="D:\Работа\рисунки\Новая папка\26011.jpg"/>
          <p:cNvPicPr/>
          <p:nvPr/>
        </p:nvPicPr>
        <p:blipFill>
          <a:blip r:embed="rId3"/>
          <a:stretch/>
        </p:blipFill>
        <p:spPr>
          <a:xfrm>
            <a:off x="5029200" y="1523880"/>
            <a:ext cx="3489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Надмірна вологість викликає корозію металів, псування  овочів ,фруктів та ягід, руйнування споруд.</a:t>
            </a:r>
            <a:br>
              <a:rPr sz="2200"/>
            </a:b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Над проектом працювали учні групи № 1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6 Зигаленко І. та Туз Т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D:\Работа\рисунки\0_1d03_cac0f159_XL.jpg"/>
          <p:cNvPicPr/>
          <p:nvPr/>
        </p:nvPicPr>
        <p:blipFill>
          <a:blip r:embed="rId1"/>
          <a:stretch/>
        </p:blipFill>
        <p:spPr>
          <a:xfrm>
            <a:off x="1554120" y="1603440"/>
            <a:ext cx="6035760" cy="452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Работа\рисунки\Новая папка\090989н54уц.jpg"/>
          <p:cNvPicPr/>
          <p:nvPr/>
        </p:nvPicPr>
        <p:blipFill>
          <a:blip r:embed="rId2"/>
          <a:stretch/>
        </p:blipFill>
        <p:spPr>
          <a:xfrm>
            <a:off x="304920" y="1981080"/>
            <a:ext cx="2639880" cy="3240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.1. Коррозия конструкции Шуховской башни в Москв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03920" y="2743200"/>
            <a:ext cx="33400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a</dc:creator>
  <dc:description/>
  <dc:language>en-US</dc:language>
  <cp:lastModifiedBy>Lena</cp:lastModifiedBy>
  <dcterms:modified xsi:type="dcterms:W3CDTF">2012-03-04T17:51:49Z</dcterms:modified>
  <cp:revision>34</cp:revision>
  <dc:subject/>
  <dc:title>Вологість повітр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5000000000001024140</vt:lpwstr>
  </property>
</Properties>
</file>