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40.wmf" ContentType="image/x-wmf"/>
  <Override PartName="/ppt/media/image41.png" ContentType="image/png"/>
  <Override PartName="/ppt/media/image3.jpeg" ContentType="image/jpeg"/>
  <Override PartName="/ppt/media/image39.wmf" ContentType="image/x-wmf"/>
  <Override PartName="/ppt/media/image36.png" ContentType="image/png"/>
  <Override PartName="/ppt/media/image9.jpeg" ContentType="image/jpeg"/>
  <Override PartName="/ppt/media/image34.png" ContentType="image/png"/>
  <Override PartName="/ppt/media/image74.jpeg" ContentType="image/jpeg"/>
  <Override PartName="/ppt/media/image33.png" ContentType="image/png"/>
  <Override PartName="/ppt/media/image17.jpeg" ContentType="image/jpeg"/>
  <Override PartName="/ppt/media/image45.wmf" ContentType="image/x-wmf"/>
  <Override PartName="/ppt/media/image12.gif" ContentType="image/gif"/>
  <Override PartName="/ppt/media/image15.png" ContentType="image/png"/>
  <Override PartName="/ppt/media/image18.jpeg" ContentType="image/jpeg"/>
  <Override PartName="/ppt/media/image27.png" ContentType="image/png"/>
  <Override PartName="/ppt/media/image21.jpeg" ContentType="image/jpeg"/>
  <Override PartName="/ppt/media/image80.jpeg" ContentType="image/jpeg"/>
  <Override PartName="/ppt/media/image13.png" ContentType="image/pn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23.png" ContentType="image/png"/>
  <Override PartName="/ppt/media/image26.jpeg" ContentType="image/jpeg"/>
  <Override PartName="/ppt/media/image85.jpeg" ContentType="image/jpeg"/>
  <Override PartName="/ppt/media/image79.jpeg" ContentType="image/jpeg"/>
  <Override PartName="/ppt/media/image38.wmf" ContentType="image/x-wmf"/>
  <Override PartName="/ppt/media/image62.png" ContentType="image/png"/>
  <Override PartName="/ppt/media/image28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png" ContentType="image/png"/>
  <Override PartName="/ppt/media/image64.jpeg" ContentType="image/jpeg"/>
  <Override PartName="/ppt/media/image77.jpeg" ContentType="image/jpeg"/>
  <Override PartName="/ppt/media/image68.png" ContentType="image/png"/>
  <Override PartName="/ppt/media/image32.png" ContentType="image/png"/>
  <Override PartName="/ppt/media/image72.jpeg" ContentType="image/jpeg"/>
  <Override PartName="/ppt/media/image14.png" ContentType="image/png"/>
  <Override PartName="/ppt/media/image69.png" ContentType="image/png"/>
  <Override PartName="/ppt/media/image67.jpeg" ContentType="image/jpeg"/>
  <Override PartName="/ppt/media/image61.jpeg" ContentType="image/jpeg"/>
  <Override PartName="/ppt/media/image7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5.jpeg" ContentType="image/jpeg"/>
  <Override PartName="/ppt/media/image84.jpeg" ContentType="image/jpeg"/>
  <Override PartName="/ppt/media/image42.wmf" ContentType="image/x-wmf"/>
  <Override PartName="/ppt/media/image82.jpeg" ContentType="image/jpeg"/>
  <Override PartName="/ppt/media/image8.png" ContentType="image/png"/>
  <Override PartName="/ppt/media/image7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83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37.jpeg" ContentType="image/jpeg"/>
  <Override PartName="/ppt/media/image3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271-7850-42D5-BE11-29AF59972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567B-7742-4B66-B10C-9A72CD36D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D6C-A008-4EC3-B4A5-9D11CA01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0A0-DFAF-4C4B-AD49-F8E9911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6B4-688E-4380-BBBE-040F9910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619-3023-47EB-B10B-D5FDA945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F0C2-4BE1-4D41-BFBC-9D34DBC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9849-91EC-4138-A6BF-1119111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164F-C94B-4F73-8AF8-0B1B421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530D-9839-4119-95E1-7D28C20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223-25F3-45EA-9BC6-E7D44D5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0E5-BF08-473F-A542-51B05C4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6AE8-FB58-46AF-9F77-87D7E75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6C9-7C3A-4488-95F6-74CCA04E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50E-CA45-483E-B4DB-1D33654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6CB4-6E55-4B16-9853-4D28892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0F44-00F2-487A-AC65-7845A93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70CD-5E2D-4856-9DF5-C08D2356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392-A76C-4C9C-9E3A-8EA95D27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C97E-24C7-4302-A37A-1178C2FC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3662-6C04-44CD-B4A3-D6EA02D6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E64A-443A-43ED-A823-B4C079A9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4BFE-5733-45E2-A0DD-F237135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BEC8-54F4-4D1E-81C3-0E5598B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EB9-D3B6-4389-8587-E7A6E38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437C-7624-4B02-93B6-0C7EB166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86FB-51CF-4780-A4B3-E1779C0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A724-7E61-4AE4-BDA3-01388A8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E351-E2BD-4895-9117-EC7151B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A6DB-7AE7-4DC0-B5EF-A8FF0DE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553E-D0A7-4A54-BEF7-FA5803DE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49A9-0C91-4CD9-928D-75872095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6772-F72F-428E-A206-0C785271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C54D-D28F-4E6D-8527-6B8A4A2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B8FA-03D7-4836-A9A0-38561B6D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931-2AB7-4B3A-8AA5-EFB80E6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8558-53E1-4793-BF59-A5D6451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E750-0B90-4632-BDBB-BE55488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F9C8-A9FA-4972-80CB-7E2CA279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0EF6-0DB0-4030-93A4-734F7FA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F3D9-2575-465D-99F1-C37F391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B6BE-3B4B-4D5D-8CC2-99BCDDF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3008-35F2-4EDA-B755-CAA34B4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9549-45D6-4C00-8FCF-C89F74E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1B19-AC66-4B3A-B941-DE3A4FA8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DF0C-DF8F-4D8F-88AD-675DEAFC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D10-3C7F-4B34-BB1F-7508ABD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10CD-3CBC-41C5-AC17-673E746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9ACB-1DB3-44BB-B02F-263A609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D9860-221E-4321-8514-E37AB5E8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066C-5039-4ACA-899D-4389B36A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EE9C-CA78-4E4B-9C35-DACE6D2A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5C88-51CB-4769-867A-DC02FBA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B638-ADF5-4251-AE59-39414CB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267E-124C-498F-986E-4480B6D6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8046-AE25-428F-A7A6-F9D35B03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58B4-D1CE-436A-A18F-8E18B80F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27D-52B1-4BFD-8C71-343E752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04A1-8F0C-4C4E-8E3B-B8A19547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A42B-132F-4E93-89D1-E836C076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A689-A297-4AAC-B7B9-A3CC6E2C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D0B97-C916-4F02-BB99-33137FF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9033-9FEA-45E7-969D-8C249A6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CC5E-C788-4F09-B2DD-841EC81A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A0F8-C093-41BD-9FD9-A5FD626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0E31-88F8-423B-A90B-C414695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9869-AFEB-4853-BF5A-040992E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A180-A1B9-4F4D-808D-242AA8C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6F9-D0A5-49B7-8148-AC271B7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9EBC-644C-4724-89C5-B655692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6F84-2C2D-45F6-AF2A-E022623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26E7-4DBA-456F-93E4-64A44596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133-9297-47BC-984C-E485C05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C20-ED91-423F-867F-12C53C6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F8A-949A-483B-806B-3D9CC9B51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25F-6261-43D6-A453-80E033267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881-3348-4221-BEF5-3F961EB6D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41B7-CA89-4110-892A-5164FF700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AD0-E986-4958-83D9-2F699835D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5E53-7A5E-4A7D-A78D-28E542675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70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ика – это наука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о вижу в глазах у детей только муку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Формулы скачут, мелькают подряд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х, как им трудно их выстроить в ряд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о без физики не объясни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И кран подъемный, и гвоздь как заби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Как в Космос летаем, машины води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 почему по Земле так просто мы ходим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4565520" y="587232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http://media5.picsearch.com/is?wKkR3SgrDFU5l7m8q2fQaG1E3u6QOyw3Di8bLbYO28c"/>
          <p:cNvPicPr/>
          <p:nvPr/>
        </p:nvPicPr>
        <p:blipFill>
          <a:blip r:embed="rId1"/>
          <a:stretch/>
        </p:blipFill>
        <p:spPr>
          <a:xfrm>
            <a:off x="705816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C:\Documents and Settings\Admin\Мои документы\Мои рисунки\isCABTMA61.jpg"/>
          <p:cNvPicPr/>
          <p:nvPr/>
        </p:nvPicPr>
        <p:blipFill>
          <a:blip r:embed="rId2"/>
          <a:stretch/>
        </p:blipFill>
        <p:spPr>
          <a:xfrm>
            <a:off x="500040" y="523872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Estrangelo Edessa"/>
              </a:rPr>
              <a:t>Основные типы упруго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Estrangelo Edessa"/>
              </a:rPr>
              <a:t>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Содержимое 6" descr=""/>
          <p:cNvPicPr/>
          <p:nvPr/>
        </p:nvPicPr>
        <p:blipFill>
          <a:blip r:embed="rId1"/>
          <a:stretch/>
        </p:blipFill>
        <p:spPr>
          <a:xfrm>
            <a:off x="176040" y="1481040"/>
            <a:ext cx="8242560" cy="46450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 "/>
          <p:cNvPicPr/>
          <p:nvPr/>
        </p:nvPicPr>
        <p:blipFill>
          <a:blip r:embed="rId2"/>
          <a:stretch/>
        </p:blipFill>
        <p:spPr>
          <a:xfrm>
            <a:off x="2214720" y="2714760"/>
            <a:ext cx="4643280" cy="2857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11280" y="1773360"/>
          <a:ext cx="4038480" cy="1981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ручение – сводится к сдвиг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301" name="Picture 23" descr="кручение"/>
          <p:cNvPicPr/>
          <p:nvPr/>
        </p:nvPicPr>
        <p:blipFill>
          <a:blip r:embed="rId1"/>
          <a:stretch/>
        </p:blipFill>
        <p:spPr>
          <a:xfrm>
            <a:off x="1042920" y="4005360"/>
            <a:ext cx="3024360" cy="2514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302" name="Picture 28" descr="круч"/>
          <p:cNvPicPr/>
          <p:nvPr/>
        </p:nvPicPr>
        <p:blipFill>
          <a:blip r:embed="rId2"/>
          <a:stretch/>
        </p:blipFill>
        <p:spPr>
          <a:xfrm>
            <a:off x="5580000" y="1557360"/>
            <a:ext cx="2563920" cy="504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11280" y="2060640"/>
          <a:ext cx="4038480" cy="2041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Изгиб – сочетание растяжения и сжат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305" name="Picture 90" descr="опр изг"/>
          <p:cNvPicPr/>
          <p:nvPr/>
        </p:nvPicPr>
        <p:blipFill>
          <a:blip r:embed="rId1"/>
          <a:stretch/>
        </p:blipFill>
        <p:spPr>
          <a:xfrm>
            <a:off x="611280" y="4365720"/>
            <a:ext cx="4032000" cy="1892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06" name="Picture 88" descr="деф изг1"/>
          <p:cNvPicPr/>
          <p:nvPr/>
        </p:nvPicPr>
        <p:blipFill>
          <a:blip r:embed="rId2"/>
          <a:stretch/>
        </p:blipFill>
        <p:spPr>
          <a:xfrm>
            <a:off x="5726160" y="1989000"/>
            <a:ext cx="2227320" cy="453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Medium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2" descr=""/>
          <p:cNvPicPr/>
          <p:nvPr/>
        </p:nvPicPr>
        <p:blipFill>
          <a:blip r:embed="rId1"/>
          <a:stretch/>
        </p:blipFill>
        <p:spPr>
          <a:xfrm>
            <a:off x="1116000" y="1627200"/>
            <a:ext cx="7839000" cy="219564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" descr=" "/>
          <p:cNvPicPr/>
          <p:nvPr/>
        </p:nvPicPr>
        <p:blipFill>
          <a:blip r:embed="rId2"/>
          <a:stretch/>
        </p:blipFill>
        <p:spPr>
          <a:xfrm>
            <a:off x="2000160" y="3429000"/>
            <a:ext cx="450072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200520" y="1040760"/>
            <a:ext cx="7444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зменяются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сстояния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ежду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астицами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е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 растяжении и сжат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изменяются си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аимодействия м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астицами веще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857160" y="1071720"/>
          <a:ext cx="7743960" cy="4564080"/>
        </p:xfrm>
        <a:graphic>
          <a:graphicData uri="http://schemas.openxmlformats.org/drawingml/2006/table">
            <a:tbl>
              <a:tblPr/>
              <a:tblGrid>
                <a:gridCol w="2079720"/>
                <a:gridCol w="5664240"/>
              </a:tblGrid>
              <a:tr h="70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Вид деформ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Призна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Растяж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увеличивается расстояние между молекулярными слоя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Сжа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уменьшается расстояние между молекулярными слоя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Кру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поворот одних молекулярных слоев относительно друг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Изгиб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одни молекулярные слои растягиваются, а другие сжимаются или растягиваются, но меньше перв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Сдви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одни слои молекул сдвигаются относительно друг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1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 "/>
          <p:cNvPicPr/>
          <p:nvPr/>
        </p:nvPicPr>
        <p:blipFill>
          <a:blip r:embed="rId1"/>
          <a:stretch/>
        </p:blipFill>
        <p:spPr>
          <a:xfrm>
            <a:off x="1908000" y="1916280"/>
            <a:ext cx="5294520" cy="36511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866520" y="780480"/>
            <a:ext cx="82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Чем выгодны эти конструкц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250920" y="763920"/>
            <a:ext cx="8501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Линейная деформация </a:t>
            </a:r>
            <a:r>
              <a:rPr b="0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(деформация растяжения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 деформация, при которой происходит изменение только одного линейного размера тела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835280" y="3428280"/>
            <a:ext cx="5503680" cy="13129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ℓ 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= │ℓ - ℓ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0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5"/>
          <p:cNvSpPr/>
          <p:nvPr/>
        </p:nvSpPr>
        <p:spPr>
          <a:xfrm>
            <a:off x="539640" y="333360"/>
            <a:ext cx="813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Сила упругости прямо</a:t>
            </a:r>
            <a:r>
              <a:rPr b="1" lang="ru-RU" sz="4800" spc="-1" strike="noStrike">
                <a:solidFill>
                  <a:srgbClr val="99ccff"/>
                </a:solidFill>
                <a:latin typeface="Franklin Gothic Medium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пропорциональна абсолютному удлинению (растяжению)  те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908000" y="4005360"/>
            <a:ext cx="4824720" cy="13129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Franklin Gothic Medium"/>
              </a:rPr>
              <a:t>F ~ │∆ ℓ</a:t>
            </a:r>
            <a:r>
              <a:rPr b="0" lang="en-US" sz="8000" spc="-1" strike="noStrike">
                <a:solidFill>
                  <a:srgbClr val="00ffff"/>
                </a:solidFill>
                <a:latin typeface="Arial"/>
              </a:rPr>
              <a:t>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252720" y="1699920"/>
            <a:ext cx="4290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Object 2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737080" cy="25257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0"/>
          <p:cNvSpPr/>
          <p:nvPr/>
        </p:nvSpPr>
        <p:spPr>
          <a:xfrm>
            <a:off x="1187280" y="642960"/>
            <a:ext cx="6769440" cy="24714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Относительное удлинение (сжатие) </a:t>
            </a: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это </a:t>
            </a:r>
            <a:r>
              <a:rPr b="1" lang="ru-RU" sz="3600" spc="-1" strike="noStrike">
                <a:solidFill>
                  <a:srgbClr val="00ffff"/>
                </a:solidFill>
                <a:latin typeface="Franklin Gothic Medium"/>
              </a:rPr>
              <a:t>изменение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длины тела, отнесенное к единице длины. Оно равно отношению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абсолютного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удлинения тела (сжатия) к его первоначальной д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21589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Calibri"/>
              </a:rPr>
              <a:t>Сила упруг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Механическое напря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Scan0006"/>
          <p:cNvPicPr/>
          <p:nvPr/>
        </p:nvPicPr>
        <p:blipFill>
          <a:blip r:embed="rId1"/>
          <a:stretch/>
        </p:blipFill>
        <p:spPr>
          <a:xfrm>
            <a:off x="250920" y="1989000"/>
            <a:ext cx="3673440" cy="358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93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0504d"/>
                </a:solidFill>
                <a:latin typeface="Franklin Gothic Medium"/>
              </a:rPr>
              <a:t>Механическое напряжение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это сила упругости, действующая на единицу площади. Оно равно отношению модуля силы упругости к площади поперечного сечения т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Object 2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462240" cy="647640"/>
          </a:xfrm>
          <a:prstGeom prst="rect">
            <a:avLst/>
          </a:prstGeom>
          <a:ln w="0">
            <a:noFill/>
          </a:ln>
        </p:spPr>
      </p:pic>
      <p:sp>
        <p:nvSpPr>
          <p:cNvPr id="331" name="Line 8"/>
          <p:cNvSpPr/>
          <p:nvPr/>
        </p:nvSpPr>
        <p:spPr>
          <a:xfrm>
            <a:off x="3419640" y="3789360"/>
            <a:ext cx="934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 flipH="1">
            <a:off x="2411280" y="3789360"/>
            <a:ext cx="935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3" descr=""/>
          <p:cNvPicPr/>
          <p:nvPr/>
        </p:nvPicPr>
        <p:blipFill>
          <a:blip r:embed="rId3"/>
          <a:stretch/>
        </p:blipFill>
        <p:spPr>
          <a:xfrm>
            <a:off x="2843280" y="3068640"/>
            <a:ext cx="792000" cy="73980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4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2520720" cy="1841760"/>
          </a:xfrm>
          <a:prstGeom prst="rect">
            <a:avLst/>
          </a:prstGeom>
          <a:ln w="0">
            <a:noFill/>
          </a:ln>
        </p:spPr>
      </p:pic>
      <p:pic>
        <p:nvPicPr>
          <p:cNvPr id="335" name="Object 5" descr=""/>
          <p:cNvPicPr/>
          <p:nvPr/>
        </p:nvPicPr>
        <p:blipFill>
          <a:blip r:embed="rId5"/>
          <a:stretch/>
        </p:blipFill>
        <p:spPr>
          <a:xfrm>
            <a:off x="6659640" y="5157720"/>
            <a:ext cx="2233440" cy="10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"/>
          <p:cNvSpPr/>
          <p:nvPr/>
        </p:nvSpPr>
        <p:spPr>
          <a:xfrm>
            <a:off x="468360" y="130140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Franklin Gothic Medium"/>
                <a:ea typeface="Times New Roman"/>
              </a:rPr>
              <a:t>Решить задачу:</a:t>
            </a:r>
            <a:r>
              <a:rPr b="0" i="1" lang="ru-RU" sz="4000" spc="-1" strike="noStrike">
                <a:solidFill>
                  <a:srgbClr val="333333"/>
                </a:solidFill>
                <a:latin typeface="Franklin Gothic Medium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од действием какой силы, направленной вдоль оси стержня, диаметр которого равен 1 см, в нем возникает напряжение 5 10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Franklin Gothic Medium"/>
                <a:ea typeface="Times New Roman"/>
              </a:rPr>
              <a:t>8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 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Franklin Gothic Medium"/>
              </a:rPr>
              <a:t>При упругой малой деформации механическое напряжение прямо пропорционально относительному удлинению (сжатию) т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11280" y="465300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гд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– модуль Юнга или модуль упругости, который измеряется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П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 Е = </a:t>
            </a:r>
            <a:r>
              <a:rPr b="1" lang="el-GR" sz="2400" spc="-1" strike="noStrike">
                <a:solidFill>
                  <a:srgbClr val="0000ff"/>
                </a:solidFill>
                <a:latin typeface="Calibri"/>
                <a:ea typeface="Arial"/>
              </a:rPr>
              <a:t>σ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/ </a:t>
            </a:r>
            <a:r>
              <a:rPr b="1" lang="el-GR" sz="2400" spc="-1" strike="noStrike">
                <a:solidFill>
                  <a:srgbClr val="0000ff"/>
                </a:solidFill>
                <a:latin typeface="Calibri"/>
                <a:ea typeface="Arial"/>
              </a:rPr>
              <a:t>ε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измеряется в тех же единицах, чт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напря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6" descr=""/>
          <p:cNvPicPr/>
          <p:nvPr/>
        </p:nvPicPr>
        <p:blipFill>
          <a:blip r:embed="rId1"/>
          <a:stretch/>
        </p:blipFill>
        <p:spPr>
          <a:xfrm>
            <a:off x="2500200" y="3071880"/>
            <a:ext cx="3562560" cy="128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Medium"/>
              </a:rPr>
              <a:t>Модуль упругости - 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одуль Юнга зависит только от свойств материала и не зависит от размеров и форм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одуль Юнга показывает  напряжение, которое необходимо приложить к телу, чтобы удлинить его в 2 р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ля различных материалов модуль Юнга меняется в широких пределах. Для стали, например,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≈ 2·10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Н/м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, а для резины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≈ 2·10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Н/м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572400" y="794520"/>
            <a:ext cx="73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Закон Гука, записанный в фор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4456440" y="1046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2359080" y="2451240"/>
            <a:ext cx="3486240" cy="2238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1179360" y="731520"/>
            <a:ext cx="74106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ить задач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действием силы в 200 Н провол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ой 10 м  и сечением 2,5 мм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линилась на 2 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напряжение, испытыв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локой, и модуль Ю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0" descr=" 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5003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"/>
          <p:cNvSpPr/>
          <p:nvPr/>
        </p:nvSpPr>
        <p:spPr>
          <a:xfrm>
            <a:off x="1835280" y="628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Диаграмма растя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785880" y="1214280"/>
          <a:ext cx="7429320" cy="5048280"/>
        </p:xfrm>
        <a:graphic>
          <a:graphicData uri="http://schemas.openxmlformats.org/drawingml/2006/table">
            <a:tbl>
              <a:tblPr/>
              <a:tblGrid>
                <a:gridCol w="2286000"/>
                <a:gridCol w="1428840"/>
                <a:gridCol w="37144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хан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яс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6000"/>
                      </a:blip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пропорциона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аксимальное напряжение, при котором еще выполняется закон Г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>
                        <a:alphaModFix amt="76000"/>
                      </a:blip>
                      <a:stretch/>
                    </a:blip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упруг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у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аксимальное напряжение, при котором еще не возникают заметные остаточные де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>
                        <a:alphaModFix amt="76000"/>
                      </a:blip>
                      <a:stretch/>
                    </a:blipFill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текуч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текуче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>
                        <a:alphaModFix amt="76000"/>
                      </a:blip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про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п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ибольшее напряжение, которое выдерживает образец без раз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>
                        <a:alphaModFix amt="76000"/>
                      </a:blip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Calibri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6" descr="сила уп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16000" y="2349360"/>
            <a:ext cx="3052800" cy="3097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деформация"/>
          <p:cNvPicPr/>
          <p:nvPr/>
        </p:nvPicPr>
        <p:blipFill>
          <a:blip r:embed="rId2"/>
          <a:stretch/>
        </p:blipFill>
        <p:spPr>
          <a:xfrm>
            <a:off x="4716360" y="170028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кручение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716360" y="4078440"/>
            <a:ext cx="3011760" cy="2236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Сила упр"/>
          <p:cNvPicPr/>
          <p:nvPr/>
        </p:nvPicPr>
        <p:blipFill>
          <a:blip r:embed="rId4"/>
          <a:stretch/>
        </p:blipFill>
        <p:spPr>
          <a:xfrm>
            <a:off x="1116000" y="1341360"/>
            <a:ext cx="6912000" cy="5189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57" name="Picture 11" descr="сила упр2"/>
          <p:cNvPicPr/>
          <p:nvPr/>
        </p:nvPicPr>
        <p:blipFill>
          <a:blip r:embed="rId5"/>
          <a:stretch/>
        </p:blipFill>
        <p:spPr>
          <a:xfrm>
            <a:off x="611280" y="1341360"/>
            <a:ext cx="7704000" cy="52070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5508720" y="1268280"/>
            <a:ext cx="1081080" cy="935280"/>
          </a:xfrm>
          <a:prstGeom prst="line">
            <a:avLst/>
          </a:prstGeom>
          <a:ln w="572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 flipH="1">
            <a:off x="1692000" y="1268280"/>
            <a:ext cx="1439640" cy="936720"/>
          </a:xfrm>
          <a:prstGeom prst="line">
            <a:avLst/>
          </a:prstGeom>
          <a:ln w="572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24000" y="234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пру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64000" y="2276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упругие - плас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2" descr="пласт деф"/>
          <p:cNvPicPr/>
          <p:nvPr/>
        </p:nvPicPr>
        <p:blipFill>
          <a:blip r:embed="rId1"/>
          <a:stretch/>
        </p:blipFill>
        <p:spPr>
          <a:xfrm>
            <a:off x="5076720" y="3573360"/>
            <a:ext cx="3759480" cy="22989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364" name="Picture 13" descr="сила уп3"/>
          <p:cNvPicPr/>
          <p:nvPr/>
        </p:nvPicPr>
        <p:blipFill>
          <a:blip r:embed="rId2"/>
          <a:stretch/>
        </p:blipFill>
        <p:spPr>
          <a:xfrm>
            <a:off x="395280" y="3573360"/>
            <a:ext cx="3456000" cy="23511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62" name="Rectangle 3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4"/>
          <p:cNvSpPr/>
          <p:nvPr/>
        </p:nvSpPr>
        <p:spPr>
          <a:xfrm>
            <a:off x="4427640" y="5084640"/>
            <a:ext cx="0" cy="1773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427640" y="1628280"/>
            <a:ext cx="0" cy="1871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4716360" y="1773360"/>
            <a:ext cx="2016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alibri"/>
              </a:rPr>
              <a:t>F</a:t>
            </a:r>
            <a:r>
              <a:rPr b="1" lang="ru-RU" sz="6000" spc="-1" strike="noStrike" baseline="-25000">
                <a:solidFill>
                  <a:srgbClr val="ff9933"/>
                </a:solidFill>
                <a:latin typeface="Calibri"/>
              </a:rPr>
              <a:t>уп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4859280" y="1844640"/>
            <a:ext cx="108108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4859280" y="5759280"/>
            <a:ext cx="244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Calibri"/>
              </a:rPr>
              <a:t>m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2"/>
          <p:cNvSpPr/>
          <p:nvPr/>
        </p:nvSpPr>
        <p:spPr>
          <a:xfrm>
            <a:off x="5003640" y="5950080"/>
            <a:ext cx="1152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3"/>
          <p:cNvSpPr/>
          <p:nvPr/>
        </p:nvSpPr>
        <p:spPr>
          <a:xfrm>
            <a:off x="0" y="3429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ила упругости – сила, возникающая при деформации тела и направленная противоположно направлению смещения частиц при     де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4" descr="02012"/>
          <p:cNvPicPr/>
          <p:nvPr/>
        </p:nvPicPr>
        <p:blipFill>
          <a:blip r:embed="rId2"/>
          <a:stretch/>
        </p:blipFill>
        <p:spPr>
          <a:xfrm>
            <a:off x="324000" y="476280"/>
            <a:ext cx="2771640" cy="25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акие деформации изображе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1" descr="деф в быту"/>
          <p:cNvPicPr/>
          <p:nvPr/>
        </p:nvPicPr>
        <p:blipFill>
          <a:blip r:embed="rId1"/>
          <a:stretch/>
        </p:blipFill>
        <p:spPr>
          <a:xfrm>
            <a:off x="684360" y="1484280"/>
            <a:ext cx="1800000" cy="2305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67" name="Picture 12" descr="деф в быту1"/>
          <p:cNvPicPr/>
          <p:nvPr/>
        </p:nvPicPr>
        <p:blipFill>
          <a:blip r:embed="rId2"/>
          <a:stretch/>
        </p:blipFill>
        <p:spPr>
          <a:xfrm>
            <a:off x="395280" y="4292640"/>
            <a:ext cx="2305080" cy="2157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деформ"/>
          <p:cNvPicPr/>
          <p:nvPr/>
        </p:nvPicPr>
        <p:blipFill>
          <a:blip r:embed="rId3"/>
          <a:stretch/>
        </p:blipFill>
        <p:spPr>
          <a:xfrm>
            <a:off x="3132000" y="1484280"/>
            <a:ext cx="1866960" cy="2303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69" name="Picture 14" descr="1d38_03_03"/>
          <p:cNvPicPr/>
          <p:nvPr/>
        </p:nvPicPr>
        <p:blipFill>
          <a:blip r:embed="rId4"/>
          <a:stretch/>
        </p:blipFill>
        <p:spPr>
          <a:xfrm>
            <a:off x="5724360" y="1557360"/>
            <a:ext cx="267516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0" name="Picture 16" descr="сила уп2"/>
          <p:cNvPicPr/>
          <p:nvPr/>
        </p:nvPicPr>
        <p:blipFill>
          <a:blip r:embed="rId5"/>
          <a:stretch/>
        </p:blipFill>
        <p:spPr>
          <a:xfrm>
            <a:off x="5651640" y="4149720"/>
            <a:ext cx="2808000" cy="23018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1" name="Picture 17" descr="тело под"/>
          <p:cNvPicPr/>
          <p:nvPr/>
        </p:nvPicPr>
        <p:blipFill>
          <a:blip r:embed="rId6"/>
          <a:stretch/>
        </p:blipFill>
        <p:spPr>
          <a:xfrm>
            <a:off x="3203640" y="4508640"/>
            <a:ext cx="1752480" cy="16761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Деформации в жизн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9" descr="деф в быту0"/>
          <p:cNvPicPr/>
          <p:nvPr/>
        </p:nvPicPr>
        <p:blipFill>
          <a:blip r:embed="rId1"/>
          <a:stretch/>
        </p:blipFill>
        <p:spPr>
          <a:xfrm>
            <a:off x="468360" y="1989000"/>
            <a:ext cx="2419200" cy="19018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4" name="Picture 10" descr="деф в быту6"/>
          <p:cNvPicPr/>
          <p:nvPr/>
        </p:nvPicPr>
        <p:blipFill>
          <a:blip r:embed="rId2"/>
          <a:stretch/>
        </p:blipFill>
        <p:spPr>
          <a:xfrm>
            <a:off x="6443640" y="1989000"/>
            <a:ext cx="2116080" cy="18795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5" name="Picture 11" descr="деф сж прим"/>
          <p:cNvPicPr/>
          <p:nvPr/>
        </p:nvPicPr>
        <p:blipFill>
          <a:blip r:embed="rId3"/>
          <a:stretch/>
        </p:blipFill>
        <p:spPr>
          <a:xfrm>
            <a:off x="3635280" y="1989000"/>
            <a:ext cx="2233800" cy="1895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6" name="Picture 12" descr="деф сж прим2"/>
          <p:cNvPicPr/>
          <p:nvPr/>
        </p:nvPicPr>
        <p:blipFill>
          <a:blip r:embed="rId4"/>
          <a:stretch/>
        </p:blipFill>
        <p:spPr>
          <a:xfrm>
            <a:off x="539640" y="4221000"/>
            <a:ext cx="2303640" cy="1979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7" name="Picture 13" descr="деф сж прим1"/>
          <p:cNvPicPr/>
          <p:nvPr/>
        </p:nvPicPr>
        <p:blipFill>
          <a:blip r:embed="rId5"/>
          <a:stretch/>
        </p:blipFill>
        <p:spPr>
          <a:xfrm>
            <a:off x="3635280" y="4145040"/>
            <a:ext cx="2232000" cy="20206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8" name="Picture 14" descr="прим раст"/>
          <p:cNvPicPr/>
          <p:nvPr/>
        </p:nvPicPr>
        <p:blipFill>
          <a:blip r:embed="rId6"/>
          <a:stretch/>
        </p:blipFill>
        <p:spPr>
          <a:xfrm>
            <a:off x="6372360" y="4149720"/>
            <a:ext cx="2232000" cy="20160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9" name="Picture 15" descr="прим раст1"/>
          <p:cNvPicPr/>
          <p:nvPr/>
        </p:nvPicPr>
        <p:blipFill>
          <a:blip r:embed="rId7"/>
          <a:stretch/>
        </p:blipFill>
        <p:spPr>
          <a:xfrm>
            <a:off x="3203640" y="1628640"/>
            <a:ext cx="3011400" cy="4892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Деформации в жизн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9" descr="ковка"/>
          <p:cNvPicPr/>
          <p:nvPr/>
        </p:nvPicPr>
        <p:blipFill>
          <a:blip r:embed="rId1"/>
          <a:stretch/>
        </p:blipFill>
        <p:spPr>
          <a:xfrm>
            <a:off x="250920" y="1484280"/>
            <a:ext cx="324000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2" name="Picture 10" descr="прим деф2"/>
          <p:cNvPicPr/>
          <p:nvPr/>
        </p:nvPicPr>
        <p:blipFill>
          <a:blip r:embed="rId2"/>
          <a:stretch/>
        </p:blipFill>
        <p:spPr>
          <a:xfrm>
            <a:off x="5724360" y="1413000"/>
            <a:ext cx="321948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3" name="Picture 11" descr="прим деф5"/>
          <p:cNvPicPr/>
          <p:nvPr/>
        </p:nvPicPr>
        <p:blipFill>
          <a:blip r:embed="rId3"/>
          <a:stretch/>
        </p:blipFill>
        <p:spPr>
          <a:xfrm>
            <a:off x="179280" y="4724280"/>
            <a:ext cx="3219480" cy="19782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4" name="Picture 12" descr="прим деф0"/>
          <p:cNvPicPr/>
          <p:nvPr/>
        </p:nvPicPr>
        <p:blipFill>
          <a:blip r:embed="rId4"/>
          <a:stretch/>
        </p:blipFill>
        <p:spPr>
          <a:xfrm>
            <a:off x="5977080" y="4915080"/>
            <a:ext cx="3166920" cy="19429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5" name="Picture 13" descr="прим деф1"/>
          <p:cNvPicPr/>
          <p:nvPr/>
        </p:nvPicPr>
        <p:blipFill>
          <a:blip r:embed="rId5"/>
          <a:stretch/>
        </p:blipFill>
        <p:spPr>
          <a:xfrm>
            <a:off x="3059280" y="2637000"/>
            <a:ext cx="3403440" cy="2390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Причины де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3" descr="прич упр"/>
          <p:cNvPicPr/>
          <p:nvPr/>
        </p:nvPicPr>
        <p:blipFill>
          <a:blip r:embed="rId1"/>
          <a:stretch/>
        </p:blipFill>
        <p:spPr>
          <a:xfrm>
            <a:off x="250920" y="1844640"/>
            <a:ext cx="4105080" cy="2603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4" name="Picture 14" descr="возн силы упр"/>
          <p:cNvPicPr/>
          <p:nvPr/>
        </p:nvPicPr>
        <p:blipFill>
          <a:blip r:embed="rId2"/>
          <a:stretch/>
        </p:blipFill>
        <p:spPr>
          <a:xfrm>
            <a:off x="4500720" y="1413000"/>
            <a:ext cx="4392360" cy="3448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275" name="Text Box 15"/>
          <p:cNvSpPr/>
          <p:nvPr/>
        </p:nvSpPr>
        <p:spPr>
          <a:xfrm>
            <a:off x="0" y="580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ри изменении расстояния между атомами изменяются силы взаимодействия между ними, которые стремятся вернуть тело в исходное состояния. Поэтому силы упругости имеют электромагнитную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042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словия возникновения силы упругост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 -</a:t>
            </a: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де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252720" y="2060280"/>
            <a:ext cx="4608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Под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деформацией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 понимают изменение объема или формы тела под действием внешних с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сила уп1"/>
          <p:cNvPicPr/>
          <p:nvPr/>
        </p:nvPicPr>
        <p:blipFill>
          <a:blip r:embed="rId1"/>
          <a:stretch/>
        </p:blipFill>
        <p:spPr>
          <a:xfrm>
            <a:off x="4284720" y="2324160"/>
            <a:ext cx="4570200" cy="3747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3"/>
          <p:cNvGrpSpPr/>
          <p:nvPr/>
        </p:nvGrpSpPr>
        <p:grpSpPr>
          <a:xfrm>
            <a:off x="743040" y="609480"/>
            <a:ext cx="3481200" cy="5857920"/>
            <a:chOff x="743040" y="609480"/>
            <a:chExt cx="3481200" cy="5857920"/>
          </a:xfrm>
        </p:grpSpPr>
        <p:pic>
          <p:nvPicPr>
            <p:cNvPr id="281" name="Rectangle 3" descr=""/>
            <p:cNvPicPr/>
            <p:nvPr/>
          </p:nvPicPr>
          <p:blipFill>
            <a:blip r:embed="rId1"/>
            <a:stretch/>
          </p:blipFill>
          <p:spPr>
            <a:xfrm>
              <a:off x="743040" y="609480"/>
              <a:ext cx="348120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55640" y="620640"/>
              <a:ext cx="3456000" cy="58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Причины де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00"/>
                  </a:solidFill>
                  <a:latin typeface="Calibri"/>
                </a:rPr>
                <a:t>Виды</a:t>
              </a: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 де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Закон Гу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Диаграмма механического растяж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7" descr="016"/>
          <p:cNvPicPr/>
          <p:nvPr/>
        </p:nvPicPr>
        <p:blipFill>
          <a:blip r:embed="rId7"/>
          <a:stretch/>
        </p:blipFill>
        <p:spPr>
          <a:xfrm>
            <a:off x="5364000" y="2133720"/>
            <a:ext cx="2808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920" y="1413000"/>
          <a:ext cx="8642160" cy="52275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угие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счезают после прекращения действия внешних сил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стические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не исчезают после прекращения действия внешних си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яжения и сж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в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ги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</a:t>
            </a: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 </a:t>
            </a: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143080" y="1643040"/>
          <a:ext cx="4038480" cy="1584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ffff"/>
                          </a:solidFill>
                          <a:latin typeface="Tahoma"/>
                        </a:rPr>
                        <a:t>Растяжение и сжа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0504d"/>
                        </a:gs>
                        <a:gs pos="50000">
                          <a:srgbClr val="592524"/>
                        </a:gs>
                        <a:gs pos="100000">
                          <a:srgbClr val="c0504d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88" name="Picture 47" descr="деф сжат0"/>
          <p:cNvPicPr/>
          <p:nvPr/>
        </p:nvPicPr>
        <p:blipFill>
          <a:blip r:embed="rId1"/>
          <a:stretch/>
        </p:blipFill>
        <p:spPr>
          <a:xfrm>
            <a:off x="4572000" y="4857840"/>
            <a:ext cx="2089080" cy="1847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9" name="Picture 48" descr="1растяж"/>
          <p:cNvPicPr/>
          <p:nvPr/>
        </p:nvPicPr>
        <p:blipFill>
          <a:blip r:embed="rId2"/>
          <a:stretch/>
        </p:blipFill>
        <p:spPr>
          <a:xfrm>
            <a:off x="1143000" y="4857840"/>
            <a:ext cx="2016000" cy="187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0" name="Picture 49" descr="опр раст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714240" y="3500280"/>
            <a:ext cx="3143520" cy="1208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1" name="Picture 50" descr="сжат оп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4572000" y="3571920"/>
            <a:ext cx="3214800" cy="115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71640" y="2133720"/>
          <a:ext cx="3240000" cy="102852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ffff"/>
                          </a:solidFill>
                          <a:latin typeface="Tahoma"/>
                        </a:rPr>
                        <a:t>Сдви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0504d"/>
                        </a:gs>
                        <a:gs pos="50000">
                          <a:srgbClr val="592524"/>
                        </a:gs>
                        <a:gs pos="100000">
                          <a:srgbClr val="c0504d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94" name="Picture 29" descr="сдвиг2"/>
          <p:cNvPicPr/>
          <p:nvPr/>
        </p:nvPicPr>
        <p:blipFill>
          <a:blip r:embed="rId1"/>
          <a:stretch/>
        </p:blipFill>
        <p:spPr>
          <a:xfrm>
            <a:off x="1476360" y="3789360"/>
            <a:ext cx="2163600" cy="213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5" name="Picture 31" descr="сдвиг1"/>
          <p:cNvPicPr/>
          <p:nvPr/>
        </p:nvPicPr>
        <p:blipFill>
          <a:blip r:embed="rId2"/>
          <a:stretch/>
        </p:blipFill>
        <p:spPr>
          <a:xfrm>
            <a:off x="5364000" y="1773360"/>
            <a:ext cx="2343240" cy="4608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9:22:44Z</dcterms:created>
  <dc:creator>Customer</dc:creator>
  <dc:description/>
  <dc:language>en-US</dc:language>
  <cp:lastModifiedBy>Customer</cp:lastModifiedBy>
  <dcterms:modified xsi:type="dcterms:W3CDTF">2011-11-27T18:14:48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e000000000001024140</vt:lpwstr>
  </property>
</Properties>
</file>