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12.png" ContentType="image/png"/>
  <Override PartName="/ppt/media/image29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8.png" ContentType="image/png"/>
  <Override PartName="/ppt/media/image8.png" ContentType="image/png"/>
  <Override PartName="/ppt/media/image41.wmf" ContentType="image/x-wmf"/>
  <Override PartName="/ppt/media/image31.png" ContentType="image/png"/>
  <Override PartName="/ppt/media/image43.png" ContentType="image/png"/>
  <Override PartName="/ppt/media/image45.wmf" ContentType="image/x-wmf"/>
  <Override PartName="/ppt/media/image46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22.jpeg" ContentType="image/jpeg"/>
  <Override PartName="/ppt/media/image42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B632-EF43-4DD0-8D88-0A9D0F2871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3607-7B8B-432D-B0B0-AA9D62D82C1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ADF-D2D4-4120-88AD-736C6CA2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D63-AE71-4AAF-8520-E75A9CEA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A96-FE7E-4E3C-BEF8-F045870F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07F-5DD4-401E-A294-F30C1F83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7FC3-2C06-4772-94E7-FA227697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BD5E-B26B-4D5C-AF1A-A5F4650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5E2A-0AC1-41A1-AEB5-C81958EE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30D-3FBB-45FD-880E-EFF910C5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4CC3-2B44-4A4E-8D23-BAFBAD84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D243-E5CA-49C9-B87B-E0C6FA68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7CA7-7AE2-4152-BF6E-9A764308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2A3-3C5F-49EB-925C-B68B19C8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AAF5-243D-49ED-8301-CF9A608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8C3F-540E-4D7F-A7E9-363BEEE0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D2F5-701E-4C0C-A1C6-889177A3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1DAD-9F91-4750-8D36-C3043AC8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216D-F9CB-47CE-B8A1-89185C03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32F-3AAA-4E4B-B8BB-498F8052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648-F8BD-4EC7-BC5E-D4126E71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406-D4C3-449E-953D-13361BA8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529-35D4-4F59-B470-2491BDE3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9B2-BAD2-43BC-896D-AA3E74B7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491-03DE-41D4-BF50-0851BE39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ECD-61CC-4054-8A89-9E697260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6D63-7DBE-4E65-9E63-DA0A3B4D9BF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F539-41E6-4363-91A3-42EBD0666BF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841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Прямоугольник 4" descr=""/>
          <p:cNvPicPr/>
          <p:nvPr/>
        </p:nvPicPr>
        <p:blipFill>
          <a:blip r:embed="rId2"/>
          <a:stretch/>
        </p:blipFill>
        <p:spPr>
          <a:xfrm>
            <a:off x="420840" y="890640"/>
            <a:ext cx="8119800" cy="4851360"/>
          </a:xfrm>
          <a:prstGeom prst="rect">
            <a:avLst/>
          </a:prstGeom>
          <a:ln w="0">
            <a:noFill/>
          </a:ln>
        </p:spPr>
      </p:pic>
      <p:pic>
        <p:nvPicPr>
          <p:cNvPr id="105" name="Чему учат в школе.mid" descr=""/>
          <p:cNvPicPr/>
          <p:nvPr/>
        </p:nvPicPr>
        <p:blipFill>
          <a:blip r:embed="rId3"/>
          <a:stretch/>
        </p:blipFill>
        <p:spPr>
          <a:xfrm>
            <a:off x="785880" y="5286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76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573120"/>
            <a:ext cx="8083440" cy="3633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426960"/>
            <a:ext cx="8326440" cy="530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1" descr=""/>
          <p:cNvPicPr/>
          <p:nvPr/>
        </p:nvPicPr>
        <p:blipFill>
          <a:blip r:embed="rId1"/>
          <a:stretch/>
        </p:blipFill>
        <p:spPr>
          <a:xfrm>
            <a:off x="274680" y="633240"/>
            <a:ext cx="8796240" cy="548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Движение.AVI" descr=""/>
          <p:cNvPicPr/>
          <p:nvPr/>
        </p:nvPicPr>
        <p:blipFill>
          <a:blip r:embed="rId1"/>
          <a:stretch/>
        </p:blipFill>
        <p:spPr>
          <a:xfrm>
            <a:off x="2000160" y="1785960"/>
            <a:ext cx="5214960" cy="3041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487440"/>
            <a:ext cx="8913960" cy="470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695160"/>
            <a:ext cx="8796240" cy="5010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428840" y="1071720"/>
            <a:ext cx="6000840" cy="321444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281160" y="4627440"/>
            <a:ext cx="8442000" cy="111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508960" cy="2412720"/>
          </a:xfrm>
          <a:prstGeom prst="rect">
            <a:avLst/>
          </a:prstGeom>
          <a:ln w="0">
            <a:noFill/>
          </a:ln>
        </p:spPr>
      </p:pic>
      <p:pic>
        <p:nvPicPr>
          <p:cNvPr id="128" name="Равномерное движение.AVI" descr=""/>
          <p:cNvPicPr/>
          <p:nvPr/>
        </p:nvPicPr>
        <p:blipFill>
          <a:blip r:embed="rId2"/>
          <a:stretch/>
        </p:blipFill>
        <p:spPr>
          <a:xfrm>
            <a:off x="2071800" y="3143160"/>
            <a:ext cx="4857480" cy="353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202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000160" y="642960"/>
            <a:ext cx="5357880" cy="39034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4627440"/>
            <a:ext cx="8223480" cy="111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1" descr=""/>
          <p:cNvPicPr/>
          <p:nvPr/>
        </p:nvPicPr>
        <p:blipFill>
          <a:blip r:embed="rId1"/>
          <a:stretch/>
        </p:blipFill>
        <p:spPr>
          <a:xfrm>
            <a:off x="19080" y="669960"/>
            <a:ext cx="9174240" cy="527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1311120" y="365040"/>
            <a:ext cx="7047000" cy="5926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669960"/>
            <a:ext cx="8442000" cy="4438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8721720" cy="414324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4492800"/>
            <a:ext cx="7712280" cy="1652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371520" y="530280"/>
            <a:ext cx="8516880" cy="5267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706320"/>
            <a:ext cx="8436240" cy="41616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3" descr=""/>
          <p:cNvPicPr/>
          <p:nvPr/>
        </p:nvPicPr>
        <p:blipFill>
          <a:blip r:embed="rId2"/>
          <a:stretch/>
        </p:blipFill>
        <p:spPr>
          <a:xfrm>
            <a:off x="103320" y="652320"/>
            <a:ext cx="8832600" cy="90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2" descr=""/>
          <p:cNvPicPr/>
          <p:nvPr/>
        </p:nvPicPr>
        <p:blipFill>
          <a:blip r:embed="rId1"/>
          <a:stretch/>
        </p:blipFill>
        <p:spPr>
          <a:xfrm>
            <a:off x="1871640" y="1384200"/>
            <a:ext cx="4810320" cy="1114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0" y="3645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                                       Встаньте, діти, посміхніть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Землі нашій уклоні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За щасливий день вчорашні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Всі до сонця потягніть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Вліво, вправо нахиліть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Веретенцем покруті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Раз присядьте, два присядь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І за парти тихо сядь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Дом восходящего солнца.mid" descr=""/>
          <p:cNvPicPr/>
          <p:nvPr/>
        </p:nvPicPr>
        <p:blipFill>
          <a:blip r:embed="rId2"/>
          <a:stretch/>
        </p:blipFill>
        <p:spPr>
          <a:xfrm>
            <a:off x="1714680" y="4857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8170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652320"/>
            <a:ext cx="8654760" cy="299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Program Files\Microsoft Office\MEDIA\CAGCAT10\j0186348.wmf"/>
          <p:cNvPicPr/>
          <p:nvPr/>
        </p:nvPicPr>
        <p:blipFill>
          <a:blip r:embed="rId2"/>
          <a:stretch/>
        </p:blipFill>
        <p:spPr>
          <a:xfrm>
            <a:off x="714240" y="3071880"/>
            <a:ext cx="712800" cy="1000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Program Files\Microsoft Office\MEDIA\CAGCAT10\j0234131.wmf"/>
          <p:cNvPicPr/>
          <p:nvPr/>
        </p:nvPicPr>
        <p:blipFill>
          <a:blip r:embed="rId3"/>
          <a:stretch/>
        </p:blipFill>
        <p:spPr>
          <a:xfrm>
            <a:off x="5357880" y="300024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Program Files\Microsoft Office\MEDIA\CAGCAT10\j0300840.wmf"/>
          <p:cNvPicPr/>
          <p:nvPr/>
        </p:nvPicPr>
        <p:blipFill>
          <a:blip r:embed="rId4"/>
          <a:stretch/>
        </p:blipFill>
        <p:spPr>
          <a:xfrm>
            <a:off x="2857680" y="3143160"/>
            <a:ext cx="1187280" cy="10000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6" descr=""/>
          <p:cNvPicPr/>
          <p:nvPr/>
        </p:nvPicPr>
        <p:blipFill>
          <a:blip r:embed="rId5"/>
          <a:stretch/>
        </p:blipFill>
        <p:spPr>
          <a:xfrm>
            <a:off x="208080" y="4095720"/>
            <a:ext cx="8727840" cy="291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357120" y="714240"/>
            <a:ext cx="85010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еревірна роб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Зміну положення даного тіла відносно інших тіл називається –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механічним рух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Тіла, відносно яких розглядається рух, називається 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тілами відлі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Лінія, по якій тіло переміщується з одного місця на інше, називається - 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траєкторією рух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а малюнках підписати види рухів. 1- поступальний   ;                                      2- коливальний ;    3 – оберталь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5. Якщо тіло за будь – які однакові інтервали часу проходить однаковий шлях, то його рух називають –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рівномірним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6. Рух, при якому тіло за однакові інтервали часу проходить неоднаковий шлях, називають –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нерівномірним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7.Швидкість тіла в рівномірному русі показує, який шлях проходить тіло за одиницю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часу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8. Одиницю швидкості записують та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А)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 1м/с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           Б) 1кг                        В) 1г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1" descr=""/>
          <p:cNvPicPr/>
          <p:nvPr/>
        </p:nvPicPr>
        <p:blipFill>
          <a:blip r:embed="rId1"/>
          <a:stretch/>
        </p:blipFill>
        <p:spPr>
          <a:xfrm>
            <a:off x="60480" y="596880"/>
            <a:ext cx="9590040" cy="6297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Program Files\Microsoft Office\MEDIA\CAGCAT10\j0332364.wmf"/>
          <p:cNvPicPr/>
          <p:nvPr/>
        </p:nvPicPr>
        <p:blipFill>
          <a:blip r:embed="rId2"/>
          <a:stretch/>
        </p:blipFill>
        <p:spPr>
          <a:xfrm>
            <a:off x="1857240" y="3500280"/>
            <a:ext cx="1428840" cy="1150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Program Files\Microsoft Office\MEDIA\CAGCAT10\j0234131.wmf"/>
          <p:cNvPicPr/>
          <p:nvPr/>
        </p:nvPicPr>
        <p:blipFill>
          <a:blip r:embed="rId3"/>
          <a:stretch/>
        </p:blipFill>
        <p:spPr>
          <a:xfrm>
            <a:off x="4929120" y="3500280"/>
            <a:ext cx="1071720" cy="114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14200" y="714240"/>
            <a:ext cx="8643960" cy="57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еревірна ро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Зміну положення даного тіла відносно інших тіл називають  -                      А)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механічним рухом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Б) механік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Тіла, відносно яких розглядається рух,  називаються -                                  а) нерухомі                            б)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тілами відлі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Лінія, по якій тіло переміщується з одного місця на інше, називається -                                                                                             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а)траєкторією руху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      б) дорог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а малюнках підписати де рівномірний рух, а де не рівномірний ру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Швидкість тіла в рівномірному русі показує, який шлях проходить тіло за одиницю …..                                                                                   а)вартості                      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б) час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Якими одиницями вимірюється швидкість?                                                   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А)км/ год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.                             б)кг/рі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4916520" y="3071880"/>
            <a:ext cx="655560" cy="696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Program Files\Microsoft Office\MEDIA\CAGCAT10\j0332364.wmf"/>
          <p:cNvPicPr/>
          <p:nvPr/>
        </p:nvPicPr>
        <p:blipFill>
          <a:blip r:embed="rId2"/>
          <a:stretch/>
        </p:blipFill>
        <p:spPr>
          <a:xfrm>
            <a:off x="1500120" y="2928960"/>
            <a:ext cx="843120" cy="67932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4" descr=""/>
          <p:cNvPicPr/>
          <p:nvPr/>
        </p:nvPicPr>
        <p:blipFill>
          <a:blip r:embed="rId3"/>
          <a:stretch/>
        </p:blipFill>
        <p:spPr>
          <a:xfrm>
            <a:off x="2494080" y="3097080"/>
            <a:ext cx="2090520" cy="70020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5" descr=""/>
          <p:cNvPicPr/>
          <p:nvPr/>
        </p:nvPicPr>
        <p:blipFill>
          <a:blip r:embed="rId4"/>
          <a:stretch/>
        </p:blipFill>
        <p:spPr>
          <a:xfrm>
            <a:off x="5711760" y="3097080"/>
            <a:ext cx="3078360" cy="420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Некогда стареть учителям.mid" descr=""/>
          <p:cNvPicPr/>
          <p:nvPr/>
        </p:nvPicPr>
        <p:blipFill>
          <a:blip r:embed="rId1"/>
          <a:stretch/>
        </p:blipFill>
        <p:spPr>
          <a:xfrm>
            <a:off x="50004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4290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30280" y="706320"/>
            <a:ext cx="7864560" cy="2732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9" name="Picture 6" descr="C:\Documents and Settings\Elena\Мои документы\Презентация\834091.JPG"/>
          <p:cNvPicPr/>
          <p:nvPr/>
        </p:nvPicPr>
        <p:blipFill>
          <a:blip r:embed="rId2"/>
          <a:stretch/>
        </p:blipFill>
        <p:spPr>
          <a:xfrm>
            <a:off x="428760" y="2571840"/>
            <a:ext cx="3978000" cy="265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G:\Активный отдых\834031.JPG"/>
          <p:cNvPicPr/>
          <p:nvPr/>
        </p:nvPicPr>
        <p:blipFill>
          <a:blip r:embed="rId3"/>
          <a:stretch/>
        </p:blipFill>
        <p:spPr>
          <a:xfrm>
            <a:off x="4572000" y="342900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1"/>
          <a:stretch/>
        </p:blipFill>
        <p:spPr>
          <a:xfrm>
            <a:off x="-212760" y="92160"/>
            <a:ext cx="9698040" cy="4424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2" descr=""/>
          <p:cNvPicPr/>
          <p:nvPr/>
        </p:nvPicPr>
        <p:blipFill>
          <a:blip r:embed="rId1"/>
          <a:stretch/>
        </p:blipFill>
        <p:spPr>
          <a:xfrm>
            <a:off x="334800" y="1139760"/>
            <a:ext cx="7888320" cy="1146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Elena\Мои документы\Презентация\796097.JPG"/>
          <p:cNvPicPr/>
          <p:nvPr/>
        </p:nvPicPr>
        <p:blipFill>
          <a:blip r:embed="rId2"/>
          <a:stretch/>
        </p:blipFill>
        <p:spPr>
          <a:xfrm>
            <a:off x="2643120" y="2143080"/>
            <a:ext cx="5586480" cy="3724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669960"/>
            <a:ext cx="9442440" cy="3981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143080" y="2214720"/>
            <a:ext cx="4924440" cy="431460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633240"/>
            <a:ext cx="7412040" cy="93996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4" descr=""/>
          <p:cNvPicPr/>
          <p:nvPr/>
        </p:nvPicPr>
        <p:blipFill>
          <a:blip r:embed="rId3"/>
          <a:stretch/>
        </p:blipFill>
        <p:spPr>
          <a:xfrm>
            <a:off x="1468440" y="530280"/>
            <a:ext cx="6346800" cy="111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500040"/>
            <a:ext cx="8528040" cy="446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5:20:12Z</dcterms:created>
  <dc:creator>www.PHILka.RU</dc:creator>
  <dc:description/>
  <dc:language>en-US</dc:language>
  <cp:lastModifiedBy>www.PHILka.RU</cp:lastModifiedBy>
  <dcterms:modified xsi:type="dcterms:W3CDTF">2002-12-02T18:20:47Z</dcterms:modified>
  <cp:revision>3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34000000000001024140</vt:lpwstr>
  </property>
</Properties>
</file>