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12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41.wmf" ContentType="image/x-wmf"/>
  <Override PartName="/ppt/media/image31.png" ContentType="image/png"/>
  <Override PartName="/ppt/media/image43.png" ContentType="image/png"/>
  <Override PartName="/ppt/media/image45.wmf" ContentType="image/x-wmf"/>
  <Override PartName="/ppt/media/image4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4C34-CAF4-4F48-80E6-9671459E9E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FBA-66AF-401E-926B-CEBEBBD3DD4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90A-4D25-4DD0-8845-52F4FCDD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A3E-1CE8-45A8-AE7F-A048F12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0A4-982D-41A0-A202-523031E2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F17-79CB-4737-8F27-0DCF186A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4E3-8F2E-465D-B47D-A4B16103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A44A-EB35-45EC-95A0-E6CE5E50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CC37-C31E-4872-ABE1-BBC6E4F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CED6-24E7-47F7-9C3E-CBF0EC36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A78-A663-4C58-8938-CB0807D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2C18-F51C-4EA3-9928-1D9307DB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3B85-62C4-4BAE-A839-E52B10F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77C-A9BD-453D-8CDE-4F7F3269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DFAB-0502-4F55-8813-831DB19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5980-D490-4BD9-B684-12D4E46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D199-8012-4DD7-83B8-AD839B74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FB6-8BD2-481A-A98C-8BFBD69C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3C35-D089-4E7E-AA17-375490C4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28B-429F-4786-B326-B1E110B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CD2-AA86-492D-A85B-AD00E490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EB5-1262-42A6-9CA7-3C7FF59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EA4-52F3-43EB-B081-62A3148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4E6-0425-4DC7-A82A-B711C1A8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99D7-2783-436F-AC9F-62ABA3B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EEA-9B23-447B-AC4D-86CB53E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13E-77A1-4408-8720-18EE3935B18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0F89-ECF4-4177-A5C1-EBE8BB0BA41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41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890640"/>
            <a:ext cx="8119800" cy="4851360"/>
          </a:xfrm>
          <a:prstGeom prst="rect">
            <a:avLst/>
          </a:prstGeom>
          <a:ln w="0">
            <a:noFill/>
          </a:ln>
        </p:spPr>
      </p:pic>
      <p:pic>
        <p:nvPicPr>
          <p:cNvPr id="105" name="Чему учат в школе.mid" descr=""/>
          <p:cNvPicPr/>
          <p:nvPr/>
        </p:nvPicPr>
        <p:blipFill>
          <a:blip r:embed="rId3"/>
          <a:stretch/>
        </p:blipFill>
        <p:spPr>
          <a:xfrm>
            <a:off x="78588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573120"/>
            <a:ext cx="8083440" cy="3633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426960"/>
            <a:ext cx="8326440" cy="530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274680" y="633240"/>
            <a:ext cx="8796240" cy="548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Движение.AVI" descr=""/>
          <p:cNvPicPr/>
          <p:nvPr/>
        </p:nvPicPr>
        <p:blipFill>
          <a:blip r:embed="rId1"/>
          <a:stretch/>
        </p:blipFill>
        <p:spPr>
          <a:xfrm>
            <a:off x="2000160" y="1785960"/>
            <a:ext cx="5214960" cy="304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8913960" cy="470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695160"/>
            <a:ext cx="8796240" cy="5010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000840" cy="32144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281160" y="4627440"/>
            <a:ext cx="844200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2412720"/>
          </a:xfrm>
          <a:prstGeom prst="rect">
            <a:avLst/>
          </a:prstGeom>
          <a:ln w="0">
            <a:noFill/>
          </a:ln>
        </p:spPr>
      </p:pic>
      <p:pic>
        <p:nvPicPr>
          <p:cNvPr id="128" name="Равномерное движение.AVI" descr=""/>
          <p:cNvPicPr/>
          <p:nvPr/>
        </p:nvPicPr>
        <p:blipFill>
          <a:blip r:embed="rId2"/>
          <a:stretch/>
        </p:blipFill>
        <p:spPr>
          <a:xfrm>
            <a:off x="2071800" y="3143160"/>
            <a:ext cx="4857480" cy="353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02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5357880" cy="39034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627440"/>
            <a:ext cx="822348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19080" y="669960"/>
            <a:ext cx="9174240" cy="527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311120" y="365040"/>
            <a:ext cx="7047000" cy="592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669960"/>
            <a:ext cx="8442000" cy="443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721720" cy="414324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4492800"/>
            <a:ext cx="7712280" cy="165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371520" y="530280"/>
            <a:ext cx="8516880" cy="526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436240" cy="4161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652320"/>
            <a:ext cx="8832600" cy="90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1871640" y="1384200"/>
            <a:ext cx="4810320" cy="1114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364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                                       Встаньте, діти, посміхн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емлі нашій уклоні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 щасливий день вчорашні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сі до сонця потягні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ліво, вправо нахил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ретенцем покруті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Раз присядьте, два присяд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І за парти тихо сядь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Дом восходящего солнца.mid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170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652320"/>
            <a:ext cx="8654760" cy="299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4240" y="30718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5357880" y="300024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Program Files\Microsoft Office\MEDIA\CAGCAT10\j0300840.wmf"/>
          <p:cNvPicPr/>
          <p:nvPr/>
        </p:nvPicPr>
        <p:blipFill>
          <a:blip r:embed="rId4"/>
          <a:stretch/>
        </p:blipFill>
        <p:spPr>
          <a:xfrm>
            <a:off x="2857680" y="3143160"/>
            <a:ext cx="118728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" descr=""/>
          <p:cNvPicPr/>
          <p:nvPr/>
        </p:nvPicPr>
        <p:blipFill>
          <a:blip r:embed="rId5"/>
          <a:stretch/>
        </p:blipFill>
        <p:spPr>
          <a:xfrm>
            <a:off x="208080" y="4095720"/>
            <a:ext cx="8727840" cy="29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57120" y="714240"/>
            <a:ext cx="8501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ється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механічним р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називається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ілами відлі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раєкторією рух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види рухів. 1- поступальний   ;                                      2- коливальний ;    3 – оберталь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. Якщо тіло за будь – які однакові інтервали часу проходить однаковий шлях, то його рух називають –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рівномірним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6. Рух, при якому тіло за однакові інтервали часу проходить неоднаковий шлях, називають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нерівномірним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7.Швидкість тіла в рівномірному русі показує, який шлях проходить тіло за одиницю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часу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8. Одиницю швидкості записують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А)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 1м/с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     Б) 1кг                        В) 1г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60480" y="596880"/>
            <a:ext cx="9590040" cy="629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857240" y="3500280"/>
            <a:ext cx="142884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929120" y="3500280"/>
            <a:ext cx="1071720" cy="114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714240"/>
            <a:ext cx="864396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ють  -                      А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механічним рухом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Б) механік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 називаються -                                  а) нерухомі                            б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тілами відлі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                                        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траєкторією руху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б) дорог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де рівномірний рух, а де не рівномірний ру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Швидкість тіла в рівномірному русі показує, який шлях проходить тіло за одиницю …..                                                                                   а)вартості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б) час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Якими одиницями вимірюється швидкість?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км/ год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                             б)кг/рі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4916520" y="3071880"/>
            <a:ext cx="655560" cy="69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500120" y="2928960"/>
            <a:ext cx="843120" cy="6793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3097080"/>
            <a:ext cx="2090520" cy="70020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5" descr=""/>
          <p:cNvPicPr/>
          <p:nvPr/>
        </p:nvPicPr>
        <p:blipFill>
          <a:blip r:embed="rId4"/>
          <a:stretch/>
        </p:blipFill>
        <p:spPr>
          <a:xfrm>
            <a:off x="5711760" y="3097080"/>
            <a:ext cx="3078360" cy="42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Некогда стареть учителям.mid" descr=""/>
          <p:cNvPicPr/>
          <p:nvPr/>
        </p:nvPicPr>
        <p:blipFill>
          <a:blip r:embed="rId1"/>
          <a:stretch/>
        </p:blipFill>
        <p:spPr>
          <a:xfrm>
            <a:off x="500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290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30280" y="706320"/>
            <a:ext cx="7864560" cy="2732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6" descr="C:\Documents and Settings\Elena\Мои документы\Презентация\834091.JPG"/>
          <p:cNvPicPr/>
          <p:nvPr/>
        </p:nvPicPr>
        <p:blipFill>
          <a:blip r:embed="rId2"/>
          <a:stretch/>
        </p:blipFill>
        <p:spPr>
          <a:xfrm>
            <a:off x="428760" y="2571840"/>
            <a:ext cx="3978000" cy="26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G:\Активный отдых\834031.JPG"/>
          <p:cNvPicPr/>
          <p:nvPr/>
        </p:nvPicPr>
        <p:blipFill>
          <a:blip r:embed="rId3"/>
          <a:stretch/>
        </p:blipFill>
        <p:spPr>
          <a:xfrm>
            <a:off x="4572000" y="3429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92160"/>
            <a:ext cx="9698040" cy="4424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2" descr=""/>
          <p:cNvPicPr/>
          <p:nvPr/>
        </p:nvPicPr>
        <p:blipFill>
          <a:blip r:embed="rId1"/>
          <a:stretch/>
        </p:blipFill>
        <p:spPr>
          <a:xfrm>
            <a:off x="334800" y="1139760"/>
            <a:ext cx="788832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Elena\Мои документы\Презентация\796097.JPG"/>
          <p:cNvPicPr/>
          <p:nvPr/>
        </p:nvPicPr>
        <p:blipFill>
          <a:blip r:embed="rId2"/>
          <a:stretch/>
        </p:blipFill>
        <p:spPr>
          <a:xfrm>
            <a:off x="2643120" y="2143080"/>
            <a:ext cx="5586480" cy="372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669960"/>
            <a:ext cx="9442440" cy="3981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43080" y="2214720"/>
            <a:ext cx="4924440" cy="43146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633240"/>
            <a:ext cx="7412040" cy="9399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" descr=""/>
          <p:cNvPicPr/>
          <p:nvPr/>
        </p:nvPicPr>
        <p:blipFill>
          <a:blip r:embed="rId3"/>
          <a:stretch/>
        </p:blipFill>
        <p:spPr>
          <a:xfrm>
            <a:off x="1468440" y="530280"/>
            <a:ext cx="6346800" cy="11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500040"/>
            <a:ext cx="8528040" cy="446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5:20:12Z</dcterms:created>
  <dc:creator>www.PHILka.RU</dc:creator>
  <dc:description/>
  <dc:language>en-US</dc:language>
  <cp:lastModifiedBy>www.PHILka.RU</cp:lastModifiedBy>
  <dcterms:modified xsi:type="dcterms:W3CDTF">2002-12-02T18:20:47Z</dcterms:modified>
  <cp:revision>3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4000000000001024140</vt:lpwstr>
  </property>
</Properties>
</file>