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30.wmf" ContentType="image/x-wmf"/>
  <Override PartName="/ppt/media/image57.jpeg" ContentType="image/jpeg"/>
  <Override PartName="/ppt/media/image20.wmf" ContentType="image/x-wmf"/>
  <Override PartName="/ppt/media/image56.jpeg" ContentType="image/jpeg"/>
  <Override PartName="/ppt/media/image10.wmf" ContentType="image/x-wmf"/>
  <Override PartName="/ppt/media/image55.jpeg" ContentType="image/jpeg"/>
  <Override PartName="/ppt/media/image52.gif" ContentType="image/gif"/>
  <Override PartName="/ppt/media/image51.gif" ContentType="image/gif"/>
  <Override PartName="/ppt/media/image11.wmf" ContentType="image/x-wmf"/>
  <Override PartName="/ppt/media/image54.png" ContentType="image/png"/>
  <Override PartName="/ppt/media/image76.jpeg" ContentType="image/jpeg"/>
  <Override PartName="/ppt/media/image48.png" ContentType="image/png"/>
  <Override PartName="/ppt/media/image45.jpeg" ContentType="image/jpeg"/>
  <Override PartName="/ppt/media/image44.wmf" ContentType="image/x-wmf"/>
  <Override PartName="/ppt/media/image53.jpeg" ContentType="image/jpeg"/>
  <Override PartName="/ppt/media/image43.wmf" ContentType="image/x-wmf"/>
  <Override PartName="/ppt/media/image42.wmf" ContentType="image/x-wmf"/>
  <Override PartName="/ppt/media/image82.jpeg" ContentType="image/jpeg"/>
  <Override PartName="/ppt/media/image102.jpeg" ContentType="image/jpeg"/>
  <Override PartName="/ppt/media/image41.wmf" ContentType="image/x-wmf"/>
  <Override PartName="/ppt/media/image62.jpeg" ContentType="image/jpeg"/>
  <Override PartName="/ppt/media/image79.jpeg" ContentType="image/jpeg"/>
  <Override PartName="/ppt/media/image40.wmf" ContentType="image/x-wmf"/>
  <Override PartName="/ppt/media/image59.jpeg" ContentType="image/jpeg"/>
  <Override PartName="/ppt/media/image39.wmf" ContentType="image/x-wmf"/>
  <Override PartName="/ppt/media/image9.wmf" ContentType="image/x-wmf"/>
  <Override PartName="/ppt/media/image14.png" ContentType="image/png"/>
  <Override PartName="/ppt/media/image72.jpeg" ContentType="image/jpeg"/>
  <Override PartName="/ppt/media/image38.wmf" ContentType="image/x-wmf"/>
  <Override PartName="/ppt/media/image8.wmf" ContentType="image/x-wmf"/>
  <Override PartName="/ppt/media/image13.png" ContentType="image/png"/>
  <Override PartName="/ppt/media/image37.wmf" ContentType="image/x-wmf"/>
  <Override PartName="/ppt/media/image88.jpeg" ContentType="image/jpeg"/>
  <Override PartName="/ppt/media/image108.jpeg" ContentType="image/jpeg"/>
  <Override PartName="/ppt/media/image7.wmf" ContentType="image/x-wmf"/>
  <Override PartName="/ppt/media/image19.wmf" ContentType="image/x-wmf"/>
  <Override PartName="/ppt/media/image49.png" ContentType="image/png"/>
  <Override PartName="/ppt/media/image12.png" ContentType="image/png"/>
  <Override PartName="/ppt/media/image50.png" ContentType="image/png"/>
  <Override PartName="/ppt/media/image47.jpeg" ContentType="image/jpeg"/>
  <Override PartName="/ppt/media/image25.wmf" ContentType="image/x-wmf"/>
  <Override PartName="/ppt/media/image36.wmf" ContentType="image/x-wmf"/>
  <Override PartName="/ppt/media/image68.jpeg" ContentType="image/jpeg"/>
  <Override PartName="/ppt/media/image6.wmf" ContentType="image/x-wmf"/>
  <Override PartName="/ppt/media/image18.wmf" ContentType="image/x-wmf"/>
  <Override PartName="/ppt/media/image29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6.jpeg" ContentType="image/jpeg"/>
  <Override PartName="/ppt/media/image106.jpeg" ContentType="image/jpeg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66.jpeg" ContentType="image/jpeg"/>
  <Override PartName="/ppt/media/image27.wmf" ContentType="image/x-wmf"/>
  <Override PartName="/ppt/media/image87.jpeg" ContentType="image/jpeg"/>
  <Override PartName="/ppt/media/image107.jpeg" ContentType="image/jpeg"/>
  <Override PartName="/ppt/media/image74.jpeg" ContentType="image/jpeg"/>
  <Override PartName="/ppt/media/image119.png" ContentType="image/png"/>
  <Override PartName="/ppt/media/image75.jpeg" ContentType="image/jpeg"/>
  <Override PartName="/ppt/media/image84.jpeg" ContentType="image/jpeg"/>
  <Override PartName="/ppt/media/image104.jpeg" ContentType="image/jpeg"/>
  <Override PartName="/ppt/media/image24.wmf" ContentType="image/x-wmf"/>
  <Override PartName="/ppt/media/image97.png" ContentType="image/png"/>
  <Override PartName="/ppt/media/image90.jpeg" ContentType="image/jpeg"/>
  <Override PartName="/ppt/media/image110.jpeg" ContentType="image/jpeg"/>
  <Override PartName="/ppt/media/image93.jpeg" ContentType="image/jpeg"/>
  <Override PartName="/ppt/media/image95.jpeg" ContentType="image/jpeg"/>
  <Override PartName="/ppt/media/image2.wmf" ContentType="image/x-wmf"/>
  <Override PartName="/ppt/media/image114.jpeg" ContentType="image/jpeg"/>
  <Override PartName="/ppt/media/image109.jpeg" ContentType="image/jpeg"/>
  <Override PartName="/ppt/media/image63.jpeg" ContentType="image/jpeg"/>
  <Override PartName="/ppt/media/image94.png" ContentType="image/png"/>
  <Override PartName="/ppt/media/image118.png" ContentType="image/png"/>
  <Override PartName="/ppt/media/image89.jpeg" ContentType="image/jpeg"/>
  <Override PartName="/ppt/media/image85.jpeg" ContentType="image/jpeg"/>
  <Override PartName="/ppt/media/image105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1.wmf" ContentType="image/x-wmf"/>
  <Override PartName="/ppt/media/image115.jpeg" ContentType="image/jpeg"/>
  <Override PartName="/ppt/media/image98.jpeg" ContentType="image/jpeg"/>
  <Override PartName="/ppt/media/image83.jpeg" ContentType="image/jpeg"/>
  <Override PartName="/ppt/media/image103.jpeg" ContentType="image/jpeg"/>
  <Override PartName="/ppt/media/image112.jpeg" ContentType="image/jpeg"/>
  <Override PartName="/ppt/media/image92.jpeg" ContentType="image/jpeg"/>
  <Override PartName="/ppt/media/image96.jpeg" ContentType="image/jpeg"/>
  <Override PartName="/ppt/media/image113.jpeg" ContentType="image/jpeg"/>
  <Override PartName="/ppt/media/image116.png" ContentType="image/png"/>
  <Override PartName="/ppt/media/image33.wmf" ContentType="image/x-wmf"/>
  <Override PartName="/ppt/media/image99.jpeg" ContentType="image/jpeg"/>
  <Override PartName="/ppt/media/image117.png" ContentType="image/png"/>
  <Override PartName="/ppt/media/image73.jpeg" ContentType="image/jpeg"/>
  <Override PartName="/ppt/media/image15.wmf" ContentType="image/x-wmf"/>
  <Override PartName="/ppt/media/image3.wmf" ContentType="image/x-wmf"/>
  <Override PartName="/ppt/media/image46.jpeg" ContentType="image/jpeg"/>
  <Override PartName="/ppt/media/image71.jpeg" ContentType="image/jpeg"/>
  <Override PartName="/ppt/media/image70.jpeg" ContentType="image/jpeg"/>
  <Override PartName="/ppt/media/image69.jpeg" ContentType="image/jpeg"/>
  <Override PartName="/ppt/media/image23.wmf" ContentType="image/x-wmf"/>
  <Override PartName="/ppt/media/image22.wmf" ContentType="image/x-wmf"/>
  <Override PartName="/ppt/media/image65.png" ContentType="image/png"/>
  <Override PartName="/ppt/media/image100.jpeg" ContentType="image/jpeg"/>
  <Override PartName="/ppt/media/image80.jpeg" ContentType="image/jpeg"/>
  <Override PartName="/ppt/media/image21.wmf" ContentType="image/x-wmf"/>
  <Override PartName="/ppt/media/image77.jpeg" ContentType="image/jpeg"/>
  <Override PartName="/ppt/media/image60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32.wmf" ContentType="image/x-wmf"/>
  <Override PartName="/ppt/media/image101.jpeg" ContentType="image/jpeg"/>
  <Override PartName="/ppt/media/image81.jpeg" ContentType="image/jpeg"/>
  <Override PartName="/ppt/media/image26.wmf" ContentType="image/x-wmf"/>
  <Override PartName="/ppt/media/image6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65C-DAED-4E36-BA0E-0D767941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F71-7253-4EFC-AF47-2B2B6019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8AA-5D51-4699-B212-3982268E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78E-D98A-484C-AE2C-38DA60EE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D14-8CE2-4C89-BE45-80F10B9C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085-D119-46FE-94C3-5AA765EC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380-39DB-4B5B-A7F4-95FFCDDB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338-9882-4311-9F19-EBB1E607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0B6-31AE-493F-AD68-9BAB9511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EB3-08A5-4339-9E6A-0DBBF114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90E-0D07-477B-A3C3-EB379391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B9F-67C3-4953-8DAB-F993E9DC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6447-10D5-4687-809A-074465ED0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9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image" Target="../media/image42.wmf"/><Relationship Id="rId15" Type="http://schemas.openxmlformats.org/officeDocument/2006/relationships/image" Target="../media/image43.wmf"/><Relationship Id="rId16" Type="http://schemas.openxmlformats.org/officeDocument/2006/relationships/image" Target="../media/image44.wmf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electrof_3.jpg" TargetMode="External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term_para.jpg" TargetMode="External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solar.jpg" TargetMode="External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90.jpeg"/><Relationship Id="rId6" Type="http://schemas.openxmlformats.org/officeDocument/2006/relationships/image" Target="../media/image91.jpeg"/><Relationship Id="rId7" Type="http://schemas.openxmlformats.org/officeDocument/2006/relationships/image" Target="../media/image92.jpeg"/><Relationship Id="rId8" Type="http://schemas.openxmlformats.org/officeDocument/2006/relationships/image" Target="../media/image93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png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image" Target="../media/image112.jpeg"/><Relationship Id="rId6" Type="http://schemas.openxmlformats.org/officeDocument/2006/relationships/image" Target="../media/image113.jpeg"/><Relationship Id="rId7" Type="http://schemas.openxmlformats.org/officeDocument/2006/relationships/image" Target="../media/image114.jpe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15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14.pn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image" Target="../media/image15.wmf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14.png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image" Target="../media/image17.wmf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4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19.wmf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image" Target="../media/image20.wmf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1835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Arial"/>
              </a:rPr>
              <a:t>Відкрите заняття з теми</a:t>
            </a:r>
            <a:br>
              <a:rPr sz="2800"/>
            </a:br>
            <a:br>
              <a:rPr sz="2800"/>
            </a:br>
            <a:r>
              <a:rPr b="0" lang="uk-UA" sz="4400" spc="-1" strike="noStrike">
                <a:solidFill>
                  <a:srgbClr val="0000cc"/>
                </a:solidFill>
                <a:latin typeface="Arial"/>
              </a:rPr>
              <a:t>Закони постійного струму</a:t>
            </a:r>
            <a:br>
              <a:rPr sz="4400"/>
            </a:br>
            <a:br>
              <a:rPr sz="4400"/>
            </a:b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викладач Юрченко В.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79280" y="1007640"/>
            <a:ext cx="896328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ри паралельному з’єднанні провідників незмінною величиною є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пруга;            б) сила струму;            в) опір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потужності електричного стру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закону Ома для повного к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значення вольтмет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 регулювання сили струму;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вимірювання сили струму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регулювання напруги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 вимірювання напр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а з наведених формул є математичним записом закону Джоуля – Ленц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е співвідношення завжди виконується при послідовному з’єднанні N резисторів різного опор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00360" y="2089080"/>
            <a:ext cx="817560" cy="28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236000" y="1862280"/>
            <a:ext cx="941040" cy="550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17560" y="2836800"/>
            <a:ext cx="888840" cy="284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29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627280" y="2781360"/>
            <a:ext cx="1012680" cy="604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226280" y="2708280"/>
            <a:ext cx="585720" cy="550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точний контроль зн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9280" y="5734080"/>
          <a:ext cx="8640360" cy="86328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360"/>
                <a:gridCol w="215892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5280" y="4653000"/>
          <a:ext cx="8424720" cy="576000"/>
        </p:xfrm>
        <a:graphic>
          <a:graphicData uri="http://schemas.openxmlformats.org/drawingml/2006/table">
            <a:tbl>
              <a:tblPr/>
              <a:tblGrid>
                <a:gridCol w="2106360"/>
                <a:gridCol w="2106720"/>
                <a:gridCol w="2106360"/>
                <a:gridCol w="2105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1042920" y="4649760"/>
            <a:ext cx="544680" cy="511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3130560" y="4637160"/>
            <a:ext cx="511200" cy="511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5189400" y="4664160"/>
            <a:ext cx="709920" cy="511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7307280" y="4746600"/>
            <a:ext cx="907920" cy="297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250920" y="6021360"/>
            <a:ext cx="1797120" cy="517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2411280" y="6081840"/>
            <a:ext cx="2019600" cy="272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4573440" y="6086520"/>
            <a:ext cx="1990800" cy="290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6877080" y="6093000"/>
            <a:ext cx="1766880" cy="274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4"/>
          <a:stretch/>
        </p:blipFill>
        <p:spPr>
          <a:xfrm>
            <a:off x="4643280" y="2693880"/>
            <a:ext cx="935280" cy="590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5"/>
          <a:stretch/>
        </p:blipFill>
        <p:spPr>
          <a:xfrm>
            <a:off x="755640" y="2060640"/>
            <a:ext cx="863640" cy="317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6"/>
          <a:stretch/>
        </p:blipFill>
        <p:spPr>
          <a:xfrm>
            <a:off x="4788000" y="2073240"/>
            <a:ext cx="72072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51960" y="189000"/>
            <a:ext cx="6096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точний контроль зн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лю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42920" y="2276640"/>
          <a:ext cx="1594080" cy="2190600"/>
        </p:xfrm>
        <a:graphic>
          <a:graphicData uri="http://schemas.openxmlformats.org/drawingml/2006/table">
            <a:tbl>
              <a:tblPr/>
              <a:tblGrid>
                <a:gridCol w="797040"/>
                <a:gridCol w="79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291360" y="2276640"/>
          <a:ext cx="1593720" cy="2190600"/>
        </p:xfrm>
        <a:graphic>
          <a:graphicData uri="http://schemas.openxmlformats.org/drawingml/2006/table">
            <a:tbl>
              <a:tblPr/>
              <a:tblGrid>
                <a:gridCol w="796680"/>
                <a:gridCol w="79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04292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9136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І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4"/>
          <p:cNvSpPr/>
          <p:nvPr/>
        </p:nvSpPr>
        <p:spPr>
          <a:xfrm>
            <a:off x="357120" y="3929040"/>
            <a:ext cx="828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Джерела электричного струм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6" descr="Batteries.jpg"/>
          <p:cNvPicPr/>
          <p:nvPr/>
        </p:nvPicPr>
        <p:blipFill>
          <a:blip r:embed="rId1"/>
          <a:stretch/>
        </p:blipFill>
        <p:spPr>
          <a:xfrm>
            <a:off x="2428920" y="107172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ris4.jpg"/>
          <p:cNvPicPr/>
          <p:nvPr/>
        </p:nvPicPr>
        <p:blipFill>
          <a:blip r:embed="rId2"/>
          <a:stretch/>
        </p:blipFill>
        <p:spPr>
          <a:xfrm>
            <a:off x="714240" y="107172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0" descr="il3c.jpg"/>
          <p:cNvPicPr/>
          <p:nvPr/>
        </p:nvPicPr>
        <p:blipFill>
          <a:blip r:embed="rId3"/>
          <a:stretch/>
        </p:blipFill>
        <p:spPr>
          <a:xfrm>
            <a:off x="6786720" y="1071720"/>
            <a:ext cx="17762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428760" y="3857760"/>
            <a:ext cx="792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ний струм – упорядковане перенесення заряджених част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786040" y="1071720"/>
            <a:ext cx="3218040" cy="27414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571680" y="4797360"/>
            <a:ext cx="8572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и виникнення электричного стру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сть вільних электричних зарядів в провідни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сть зовнішнього электричного поля для прові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4" descr="09g-i3.gif"/>
          <p:cNvPicPr/>
          <p:nvPr/>
        </p:nvPicPr>
        <p:blipFill>
          <a:blip r:embed="rId2"/>
          <a:stretch/>
        </p:blipFill>
        <p:spPr>
          <a:xfrm>
            <a:off x="500040" y="1000080"/>
            <a:ext cx="1928880" cy="2778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6" descr="09g-i3.gif"/>
          <p:cNvPicPr/>
          <p:nvPr/>
        </p:nvPicPr>
        <p:blipFill>
          <a:blip r:embed="rId3"/>
          <a:stretch/>
        </p:blipFill>
        <p:spPr>
          <a:xfrm>
            <a:off x="6357960" y="1000080"/>
            <a:ext cx="1928880" cy="28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D:\WINDOWS\Users\Aida\Рабочий стол\МОИ проекты на разработке\источники тока Новая папка\napryag2.gif"/>
          <p:cNvPicPr/>
          <p:nvPr/>
        </p:nvPicPr>
        <p:blipFill>
          <a:blip r:embed="rId1"/>
          <a:stretch/>
        </p:blipFill>
        <p:spPr>
          <a:xfrm>
            <a:off x="428760" y="1357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WINDOWS\Users\Aida\Рабочий стол\МОИ проекты на разработке\источники тока Новая папка\napryag1.gif"/>
          <p:cNvPicPr/>
          <p:nvPr/>
        </p:nvPicPr>
        <p:blipFill>
          <a:blip r:embed="rId2"/>
          <a:stretch/>
        </p:blipFill>
        <p:spPr>
          <a:xfrm>
            <a:off x="4572000" y="1357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428760" y="357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йте досліди, позначені на мал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спільного і чи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різняю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1143000" y="4429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жерело стру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стрій, в якому відбувається перетворення будь-якого виду энергії в электричну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1143000" y="5589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ої, які разгалуджують заряди, або створюють электричне поле, називаю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жерелами стру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571680" y="907200"/>
            <a:ext cx="585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а електрича батарея з’явилась у 1799 році. Її винайшов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лессандро Воль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- 1827) — італійський фізик, хімік та фізиолог, винахідець джерела постійного электричного стр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2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6572160" y="857160"/>
            <a:ext cx="1571760" cy="216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1800" y="1451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357280" y="3480120"/>
            <a:ext cx="64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е джерело струму – «вольтов стовб» – був збудований в точній відповідності з його теорією «металевої» електрики. Вольта поклав один на одного поперемінно декілька десятків невеличких цинкових и срібних кол, поклавши між ними бумагу, змочену у підсоленій вод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13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500040" y="3143160"/>
            <a:ext cx="1739880" cy="2928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800" y="2060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428760" y="5214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ічне джерело струму - механіча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гія перетворюється в електричну енерг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2" descr="http://school.ort.spb.ru/library/physics/8class/tema_2/lesson_1/electrof_3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714680"/>
            <a:ext cx="2768760" cy="29286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4"/>
          <p:cNvSpPr/>
          <p:nvPr/>
        </p:nvSpPr>
        <p:spPr>
          <a:xfrm>
            <a:off x="3357720" y="135720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інці XVIII століття усі технічі джерела струму були засновані на електризації тернем. Найбільш ефективним серед джерел струму ста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форна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ки машины приводяться до руху в протилежних напрямках; в результаті тертя щіток і дисків на кондукторах машини накопичуються заряди протилежного знак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2432880" y="428760"/>
            <a:ext cx="40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ктрофорна ма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428760" y="5357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ве джерело струму – внутрішня енергія перетворюється в електричну енерг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2" descr="http://school.ort.spb.ru/library/physics/8class/tema_2/lesson_1/term_para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500120"/>
            <a:ext cx="2894040" cy="32148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2355120" y="3071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3643200" y="1214280"/>
            <a:ext cx="47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два провідники з різних металів спаяти з одного боку, а тоді нагріти місце спая, то в них виникає струм – заряди при нагріванні спая розгалужуються. Термоелементи застосовуються в термодатчиках і на геотермальних електростанціях як датчики темпера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3319560" y="45576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елемент (термоп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714240" y="5429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нергія світла за допомогою сонячних батарей перетворюється в електричну енергі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2" descr="http://school.ort.spb.ru/library/physics/8class/tema_2/lesson_1/solar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3143160"/>
            <a:ext cx="2571840" cy="22147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3"/>
          <p:cNvSpPr/>
          <p:nvPr/>
        </p:nvSpPr>
        <p:spPr>
          <a:xfrm>
            <a:off x="1150560" y="342900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708360" y="1231200"/>
            <a:ext cx="485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освітити деякі речовини світлом, в них з’являється струм – світове джерело перетворюється в електричне джере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у пристрої заряди розгалужуються під дією світла.  Фотоелементи застосовуються в сонячних батареях, світлових датчиках, калькуляторах, відеока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431960" y="428760"/>
            <a:ext cx="23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е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3"/>
          <a:stretch/>
        </p:blipFill>
        <p:spPr>
          <a:xfrm>
            <a:off x="642960" y="785880"/>
            <a:ext cx="2571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5" descr="ai.jpg"/>
          <p:cNvPicPr/>
          <p:nvPr/>
        </p:nvPicPr>
        <p:blipFill>
          <a:blip r:embed="rId1"/>
          <a:stretch/>
        </p:blipFill>
        <p:spPr>
          <a:xfrm>
            <a:off x="714240" y="2637000"/>
            <a:ext cx="3357720" cy="2741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"/>
          <p:cNvSpPr/>
          <p:nvPr/>
        </p:nvSpPr>
        <p:spPr>
          <a:xfrm>
            <a:off x="571680" y="121896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и разгалужуються щляхом виконання механічної роботи. Застосовується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цтв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мислової електроенерг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933560" y="500040"/>
            <a:ext cx="50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механічний ген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"/>
          <p:cNvSpPr/>
          <p:nvPr/>
        </p:nvSpPr>
        <p:spPr>
          <a:xfrm>
            <a:off x="571680" y="5500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робник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трій, апарат або машина, яка виробдяє певний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7" descr="pr_b95.jpg"/>
          <p:cNvPicPr/>
          <p:nvPr/>
        </p:nvPicPr>
        <p:blipFill>
          <a:blip r:embed="rId2"/>
          <a:stretch/>
        </p:blipFill>
        <p:spPr>
          <a:xfrm>
            <a:off x="4071960" y="2357280"/>
            <a:ext cx="4214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5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cc"/>
                </a:solidFill>
                <a:latin typeface="Arial"/>
              </a:rPr>
              <a:t>Мета заняття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загальнення і систематизація знань та вмінь з теми “Закони постійного струму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cc"/>
                </a:solidFill>
                <a:latin typeface="Arial"/>
              </a:rPr>
              <a:t>Повинні знати: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роду електричного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значення і формули сили і густини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значення постійного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значення джерел електричної енерг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и Ома для ділянки кола і повного ко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чний зміст е.р.с. і напру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чний зміст опору, питомого опору і термічного коефіцієнта опор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авила та математичний вираз для послідовного і паралельного з’єднання споживач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и Кірхгоф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и Ома для замкнутого кола з однією та декількома е.р.с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новні формули для визначення роботи і потужності електричного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плову дію стру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glav.jpg"/>
          <p:cNvPicPr/>
          <p:nvPr/>
        </p:nvPicPr>
        <p:blipFill>
          <a:blip r:embed="rId1"/>
          <a:stretch/>
        </p:blipFill>
        <p:spPr>
          <a:xfrm>
            <a:off x="1857240" y="3857760"/>
            <a:ext cx="5286600" cy="24289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1physics91_resize.jpg"/>
          <p:cNvPicPr/>
          <p:nvPr/>
        </p:nvPicPr>
        <p:blipFill>
          <a:blip r:embed="rId2"/>
          <a:stretch/>
        </p:blipFill>
        <p:spPr>
          <a:xfrm>
            <a:off x="1116000" y="620640"/>
            <a:ext cx="3357720" cy="23576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10a-i1.gif"/>
          <p:cNvPicPr/>
          <p:nvPr/>
        </p:nvPicPr>
        <p:blipFill>
          <a:blip r:embed="rId3"/>
          <a:stretch/>
        </p:blipFill>
        <p:spPr>
          <a:xfrm>
            <a:off x="4714920" y="642960"/>
            <a:ext cx="2381040" cy="23572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7237440" y="595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731088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399780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1116000" y="314172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джерела струму ви бачите на малю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" descr="batraz.jpg"/>
          <p:cNvPicPr/>
          <p:nvPr/>
        </p:nvPicPr>
        <p:blipFill>
          <a:blip r:embed="rId1"/>
          <a:stretch/>
        </p:blipFill>
        <p:spPr>
          <a:xfrm>
            <a:off x="928800" y="1285920"/>
            <a:ext cx="3382920" cy="30002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" descr="bateryinside.gif"/>
          <p:cNvPicPr/>
          <p:nvPr/>
        </p:nvPicPr>
        <p:blipFill>
          <a:blip r:embed="rId2"/>
          <a:stretch/>
        </p:blipFill>
        <p:spPr>
          <a:xfrm>
            <a:off x="4788000" y="981000"/>
            <a:ext cx="3500280" cy="35006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1433520" y="428760"/>
            <a:ext cx="56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стрій гальванічного е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357120" y="457776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ванічний елемен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мічне джерело струму, в якому електрична енергія виробдяється методом прямого перетворення хімічної енергії окислювально-відновна реак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batt_mal_b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44290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" descr="bat_big_b.jpg"/>
          <p:cNvPicPr/>
          <p:nvPr/>
        </p:nvPicPr>
        <p:blipFill>
          <a:blip r:embed="rId2"/>
          <a:stretch/>
        </p:blipFill>
        <p:spPr>
          <a:xfrm>
            <a:off x="5929200" y="1428840"/>
            <a:ext cx="1743120" cy="176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1720080" y="50004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жерела струму минулого столітт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" descr="http://class-fizika.narod.ru/8_class/8_urok/8_el/8.jpg"/>
          <p:cNvPicPr/>
          <p:nvPr/>
        </p:nvPicPr>
        <p:blipFill>
          <a:blip r:embed="rId1"/>
          <a:stretch/>
        </p:blipFill>
        <p:spPr>
          <a:xfrm>
            <a:off x="642960" y="171468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2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декількох гальванічних элементів можно створити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тар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3" descr="show_image_in_imgtag.jpg"/>
          <p:cNvPicPr/>
          <p:nvPr/>
        </p:nvPicPr>
        <p:blipFill>
          <a:blip r:embed="rId2"/>
          <a:stretch/>
        </p:blipFill>
        <p:spPr>
          <a:xfrm rot="2485800">
            <a:off x="2338560" y="4230360"/>
            <a:ext cx="1357200" cy="17510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4" descr="24.jpg"/>
          <p:cNvPicPr/>
          <p:nvPr/>
        </p:nvPicPr>
        <p:blipFill>
          <a:blip r:embed="rId3"/>
          <a:stretch/>
        </p:blipFill>
        <p:spPr>
          <a:xfrm>
            <a:off x="6215040" y="3643200"/>
            <a:ext cx="2454120" cy="22384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5" descr="Копия 1042103308.jpg"/>
          <p:cNvPicPr/>
          <p:nvPr/>
        </p:nvPicPr>
        <p:blipFill>
          <a:blip r:embed="rId4"/>
          <a:stretch/>
        </p:blipFill>
        <p:spPr>
          <a:xfrm>
            <a:off x="4143240" y="17859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6" descr="il5.jpg"/>
          <p:cNvPicPr/>
          <p:nvPr/>
        </p:nvPicPr>
        <p:blipFill>
          <a:blip r:embed="rId5"/>
          <a:stretch/>
        </p:blipFill>
        <p:spPr>
          <a:xfrm>
            <a:off x="4214880" y="4214880"/>
            <a:ext cx="178596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4" descr="9294.jpg"/>
          <p:cNvPicPr/>
          <p:nvPr/>
        </p:nvPicPr>
        <p:blipFill>
          <a:blip r:embed="rId1"/>
          <a:stretch/>
        </p:blipFill>
        <p:spPr>
          <a:xfrm>
            <a:off x="1285920" y="2643120"/>
            <a:ext cx="2825640" cy="24210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7" descr="il3a.jpg"/>
          <p:cNvPicPr/>
          <p:nvPr/>
        </p:nvPicPr>
        <p:blipFill>
          <a:blip r:embed="rId2"/>
          <a:stretch/>
        </p:blipFill>
        <p:spPr>
          <a:xfrm>
            <a:off x="1357200" y="4929120"/>
            <a:ext cx="2811600" cy="12859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500040" y="435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я (елемент живлення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бутова назва джерела електрики для автономного живлення портативного пристрою. Може уявляти собою одинарний гальванічний елемент, акумулятор чи їх з’єднання в батарею для збільшення напр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6" descr="il2.jpg"/>
          <p:cNvPicPr/>
          <p:nvPr/>
        </p:nvPicPr>
        <p:blipFill>
          <a:blip r:embed="rId3"/>
          <a:stretch/>
        </p:blipFill>
        <p:spPr>
          <a:xfrm>
            <a:off x="3786120" y="2571840"/>
            <a:ext cx="1495440" cy="24685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0" descr="il4b.jpg"/>
          <p:cNvPicPr/>
          <p:nvPr/>
        </p:nvPicPr>
        <p:blipFill>
          <a:blip r:embed="rId4"/>
          <a:stretch/>
        </p:blipFill>
        <p:spPr>
          <a:xfrm rot="768600">
            <a:off x="5074920" y="31460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7" descr="2.jpg"/>
          <p:cNvPicPr/>
          <p:nvPr/>
        </p:nvPicPr>
        <p:blipFill>
          <a:blip r:embed="rId1"/>
          <a:stretch/>
        </p:blipFill>
        <p:spPr>
          <a:xfrm>
            <a:off x="3143160" y="371484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6" descr="PLATINUM.jpg"/>
          <p:cNvPicPr/>
          <p:nvPr/>
        </p:nvPicPr>
        <p:blipFill>
          <a:blip r:embed="rId2"/>
          <a:stretch/>
        </p:blipFill>
        <p:spPr>
          <a:xfrm>
            <a:off x="571680" y="3643200"/>
            <a:ext cx="2643120" cy="202104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1"/>
          <p:cNvSpPr/>
          <p:nvPr/>
        </p:nvSpPr>
        <p:spPr>
          <a:xfrm>
            <a:off x="571680" y="7858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ум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імічене джерело струму багаторазової дії. Якщо занурити у розчин солі два вугільних електроди, то гальванометр не покаже наявності струму. Якщо ж акумулятор заздалегідь зарядити, то його можно використовувати в якості самостійного джерела струму. Існують різні типи акумуляторов: кислотні и лужні.  Заряди в них разгалужуються і в результаті хімічних реакц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3074760" y="357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уму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9" descr="flash-battary.jpg"/>
          <p:cNvPicPr/>
          <p:nvPr/>
        </p:nvPicPr>
        <p:blipFill>
          <a:blip r:embed="rId3"/>
          <a:stretch/>
        </p:blipFill>
        <p:spPr>
          <a:xfrm>
            <a:off x="5500800" y="3786120"/>
            <a:ext cx="2428920" cy="175572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8"/>
          <p:cNvSpPr/>
          <p:nvPr/>
        </p:nvSpPr>
        <p:spPr>
          <a:xfrm>
            <a:off x="428760" y="5500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і акумулятори використовуються для накопичення енергії та автономного живлення разноманітних споживач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2" descr="Titan.jpg"/>
          <p:cNvPicPr/>
          <p:nvPr/>
        </p:nvPicPr>
        <p:blipFill>
          <a:blip r:embed="rId1"/>
          <a:stretch/>
        </p:blipFill>
        <p:spPr>
          <a:xfrm>
            <a:off x="5715000" y="22147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3"/>
          <p:cNvSpPr/>
          <p:nvPr/>
        </p:nvSpPr>
        <p:spPr>
          <a:xfrm>
            <a:off x="500040" y="48578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умуля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оплювач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трій для накопичення енергії з метою її подальшого викорис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4" descr="32_2.jpg"/>
          <p:cNvPicPr/>
          <p:nvPr/>
        </p:nvPicPr>
        <p:blipFill>
          <a:blip r:embed="rId2"/>
          <a:stretch/>
        </p:blipFill>
        <p:spPr>
          <a:xfrm>
            <a:off x="3643200" y="31431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5" descr="Gara_206058.jpg"/>
          <p:cNvPicPr/>
          <p:nvPr/>
        </p:nvPicPr>
        <p:blipFill>
          <a:blip r:embed="rId3"/>
          <a:stretch/>
        </p:blipFill>
        <p:spPr>
          <a:xfrm>
            <a:off x="428760" y="2857680"/>
            <a:ext cx="3154320" cy="21142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7" descr="p_7.jpg"/>
          <p:cNvPicPr/>
          <p:nvPr/>
        </p:nvPicPr>
        <p:blipFill>
          <a:blip r:embed="rId4"/>
          <a:stretch/>
        </p:blipFill>
        <p:spPr>
          <a:xfrm>
            <a:off x="4143240" y="5716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8" descr="2.jpg"/>
          <p:cNvPicPr/>
          <p:nvPr/>
        </p:nvPicPr>
        <p:blipFill>
          <a:blip r:embed="rId5"/>
          <a:stretch/>
        </p:blipFill>
        <p:spPr>
          <a:xfrm>
            <a:off x="1714680" y="1143000"/>
            <a:ext cx="1685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Рисунок 3" descr="monblok.jpg"/>
          <p:cNvPicPr/>
          <p:nvPr/>
        </p:nvPicPr>
        <p:blipFill>
          <a:blip r:embed="rId1"/>
          <a:stretch/>
        </p:blipFill>
        <p:spPr>
          <a:xfrm>
            <a:off x="1357200" y="1143000"/>
            <a:ext cx="6410520" cy="480384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2"/>
          <p:cNvSpPr/>
          <p:nvPr/>
        </p:nvSpPr>
        <p:spPr>
          <a:xfrm>
            <a:off x="2343240" y="404640"/>
            <a:ext cx="38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стрій акумуля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1" descr="09g-i1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33573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2"/>
          <p:cNvSpPr/>
          <p:nvPr/>
        </p:nvSpPr>
        <p:spPr>
          <a:xfrm>
            <a:off x="468360" y="51577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іть джерела струму, позначені цифрами 1, 2, 3, 4,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428760" y="1214280"/>
          <a:ext cx="8143920" cy="5019840"/>
        </p:xfrm>
        <a:graphic>
          <a:graphicData uri="http://schemas.openxmlformats.org/drawingml/2006/table">
            <a:tbl>
              <a:tblPr/>
              <a:tblGrid>
                <a:gridCol w="2357280"/>
                <a:gridCol w="2649600"/>
                <a:gridCol w="3137040"/>
              </a:tblGrid>
              <a:tr h="1471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Джерела стру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Спосіб разголуження  заряд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Застосув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</a:tr>
              <a:tr h="3859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елемен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я світ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ячні батаре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еле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ів спаї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мірювання температу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меха-нічний генерато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ійснення механічної робо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цтво промислової електричної енергі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ванічний еле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чна реакці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хтарики, радіоприймач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мулятор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чна реакці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ілі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"/>
          <p:cNvSpPr/>
          <p:nvPr/>
        </p:nvSpPr>
        <p:spPr>
          <a:xfrm>
            <a:off x="971640" y="19584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асифікація джерел стру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1835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cc"/>
                </a:solidFill>
                <a:latin typeface="Arial"/>
              </a:rPr>
              <a:t>Повинні вміти:</a:t>
            </a:r>
            <a:r>
              <a:rPr b="0" lang="uk-UA" sz="6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ирати найпростіше електричне ко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истуватись реоста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слідним шляхом визначати опір провідника, е.р.с. і внутрішній опір джер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значати вид з’єднань споживачів енергії електричних кі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’єднувати  джерела електричної енергії послідовно і паралельн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бити розрахунок електричних кіл при різноманітних з’єднаннях споживачів і джерел електричної енерг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Рисунок 2" descr="4697_m.jpg"/>
          <p:cNvPicPr/>
          <p:nvPr/>
        </p:nvPicPr>
        <p:blipFill>
          <a:blip r:embed="rId1"/>
          <a:stretch/>
        </p:blipFill>
        <p:spPr>
          <a:xfrm>
            <a:off x="6786720" y="3214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931650466671.jpg"/>
          <p:cNvPicPr/>
          <p:nvPr/>
        </p:nvPicPr>
        <p:blipFill>
          <a:blip r:embed="rId2"/>
          <a:stretch/>
        </p:blipFill>
        <p:spPr>
          <a:xfrm>
            <a:off x="6072120" y="2500200"/>
            <a:ext cx="2643120" cy="9511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5" descr="accumulator.jpg"/>
          <p:cNvPicPr/>
          <p:nvPr/>
        </p:nvPicPr>
        <p:blipFill>
          <a:blip r:embed="rId3"/>
          <a:stretch/>
        </p:blipFill>
        <p:spPr>
          <a:xfrm>
            <a:off x="642960" y="4054320"/>
            <a:ext cx="3786120" cy="244656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7" descr="4694_sm.jpg"/>
          <p:cNvPicPr/>
          <p:nvPr/>
        </p:nvPicPr>
        <p:blipFill>
          <a:blip r:embed="rId4"/>
          <a:stretch/>
        </p:blipFill>
        <p:spPr>
          <a:xfrm>
            <a:off x="714384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3" descr="0708160024m.jpg"/>
          <p:cNvPicPr/>
          <p:nvPr/>
        </p:nvPicPr>
        <p:blipFill>
          <a:blip r:embed="rId5"/>
          <a:stretch/>
        </p:blipFill>
        <p:spPr>
          <a:xfrm>
            <a:off x="571680" y="3214800"/>
            <a:ext cx="1427040" cy="15001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8" descr="el07_03"/>
          <p:cNvPicPr/>
          <p:nvPr/>
        </p:nvPicPr>
        <p:blipFill>
          <a:blip r:embed="rId6"/>
          <a:stretch/>
        </p:blipFill>
        <p:spPr>
          <a:xfrm>
            <a:off x="2000160" y="2214720"/>
            <a:ext cx="4162680" cy="167616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6" descr="batarymch.jpg"/>
          <p:cNvPicPr/>
          <p:nvPr/>
        </p:nvPicPr>
        <p:blipFill>
          <a:blip r:embed="rId7"/>
          <a:stretch/>
        </p:blipFill>
        <p:spPr>
          <a:xfrm>
            <a:off x="4714920" y="4897440"/>
            <a:ext cx="2000160" cy="15606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" descr="4696_sm.jpg"/>
          <p:cNvPicPr/>
          <p:nvPr/>
        </p:nvPicPr>
        <p:blipFill>
          <a:blip r:embed="rId8"/>
          <a:stretch/>
        </p:blipFill>
        <p:spPr>
          <a:xfrm>
            <a:off x="5357880" y="38577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9"/>
          <p:cNvSpPr/>
          <p:nvPr/>
        </p:nvSpPr>
        <p:spPr>
          <a:xfrm>
            <a:off x="324000" y="189000"/>
            <a:ext cx="8820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етичні малогабаритні акумуляторы (ГМА)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ГМА використовуються для малогабаритних споживачів электричної енергії (телефонні радіотрубки, портативні радіоприймачі, електронні годинники, вимірювальні прилади, сотові телефони та ін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" descr="p20sa.gif"/>
          <p:cNvPicPr/>
          <p:nvPr/>
        </p:nvPicPr>
        <p:blipFill>
          <a:blip r:embed="rId1"/>
          <a:stretch/>
        </p:blipFill>
        <p:spPr>
          <a:xfrm>
            <a:off x="3714840" y="5143680"/>
            <a:ext cx="1344600" cy="10666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2" descr="8280DWAE.jpg"/>
          <p:cNvPicPr/>
          <p:nvPr/>
        </p:nvPicPr>
        <p:blipFill>
          <a:blip r:embed="rId2"/>
          <a:stretch/>
        </p:blipFill>
        <p:spPr>
          <a:xfrm>
            <a:off x="3000240" y="3000240"/>
            <a:ext cx="2059200" cy="20592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3" descr="A7Q.jpg"/>
          <p:cNvPicPr/>
          <p:nvPr/>
        </p:nvPicPr>
        <p:blipFill>
          <a:blip r:embed="rId3"/>
          <a:stretch/>
        </p:blipFill>
        <p:spPr>
          <a:xfrm>
            <a:off x="1143000" y="2214720"/>
            <a:ext cx="1428840" cy="9554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4" descr="DS14DVFL.gif"/>
          <p:cNvPicPr/>
          <p:nvPr/>
        </p:nvPicPr>
        <p:blipFill>
          <a:blip r:embed="rId4"/>
          <a:stretch/>
        </p:blipFill>
        <p:spPr>
          <a:xfrm>
            <a:off x="6000840" y="4000680"/>
            <a:ext cx="2471760" cy="21380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F633.jpg"/>
          <p:cNvPicPr/>
          <p:nvPr/>
        </p:nvPicPr>
        <p:blipFill>
          <a:blip r:embed="rId5"/>
          <a:stretch/>
        </p:blipFill>
        <p:spPr>
          <a:xfrm>
            <a:off x="5214960" y="2714760"/>
            <a:ext cx="1785960" cy="11667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6" descr="59_2.jpg"/>
          <p:cNvPicPr/>
          <p:nvPr/>
        </p:nvPicPr>
        <p:blipFill>
          <a:blip r:embed="rId6"/>
          <a:stretch/>
        </p:blipFill>
        <p:spPr>
          <a:xfrm>
            <a:off x="500040" y="4714920"/>
            <a:ext cx="1619280" cy="1476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7"/>
          <p:cNvSpPr/>
          <p:nvPr/>
        </p:nvSpPr>
        <p:spPr>
          <a:xfrm>
            <a:off x="971640" y="642960"/>
            <a:ext cx="7200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стосування джерел стру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іть прилади, які зображені на малю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1501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2144880" y="578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4716720" y="59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1"/>
          <p:cNvSpPr/>
          <p:nvPr/>
        </p:nvSpPr>
        <p:spPr>
          <a:xfrm>
            <a:off x="4573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2"/>
          <p:cNvSpPr/>
          <p:nvPr/>
        </p:nvSpPr>
        <p:spPr>
          <a:xfrm>
            <a:off x="5653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6216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rcRect l="0" t="0" r="0" b="-33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1187280" y="2637000"/>
            <a:ext cx="3456000" cy="4032000"/>
            <a:chOff x="1187280" y="2637000"/>
            <a:chExt cx="3456000" cy="4032000"/>
          </a:xfrm>
        </p:grpSpPr>
        <p:sp>
          <p:nvSpPr>
            <p:cNvPr id="331" name=""/>
            <p:cNvSpPr/>
            <p:nvPr/>
          </p:nvSpPr>
          <p:spPr>
            <a:xfrm>
              <a:off x="2411280" y="4581360"/>
              <a:ext cx="2232000" cy="208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87280" y="2637000"/>
              <a:ext cx="2232360" cy="20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88092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643280" y="2421000"/>
            <a:ext cx="223236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62064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934920"/>
            <a:ext cx="9144000" cy="6023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643280" y="2421000"/>
            <a:ext cx="223236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59640" y="62064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643280" y="2421000"/>
            <a:ext cx="223236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76360" y="2781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788000" y="2421000"/>
            <a:ext cx="3744720" cy="25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76360" y="2781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32720" y="549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874800"/>
            <a:ext cx="9144000" cy="6010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788000" y="2421000"/>
            <a:ext cx="3744720" cy="25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76360" y="2781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549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395280" y="2997360"/>
          <a:ext cx="8291160" cy="3128400"/>
        </p:xfrm>
        <a:graphic>
          <a:graphicData uri="http://schemas.openxmlformats.org/drawingml/2006/table">
            <a:tbl>
              <a:tblPr/>
              <a:tblGrid>
                <a:gridCol w="753840"/>
                <a:gridCol w="753480"/>
                <a:gridCol w="753840"/>
                <a:gridCol w="753840"/>
                <a:gridCol w="753480"/>
                <a:gridCol w="753840"/>
                <a:gridCol w="703440"/>
                <a:gridCol w="804240"/>
                <a:gridCol w="753840"/>
                <a:gridCol w="753840"/>
                <a:gridCol w="753480"/>
              </a:tblGrid>
              <a:tr h="358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-лі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ідовне з’єдн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лельне з’єдн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32000" y="117360"/>
            <a:ext cx="259236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й стр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правлений рух електрич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ряджених части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557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сті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2360" y="836640"/>
            <a:ext cx="20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і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8122200">
            <a:off x="2556000" y="1267560"/>
            <a:ext cx="558360" cy="98640"/>
          </a:xfrm>
          <a:prstGeom prst="rightArrow">
            <a:avLst>
              <a:gd name="adj1" fmla="val 50000"/>
              <a:gd name="adj2" fmla="val 141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12276600">
            <a:off x="5867640" y="765000"/>
            <a:ext cx="431640" cy="14436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360" y="227160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ла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0081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устина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411280" y="1628640"/>
            <a:ext cx="6410520" cy="360360"/>
            <a:chOff x="2411280" y="1628640"/>
            <a:chExt cx="6410520" cy="360360"/>
          </a:xfrm>
        </p:grpSpPr>
        <p:sp>
          <p:nvSpPr>
            <p:cNvPr id="52" name=""/>
            <p:cNvSpPr/>
            <p:nvPr/>
          </p:nvSpPr>
          <p:spPr>
            <a:xfrm>
              <a:off x="2700360" y="1628640"/>
              <a:ext cx="6121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32000" y="1628640"/>
              <a:ext cx="547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Електричний струм, сила і напрям якого з часом не змінюєть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11280" y="177336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50920" y="3654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й оп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11280" y="2874960"/>
            <a:ext cx="6553440" cy="733320"/>
            <a:chOff x="2411280" y="2874960"/>
            <a:chExt cx="6553440" cy="733320"/>
          </a:xfrm>
        </p:grpSpPr>
        <p:sp>
          <p:nvSpPr>
            <p:cNvPr id="58" name=""/>
            <p:cNvSpPr/>
            <p:nvPr/>
          </p:nvSpPr>
          <p:spPr>
            <a:xfrm>
              <a:off x="2700360" y="2925720"/>
              <a:ext cx="6192720" cy="608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40360" y="2874960"/>
              <a:ext cx="482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модуль якої дорівнює відношенню сили струму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до площі поперечного перерізу провідник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11280" y="3151080"/>
              <a:ext cx="216000" cy="144720"/>
            </a:xfrm>
            <a:prstGeom prst="rightArrow">
              <a:avLst>
                <a:gd name="adj1" fmla="val 50000"/>
                <a:gd name="adj2" fmla="val 373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771640" y="2886120"/>
              <a:ext cx="1368720" cy="64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11280" y="3583080"/>
            <a:ext cx="6553440" cy="733320"/>
            <a:chOff x="2411280" y="3583080"/>
            <a:chExt cx="6553440" cy="733320"/>
          </a:xfrm>
        </p:grpSpPr>
        <p:sp>
          <p:nvSpPr>
            <p:cNvPr id="64" name=""/>
            <p:cNvSpPr/>
            <p:nvPr/>
          </p:nvSpPr>
          <p:spPr>
            <a:xfrm>
              <a:off x="2700360" y="3606840"/>
              <a:ext cx="6192720" cy="695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56000" y="3583080"/>
              <a:ext cx="460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що залежить від матеріалу та пропорційна довжені провідника і обернено пропорційна площі його поперечного переріз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11280" y="383220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00360" y="3583080"/>
              <a:ext cx="165744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2411280" y="2055960"/>
            <a:ext cx="6553440" cy="790560"/>
            <a:chOff x="2411280" y="2055960"/>
            <a:chExt cx="6553440" cy="790560"/>
          </a:xfrm>
        </p:grpSpPr>
        <p:sp>
          <p:nvSpPr>
            <p:cNvPr id="69" name=""/>
            <p:cNvSpPr/>
            <p:nvPr/>
          </p:nvSpPr>
          <p:spPr>
            <a:xfrm>
              <a:off x="2700360" y="2055960"/>
              <a:ext cx="6156360" cy="79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67280" y="2055960"/>
              <a:ext cx="48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калярна величина, що дорівнює відношенню кількості елекрики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яка за час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переноситься через певний переріз провідника, до часу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11280" y="241632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2771640" y="2127240"/>
              <a:ext cx="1293840" cy="6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252360" y="436572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пру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502452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409840" y="4973760"/>
            <a:ext cx="6553080" cy="582480"/>
            <a:chOff x="2409840" y="4973760"/>
            <a:chExt cx="6553080" cy="582480"/>
          </a:xfrm>
        </p:grpSpPr>
        <p:sp>
          <p:nvSpPr>
            <p:cNvPr id="78" name=""/>
            <p:cNvSpPr/>
            <p:nvPr/>
          </p:nvSpPr>
          <p:spPr>
            <a:xfrm>
              <a:off x="2698920" y="4997520"/>
              <a:ext cx="6192720" cy="55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4560" y="497376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що пропорц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йна напруз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, сил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 струму та часу, за який ця робота виконуєть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09840" y="5216400"/>
              <a:ext cx="216000" cy="144720"/>
            </a:xfrm>
            <a:prstGeom prst="rightArrow">
              <a:avLst>
                <a:gd name="adj1" fmla="val 50000"/>
                <a:gd name="adj2" fmla="val 373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2770200" y="5052960"/>
              <a:ext cx="1512720" cy="3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252360" y="5705640"/>
            <a:ext cx="2087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тужні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411280" y="4370400"/>
            <a:ext cx="6481800" cy="426960"/>
            <a:chOff x="2411280" y="4370400"/>
            <a:chExt cx="6481800" cy="426960"/>
          </a:xfrm>
        </p:grpSpPr>
        <p:sp>
          <p:nvSpPr>
            <p:cNvPr id="85" name=""/>
            <p:cNvSpPr/>
            <p:nvPr/>
          </p:nvSpPr>
          <p:spPr>
            <a:xfrm>
              <a:off x="2700360" y="4370400"/>
              <a:ext cx="6192720" cy="42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40360" y="4419720"/>
              <a:ext cx="47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пропорц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йна сил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 струму та опо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11280" y="4530600"/>
              <a:ext cx="216000" cy="144720"/>
            </a:xfrm>
            <a:prstGeom prst="rightArrow">
              <a:avLst>
                <a:gd name="adj1" fmla="val 50000"/>
                <a:gd name="adj2" fmla="val 373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2700360" y="4437000"/>
              <a:ext cx="1295280" cy="35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411280" y="5627520"/>
            <a:ext cx="6769080" cy="760320"/>
            <a:chOff x="2411280" y="5627520"/>
            <a:chExt cx="6769080" cy="760320"/>
          </a:xfrm>
        </p:grpSpPr>
        <p:sp>
          <p:nvSpPr>
            <p:cNvPr id="91" name=""/>
            <p:cNvSpPr/>
            <p:nvPr/>
          </p:nvSpPr>
          <p:spPr>
            <a:xfrm>
              <a:off x="2700360" y="5678640"/>
              <a:ext cx="6192720" cy="70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7640" y="5654520"/>
              <a:ext cx="4752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що дорівнює відношенню роботи електричного струму до часу, протягом якого вона виконуєть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11280" y="597528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2700360" y="5627520"/>
              <a:ext cx="1440000" cy="63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1258920" y="4365720"/>
            <a:ext cx="69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ампа розжарюванн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D:\WINDOWS\Users\Aida\Рабочий стол\новые уроки - проекты\лампа 10\finish.png"/>
          <p:cNvPicPr/>
          <p:nvPr/>
        </p:nvPicPr>
        <p:blipFill>
          <a:blip r:embed="rId2"/>
          <a:stretch/>
        </p:blipFill>
        <p:spPr>
          <a:xfrm>
            <a:off x="2473200" y="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4"/>
          <p:cNvSpPr/>
          <p:nvPr/>
        </p:nvSpPr>
        <p:spPr>
          <a:xfrm>
            <a:off x="5149440" y="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87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5436720" y="63086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87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7165080" y="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890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Рисунок 1" descr="Александр Николаевич Лодыгин"/>
          <p:cNvPicPr/>
          <p:nvPr/>
        </p:nvPicPr>
        <p:blipFill>
          <a:blip r:embed="rId2"/>
          <a:stretch/>
        </p:blipFill>
        <p:spPr>
          <a:xfrm>
            <a:off x="1979640" y="404640"/>
            <a:ext cx="1927080" cy="273708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4"/>
          <p:cNvSpPr/>
          <p:nvPr/>
        </p:nvSpPr>
        <p:spPr>
          <a:xfrm>
            <a:off x="1332000" y="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ександр Миколайович Лодигі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3" descr="Лампа Лодыгина"/>
          <p:cNvPicPr/>
          <p:nvPr/>
        </p:nvPicPr>
        <p:blipFill>
          <a:blip r:embed="rId3"/>
          <a:stretch/>
        </p:blipFill>
        <p:spPr>
          <a:xfrm>
            <a:off x="6732720" y="404640"/>
            <a:ext cx="2009520" cy="27864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 rot="16200000">
            <a:off x="5744520" y="1325880"/>
            <a:ext cx="15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мпи Лодигі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2371680" y="26827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47 – 19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edison9"/>
          <p:cNvPicPr/>
          <p:nvPr/>
        </p:nvPicPr>
        <p:blipFill>
          <a:blip r:embed="rId4"/>
          <a:stretch/>
        </p:blipFill>
        <p:spPr>
          <a:xfrm>
            <a:off x="1692360" y="3716280"/>
            <a:ext cx="2217600" cy="264312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69" name="Text Box 9"/>
          <p:cNvSpPr/>
          <p:nvPr/>
        </p:nvSpPr>
        <p:spPr>
          <a:xfrm>
            <a:off x="219564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47 – 1931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2211480" y="63230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мас Едіс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Рисунок 2" descr="Рисунок2.jpg"/>
          <p:cNvPicPr/>
          <p:nvPr/>
        </p:nvPicPr>
        <p:blipFill>
          <a:blip r:embed="rId5"/>
          <a:stretch/>
        </p:blipFill>
        <p:spPr>
          <a:xfrm>
            <a:off x="6227640" y="3789360"/>
            <a:ext cx="1629000" cy="244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>
                <a:alpha val="77000"/>
              </a:srgbClr>
            </a:outerShdw>
          </a:effectLst>
        </p:spPr>
      </p:pic>
      <p:pic>
        <p:nvPicPr>
          <p:cNvPr id="372" name="Picture 2" descr="D:\WINDOWS\Users\Aida\Рабочий стол\новые уроки - проекты\лампа 10\edison-patent-light-bulb-l.jpg"/>
          <p:cNvPicPr/>
          <p:nvPr/>
        </p:nvPicPr>
        <p:blipFill>
          <a:blip r:embed="rId6"/>
          <a:stretch/>
        </p:blipFill>
        <p:spPr>
          <a:xfrm>
            <a:off x="4211640" y="3716280"/>
            <a:ext cx="1719360" cy="2506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7"/>
          <a:stretch/>
        </p:blipFill>
        <p:spPr>
          <a:xfrm>
            <a:off x="4788000" y="404640"/>
            <a:ext cx="1649160" cy="27133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>
                <a:alpha val="9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3" descr="lumlamp1.jpg"/>
          <p:cNvPicPr/>
          <p:nvPr/>
        </p:nvPicPr>
        <p:blipFill>
          <a:blip r:embed="rId2"/>
          <a:stretch/>
        </p:blipFill>
        <p:spPr>
          <a:xfrm>
            <a:off x="2714760" y="500040"/>
            <a:ext cx="4643280" cy="31147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"/>
          <p:cNvSpPr/>
          <p:nvPr/>
        </p:nvSpPr>
        <p:spPr>
          <a:xfrm>
            <a:off x="1116000" y="3932640"/>
            <a:ext cx="77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алогенні лам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1571760" y="740880"/>
            <a:ext cx="757224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кісна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і лампи опором 80 Ом та 160 Ом підключені до електричного кола: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а) послідовно;  б) паралельно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котрій з них виділиться більше тепла?  Відповідь обгрунтува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D:\WINDOWS\Users\Aida\Рабочий стол\ФИЗИКА картинки\paral1.gif"/>
          <p:cNvPicPr/>
          <p:nvPr/>
        </p:nvPicPr>
        <p:blipFill>
          <a:blip r:embed="rId2"/>
          <a:stretch/>
        </p:blipFill>
        <p:spPr>
          <a:xfrm>
            <a:off x="5643720" y="4357800"/>
            <a:ext cx="2739960" cy="20001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2289600" y="39290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5717880" y="39290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D:\WINDOWS\Users\Aida\Рабочий стол\ФИЗИКА картинки\series4a.gif"/>
          <p:cNvPicPr/>
          <p:nvPr/>
        </p:nvPicPr>
        <p:blipFill>
          <a:blip r:embed="rId3"/>
          <a:stretch/>
        </p:blipFill>
        <p:spPr>
          <a:xfrm>
            <a:off x="2428920" y="4357800"/>
            <a:ext cx="264312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66" descr="Рисунок1.png"/>
          <p:cNvPicPr/>
          <p:nvPr/>
        </p:nvPicPr>
        <p:blipFill>
          <a:blip r:embed="rId1"/>
          <a:stretch/>
        </p:blipFill>
        <p:spPr>
          <a:xfrm>
            <a:off x="3851280" y="5013360"/>
            <a:ext cx="1525680" cy="9288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684360" y="757080"/>
            <a:ext cx="785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є зав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Ф. Дмитрієва “Фізика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. 297-316, підготуватися до контрольної робо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ій проект. Зробити модель джерела струму (гальванічного елемент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4" descr="la_essays_s.gif"/>
          <p:cNvPicPr/>
          <p:nvPr/>
        </p:nvPicPr>
        <p:blipFill>
          <a:blip r:embed="rId2"/>
          <a:stretch/>
        </p:blipFill>
        <p:spPr>
          <a:xfrm>
            <a:off x="3492360" y="3789360"/>
            <a:ext cx="220356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333360"/>
            <a:ext cx="367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и постійного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612800"/>
            <a:ext cx="208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 Ом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лянки 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489040"/>
            <a:ext cx="2089080" cy="6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 Ом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вного 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368520"/>
            <a:ext cx="2089080" cy="56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оуля-Ле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4292640"/>
            <a:ext cx="2089080" cy="6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ши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рхго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9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229360"/>
            <a:ext cx="2089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руги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рхгоф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11280" y="1601640"/>
            <a:ext cx="6456600" cy="603360"/>
            <a:chOff x="2411280" y="1601640"/>
            <a:chExt cx="6456600" cy="603360"/>
          </a:xfrm>
        </p:grpSpPr>
        <p:sp>
          <p:nvSpPr>
            <p:cNvPr id="107" name=""/>
            <p:cNvSpPr/>
            <p:nvPr/>
          </p:nvSpPr>
          <p:spPr>
            <a:xfrm>
              <a:off x="2700360" y="1612800"/>
              <a:ext cx="6167520" cy="588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92360" y="1612800"/>
              <a:ext cx="511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ила струму в провіднику пропорцiйна напрузцi на його кiнцях i обернено пропорцiйна опору провiдн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11280" y="175716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733840" y="1601640"/>
              <a:ext cx="647640" cy="6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2411280" y="2476440"/>
            <a:ext cx="6481800" cy="733320"/>
            <a:chOff x="2411280" y="2476440"/>
            <a:chExt cx="6481800" cy="733320"/>
          </a:xfrm>
        </p:grpSpPr>
        <p:sp>
          <p:nvSpPr>
            <p:cNvPr id="112" name=""/>
            <p:cNvSpPr/>
            <p:nvPr/>
          </p:nvSpPr>
          <p:spPr>
            <a:xfrm>
              <a:off x="2700360" y="2487600"/>
              <a:ext cx="6192720" cy="704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7280" y="2476440"/>
              <a:ext cx="4608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ила струму в колі пропорцiйна ЕРС, яка дiє в колi, i обернено пропорцiйна сумi опорiв кола i внутрiшнього опору джерел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11280" y="270504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2773440" y="2492280"/>
              <a:ext cx="93492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11280" y="3306600"/>
            <a:ext cx="6553440" cy="770040"/>
            <a:chOff x="2411280" y="3306600"/>
            <a:chExt cx="6553440" cy="770040"/>
          </a:xfrm>
        </p:grpSpPr>
        <p:sp>
          <p:nvSpPr>
            <p:cNvPr id="118" name=""/>
            <p:cNvSpPr/>
            <p:nvPr/>
          </p:nvSpPr>
          <p:spPr>
            <a:xfrm>
              <a:off x="2700360" y="3357720"/>
              <a:ext cx="619272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40360" y="3306600"/>
              <a:ext cx="482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Кількість теплоти, яку виділяє струм у провіднику, пропорційна квадрату сили струму, часу його проходження і опору провідник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11280" y="357192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2747880" y="3357720"/>
              <a:ext cx="1032120" cy="34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11280" y="4211640"/>
            <a:ext cx="6481800" cy="743040"/>
            <a:chOff x="2411280" y="4211640"/>
            <a:chExt cx="6481800" cy="743040"/>
          </a:xfrm>
        </p:grpSpPr>
        <p:sp>
          <p:nvSpPr>
            <p:cNvPr id="124" name=""/>
            <p:cNvSpPr/>
            <p:nvPr/>
          </p:nvSpPr>
          <p:spPr>
            <a:xfrm>
              <a:off x="2700360" y="4245120"/>
              <a:ext cx="6192720" cy="695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1640" y="435600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Алгебрична сума струмів, які збігаються у вузлі, дорівнює нулю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11280" y="450864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2700360" y="4211640"/>
              <a:ext cx="10080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411280" y="5062680"/>
            <a:ext cx="6553440" cy="1020600"/>
            <a:chOff x="2411280" y="5062680"/>
            <a:chExt cx="6553440" cy="1020600"/>
          </a:xfrm>
        </p:grpSpPr>
        <p:sp>
          <p:nvSpPr>
            <p:cNvPr id="130" name=""/>
            <p:cNvSpPr/>
            <p:nvPr/>
          </p:nvSpPr>
          <p:spPr>
            <a:xfrm>
              <a:off x="2700360" y="5075280"/>
              <a:ext cx="626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1640" y="5075280"/>
              <a:ext cx="4753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У будь – якому замкнутому контурі розгалуженого кола алгебрична сума ЕРС дорівнює алгебричній сумі добутків струмів на опори відповідних ділянок цого кол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1280" y="543564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2700360" y="5062680"/>
              <a:ext cx="1512720" cy="66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457200" y="272880"/>
            <a:ext cx="8400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ила стру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892080"/>
          <a:ext cx="8229600" cy="58518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604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кожному стобчику таблиці кликните по вірній, на ваш погляд, відповіді. При вірній відповіді почуєте аплодисмен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иці вимірю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ьт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ік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5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860640"/>
            <a:ext cx="223920" cy="65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89720"/>
            <a:ext cx="293760" cy="93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3068640"/>
            <a:ext cx="414360" cy="789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2276640"/>
            <a:ext cx="37944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0000" y="4508640"/>
            <a:ext cx="863640" cy="89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68360" y="836640"/>
          <a:ext cx="8229600" cy="58514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604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кажному стобчику таблиці натисніть на вірні, на ваш погляд, відповіді. При вірній відповіді почуєте аплодисмен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иці вимірю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ьт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ік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Заголовок 1"/>
          <p:cNvSpPr/>
          <p:nvPr/>
        </p:nvSpPr>
        <p:spPr>
          <a:xfrm>
            <a:off x="457200" y="272880"/>
            <a:ext cx="8400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ктрична напр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88080" y="3830760"/>
            <a:ext cx="245880" cy="722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22920" y="5442120"/>
            <a:ext cx="325440" cy="866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37120" y="3068640"/>
            <a:ext cx="378000" cy="71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35520" y="2176560"/>
            <a:ext cx="38412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3240" y="4660920"/>
            <a:ext cx="9334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836640"/>
          <a:ext cx="8229600" cy="58514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604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кажному стобчику таблиці натисніть на вірні, на ваш погляд, відповіді. При вірній відповіді почуєте аплодисмен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иці вимірю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ьт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ік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9" name="Заголовок 1"/>
          <p:cNvSpPr/>
          <p:nvPr/>
        </p:nvSpPr>
        <p:spPr>
          <a:xfrm>
            <a:off x="457200" y="272880"/>
            <a:ext cx="8400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ктричний опі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789360"/>
            <a:ext cx="244440" cy="72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1440" y="3040200"/>
            <a:ext cx="393840" cy="750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65600" y="2133720"/>
            <a:ext cx="411120" cy="863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4653000"/>
            <a:ext cx="916200" cy="503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43280" y="5373720"/>
            <a:ext cx="5176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1007640"/>
            <a:ext cx="907272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ри послідовному з’єднанні провідників незмінною величиною є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пруга;            б) сила струму;            в) опір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роботи електричного стру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закону Ома для ділянки к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значення ампермет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 регулювання сили струму;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вимірювання сили струму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регулювання напруги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 вимірювання напр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гідно із законом Ома для ділянки кола, сила струму через відрізок металевого дроту, що підключений до джерела живлення, прямо пропорційн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довжині відрізку дроту,    б) опору відрізку дроту,   в) температурі дроту,   г) напрузі на клемах джер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е співвідношення завжди виконується при паралельному з’єднанні двох резисторів різного опор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2065320"/>
            <a:ext cx="746280" cy="284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700360" y="2089080"/>
            <a:ext cx="817560" cy="28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00720" y="1941480"/>
            <a:ext cx="728640" cy="550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236000" y="1862280"/>
            <a:ext cx="941040" cy="550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817560" y="2836800"/>
            <a:ext cx="888840" cy="284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29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627280" y="2781360"/>
            <a:ext cx="1012680" cy="60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4489560" y="2722680"/>
            <a:ext cx="639720" cy="55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7226280" y="2708280"/>
            <a:ext cx="585720" cy="550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точний контроль зн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5734080"/>
          <a:ext cx="8425080" cy="446040"/>
        </p:xfrm>
        <a:graphic>
          <a:graphicData uri="http://schemas.openxmlformats.org/drawingml/2006/table">
            <a:tbl>
              <a:tblPr/>
              <a:tblGrid>
                <a:gridCol w="2106720"/>
                <a:gridCol w="2106720"/>
                <a:gridCol w="2106360"/>
                <a:gridCol w="210528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085760" y="5805360"/>
            <a:ext cx="666720" cy="324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3276720" y="5791320"/>
            <a:ext cx="798480" cy="323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5364000" y="5791320"/>
            <a:ext cx="704880" cy="323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7437600" y="5776920"/>
            <a:ext cx="7808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31:22Z</dcterms:created>
  <dc:creator>Александрова З.В., учитель физики и информатики МОУ СОШ № 5 п.Печенга, Мурм. обл.</dc:creator>
  <dc:description/>
  <dc:language>en-US</dc:language>
  <cp:lastModifiedBy>viktoria</cp:lastModifiedBy>
  <dcterms:modified xsi:type="dcterms:W3CDTF">2010-01-13T21:11:00Z</dcterms:modified>
  <cp:revision>162</cp:revision>
  <dc:subject>Электрический ток. Источники электрического тока.8 кл.</dc:subject>
  <dc:title>Источники то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1b000000000001024140</vt:lpwstr>
  </property>
</Properties>
</file>