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30.wmf" ContentType="image/x-wmf"/>
  <Override PartName="/ppt/media/image57.jpeg" ContentType="image/jpeg"/>
  <Override PartName="/ppt/media/image20.wmf" ContentType="image/x-wmf"/>
  <Override PartName="/ppt/media/image56.jpeg" ContentType="image/jpeg"/>
  <Override PartName="/ppt/media/image10.wmf" ContentType="image/x-wmf"/>
  <Override PartName="/ppt/media/image55.jpeg" ContentType="image/jpeg"/>
  <Override PartName="/ppt/media/image52.gif" ContentType="image/gif"/>
  <Override PartName="/ppt/media/image51.gif" ContentType="image/gif"/>
  <Override PartName="/ppt/media/image11.wmf" ContentType="image/x-wmf"/>
  <Override PartName="/ppt/media/image54.png" ContentType="image/png"/>
  <Override PartName="/ppt/media/image76.jpeg" ContentType="image/jpeg"/>
  <Override PartName="/ppt/media/image48.png" ContentType="image/pn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42.wmf" ContentType="image/x-wmf"/>
  <Override PartName="/ppt/media/image82.jpeg" ContentType="image/jpeg"/>
  <Override PartName="/ppt/media/image102.jpeg" ContentType="image/jpeg"/>
  <Override PartName="/ppt/media/image41.wmf" ContentType="image/x-wmf"/>
  <Override PartName="/ppt/media/image62.jpeg" ContentType="image/jpeg"/>
  <Override PartName="/ppt/media/image79.jpeg" ContentType="image/jpeg"/>
  <Override PartName="/ppt/media/image40.wmf" ContentType="image/x-wmf"/>
  <Override PartName="/ppt/media/image59.jpeg" ContentType="image/jpeg"/>
  <Override PartName="/ppt/media/image39.wmf" ContentType="image/x-wmf"/>
  <Override PartName="/ppt/media/image9.wmf" ContentType="image/x-wmf"/>
  <Override PartName="/ppt/media/image14.png" ContentType="image/png"/>
  <Override PartName="/ppt/media/image72.jpeg" ContentType="image/jpeg"/>
  <Override PartName="/ppt/media/image38.wmf" ContentType="image/x-wmf"/>
  <Override PartName="/ppt/media/image8.wmf" ContentType="image/x-wmf"/>
  <Override PartName="/ppt/media/image13.png" ContentType="image/png"/>
  <Override PartName="/ppt/media/image37.wmf" ContentType="image/x-wmf"/>
  <Override PartName="/ppt/media/image88.jpeg" ContentType="image/jpeg"/>
  <Override PartName="/ppt/media/image108.jpeg" ContentType="image/jpe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47.jpeg" ContentType="image/jpeg"/>
  <Override PartName="/ppt/media/image25.wmf" ContentType="image/x-wmf"/>
  <Override PartName="/ppt/media/image36.wmf" ContentType="image/x-wmf"/>
  <Override PartName="/ppt/media/image68.jpeg" ContentType="image/jpeg"/>
  <Override PartName="/ppt/media/image6.wmf" ContentType="image/x-wmf"/>
  <Override PartName="/ppt/media/image18.wmf" ContentType="image/x-wmf"/>
  <Override PartName="/ppt/media/image29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6.jpeg" ContentType="image/jpeg"/>
  <Override PartName="/ppt/media/image106.jpeg" ContentType="image/jpeg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66.jpeg" ContentType="image/jpeg"/>
  <Override PartName="/ppt/media/image27.wmf" ContentType="image/x-wmf"/>
  <Override PartName="/ppt/media/image87.jpeg" ContentType="image/jpeg"/>
  <Override PartName="/ppt/media/image107.jpeg" ContentType="image/jpeg"/>
  <Override PartName="/ppt/media/image74.jpeg" ContentType="image/jpeg"/>
  <Override PartName="/ppt/media/image119.png" ContentType="image/png"/>
  <Override PartName="/ppt/media/image75.jpeg" ContentType="image/jpeg"/>
  <Override PartName="/ppt/media/image84.jpeg" ContentType="image/jpeg"/>
  <Override PartName="/ppt/media/image104.jpeg" ContentType="image/jpeg"/>
  <Override PartName="/ppt/media/image24.wmf" ContentType="image/x-wmf"/>
  <Override PartName="/ppt/media/image97.png" ContentType="image/png"/>
  <Override PartName="/ppt/media/image90.jpeg" ContentType="image/jpeg"/>
  <Override PartName="/ppt/media/image110.jpeg" ContentType="image/jpeg"/>
  <Override PartName="/ppt/media/image93.jpeg" ContentType="image/jpeg"/>
  <Override PartName="/ppt/media/image95.jpeg" ContentType="image/jpeg"/>
  <Override PartName="/ppt/media/image2.wmf" ContentType="image/x-wmf"/>
  <Override PartName="/ppt/media/image114.jpeg" ContentType="image/jpeg"/>
  <Override PartName="/ppt/media/image109.jpeg" ContentType="image/jpeg"/>
  <Override PartName="/ppt/media/image63.jpeg" ContentType="image/jpeg"/>
  <Override PartName="/ppt/media/image94.png" ContentType="image/png"/>
  <Override PartName="/ppt/media/image118.png" ContentType="image/png"/>
  <Override PartName="/ppt/media/image89.jpeg" ContentType="image/jpeg"/>
  <Override PartName="/ppt/media/image85.jpeg" ContentType="image/jpeg"/>
  <Override PartName="/ppt/media/image105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.wmf" ContentType="image/x-wmf"/>
  <Override PartName="/ppt/media/image115.jpeg" ContentType="image/jpeg"/>
  <Override PartName="/ppt/media/image98.jpeg" ContentType="image/jpeg"/>
  <Override PartName="/ppt/media/image83.jpeg" ContentType="image/jpeg"/>
  <Override PartName="/ppt/media/image103.jpeg" ContentType="image/jpeg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6.png" ContentType="image/png"/>
  <Override PartName="/ppt/media/image33.wmf" ContentType="image/x-wmf"/>
  <Override PartName="/ppt/media/image99.jpeg" ContentType="image/jpeg"/>
  <Override PartName="/ppt/media/image117.png" ContentType="image/png"/>
  <Override PartName="/ppt/media/image73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71.jpeg" ContentType="image/jpeg"/>
  <Override PartName="/ppt/media/image70.jpeg" ContentType="image/jpeg"/>
  <Override PartName="/ppt/media/image69.jpeg" ContentType="image/jpeg"/>
  <Override PartName="/ppt/media/image23.wmf" ContentType="image/x-wmf"/>
  <Override PartName="/ppt/media/image22.wmf" ContentType="image/x-wmf"/>
  <Override PartName="/ppt/media/image65.png" ContentType="image/png"/>
  <Override PartName="/ppt/media/image100.jpeg" ContentType="image/jpeg"/>
  <Override PartName="/ppt/media/image80.jpeg" ContentType="image/jpeg"/>
  <Override PartName="/ppt/media/image21.wmf" ContentType="image/x-wmf"/>
  <Override PartName="/ppt/media/image77.jpeg" ContentType="image/jpeg"/>
  <Override PartName="/ppt/media/image60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32.wmf" ContentType="image/x-wmf"/>
  <Override PartName="/ppt/media/image101.jpeg" ContentType="image/jpeg"/>
  <Override PartName="/ppt/media/image81.jpeg" ContentType="image/jpeg"/>
  <Override PartName="/ppt/media/image26.wmf" ContentType="image/x-wmf"/>
  <Override PartName="/ppt/media/image6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F24-FBE0-43C9-B3DA-BA0608EF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8D1-2DBB-45E9-9FFD-EA3DF60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D37-2CF2-4FE6-AA0E-56CE10F6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8B4-37E6-4D36-94EE-E9C52EC5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C54-8652-4A33-9218-CD06BC5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5CE-2F5F-44BA-928F-DF1380D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CD9-F4A3-480C-885E-964E127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B40-7471-41C9-905C-82510E51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DCB-08F9-45DD-9E39-03854508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1F4-0444-487F-9AF8-1CBFE0C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45A-0EAF-45BB-B5C1-4562B84F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493-E64B-476F-B31A-968BBDF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46A-B8FE-4B07-AFB2-28E89542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9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image" Target="../media/image43.wmf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electrof_3.jpg" TargetMode="External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term_para.jpg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solar.jpg" TargetMode="External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91.jpeg"/><Relationship Id="rId7" Type="http://schemas.openxmlformats.org/officeDocument/2006/relationships/image" Target="../media/image92.jpeg"/><Relationship Id="rId8" Type="http://schemas.openxmlformats.org/officeDocument/2006/relationships/image" Target="../media/image93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pn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jpeg"/><Relationship Id="rId6" Type="http://schemas.openxmlformats.org/officeDocument/2006/relationships/image" Target="../media/image113.jpeg"/><Relationship Id="rId7" Type="http://schemas.openxmlformats.org/officeDocument/2006/relationships/image" Target="../media/image114.jpe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15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17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4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19.wmf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20.wm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1835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Відкрите заняття з теми</a:t>
            </a:r>
            <a:br>
              <a:rPr sz="2800"/>
            </a:br>
            <a:br>
              <a:rPr sz="2800"/>
            </a:br>
            <a:r>
              <a:rPr b="0" lang="uk-UA" sz="4400" spc="-1" strike="noStrike">
                <a:solidFill>
                  <a:srgbClr val="0000cc"/>
                </a:solidFill>
                <a:latin typeface="Arial"/>
              </a:rPr>
              <a:t>Закони постійного струму</a:t>
            </a:r>
            <a:br>
              <a:rPr sz="4400"/>
            </a:br>
            <a:br>
              <a:rPr sz="4400"/>
            </a:b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викладач Юрченко В.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896328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аралель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потужності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повного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вольт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а з наведених формул є математичним записом закону Джоуля – Ленц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ослідовному з’єднанні N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9280" y="5734080"/>
          <a:ext cx="8640360" cy="8632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360"/>
                <a:gridCol w="21589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4653000"/>
          <a:ext cx="8424720" cy="576000"/>
        </p:xfrm>
        <a:graphic>
          <a:graphicData uri="http://schemas.openxmlformats.org/drawingml/2006/table">
            <a:tbl>
              <a:tblPr/>
              <a:tblGrid>
                <a:gridCol w="2106360"/>
                <a:gridCol w="2106720"/>
                <a:gridCol w="2106360"/>
                <a:gridCol w="2105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1042920" y="4649760"/>
            <a:ext cx="544680" cy="511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3130560" y="463716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5189400" y="4664160"/>
            <a:ext cx="709920" cy="511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307280" y="4746600"/>
            <a:ext cx="907920" cy="2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50920" y="6021360"/>
            <a:ext cx="1797120" cy="517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411280" y="6081840"/>
            <a:ext cx="2019600" cy="27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4573440" y="6086520"/>
            <a:ext cx="1990800" cy="290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877080" y="6093000"/>
            <a:ext cx="1766880" cy="274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4643280" y="2693880"/>
            <a:ext cx="93528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755640" y="2060640"/>
            <a:ext cx="863640" cy="317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6"/>
          <a:stretch/>
        </p:blipFill>
        <p:spPr>
          <a:xfrm>
            <a:off x="4788000" y="2073240"/>
            <a:ext cx="72072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51960" y="189000"/>
            <a:ext cx="6096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42920" y="2276640"/>
          <a:ext cx="1594080" cy="2190600"/>
        </p:xfrm>
        <a:graphic>
          <a:graphicData uri="http://schemas.openxmlformats.org/drawingml/2006/table">
            <a:tbl>
              <a:tblPr/>
              <a:tblGrid>
                <a:gridCol w="79704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291360" y="2276640"/>
          <a:ext cx="1593720" cy="2190600"/>
        </p:xfrm>
        <a:graphic>
          <a:graphicData uri="http://schemas.openxmlformats.org/drawingml/2006/table">
            <a:tbl>
              <a:tblPr/>
              <a:tblGrid>
                <a:gridCol w="796680"/>
                <a:gridCol w="79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04292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91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І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Джерела электричного стру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ний струм – упорядковане перенесення заряджених част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71680" y="4797360"/>
            <a:ext cx="8572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и виникнення электричного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вільних электричних зарядів в провідн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сть зовнішнього электричного поля для прові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йте досліди, позначені на ма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спільного і ч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різняю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о стру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трій, в якому відбувається перетворення будь-якого виду энергії в электричну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1143000" y="558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ї, які разгалуджують заряди, або створюють электричне поле, називаю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ми стру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71680" y="907200"/>
            <a:ext cx="585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а електрича батарея з’явилась у 1799 році. Її винайшо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італійський фізик, хімік та фізиолог, винахідець джерела постійного электричного стр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1800" y="1451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357280" y="3480120"/>
            <a:ext cx="64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е джерело струму – «вольтов стовб» – був збудований в точній відповідності з його теорією «металевої» електрики. Вольта поклав один на одного поперемінно декілька десятків невеличких цинкових и срібних кол, поклавши між ними бумагу, змочену у підсоленій вод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800" y="206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ічне джерело струму - механіча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http://school.ort.spb.ru/library/physics/8class/tema_2/lesson_1/electrof_3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інці XVIII століття усі технічі джерела струму були засновані на електризації тернем. Найбільш ефективним серед джерел струму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форна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ься до руху в протилежних напрямках; в результаті тертя щіток і дисків на кондукторах машини накопичуються заряди протилежного зна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2432880" y="42876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трофорна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е джерело струму – внутрішня енергія перетворюється в електричну енерг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2" descr="http://school.ort.spb.ru/library/physics/8class/tema_2/lesson_1/term_para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два провідники з різних металів спаяти з одного боку, а тоді нагріти місце спая, то в них виникає струм – заряди при нагріванні спая розгалужуються. Термоелементи застосовуються в термодатчиках і на геотермальних електростанціях як датчики темп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319560" y="45576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е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ергія світла за допомогою сонячних батарей перетворюється в електричну енерг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http://school.ort.spb.ru/library/physics/8class/tema_2/lesson_1/solar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освітити деякі речовини світлом, в них з’являється струм – світове джерело перетворюється в електричне джер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у пристрої заряди розгалужуються під дією світла.  Фотоелементи застосовуються в сонячних батареях, світлових датчиках, калькуляторах, ві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431960" y="4287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е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571680" y="121896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и разгалужуються щляхом виконання механічної роботи. Застосовується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цтв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ислової електро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933560" y="500040"/>
            <a:ext cx="50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ктромеханічн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робник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, апарат або машина, яка виробдяє певний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Мета заняття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загальнення і систематизація знань та вмінь з теми “Закони постійного струму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знати: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роду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і формули сили і густини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ення постій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изначення джерел електричної енерг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ділянки кола і повного ко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е.р.с. і напр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ізичний зміст опору, питомого опору і термічного коефіцієнта опо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авила та математичний вираз для послідовного і паралельного з’єднання споживач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Кірхгоф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кони Ома для замкнутого кола з однією та декількома е.р.с.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формули для визначення роботи і потужності електричного стру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плову дію стру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116000" y="31417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джерела струму ви бачите на малю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bateryinside.gif"/>
          <p:cNvPicPr/>
          <p:nvPr/>
        </p:nvPicPr>
        <p:blipFill>
          <a:blip r:embed="rId2"/>
          <a:stretch/>
        </p:blipFill>
        <p:spPr>
          <a:xfrm>
            <a:off x="4788000" y="981000"/>
            <a:ext cx="3500280" cy="3500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433520" y="428760"/>
            <a:ext cx="56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гальванічного е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ічний е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мічне джерело струму, в якому електрична енергія виробдяється методом прямого перетворення хімічної енергії окислювально-відновна реак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720080" y="50004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жерела струму минулого столітт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декількох гальванічних элементів можно створити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елемент живленн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бутова назва джерела електрики для автономного живлення портативного пристрою. Може уявляти собою одинарний гальванічний елемент, акумулятор чи їх з’єднання в батарею для збільшення нап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1"/>
          <p:cNvSpPr/>
          <p:nvPr/>
        </p:nvSpPr>
        <p:spPr>
          <a:xfrm>
            <a:off x="571680" y="7858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імічене джерело струму багаторазової дії. Якщо занурити у розчин солі два вугільних електроди, то гальванометр не покаже наявності струму. Якщо ж акумулятор заздалегідь зарядити, то його можно використовувати в якості самостійного джерела струму. Існують різні типи акумуляторов: кислотні и лужні.  Заряди в них разгалужуються і в результаті хімічних реак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3074760" y="357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і акумулятори використовуються для накопичення енергії та автономного живлення разноманітних споживач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ювач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 для накопичення енергії з метою її подальшого викори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2343240" y="40464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стрій а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468360" y="5157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іть джерела струму, позначені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428760" y="1214280"/>
          <a:ext cx="8143920" cy="501984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471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Джерела стру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іб разголуження  заряд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Застосув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3859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елемен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я світ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ячні батаре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ів спаї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мірювання температу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ха-нічний генерат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ійснення механічної робо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цтво промислової електричної енерг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ічний еле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хтарики, радіоприймач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мулятор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мічна реакці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ілі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"/>
          <p:cNvSpPr/>
          <p:nvPr/>
        </p:nvSpPr>
        <p:spPr>
          <a:xfrm>
            <a:off x="971640" y="1958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ифікація джерел стру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1835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cc"/>
                </a:solidFill>
                <a:latin typeface="Arial"/>
              </a:rPr>
              <a:t>Повинні вміти:</a:t>
            </a:r>
            <a:r>
              <a:rPr b="0" lang="uk-UA" sz="6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ирати найпростіше електричне ко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ватись реоста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ним шляхом визначати опір провідника, е.р.с. і внутрішній опір джер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ати вид з’єднань споживачів енергії електричних кі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’єднувати  джерела електричної енергії послідовно і паралельн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ити розрахунок електричних кіл при різноманітних з’єднаннях споживачів і джерел електричної 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і малогабаритні а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використовуються для малогабаритних споживачів электричної енергії (телефонні радіотрубки, портативні радіоприймачі, електронні годинники, вимірювальні прилади, сотові телефони та ін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осування джерел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іть прилади, які зображені на малю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0" r="0" b="-3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1187280" y="2637000"/>
            <a:ext cx="3456000" cy="4032000"/>
            <a:chOff x="1187280" y="2637000"/>
            <a:chExt cx="3456000" cy="4032000"/>
          </a:xfrm>
        </p:grpSpPr>
        <p:sp>
          <p:nvSpPr>
            <p:cNvPr id="331" name=""/>
            <p:cNvSpPr/>
            <p:nvPr/>
          </p:nvSpPr>
          <p:spPr>
            <a:xfrm>
              <a:off x="2411280" y="4581360"/>
              <a:ext cx="2232000" cy="208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87280" y="2637000"/>
              <a:ext cx="2232360" cy="20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6023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59640" y="62064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43280" y="2421000"/>
            <a:ext cx="223236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788000" y="2421000"/>
            <a:ext cx="374472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2781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549360"/>
            <a:ext cx="2232000" cy="20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395280" y="2997360"/>
          <a:ext cx="8291160" cy="3128400"/>
        </p:xfrm>
        <a:graphic>
          <a:graphicData uri="http://schemas.openxmlformats.org/drawingml/2006/table">
            <a:tbl>
              <a:tblPr/>
              <a:tblGrid>
                <a:gridCol w="753840"/>
                <a:gridCol w="753480"/>
                <a:gridCol w="753840"/>
                <a:gridCol w="753840"/>
                <a:gridCol w="753480"/>
                <a:gridCol w="753840"/>
                <a:gridCol w="703440"/>
                <a:gridCol w="804240"/>
                <a:gridCol w="753840"/>
                <a:gridCol w="753840"/>
                <a:gridCol w="753480"/>
              </a:tblGrid>
              <a:tr h="35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-лі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ідов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лельне з’єдн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824400" y="18900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но-розрахункова 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32000" y="117360"/>
            <a:ext cx="2592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ст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правлений рух електри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ряджених част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557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сті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836640"/>
            <a:ext cx="20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мі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8122200">
            <a:off x="2556000" y="1267560"/>
            <a:ext cx="558360" cy="98640"/>
          </a:xfrm>
          <a:prstGeom prst="rightArrow">
            <a:avLst>
              <a:gd name="adj1" fmla="val 50000"/>
              <a:gd name="adj2" fmla="val 141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2276600">
            <a:off x="5867640" y="76500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2360" y="22716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0081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стина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11280" y="1628640"/>
            <a:ext cx="6410520" cy="360360"/>
            <a:chOff x="2411280" y="1628640"/>
            <a:chExt cx="6410520" cy="360360"/>
          </a:xfrm>
        </p:grpSpPr>
        <p:sp>
          <p:nvSpPr>
            <p:cNvPr id="52" name=""/>
            <p:cNvSpPr/>
            <p:nvPr/>
          </p:nvSpPr>
          <p:spPr>
            <a:xfrm>
              <a:off x="2700360" y="162864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2000" y="1628640"/>
              <a:ext cx="547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Електричний струм, сила і напрям якого з часом не зміню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1280" y="17733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3654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й оп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11280" y="2874960"/>
            <a:ext cx="6553440" cy="733320"/>
            <a:chOff x="2411280" y="2874960"/>
            <a:chExt cx="6553440" cy="733320"/>
          </a:xfrm>
        </p:grpSpPr>
        <p:sp>
          <p:nvSpPr>
            <p:cNvPr id="58" name=""/>
            <p:cNvSpPr/>
            <p:nvPr/>
          </p:nvSpPr>
          <p:spPr>
            <a:xfrm>
              <a:off x="2700360" y="2925720"/>
              <a:ext cx="6192720" cy="608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0360" y="287496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модуль якої дорівнює відношенню сили струму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до площі поперечного перерізу провідник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11280" y="315108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771640" y="2886120"/>
              <a:ext cx="1368720" cy="64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11280" y="3583080"/>
            <a:ext cx="6553440" cy="733320"/>
            <a:chOff x="2411280" y="3583080"/>
            <a:chExt cx="6553440" cy="733320"/>
          </a:xfrm>
        </p:grpSpPr>
        <p:sp>
          <p:nvSpPr>
            <p:cNvPr id="64" name=""/>
            <p:cNvSpPr/>
            <p:nvPr/>
          </p:nvSpPr>
          <p:spPr>
            <a:xfrm>
              <a:off x="2700360" y="360684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56000" y="3583080"/>
              <a:ext cx="460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залежить від матеріалу та пропорційна довжені провідника і обернено пропорційна площі його поперечного перері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1280" y="383220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00360" y="3583080"/>
              <a:ext cx="165744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411280" y="2055960"/>
            <a:ext cx="6553440" cy="790560"/>
            <a:chOff x="2411280" y="2055960"/>
            <a:chExt cx="6553440" cy="790560"/>
          </a:xfrm>
        </p:grpSpPr>
        <p:sp>
          <p:nvSpPr>
            <p:cNvPr id="69" name=""/>
            <p:cNvSpPr/>
            <p:nvPr/>
          </p:nvSpPr>
          <p:spPr>
            <a:xfrm>
              <a:off x="2700360" y="2055960"/>
              <a:ext cx="6156360" cy="79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7280" y="2055960"/>
              <a:ext cx="489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калярна величина, що дорівнює відношенню кількості елекрики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яка за час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переноситься через певний переріз провідника, до часу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1280" y="24163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2771640" y="2127240"/>
              <a:ext cx="1293840" cy="6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52360" y="4365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п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0245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409840" y="4973760"/>
            <a:ext cx="6553080" cy="582480"/>
            <a:chOff x="2409840" y="4973760"/>
            <a:chExt cx="6553080" cy="582480"/>
          </a:xfrm>
        </p:grpSpPr>
        <p:sp>
          <p:nvSpPr>
            <p:cNvPr id="78" name=""/>
            <p:cNvSpPr/>
            <p:nvPr/>
          </p:nvSpPr>
          <p:spPr>
            <a:xfrm>
              <a:off x="2698920" y="4997520"/>
              <a:ext cx="619272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4560" y="497376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напруз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,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часу, за який ця робот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09840" y="52164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770200" y="5052960"/>
              <a:ext cx="151272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2360" y="5705640"/>
            <a:ext cx="20876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11280" y="4370400"/>
            <a:ext cx="6481800" cy="426960"/>
            <a:chOff x="2411280" y="4370400"/>
            <a:chExt cx="6481800" cy="426960"/>
          </a:xfrm>
        </p:grpSpPr>
        <p:sp>
          <p:nvSpPr>
            <p:cNvPr id="85" name=""/>
            <p:cNvSpPr/>
            <p:nvPr/>
          </p:nvSpPr>
          <p:spPr>
            <a:xfrm>
              <a:off x="2700360" y="4370400"/>
              <a:ext cx="6192720" cy="42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40360" y="4419720"/>
              <a:ext cx="47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пропорц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йна сил</a:t>
              </a:r>
              <a:r>
                <a:rPr b="0" lang="nb-NO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 струму та опо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11280" y="4530600"/>
              <a:ext cx="216000" cy="144720"/>
            </a:xfrm>
            <a:prstGeom prst="rightArrow">
              <a:avLst>
                <a:gd name="adj1" fmla="val 50000"/>
                <a:gd name="adj2" fmla="val 373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2700360" y="4437000"/>
              <a:ext cx="1295280" cy="3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11280" y="5627520"/>
            <a:ext cx="6769080" cy="760320"/>
            <a:chOff x="2411280" y="5627520"/>
            <a:chExt cx="6769080" cy="760320"/>
          </a:xfrm>
        </p:grpSpPr>
        <p:sp>
          <p:nvSpPr>
            <p:cNvPr id="91" name=""/>
            <p:cNvSpPr/>
            <p:nvPr/>
          </p:nvSpPr>
          <p:spPr>
            <a:xfrm>
              <a:off x="2700360" y="5678640"/>
              <a:ext cx="6192720" cy="70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5654520"/>
              <a:ext cx="47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Фізична величина, що дорівнює відношенню роботи електричного струму до часу, протягом якого вона виконуєть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11280" y="597528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2700360" y="5627520"/>
              <a:ext cx="144000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1258920" y="436572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ампа розжарюва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D:\WINDOWS\Users\Aida\Рабочий стол\новые уроки - проекты\лампа 10\finish.png"/>
          <p:cNvPicPr/>
          <p:nvPr/>
        </p:nvPicPr>
        <p:blipFill>
          <a:blip r:embed="rId2"/>
          <a:stretch/>
        </p:blipFill>
        <p:spPr>
          <a:xfrm>
            <a:off x="2473200" y="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4"/>
          <p:cNvSpPr/>
          <p:nvPr/>
        </p:nvSpPr>
        <p:spPr>
          <a:xfrm>
            <a:off x="5149440" y="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5436720" y="6308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7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7165080" y="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890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1" descr="Александр Николаевич Лодыгин"/>
          <p:cNvPicPr/>
          <p:nvPr/>
        </p:nvPicPr>
        <p:blipFill>
          <a:blip r:embed="rId2"/>
          <a:stretch/>
        </p:blipFill>
        <p:spPr>
          <a:xfrm>
            <a:off x="1979640" y="404640"/>
            <a:ext cx="1927080" cy="273708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"/>
          <p:cNvSpPr/>
          <p:nvPr/>
        </p:nvSpPr>
        <p:spPr>
          <a:xfrm>
            <a:off x="1332000" y="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ександр Миколайович Лодигі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3" descr="Лампа Лодыгина"/>
          <p:cNvPicPr/>
          <p:nvPr/>
        </p:nvPicPr>
        <p:blipFill>
          <a:blip r:embed="rId3"/>
          <a:stretch/>
        </p:blipFill>
        <p:spPr>
          <a:xfrm>
            <a:off x="6732720" y="404640"/>
            <a:ext cx="2009520" cy="2786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 rot="16200000">
            <a:off x="5744520" y="132588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мпи Лодиг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371680" y="26827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47 – 19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edison9"/>
          <p:cNvPicPr/>
          <p:nvPr/>
        </p:nvPicPr>
        <p:blipFill>
          <a:blip r:embed="rId4"/>
          <a:stretch/>
        </p:blipFill>
        <p:spPr>
          <a:xfrm>
            <a:off x="1692360" y="3716280"/>
            <a:ext cx="2217600" cy="264312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9" name="Text Box 9"/>
          <p:cNvSpPr/>
          <p:nvPr/>
        </p:nvSpPr>
        <p:spPr>
          <a:xfrm>
            <a:off x="219564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47 – 1931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4"/>
          <p:cNvSpPr/>
          <p:nvPr/>
        </p:nvSpPr>
        <p:spPr>
          <a:xfrm>
            <a:off x="2211480" y="6323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мас Еді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2" descr="Рисунок2.jpg"/>
          <p:cNvPicPr/>
          <p:nvPr/>
        </p:nvPicPr>
        <p:blipFill>
          <a:blip r:embed="rId5"/>
          <a:stretch/>
        </p:blipFill>
        <p:spPr>
          <a:xfrm>
            <a:off x="6227640" y="3789360"/>
            <a:ext cx="1629000" cy="244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77000"/>
              </a:srgbClr>
            </a:outerShdw>
          </a:effectLst>
        </p:spPr>
      </p:pic>
      <p:pic>
        <p:nvPicPr>
          <p:cNvPr id="372" name="Picture 2" descr="D:\WINDOWS\Users\Aida\Рабочий стол\новые уроки - проекты\лампа 10\edison-patent-light-bulb-l.jpg"/>
          <p:cNvPicPr/>
          <p:nvPr/>
        </p:nvPicPr>
        <p:blipFill>
          <a:blip r:embed="rId6"/>
          <a:stretch/>
        </p:blipFill>
        <p:spPr>
          <a:xfrm>
            <a:off x="4211640" y="3716280"/>
            <a:ext cx="1719360" cy="2506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7"/>
          <a:stretch/>
        </p:blipFill>
        <p:spPr>
          <a:xfrm>
            <a:off x="4788000" y="404640"/>
            <a:ext cx="1649160" cy="27133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>
                <a:alpha val="9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lumlamp1.jpg"/>
          <p:cNvPicPr/>
          <p:nvPr/>
        </p:nvPicPr>
        <p:blipFill>
          <a:blip r:embed="rId2"/>
          <a:stretch/>
        </p:blipFill>
        <p:spPr>
          <a:xfrm>
            <a:off x="2714760" y="500040"/>
            <a:ext cx="4643280" cy="31147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1116000" y="3932640"/>
            <a:ext cx="77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алогенні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571760" y="740880"/>
            <a:ext cx="75722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існа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 лампи опором 80 Ом та 160 Ом підключені до електричного кола: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а) послідовно;  б) паралельн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котрій з них виділиться більше тепла?  Відповідь обгрунтув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D:\WINDOWS\Users\Aida\Рабочий стол\ФИЗИКА картинки\paral1.gif"/>
          <p:cNvPicPr/>
          <p:nvPr/>
        </p:nvPicPr>
        <p:blipFill>
          <a:blip r:embed="rId2"/>
          <a:stretch/>
        </p:blipFill>
        <p:spPr>
          <a:xfrm>
            <a:off x="5643720" y="4357800"/>
            <a:ext cx="2739960" cy="20001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2289600" y="3929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717880" y="39290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D:\WINDOWS\Users\Aida\Рабочий стол\ФИЗИКА картинки\series4a.gif"/>
          <p:cNvPicPr/>
          <p:nvPr/>
        </p:nvPicPr>
        <p:blipFill>
          <a:blip r:embed="rId3"/>
          <a:stretch/>
        </p:blipFill>
        <p:spPr>
          <a:xfrm>
            <a:off x="2428920" y="4357800"/>
            <a:ext cx="264312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3851280" y="5013360"/>
            <a:ext cx="1525680" cy="9288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684360" y="75708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є зав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Ф. Дмитрієва “Фізика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. 297-316, підготуватися до контрольної робо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ій проект. Зробити модель джерела струму (гальванічного елемен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4" descr="la_essays_s.gif"/>
          <p:cNvPicPr/>
          <p:nvPr/>
        </p:nvPicPr>
        <p:blipFill>
          <a:blip r:embed="rId2"/>
          <a:stretch/>
        </p:blipFill>
        <p:spPr>
          <a:xfrm>
            <a:off x="3492360" y="3789360"/>
            <a:ext cx="2203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333360"/>
            <a:ext cx="367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и постій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1280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лянки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489040"/>
            <a:ext cx="2089080" cy="6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Ом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ного 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368520"/>
            <a:ext cx="2089080" cy="56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оуля-Ле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292640"/>
            <a:ext cx="2089080" cy="6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ш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229360"/>
            <a:ext cx="208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руг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рхго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11280" y="1601640"/>
            <a:ext cx="6456600" cy="603360"/>
            <a:chOff x="2411280" y="1601640"/>
            <a:chExt cx="6456600" cy="603360"/>
          </a:xfrm>
        </p:grpSpPr>
        <p:sp>
          <p:nvSpPr>
            <p:cNvPr id="107" name=""/>
            <p:cNvSpPr/>
            <p:nvPr/>
          </p:nvSpPr>
          <p:spPr>
            <a:xfrm>
              <a:off x="2700360" y="1612800"/>
              <a:ext cx="6167520" cy="58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360" y="1612800"/>
              <a:ext cx="511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провіднику пропорцiйна напрузцi на його кiнцях i обернено пропорцiйна опору провiдн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1280" y="175716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2733840" y="1601640"/>
              <a:ext cx="64764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411280" y="2476440"/>
            <a:ext cx="6481800" cy="733320"/>
            <a:chOff x="2411280" y="2476440"/>
            <a:chExt cx="6481800" cy="733320"/>
          </a:xfrm>
        </p:grpSpPr>
        <p:sp>
          <p:nvSpPr>
            <p:cNvPr id="112" name=""/>
            <p:cNvSpPr/>
            <p:nvPr/>
          </p:nvSpPr>
          <p:spPr>
            <a:xfrm>
              <a:off x="2700360" y="2487600"/>
              <a:ext cx="619272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7280" y="2476440"/>
              <a:ext cx="46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ила струму в колі пропорцiйна ЕРС, яка дiє в колi, i обернено пропорцiйна сумi опорiв кола i внутрiшнього опору джере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1280" y="27050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2773440" y="2492280"/>
              <a:ext cx="93492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3306600"/>
            <a:ext cx="6553440" cy="770040"/>
            <a:chOff x="2411280" y="3306600"/>
            <a:chExt cx="6553440" cy="770040"/>
          </a:xfrm>
        </p:grpSpPr>
        <p:sp>
          <p:nvSpPr>
            <p:cNvPr id="118" name=""/>
            <p:cNvSpPr/>
            <p:nvPr/>
          </p:nvSpPr>
          <p:spPr>
            <a:xfrm>
              <a:off x="2700360" y="3357720"/>
              <a:ext cx="619272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0360" y="3306600"/>
              <a:ext cx="482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Кількість теплоти, яку виділяє струм у провіднику, пропорційна квадрату сили струму, часу його проходження і опору провідник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357192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747880" y="3357720"/>
              <a:ext cx="1032120" cy="34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11280" y="4211640"/>
            <a:ext cx="6481800" cy="743040"/>
            <a:chOff x="2411280" y="4211640"/>
            <a:chExt cx="6481800" cy="743040"/>
          </a:xfrm>
        </p:grpSpPr>
        <p:sp>
          <p:nvSpPr>
            <p:cNvPr id="124" name=""/>
            <p:cNvSpPr/>
            <p:nvPr/>
          </p:nvSpPr>
          <p:spPr>
            <a:xfrm>
              <a:off x="2700360" y="4245120"/>
              <a:ext cx="6192720" cy="695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435600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лгебрична сума струмів, які збігаються у вузлі, дорівнює нулю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1280" y="4508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700360" y="4211640"/>
              <a:ext cx="10080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11280" y="5062680"/>
            <a:ext cx="6553440" cy="1020600"/>
            <a:chOff x="2411280" y="5062680"/>
            <a:chExt cx="6553440" cy="1020600"/>
          </a:xfrm>
        </p:grpSpPr>
        <p:sp>
          <p:nvSpPr>
            <p:cNvPr id="130" name=""/>
            <p:cNvSpPr/>
            <p:nvPr/>
          </p:nvSpPr>
          <p:spPr>
            <a:xfrm>
              <a:off x="2700360" y="5075280"/>
              <a:ext cx="626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075280"/>
              <a:ext cx="475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У будь – якому замкнутому контурі розгалуженого кола алгебрична сума ЕРС дорівнює алгебричній сумі добутків струмів на опори відповідних ділянок цого ко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1280" y="5435640"/>
              <a:ext cx="216000" cy="144360"/>
            </a:xfrm>
            <a:prstGeom prst="rightArrow">
              <a:avLst>
                <a:gd name="adj1" fmla="val 50000"/>
                <a:gd name="adj2" fmla="val 3740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2700360" y="5062680"/>
              <a:ext cx="1512720" cy="66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457200" y="272880"/>
            <a:ext cx="8400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892080"/>
          <a:ext cx="8229600" cy="58518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ожному стобчику таблиці кликните по вірній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860640"/>
            <a:ext cx="223920" cy="65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89720"/>
            <a:ext cx="29376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068640"/>
            <a:ext cx="414360" cy="78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2276640"/>
            <a:ext cx="37944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4508640"/>
            <a:ext cx="863640" cy="89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836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а нап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88080" y="3830760"/>
            <a:ext cx="245880" cy="72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22920" y="5442120"/>
            <a:ext cx="325440" cy="866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37120" y="3068640"/>
            <a:ext cx="378000" cy="7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35520" y="2176560"/>
            <a:ext cx="38412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3240" y="4660920"/>
            <a:ext cx="933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836640"/>
          <a:ext cx="8229600" cy="58514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604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кажному стобчику таблиці натисніть на вірні, на ваш погляд, відповіді. При вірній відповіді почуєте аплодисмен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иці вимірю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ьт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кроме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9" name="Заголовок 1"/>
          <p:cNvSpPr/>
          <p:nvPr/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ктричний опі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789360"/>
            <a:ext cx="244440" cy="72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1440" y="3040200"/>
            <a:ext cx="393840" cy="75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65600" y="2133720"/>
            <a:ext cx="411120" cy="863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4653000"/>
            <a:ext cx="91620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3280" y="5373720"/>
            <a:ext cx="5176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007640"/>
            <a:ext cx="9072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и послідовному з’єднанні провідників незмінною величиною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пруга;            б) сила струму;            в) опі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роботи електричного стру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закону Ома для ділянки к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значення ампермет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 регулювання сили струму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 вимірювання сили струму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 регулювання напруг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 вимірювання напр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ідно із законом Ома для ділянки кола, сила струму через відрізок металевого дроту, що підключений до джерела живлення, прямо пропорційн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довжині відрізку дроту,    б) опору відрізку дроту,   в) температурі дроту,   г) напрузі на клемах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е співвідношення завжди виконується при паралельному з’єднанні двох резисторів різного опор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2065320"/>
            <a:ext cx="746280" cy="284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00360" y="2089080"/>
            <a:ext cx="817560" cy="28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00720" y="1941480"/>
            <a:ext cx="728640" cy="55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236000" y="1862280"/>
            <a:ext cx="941040" cy="550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0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817560" y="2836800"/>
            <a:ext cx="888840" cy="28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627280" y="2781360"/>
            <a:ext cx="1012680" cy="60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4489560" y="2722680"/>
            <a:ext cx="63972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7226280" y="2708280"/>
            <a:ext cx="58572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точний контроль зн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рі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5734080"/>
          <a:ext cx="8425080" cy="446040"/>
        </p:xfrm>
        <a:graphic>
          <a:graphicData uri="http://schemas.openxmlformats.org/drawingml/2006/table">
            <a:tbl>
              <a:tblPr/>
              <a:tblGrid>
                <a:gridCol w="2106720"/>
                <a:gridCol w="2106720"/>
                <a:gridCol w="2106360"/>
                <a:gridCol w="21052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085760" y="5805360"/>
            <a:ext cx="666720" cy="32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798480" cy="323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5364000" y="5791320"/>
            <a:ext cx="704880" cy="323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7437600" y="5776920"/>
            <a:ext cx="7808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viktoria</cp:lastModifiedBy>
  <dcterms:modified xsi:type="dcterms:W3CDTF">2010-01-13T21:11:00Z</dcterms:modified>
  <cp:revision>162</cp:revision>
  <dc:subject>Электрический ток. Источники электрического тока.8 кл.</dc:subject>
  <dc:title>Источники то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b000000000001024140</vt:lpwstr>
  </property>
</Properties>
</file>