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58-805C-4ABA-9AEE-4219DC96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445-96A0-461B-BC32-04A0086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565-2670-43C8-96F7-48BF5CA4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5F9-44BF-4E5F-8BC7-7761BE4B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CCA-771F-4B00-A5B8-25AB0025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480-424E-4609-AF50-E46BA94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6D0-561A-4544-8A78-9DCF23C0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FE6-7057-454D-BCDE-A7CC132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A585-DAFC-43D9-9BBC-876C70BB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EEF2-69C2-43E5-9B51-BF28292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5C6-6BC3-4A16-B054-CD5C9A72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DFD-9319-49AD-BD1B-6302447C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CCC-09A1-4D09-8C77-BEC59BD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BB1-93F5-4882-8B9E-5402B9E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006-CEC2-42CD-AB3D-3A0AA08A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40B-FAA8-43FC-BE8D-90F3DF08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A600-1357-4E88-9AD2-DB712BC9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2E85A-CF2B-4986-A484-84E11BDD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67967-C6BB-4B30-88FF-F4C9C0E7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17A71-E6FF-404B-B084-F8A14A6A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3BC00-280D-4EC9-9BCF-0C4E3067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70AC5-122E-484D-9E93-A6AC2526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677-1F1A-4FE1-96ED-5017DF9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F1ED2-6808-404D-9FB5-06C8DFE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A7901-040F-4D55-9E92-AE0A121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94323-A7F4-427D-B863-AE73436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36E48-D924-4CD5-98C3-513E0A8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C5E57-D682-480A-8378-D0214C77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30637-AC95-4E11-8110-8C8CAA08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7C9AC-BDA1-4BE1-8483-88D9B952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C967-0346-4207-97BA-85F36518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90F0-2A6C-4D38-88B7-B4F9259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5F9D-BA46-45DF-84DC-0B00524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D69-8CBF-4799-A0D9-866D25F6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DA92-A4E4-4885-9480-FC5E7C5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B7E1-DE0D-4288-9E06-F1F6144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34CD-E13C-4532-81DA-514D667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97A5-A26E-493C-92D6-60A51A1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8A0C-02A7-4B6B-9498-DCEDA42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DD31-F9F3-449F-AF70-F9632EF8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7CDD-C897-4B73-AE2D-2003D60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91F3-BF1A-4031-91C0-ED9DBEF1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C0A1-C01C-4933-A64F-AE82E06A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BF5D9-D64A-4758-A4EE-5BCB8C00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404-9C51-4B28-9A08-69CA546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408B3-DE7C-4F56-9A41-70C8980B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05BD5-D4A0-4A5F-82A7-1E44029A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9E52A-ABE7-4E20-BCF2-4D5E8BF3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CD228-447D-4823-9AC8-E647A8D6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63155-DD74-49BF-B20F-EB0A66C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6E57F-7D16-444C-8520-64BF5A2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4D1D5-6271-49B6-9CB9-6C39A8D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BDABC-AADF-491F-A9C8-7B07674A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4B0D6-7BC8-4D8D-A3C2-1391B89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7C2B7-0D1D-4EB5-9268-A9B0A0F4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32A-9E0E-41D7-8A36-5561F31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CC284-F6C5-407A-8F9D-3E7F1CA9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320B7-F22D-454A-91D7-B008EDB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855D3-75C7-4378-B077-1649221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D9610-93AC-4003-A2F3-3D159E34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35F57-E65F-49C9-BD44-A149BB2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71D94-672A-46BB-A1C8-B03D23E3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140BF-FA74-4443-B3E0-CF1DAF6D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0D1E8-6C41-4B59-836B-4E8F8F8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CE827-E5F0-4B3D-BCCA-9FC7D8A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7B183-29EA-4C59-BDD4-A6C3E9B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C38-FF2F-49A4-A771-8B7D45D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9A05E-1CD2-4DFD-9CC5-6C93931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67A12-0269-4921-9FC2-822CC6E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EA25C-97E3-4D67-A68B-4863785D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80691-8A4B-44CC-827F-FCA85634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B080D-9538-421B-B380-62448ED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4270A-CF4E-4748-BC73-D0A4764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1AC2A-9E6D-4925-A44D-A17783DE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93998-915D-474F-B64C-F3217752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24C79-3145-4BF3-A309-B731533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DAC4F-4796-45B2-B8FD-4B9B502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4C5-3964-435C-8F1C-4B17825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8840D-797A-4B3B-9ADB-EEF7057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0B693-1D24-43AE-A941-7B2EA47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4D79E-3433-43D8-B441-DB106796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D2312-DB85-4DD9-9375-0D3BE3E3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6EF04-60A2-4658-87E0-8FFD625E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344-F012-40E5-AD50-41DFAA0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9B1-8874-45EC-8F0E-8D562DAEBB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610-B8BF-43A7-A879-DC95036D77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F2D-FBFD-42F9-8F8E-D6BAB5DED8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9F03-A0A5-45A8-ACEB-825D89F07A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FC3-81F0-4B0C-BEBB-E3FC300935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795-DDDB-48FF-967C-E940CC13CE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CD4-8336-4261-B13B-7F7A24CEA4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0200" y="356760"/>
            <a:ext cx="59580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b13f9a"/>
                </a:solidFill>
                <a:latin typeface="Century Schoolbook"/>
              </a:rPr>
              <a:t>ЕФЕКТИВНЕ ВИКОРИСТАННЯ ТЕПЛА</a:t>
            </a:r>
            <a:r>
              <a:rPr b="1" lang="ru-RU" sz="3000" spc="-1" strike="noStrike">
                <a:solidFill>
                  <a:srgbClr val="b13f9a"/>
                </a:solidFill>
                <a:latin typeface="Century Schoolbook"/>
              </a:rPr>
              <a:t>.</a:t>
            </a:r>
            <a:br>
              <a:rPr sz="3000"/>
            </a:b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4071600"/>
            <a:ext cx="61722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Втрати тепла в приміщенні з центральним опаленням й водопостачанням складаю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із-за не утеплених вікон і дверей – 40%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через віконниці – 15%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через стіни – 15%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через підлоги і стелю – 7%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Century Schoolbook"/>
              </a:rPr>
              <a:t>при використанні гарячої води – 23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AutoShape 27"/>
          <p:cNvSpPr/>
          <p:nvPr/>
        </p:nvSpPr>
        <p:spPr>
          <a:xfrm rot="5400000">
            <a:off x="4743000" y="2114640"/>
            <a:ext cx="1257480" cy="16002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2"/>
          <p:cNvSpPr/>
          <p:nvPr/>
        </p:nvSpPr>
        <p:spPr>
          <a:xfrm>
            <a:off x="4643280" y="242892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3"/>
          <p:cNvSpPr/>
          <p:nvPr/>
        </p:nvSpPr>
        <p:spPr>
          <a:xfrm>
            <a:off x="4857840" y="2428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 flipH="1">
            <a:off x="4643280" y="2643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1"/>
          <p:cNvSpPr/>
          <p:nvPr/>
        </p:nvSpPr>
        <p:spPr>
          <a:xfrm flipV="1">
            <a:off x="3929040" y="2643120"/>
            <a:ext cx="45720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"/>
          <p:cNvSpPr/>
          <p:nvPr/>
        </p:nvSpPr>
        <p:spPr>
          <a:xfrm flipH="1">
            <a:off x="5500800" y="2143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5357880" y="2500200"/>
            <a:ext cx="34272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 flipV="1">
            <a:off x="5143680" y="3071880"/>
            <a:ext cx="34272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H="1" flipV="1">
            <a:off x="4928760" y="2928600"/>
            <a:ext cx="22860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6000840" y="2500200"/>
            <a:ext cx="46080" cy="8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 flipV="1">
            <a:off x="6000840" y="2500200"/>
            <a:ext cx="460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4481640" y="127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4024440" y="6850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19800" y="964080"/>
            <a:ext cx="39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970360"/>
                <a:tab algn="l" pos="3743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3743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3743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3743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2"/>
          <p:cNvSpPr/>
          <p:nvPr/>
        </p:nvSpPr>
        <p:spPr>
          <a:xfrm>
            <a:off x="10440" y="157320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2404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5400000">
            <a:off x="4417920" y="2857320"/>
            <a:ext cx="630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b13f9a"/>
                </a:solidFill>
                <a:latin typeface="Century Schoolbook"/>
              </a:rPr>
              <a:t>ЗНАЧНО СКОРОТИТИ ВТРАТИ ТЕПЛА МОЖНА ТАКИМ ЧИНОМ: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560" y="2743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встановити пластикові вікна або своєчасно утеплити звичайні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утеплити внутрішню частину зовнішніх стін (пінопластові плити, дерев’яні панелі, алюмінієва фольга, гіпсокартон тощо),  ізольовані стіни швидко нагріваються і далі зберігають тепл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покрити підлогу товстими килимами чи доріжкам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розставити меблі так, щоб не перешкоджати проходженню повітря від батаре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штори не повинні закривати батареї центрального опалювання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видалити зайву фарбу з батарей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підтримувати вологість повітря 35-65% шляхом частого й короткочасного провітрюванн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бат"/>
          <p:cNvPicPr/>
          <p:nvPr/>
        </p:nvPicPr>
        <p:blipFill>
          <a:blip r:embed="rId1"/>
          <a:stretch/>
        </p:blipFill>
        <p:spPr>
          <a:xfrm>
            <a:off x="4000680" y="5143680"/>
            <a:ext cx="2000160" cy="149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b13f9a"/>
                </a:solidFill>
                <a:latin typeface="Century Schoolbook"/>
              </a:rPr>
              <a:t>ПРИ ВИКОРИСТАННІ ГАРЯЧОЇ  ВОДИ  ТРЕБА МАТИ НА УВАЗІ: 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через кран, з якого капає вода (10 краплин  хвилину) витікає 2000л води за рі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иймаючи ванну (140-180л), ви використовуєте втричі більше енергії ніж приймаючи душ 5 хвилин, розпилювачі на кранах дозволяють більш ефективно використовувати в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душ1"/>
          <p:cNvPicPr/>
          <p:nvPr/>
        </p:nvPicPr>
        <p:blipFill>
          <a:blip r:embed="rId1"/>
          <a:stretch/>
        </p:blipFill>
        <p:spPr>
          <a:xfrm>
            <a:off x="6215040" y="2500200"/>
            <a:ext cx="546120" cy="806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ванна"/>
          <p:cNvPicPr/>
          <p:nvPr/>
        </p:nvPicPr>
        <p:blipFill>
          <a:blip r:embed="rId2"/>
          <a:stretch/>
        </p:blipFill>
        <p:spPr>
          <a:xfrm>
            <a:off x="6357960" y="4857840"/>
            <a:ext cx="94284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b13f9a"/>
                </a:solidFill>
                <a:latin typeface="Century Schoolbook"/>
              </a:rPr>
              <a:t>ЕКОНОМІЯ ЕЛЕКТРОЕНЕРГІЇ В ПОБУТІ.</a:t>
            </a:r>
            <a:br>
              <a:rPr sz="3000"/>
            </a:b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ри економному використанні електроенергії, без шкоди комфортному проживанню можна скоротити використання електроенергії на 20-25%, дуже важливо раціональне використання електроенергії в осіньо - зимовий період і в години найбільшого її використання: з 8.00 до 10.00 і з 19.00 до 21.00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Освітлення приміщення складається з природного (через вікно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й штучного (за допомогою світильників). Кожне з них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овинно забезпечувати достатню освітленість приміщення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овинно бути рівномірним без різких тін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Рисунок 3" descr="J0233192.WMF"/>
          <p:cNvPicPr/>
          <p:nvPr/>
        </p:nvPicPr>
        <p:blipFill>
          <a:blip r:embed="rId1"/>
          <a:stretch/>
        </p:blipFill>
        <p:spPr>
          <a:xfrm>
            <a:off x="6143760" y="5000760"/>
            <a:ext cx="844560" cy="89208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4" descr="J0240111.WMF"/>
          <p:cNvPicPr/>
          <p:nvPr/>
        </p:nvPicPr>
        <p:blipFill>
          <a:blip r:embed="rId2"/>
          <a:stretch/>
        </p:blipFill>
        <p:spPr>
          <a:xfrm>
            <a:off x="7286760" y="3214800"/>
            <a:ext cx="1128600" cy="11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b13f9a"/>
                </a:solidFill>
                <a:latin typeface="Century Schoolbook"/>
              </a:rPr>
              <a:t>ПРИРОДНЕ ОСВІТЛЕННЯ ЗАЛЕЖИТЬ ВІД:</a:t>
            </a:r>
            <a:br>
              <a:rPr sz="2700"/>
            </a:b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чистоти віконниць (забруднене скло поглинає д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30 % світл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надмірна кількість квітів на підвіконні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близького розташування дерев біля будинку (ближче 5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розташування вікон відносно частин сві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(з південного боку вікна пропускаю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більше світл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здоблення стін і стелі (рекомендується світле оздобленн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Рисунок 3" descr="J0239353.WMF"/>
          <p:cNvPicPr/>
          <p:nvPr/>
        </p:nvPicPr>
        <p:blipFill>
          <a:blip r:embed="rId1"/>
          <a:stretch/>
        </p:blipFill>
        <p:spPr>
          <a:xfrm>
            <a:off x="7572240" y="2000160"/>
            <a:ext cx="498600" cy="1009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J0281255.WMF"/>
          <p:cNvPicPr/>
          <p:nvPr/>
        </p:nvPicPr>
        <p:blipFill>
          <a:blip r:embed="rId2"/>
          <a:stretch/>
        </p:blipFill>
        <p:spPr>
          <a:xfrm>
            <a:off x="6786720" y="3357720"/>
            <a:ext cx="1760400" cy="16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2700" spc="-1" strike="noStrike">
                <a:solidFill>
                  <a:srgbClr val="b13f9a"/>
                </a:solidFill>
                <a:latin typeface="Century Schoolbook"/>
              </a:rPr>
              <a:t>У  ПРИМІЩЕННІ  ВИКОРИСТОВУЮТЬ ТРИ СИСТЕМИ ШТУЧНОГО ОСВІТЛЕННЯ:</a:t>
            </a:r>
            <a:br>
              <a:rPr sz="2700"/>
            </a:b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entury Schoolbook"/>
              </a:rPr>
              <a:t>загальне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 – забезпечуються найпотужнішими світильникам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розташованими в центрі стелі (на 1кв.м. приміщення бут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15-25Вт міцності ламп напруження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entury Schoolbook"/>
              </a:rPr>
              <a:t>місцеве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 – забезпечую необхідне освітлення у певни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місцях за допомогою спеціальних світильників з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лампами напруження 60-100Вт (в залежності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від роботи, яка виконується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entury Schoolbook"/>
              </a:rPr>
              <a:t>комбіноване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– досягається використанням місцевого і загальног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3" descr="J0281206.WMF"/>
          <p:cNvPicPr/>
          <p:nvPr/>
        </p:nvPicPr>
        <p:blipFill>
          <a:blip r:embed="rId1"/>
          <a:stretch/>
        </p:blipFill>
        <p:spPr>
          <a:xfrm>
            <a:off x="7143840" y="1785960"/>
            <a:ext cx="1143000" cy="13208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J0287294.WMF"/>
          <p:cNvPicPr/>
          <p:nvPr/>
        </p:nvPicPr>
        <p:blipFill>
          <a:blip r:embed="rId2"/>
          <a:stretch/>
        </p:blipFill>
        <p:spPr>
          <a:xfrm>
            <a:off x="7572240" y="3500280"/>
            <a:ext cx="868320" cy="1257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6" descr="J0281206.WMF"/>
          <p:cNvPicPr/>
          <p:nvPr/>
        </p:nvPicPr>
        <p:blipFill>
          <a:blip r:embed="rId3"/>
          <a:stretch/>
        </p:blipFill>
        <p:spPr>
          <a:xfrm>
            <a:off x="6000840" y="5357880"/>
            <a:ext cx="1143000" cy="1320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7" descr="J0287295.WMF"/>
          <p:cNvPicPr/>
          <p:nvPr/>
        </p:nvPicPr>
        <p:blipFill>
          <a:blip r:embed="rId4"/>
          <a:stretch/>
        </p:blipFill>
        <p:spPr>
          <a:xfrm>
            <a:off x="7000920" y="5268960"/>
            <a:ext cx="1195200" cy="15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b13f9a"/>
                </a:solidFill>
                <a:latin typeface="Century Schoolbook"/>
              </a:rPr>
              <a:t>ЕКОНОМІЯ ЕЛЕКТРОЕНЕРГІЇ ПРИ ШТУЧНОМУ ОСВІТЛЕННІ ДОСЯГАЄТЬСЯ:</a:t>
            </a:r>
            <a:br>
              <a:rPr sz="2700"/>
            </a:b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91" name="Picture 6" descr="люм лампа"/>
          <p:cNvPicPr/>
          <p:nvPr/>
        </p:nvPicPr>
        <p:blipFill>
          <a:blip r:embed="rId1"/>
          <a:stretch/>
        </p:blipFill>
        <p:spPr>
          <a:xfrm>
            <a:off x="263520" y="2500200"/>
            <a:ext cx="493560" cy="857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лампа"/>
          <p:cNvPicPr/>
          <p:nvPr/>
        </p:nvPicPr>
        <p:blipFill>
          <a:blip r:embed="rId2"/>
          <a:stretch/>
        </p:blipFill>
        <p:spPr>
          <a:xfrm>
            <a:off x="5715000" y="2500200"/>
            <a:ext cx="428760" cy="709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люм лампа"/>
          <p:cNvPicPr/>
          <p:nvPr/>
        </p:nvPicPr>
        <p:blipFill>
          <a:blip r:embed="rId3"/>
          <a:stretch/>
        </p:blipFill>
        <p:spPr>
          <a:xfrm>
            <a:off x="4143240" y="2379600"/>
            <a:ext cx="685800" cy="1192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" descr="лампа"/>
          <p:cNvPicPr/>
          <p:nvPr/>
        </p:nvPicPr>
        <p:blipFill>
          <a:blip r:embed="rId4"/>
          <a:stretch/>
        </p:blipFill>
        <p:spPr>
          <a:xfrm>
            <a:off x="1500120" y="2786040"/>
            <a:ext cx="208080" cy="3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лампа"/>
          <p:cNvPicPr/>
          <p:nvPr/>
        </p:nvPicPr>
        <p:blipFill>
          <a:blip r:embed="rId5"/>
          <a:stretch/>
        </p:blipFill>
        <p:spPr>
          <a:xfrm>
            <a:off x="1571760" y="3071880"/>
            <a:ext cx="207720" cy="342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лампа"/>
          <p:cNvPicPr/>
          <p:nvPr/>
        </p:nvPicPr>
        <p:blipFill>
          <a:blip r:embed="rId6"/>
          <a:stretch/>
        </p:blipFill>
        <p:spPr>
          <a:xfrm>
            <a:off x="1785960" y="2428920"/>
            <a:ext cx="208080" cy="3427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2"/>
          <p:cNvSpPr/>
          <p:nvPr/>
        </p:nvSpPr>
        <p:spPr>
          <a:xfrm>
            <a:off x="785880" y="1482120"/>
            <a:ext cx="678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им вибором типа освіт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чистих ламп і світильників (забруднені пропускають на 30% світла менш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1000080" y="364824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компактних  люмінесцентних ламп (служать у 8 разів довше), використовують енергії в 4-5 разів менше ніж лампи напру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лампа"/>
          <p:cNvPicPr/>
          <p:nvPr/>
        </p:nvPicPr>
        <p:blipFill>
          <a:blip r:embed="rId7"/>
          <a:stretch/>
        </p:blipFill>
        <p:spPr>
          <a:xfrm>
            <a:off x="1428840" y="2428920"/>
            <a:ext cx="207720" cy="342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лампа"/>
          <p:cNvPicPr/>
          <p:nvPr/>
        </p:nvPicPr>
        <p:blipFill>
          <a:blip r:embed="rId8"/>
          <a:stretch/>
        </p:blipFill>
        <p:spPr>
          <a:xfrm>
            <a:off x="1857240" y="2786040"/>
            <a:ext cx="208080" cy="3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лампа"/>
          <p:cNvPicPr/>
          <p:nvPr/>
        </p:nvPicPr>
        <p:blipFill>
          <a:blip r:embed="rId9"/>
          <a:stretch/>
        </p:blipFill>
        <p:spPr>
          <a:xfrm>
            <a:off x="1928880" y="3143160"/>
            <a:ext cx="207720" cy="343080"/>
          </a:xfrm>
          <a:prstGeom prst="rect">
            <a:avLst/>
          </a:prstGeom>
          <a:ln w="0">
            <a:noFill/>
          </a:ln>
        </p:spPr>
      </p:pic>
      <p:sp>
        <p:nvSpPr>
          <p:cNvPr id="403" name="Равно 20"/>
          <p:cNvSpPr/>
          <p:nvPr/>
        </p:nvSpPr>
        <p:spPr>
          <a:xfrm>
            <a:off x="785880" y="2714760"/>
            <a:ext cx="642960" cy="642960"/>
          </a:xfrm>
          <a:custGeom>
            <a:avLst/>
            <a:gdLst/>
            <a:ahLst/>
            <a:rect l="l" t="t" r="r" b="b"/>
            <a:pathLst>
              <a:path w="642937" h="642938">
                <a:moveTo>
                  <a:pt x="85221" y="146301"/>
                </a:moveTo>
                <a:lnTo>
                  <a:pt x="557716" y="146301"/>
                </a:lnTo>
                <a:lnTo>
                  <a:pt x="557716" y="297520"/>
                </a:lnTo>
                <a:lnTo>
                  <a:pt x="85221" y="297520"/>
                </a:lnTo>
                <a:lnTo>
                  <a:pt x="85221" y="146301"/>
                </a:lnTo>
                <a:close/>
                <a:moveTo>
                  <a:pt x="85221" y="345418"/>
                </a:moveTo>
                <a:lnTo>
                  <a:pt x="557716" y="345418"/>
                </a:lnTo>
                <a:lnTo>
                  <a:pt x="557716" y="496637"/>
                </a:lnTo>
                <a:lnTo>
                  <a:pt x="85221" y="496637"/>
                </a:lnTo>
                <a:lnTo>
                  <a:pt x="85221" y="345418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7:37Z</dcterms:created>
  <dc:creator>Admin</dc:creator>
  <dc:description/>
  <dc:language>en-US</dc:language>
  <cp:lastModifiedBy>User</cp:lastModifiedBy>
  <dcterms:modified xsi:type="dcterms:W3CDTF">2011-08-10T15:22:34Z</dcterms:modified>
  <cp:revision>15</cp:revision>
  <dc:subject/>
  <dc:title>Ефективне використання тепла. </dc:title>
</cp:coreProperties>
</file>