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17.wmf" ContentType="image/x-wmf"/>
  <Override PartName="/ppt/media/image5.jpeg" ContentType="image/jpeg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5.jpeg" ContentType="image/jpeg"/>
  <Override PartName="/ppt/media/image26.wmf" ContentType="image/x-wmf"/>
  <Override PartName="/ppt/media/image23.jpeg" ContentType="image/jpeg"/>
  <Override PartName="/ppt/media/image25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564-8CC9-4B8C-A61D-5EDD7103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EC9-98D7-4B07-8445-EAD5846B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646-3421-44EC-BD95-97E89BC6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2C1-131C-4B81-A8AF-B89AFF92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6A9-2C0B-488E-85BC-BC7C3581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DB4-83B8-48AC-8F8D-688E0B8A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A47-6167-469F-9E0E-2DB7DD59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CF5-21CC-4EF5-8542-01A2F6A6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7E0-B54C-4E9D-8DE1-7840633C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A6C-6FBF-4C02-87BE-4C1DAFD2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51D-3FFA-45CD-AAA5-4FC3359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253-5243-47C6-BFBB-D1DEBB1F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BA1A-66A9-4988-865D-C4176E9D6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25.xml"/><Relationship Id="rId7" Type="http://schemas.openxmlformats.org/officeDocument/2006/relationships/slide" Target="slide32.xml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робки уроків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Електричне пол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ідготувала  вчитель фі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ахманенко С. М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Шосткинської загальноосвітньої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школи І-ІІІ ступенів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5305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9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4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9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4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яснити поняття електричного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казати на досліді подільність електричного заряд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арактеризувати електрон,як носій елементарного електричного заряд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формулювати закон збереження заря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лектричне по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лива форма матерії, що існує навколо заряджених тіл і діє з деякою силою на інші частинки або тіла, які мають електричний заря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0384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слід  Міллікена - Йофф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136" b="-25"/>
          <a:stretch/>
        </p:blipFill>
        <p:spPr>
          <a:xfrm>
            <a:off x="468360" y="2060640"/>
            <a:ext cx="3610080" cy="204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40360" y="1486080"/>
            <a:ext cx="431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крапл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іють дві с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тяжінн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яж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оку електричного п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л -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прямлена вгору,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яж — у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мова рівноваги крап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яж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сновок 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= N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йменший  заряд є зарядом елект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 = -1,6 10 -19 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кон збереження заря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ний заряд замкненої системи тіл залишається незмінним під час усіх взаємодій, які відбуваються в цій системі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…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питання до клас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має електричний заряд межу подільност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 називають частинку з найменшим електричним заряд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може деяка частинка мати електричний заряд, який менше від заряду електрона в 2 рази? Перевищує заряд електрона в1,2 рази?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рацювати п.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’язати задачу  №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увати інформацію про вплив електричних полів на живі організ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9930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заємодія заряджених тіл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Лабораторна робота №1 «Дослідження взаємодії заряджених ті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362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яснити явище електризац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вчити будову та принцип дії електроско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итання 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им відрізняється простір навколо заряджених тіл від простору навколо незарядже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им створюється й на що діє електрична сила взаємодії заряджених ті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 можна виявити електричне п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и будуть взаємодіяти порошинка та  куля на Місяці, де відсутня атм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ликає зменшення адаптивних резервів організм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імунітет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цездатності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 його впливом у людини розвивається синдром хронічної вто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ється ризик захворюв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900000" y="260280"/>
            <a:ext cx="7848720" cy="6609960"/>
            <a:chOff x="900000" y="260280"/>
            <a:chExt cx="7848720" cy="6609960"/>
          </a:xfrm>
        </p:grpSpPr>
        <p:grpSp>
          <p:nvGrpSpPr>
            <p:cNvPr id="80" name=""/>
            <p:cNvGrpSpPr/>
            <p:nvPr/>
          </p:nvGrpSpPr>
          <p:grpSpPr>
            <a:xfrm>
              <a:off x="1585800" y="260280"/>
              <a:ext cx="7162920" cy="6597720"/>
              <a:chOff x="1585800" y="260280"/>
              <a:chExt cx="7162920" cy="65977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1585800" y="549360"/>
                <a:ext cx="5581800" cy="6308640"/>
                <a:chOff x="1585800" y="549360"/>
                <a:chExt cx="5581800" cy="6308640"/>
              </a:xfrm>
            </p:grpSpPr>
            <p:pic>
              <p:nvPicPr>
                <p:cNvPr id="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85800" y="549360"/>
                  <a:ext cx="5581800" cy="630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3203640" y="692280"/>
                  <a:ext cx="11523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4284720" y="404640"/>
                <a:ext cx="3095640" cy="245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4788000" y="260280"/>
                <a:ext cx="3960720" cy="1600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ЯК ВИПРОМІНЮВАННЯ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ТЕЛЕФОНУ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ВПЛИВАЄ НА МОЗОК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67280" y="2852640"/>
                <a:ext cx="2808360" cy="15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000000"/>
                    </a:solidFill>
                    <a:latin typeface="Arial"/>
                  </a:rPr>
                  <a:t>- ділянка головного мозку на яку діє випромінюва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6084720" y="4437000"/>
              <a:ext cx="136692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6516720" y="4653000"/>
              <a:ext cx="178416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росл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юдин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122800"/>
              <a:ext cx="2987640" cy="174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По даним групи “Мобільний зв’язок і здоров’я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Великобритан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ок №1 Електризація тіл. Два роди  електричних зарядів.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Урок №2 Електричне поле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Дискретність  електричного заряду. Електрон. Будова атома. Закон  збереження електричного заряд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рок №3.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заємодія заряджених тіл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 Лабораторна робота №1 «Дослідження взаємодії заряджених тіл»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Урок №4  Закон Кулона</a:t>
            </a:r>
            <a:br>
              <a:rPr sz="2400"/>
            </a:br>
            <a:br>
              <a:rPr sz="2400"/>
            </a:b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Урок 5  Розв’язування задач на закон Кулона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Урок 6. Контрольна робо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ериканські і шведські учені незалежно один від одного встановили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безпечну для здоров'я людин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ежу інтенсивності електромагнітних полів -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0,2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кТл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(мікротесл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Arial"/>
              </a:rPr>
              <a:t>Дані про рівні випромінювання деяких побутових приладі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Холодильник (оснащений системо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os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на відстані 1 м від дверець) -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инкова електропроводка - перевищує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ичний чайник - 0,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льна машина -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плита - 1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 на відстані 20 -30 см від передньої панелі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ч - піч - 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на відстані 30 с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міська електричка -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рамвай, тролейбус - 3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станції метро (при відправленні потягу) - 50 - 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илосос - 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вагоні метро - 150 - 2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бритва - декілька сотен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при доти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24720" y="2637000"/>
            <a:ext cx="136044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6000" y="5157720"/>
            <a:ext cx="17287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000"/>
                            </p:stCondLst>
                            <p:childTnLst>
                              <p:par>
                                <p:cTn id="6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���� : �������� ��� ���-������� ���-60 � ���-60-� "/>
          <p:cNvPicPr/>
          <p:nvPr/>
        </p:nvPicPr>
        <p:blipFill>
          <a:blip r:embed="rId1"/>
          <a:stretch/>
        </p:blipFill>
        <p:spPr>
          <a:xfrm>
            <a:off x="611280" y="1557360"/>
            <a:ext cx="1752480" cy="1886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628640"/>
            <a:ext cx="2095200" cy="169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3171960" cy="2523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Врач-физиотерапевт"/>
          <p:cNvPicPr/>
          <p:nvPr/>
        </p:nvPicPr>
        <p:blipFill>
          <a:blip r:embed="rId5"/>
          <a:stretch/>
        </p:blipFill>
        <p:spPr>
          <a:xfrm>
            <a:off x="684360" y="386064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635280" y="4365720"/>
            <a:ext cx="2086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6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яснення явища електризації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изація  терт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изація  через впли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слід1.Притягання до наелектризованої палички клаптиків пап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4029120" cy="2229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2543" t="0" r="0" b="-620"/>
          <a:stretch/>
        </p:blipFill>
        <p:spPr>
          <a:xfrm>
            <a:off x="4859280" y="3933720"/>
            <a:ext cx="3297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9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Будова  електроскоп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090960" cy="439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08360" y="2349360"/>
            <a:ext cx="4967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індикатор (паперові смужк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 — металевий стриж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корпу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діелектрик у місці кріплення стриж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— конду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7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3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7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9000"/>
                            </p:stCondLst>
                            <p:childTnLst>
                              <p:par>
                                <p:cTn id="7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3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7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3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3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7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7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§ 3 прочита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нати домашні експериментальні завдання стр.4-6 (Ф,Я. Божинова Зошит для лабораторних робі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акон Кулона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вчити закон Куло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’яснити учням фізичне значення закону Кулона й указати межі його застосуван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вати вміння розв’язувати задачі на закон Кул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вати навички самостійної  роб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500"/>
                            </p:stCondLst>
                            <p:childTnLst>
                              <p:par>
                                <p:cTn id="8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500"/>
                            </p:stCondLst>
                            <p:childTnLst>
                              <p:par>
                                <p:cTn id="8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00"/>
                            </p:stCondLst>
                            <p:childTnLst>
                              <p:par>
                                <p:cTn id="8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9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ослідіть взаємодію заряджених ті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міть дві повітряні кульки. Підвісьте їх на нитках завдовжки приблизно 1 м на невеликій відстані одна від одної. Потріть обидві кульки шматком вовняної тканини. Що ви спостерігаєте? Поясніть це я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електризуйте гумову кулю тертям об вовняну тканину, а цело­фанову смужку — тертям об папір. Піднесіть смужку до кулі. Що ви спостерігаєте? Поясніть це явищ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слідіть взаємодію зарядженого й незарядженого тіл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електризуйте пластмасову ручку тертям об вовняну тканину й піднесіть до дрібно нарізаних шматочків паперу; до тоненького струменю води, що тече з крана. Що ви спостерігаєте? Поясніть це я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  Наелектризуйте повітряну кульку тертям об вовняну тканину, притуліть кульку до стіни або злегка підкиньте до стелі. Що ви спостерігаєте? Поясніть це я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кон Кул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та відкриття закону – 1785 рі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тематичний запис зако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ла взаємодії двох точкових зарядів (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 коефіцієнт пропорційності(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∙10</a:t>
            </a:r>
            <a:r>
              <a:rPr b="1" lang="uk-UA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1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Н∙м</a:t>
            </a:r>
            <a:r>
              <a:rPr b="1" lang="uk-UA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Кл</a:t>
            </a:r>
            <a:r>
              <a:rPr b="1" lang="uk-UA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електричний заряд(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відстань між зарядами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56000" y="2852640"/>
            <a:ext cx="25207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9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4500"/>
                            </p:stCondLst>
                            <p:childTnLst>
                              <p:par>
                                <p:cTn id="9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500"/>
                            </p:stCondLst>
                            <p:childTnLst>
                              <p:par>
                                <p:cTn id="9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9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6500"/>
                            </p:stCondLst>
                            <p:childTnLst>
                              <p:par>
                                <p:cTn id="9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9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или Кул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835360" cy="1703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2590560" cy="1747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80000" y="177336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заємодія  однойменних заря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4653000"/>
            <a:ext cx="36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заємодія  різнойменних заря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500"/>
                            </p:stCondLst>
                            <p:childTnLst>
                              <p:par>
                                <p:cTn id="9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500"/>
                            </p:stCondLst>
                            <p:childTnLst>
                              <p:par>
                                <p:cTn id="9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78469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Електризація тіл. Два роди  </a:t>
            </a: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електричних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зарядів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335736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глянути електризацію ті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вести поняття про електричний заря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а види електричних заряді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міння виконувати експериментальні завдан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4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2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8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7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бота в груп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 текстом  підручника (с.20-21), дати відповідь на пит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Дослід Ку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алежність сили від середо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начення постійної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9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9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9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рацювати п.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і на питання 1сторінка 24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ідомлення про життя і діяль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. Кул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9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9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9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озв’язування задач на закон Кулона.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Мета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воєння знань п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лектричну взаємоді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кон Кул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умінь і навич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яснювати фізичні явищ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зв’язувати задачі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чітко виражати свої думк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ивати мислення, уміння спостерігати, узагальнюва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культуру розумової праці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31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озв’язання тестових завда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404640"/>
            <a:ext cx="8569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. Як передати електричний заряд від одного тіла до іншог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Доторкнутися до наелектризованого тіла. Б)Потерти наелектризоване тіло папе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) Передати заряд від одного тіла до іншого неможли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. Які з трьох заряджених тіл на рисунку притягуються між собо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9640" y="1484280"/>
            <a:ext cx="1657440" cy="1073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700360" y="1413000"/>
            <a:ext cx="34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3 й 1; 3 й 2; 2 й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) Жодна пара не притягує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)Тільки 2 й 3, 2 й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)Тільки 3 й 2, 3 й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4680" y="2443680"/>
            <a:ext cx="61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3. У якому випадку заряд другої кульки негативни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835280" y="2781360"/>
            <a:ext cx="80964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916360" y="2781360"/>
            <a:ext cx="80964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067280" y="2852640"/>
            <a:ext cx="790560" cy="76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5640" y="364500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                          Б                       В                      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3933720"/>
            <a:ext cx="561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4. В результаті чого відбувається електризація ті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Через відсутність будь-яких заряд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) У результаті переміщення позитивних заряд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)У результаті переміщення негативних заряд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79736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5. Формула закону Кулона для двох точкових нерухомих заряджених тіл у вакуумі має вигля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116000" y="5300640"/>
            <a:ext cx="905040" cy="409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916360" y="5229360"/>
            <a:ext cx="904680" cy="428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492280"/>
            <a:ext cx="8893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5148360" y="5300640"/>
            <a:ext cx="619200" cy="257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5300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522936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)                                    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5589720"/>
            <a:ext cx="80661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6. Як зміниться сила взаємодії двох точкових електричних зарядів у разі зменшення відстані між ними у 2 раз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Зменшиться у 2 рази.     Б)Не зміни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)Збільшиться в 4 рази   Г) Зменшиться в 4 раз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Розв’язання задач самостійно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Скільки електронів потрібно перенести з однієї порошинки на іншу, щоб сила кулонівської взаємодії між ними на відстані 1см дорівнювала 10 мкН ? ( 2109 електрон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На якій відстані потрібно розташувати два заряд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5 </a:t>
            </a:r>
            <a:r>
              <a:rPr b="0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 і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 6 </a:t>
            </a:r>
            <a:r>
              <a:rPr b="0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, щоб вони відштовхува-лися із силою 12</a:t>
            </a:r>
            <a:r>
              <a:rPr b="0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? (відповідь: 15 м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9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9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Поясни явищ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1.Рух гільзи між кульками електро-форної  маш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) електрофорна машина незаряджена, гільза знаходиться в спокої між куль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) надали заряд кулькам, гільза почала рухатись від одної кульки до іншої.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Як пояснити рух гільзи? Як довго буде тривати проце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2.Обертання дерев’яної ліні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) Прикріпимо лінійку на стержень, вона знаходиться в споко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)піднесемо заряджену ебонітову паличку, лінійка почала обертат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Чому рухається ліній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рацювати п.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’язати  задачі 4, 5* сторінка 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вила техніки безпеки під час виконання і експериментальних завд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 початку робо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 Ознайомтеся з описом експериментального завдан­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  Будьте уважні й дисциплінова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  Розміщайте прилади й матеріали так, щоб уникнути їх паді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 час робо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  Не допускайте падіння приладів і матеріалі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  Будьте обережні зі скляними паличками й електро­мет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  Користуйтеся приладами за їхнім призначенн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  Під час виконання роботи не хвилюйтеся. Вологі до­лоні не дозволять якісно провести експериментальні завд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сля завершення робо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Повідомте вчителеві про завершення роб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Покладіть прилади й матеріали так, як вони були пок­ладені до початку роб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Електричний заря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ізична величина, яка характеризує властивість частинок або тіл вступати в електромагнітну взаємоді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ицею електричного заряду в СІ є кулон (К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значають  символо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новні властивості електричного заря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снує два роди заряді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озитивні та негативні заря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іла, що мають заряди одного знака, відштовхують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іла, що мають заряди протилежних знакі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ритягую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осієм електричного заряду є част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Електричний заряд є дискретн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айменший негативний заряд має електрон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 = -1,6</a:t>
            </a:r>
            <a:r>
              <a:rPr b="0" lang="uk-UA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0" lang="uk-UA" sz="28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К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88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72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7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8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2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68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Експериментальні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 Електризація. Способи електризації тіл. Спостереження електризації паперу під час руху по ньому гумового ва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лади й матеріали: суха скляна пластинка, аркуш паперу, гумовий вал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  Спостереження електризації піску й лійки як двох різнорідних тіл у процесі зіткн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лади й матеріали: пластмасова лійка, штатив, електро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§ 1 прочита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увати повідомлення «Застосування явища електризації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сти  кросворд за §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нати експериментальні завдання сторінка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Електричне поле.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искретність  електричного заряду.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лектрон. Будова атома.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кон  збереження електричного заряд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0" t="0" r="90" b="-122"/>
          <a:stretch/>
        </p:blipFill>
        <p:spPr>
          <a:xfrm>
            <a:off x="1619280" y="4168800"/>
            <a:ext cx="2808360" cy="207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0" t="0" r="-39" b="-1650"/>
          <a:stretch/>
        </p:blipFill>
        <p:spPr>
          <a:xfrm>
            <a:off x="5003640" y="4149720"/>
            <a:ext cx="2592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6:58:47Z</dcterms:created>
  <dc:creator>SamLab.ws</dc:creator>
  <dc:description/>
  <dc:language>en-US</dc:language>
  <cp:lastModifiedBy>SamLab.ws</cp:lastModifiedBy>
  <dcterms:modified xsi:type="dcterms:W3CDTF">2010-05-24T10:34:48Z</dcterms:modified>
  <cp:revision>33</cp:revision>
  <dc:subject/>
  <dc:title>Електризація тіл. Два роди  електричних зарядів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9000000000001024140</vt:lpwstr>
  </property>
</Properties>
</file>