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7.png" ContentType="image/png"/>
  <Override PartName="/ppt/media/image1.jpeg" ContentType="image/jpeg"/>
  <Override PartName="/ppt/media/image22.jpeg" ContentType="image/jpeg"/>
  <Override PartName="/ppt/media/image6.gif" ContentType="image/gif"/>
  <Override PartName="/ppt/media/image17.wmf" ContentType="image/x-wmf"/>
  <Override PartName="/ppt/media/image5.jpeg" ContentType="image/jpeg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5.jpeg" ContentType="image/jpeg"/>
  <Override PartName="/ppt/media/image26.wmf" ContentType="image/x-wmf"/>
  <Override PartName="/ppt/media/image23.jpeg" ContentType="image/jpeg"/>
  <Override PartName="/ppt/media/image25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275-BE50-4984-85C8-EC71CA71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3DF-CDFE-4417-8F8D-F592D0D7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851-18C1-4D3A-8D67-154D94AE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BFA-E527-4B38-B069-6EE45397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8B4-9B83-4D44-B343-3EFD7A79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AE0-AFC2-4A2C-892D-C261CB7B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A22-47C0-401F-B633-32185B7E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37E-78C1-450F-B454-FB1BD603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B42-18E8-472C-85D9-09D2C088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D86-DEB8-4073-8CED-9CC3E8F3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248-52D4-4463-AE13-E9C52838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2B7-F009-425B-9773-09562720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3AB3-E935-42B1-AB6F-C03F0C188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25.xml"/><Relationship Id="rId7" Type="http://schemas.openxmlformats.org/officeDocument/2006/relationships/slide" Target="slide32.xml"/><Relationship Id="rId8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зробки уроків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Електричне пол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ідготувала  вчитель фі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ахманенко С. М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Шосткинської загальноосвітньої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школи І-ІІІ ступенів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5305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9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9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4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9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4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Мета урок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яснити поняття електричного пол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казати на досліді подільність електричного заряд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арактеризувати електрон,як носій елементарного електричного заряд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формулювати закон збереження заря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лектричне пол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облива форма матерії, що існує навколо заряджених тіл і діє з деякою силою на інші частинки або тіла, які мають електричний заря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0384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слід  Міллікена - Йофф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136" b="-25"/>
          <a:stretch/>
        </p:blipFill>
        <p:spPr>
          <a:xfrm>
            <a:off x="468360" y="2060640"/>
            <a:ext cx="3610080" cy="2046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40360" y="1486080"/>
            <a:ext cx="431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крапл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іють дві с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ла тяжінн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тяж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л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е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боку електричного по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ел -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прямлена вгору,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яж — у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мова рівноваги крап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тяж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е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сновок 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= N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йменший  заряд є зарядом електр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 = -1,6 10 -19 К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кон збереження заря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ний заряд замкненої системи тіл залишається незмінним під час усіх взаємодій, які відбуваються в цій системі 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…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9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питання до клас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має електричний заряд межу подільност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 називають частинку з найменшим електричним заряд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може деяка частинка мати електричний заряд, який менше від заряду електрона в 2 рази? Перевищує заряд електрона в1,2 рази?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рацювати п.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’язати задачу  №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готувати інформацію про вплив електричних полів на живі організ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9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9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9930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заємодія заряджених тіл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 Лабораторна робота №1 «Дослідження взаємодії заряджених ті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3284280"/>
            <a:ext cx="8362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Мета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яснити явище електризації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вчити будову та принцип дії електроско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итання 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им відрізняється простір навколо заряджених тіл від простору навколо незаряджен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им створюється й на що діє електрична сила взаємодії заряджених ті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 можна виявити електричне п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и будуть взаємодіяти порошинка та  куля на Місяці, де відсутня атм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ликає зменшення адаптивних резервів організм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ниження імунітету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цездатності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 його впливом у людини розвивається синдром хронічної вто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ується ризик захворюв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900000" y="260280"/>
            <a:ext cx="7848720" cy="6609960"/>
            <a:chOff x="900000" y="260280"/>
            <a:chExt cx="7848720" cy="6609960"/>
          </a:xfrm>
        </p:grpSpPr>
        <p:grpSp>
          <p:nvGrpSpPr>
            <p:cNvPr id="80" name=""/>
            <p:cNvGrpSpPr/>
            <p:nvPr/>
          </p:nvGrpSpPr>
          <p:grpSpPr>
            <a:xfrm>
              <a:off x="1585800" y="260280"/>
              <a:ext cx="7162920" cy="6597720"/>
              <a:chOff x="1585800" y="260280"/>
              <a:chExt cx="7162920" cy="65977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1585800" y="549360"/>
                <a:ext cx="5581800" cy="6308640"/>
                <a:chOff x="1585800" y="549360"/>
                <a:chExt cx="5581800" cy="6308640"/>
              </a:xfrm>
            </p:grpSpPr>
            <p:pic>
              <p:nvPicPr>
                <p:cNvPr id="8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85800" y="549360"/>
                  <a:ext cx="5581800" cy="630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3203640" y="692280"/>
                  <a:ext cx="11523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4284720" y="404640"/>
                <a:ext cx="3095640" cy="245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4788000" y="260280"/>
                <a:ext cx="3960720" cy="1600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ЯК ВИПРОМІНЮВАННЯ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ТЕЛЕФОНУ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ВПЛИВАЄ НА МОЗОК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67280" y="2852640"/>
                <a:ext cx="2808360" cy="155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400" spc="-1" strike="noStrike">
                    <a:solidFill>
                      <a:srgbClr val="000000"/>
                    </a:solidFill>
                    <a:latin typeface="Arial"/>
                  </a:rPr>
                  <a:t>- ділянка головного мозку на яку діє випромінюванн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6084720" y="4437000"/>
              <a:ext cx="1366920" cy="70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6516720" y="4653000"/>
              <a:ext cx="178416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доросл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людин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122800"/>
              <a:ext cx="2987640" cy="174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По даним групи “Мобільний зв’язок і здоров’я”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Великобритан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ок №1 Електризація тіл. Два роди  електричних зарядів.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Урок №2 Електричне поле.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Дискретність  електричного заряду. Електрон. Будова атома. Закон  збереження електричного заряду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рок №3.</a:t>
            </a: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заємодія заряджених тіл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. Лабораторна робота №1 «Дослідження взаємодії заряджених тіл»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Урок №4  Закон Кулона</a:t>
            </a:r>
            <a:br>
              <a:rPr sz="2400"/>
            </a:br>
            <a:br>
              <a:rPr sz="2400"/>
            </a:b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Урок 5  Розв’язування задач на закон Кулона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Урок 6. Контрольна робот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мериканські і шведські учені незалежно один від одного встановили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безпечну для здоров'я людин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межу інтенсивності електромагнітних полів -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0,2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мкТл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 (мікротесл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Arial"/>
              </a:rPr>
              <a:t>Дані про рівні випромінювання деяких побутових приладі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Холодильник (оснащений системо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rost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- на відстані 1 м від дверець) - 0,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динкова електропроводка - перевищує 0,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ичний чайник - 0,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альна машина -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плита - 1-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 на відстані 20 -30 см від передньої панелі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вч - піч - 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на відстані 30 с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міська електричка - 2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рамвай, тролейбус - 3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 станції метро (при відправленні потягу) - 50 - 1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илосос - 1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вагоні метро - 150 - 2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лектробритва - декілька сотен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кТл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(при доти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24720" y="2637000"/>
            <a:ext cx="1360440" cy="1726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236000" y="5157720"/>
            <a:ext cx="17287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0"/>
                            </p:stCondLst>
                            <p:childTnLst>
                              <p:par>
                                <p:cTn id="5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000"/>
                            </p:stCondLst>
                            <p:childTnLst>
                              <p:par>
                                <p:cTn id="6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9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���� : �������� ��� ���-������� ���-60 � ���-60-� "/>
          <p:cNvPicPr/>
          <p:nvPr/>
        </p:nvPicPr>
        <p:blipFill>
          <a:blip r:embed="rId1"/>
          <a:stretch/>
        </p:blipFill>
        <p:spPr>
          <a:xfrm>
            <a:off x="611280" y="1557360"/>
            <a:ext cx="1752480" cy="1886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59280" y="1628640"/>
            <a:ext cx="2095200" cy="1695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3171960" cy="2523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Врач-физиотерапевт"/>
          <p:cNvPicPr/>
          <p:nvPr/>
        </p:nvPicPr>
        <p:blipFill>
          <a:blip r:embed="rId5"/>
          <a:stretch/>
        </p:blipFill>
        <p:spPr>
          <a:xfrm>
            <a:off x="684360" y="3860640"/>
            <a:ext cx="2736720" cy="1824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635280" y="4365720"/>
            <a:ext cx="2086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0"/>
                            </p:stCondLst>
                            <p:childTnLst>
                              <p:par>
                                <p:cTn id="6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яснення явища електризації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ктризація  терт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ктризація  через впли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слід1.Притягання до наелектризованої палички клаптиків пап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4029120" cy="2229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12543" t="0" r="0" b="-620"/>
          <a:stretch/>
        </p:blipFill>
        <p:spPr>
          <a:xfrm>
            <a:off x="4859280" y="3933720"/>
            <a:ext cx="32972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9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Будова  електроскоп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090960" cy="439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08360" y="2349360"/>
            <a:ext cx="4967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індикатор (паперові смужк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 — металевий стрижен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корпу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діелектрик у місці кріплення стриж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 — конду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7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3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3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7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9000"/>
                            </p:stCondLst>
                            <p:childTnLst>
                              <p:par>
                                <p:cTn id="7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3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7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3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3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7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7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§ 3 прочита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нати домашні експериментальні завдання стр.4-6 (Ф,Я. Божинова Зошит для лабораторних робі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Закон Кулона</a:t>
            </a:r>
            <a:r>
              <a:rPr b="0" lang="uk-UA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вчити закон Куло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’яснити учням фізичне значення закону Кулона й указати межі його застосуванн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увати вміння розв’язувати задачі на закон Кул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ивати навички самостійної  роб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9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500"/>
                            </p:stCondLst>
                            <p:childTnLst>
                              <p:par>
                                <p:cTn id="8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9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500"/>
                            </p:stCondLst>
                            <p:childTnLst>
                              <p:par>
                                <p:cTn id="8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00"/>
                            </p:stCondLst>
                            <p:childTnLst>
                              <p:par>
                                <p:cTn id="8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9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ослідіть взаємодію заряджених ті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дміть дві повітряні кульки. Підвісьте їх на нитках завдовжки приблизно 1 м на невеликій відстані одна від одної. Потріть обидві кульки шматком вовняної тканини. Що ви спостерігаєте? Поясніть це яв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електризуйте гумову кулю тертям об вовняну тканину, а цело­фанову смужку — тертям об папір. Піднесіть смужку до кулі. Що ви спостерігаєте? Поясніть це явищ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8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ослідіть взаємодію зарядженого й незарядженого тіл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електризуйте пластмасову ручку тертям об вовняну тканину й піднесіть до дрібно нарізаних шматочків паперу; до тоненького струменю води, що тече з крана. Що ви спостерігаєте? Поясніть це яв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  Наелектризуйте повітряну кульку тертям об вовняну тканину, притуліть кульку до стіни або злегка підкиньте до стелі. Що ви спостерігаєте? Поясніть це явищ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кон Кул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ата відкриття закону – 1785 рі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атематичний запис зако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-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ла взаємодії двох точкових зарядів (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 коефіцієнт пропорційності(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∙10</a:t>
            </a:r>
            <a:r>
              <a:rPr b="1" lang="uk-UA" sz="2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r>
              <a:rPr b="1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Н∙м</a:t>
            </a:r>
            <a:r>
              <a:rPr b="1" lang="uk-UA" sz="2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Кл</a:t>
            </a:r>
            <a:r>
              <a:rPr b="1" lang="uk-UA" sz="2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електричний заряд(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- відстань між зарядами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56000" y="2852640"/>
            <a:ext cx="25207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3000"/>
                            </p:stCondLst>
                            <p:childTnLst>
                              <p:par>
                                <p:cTn id="9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9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4500"/>
                            </p:stCondLst>
                            <p:childTnLst>
                              <p:par>
                                <p:cTn id="9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500"/>
                            </p:stCondLst>
                            <p:childTnLst>
                              <p:par>
                                <p:cTn id="9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9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6500"/>
                            </p:stCondLst>
                            <p:childTnLst>
                              <p:par>
                                <p:cTn id="9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9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или Кул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835360" cy="1703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2590560" cy="1747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80000" y="1773360"/>
            <a:ext cx="40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заємодія  однойменних заряд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4653000"/>
            <a:ext cx="36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заємодія  різнойменних заряд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500"/>
                            </p:stCondLst>
                            <p:childTnLst>
                              <p:par>
                                <p:cTn id="9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500"/>
                            </p:stCondLst>
                            <p:childTnLst>
                              <p:par>
                                <p:cTn id="95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000"/>
                            </p:stCondLst>
                            <p:childTnLst>
                              <p:par>
                                <p:cTn id="9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78469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Електризація тіл. Два роди  </a:t>
            </a:r>
            <a:r>
              <a:rPr b="0" lang="uk-UA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електричних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 зарядів.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335736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озглянути електризацію ті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вести поняття про електричний заря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ва види електричних заряді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міння виконувати експериментальні завданн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4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32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68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76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обота в груп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  текстом  підручника (с.20-21), дати відповідь на пит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Дослід Кул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алежність сили від середов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начення постійної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9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000"/>
                            </p:stCondLst>
                            <p:childTnLst>
                              <p:par>
                                <p:cTn id="9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9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9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9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рацювати п.4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повіді на питання 1сторінка 24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ідомлення про життя і діяль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Ш. Кул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9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9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9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озв’язування задач на закон Кулона.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Мета: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воєння знань пр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електричну взаємоді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кон Кул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умінь і навич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яснювати фізичні явищ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озв’язувати задачі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чітко виражати свої думк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звивати мислення, уміння спостерігати, узагальнюва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ти культуру розумової праці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31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Розв’язання тестових завдан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404640"/>
            <a:ext cx="8569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1. Як передати електричний заряд від одного тіла до іншог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Доторкнутися до наелектризованого тіла. Б)Потерти наелектризоване тіло папе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) Передати заряд від одного тіла до іншого неможли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2. Які з трьох заряджених тіл на рисунку притягуються між собою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39640" y="1484280"/>
            <a:ext cx="1657440" cy="1073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700360" y="1413000"/>
            <a:ext cx="345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 3 й 1; 3 й 2; 2 й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) Жодна пара не притягує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)Тільки 2 й 3, 2 й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Г)Тільки 3 й 2, 3 й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44680" y="2443680"/>
            <a:ext cx="611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3. У якому випадку заряд другої кульки негативни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952560" cy="809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835280" y="2781360"/>
            <a:ext cx="809640" cy="838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2916360" y="2781360"/>
            <a:ext cx="80964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067280" y="2852640"/>
            <a:ext cx="790560" cy="762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55640" y="364500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                          Б                       В                      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3933720"/>
            <a:ext cx="561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4. В результаті чого відбувається електризація ті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 Через відсутність будь-яких заряд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Б) У результаті переміщення позитивних заряд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)У результаті переміщення негативних заряді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479736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5. Формула закону Кулона для двох точкових нерухомих заряджених тіл у вакуумі має вигля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116000" y="5300640"/>
            <a:ext cx="905040" cy="409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2916360" y="5229360"/>
            <a:ext cx="904680" cy="428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492280"/>
            <a:ext cx="8893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5148360" y="5300640"/>
            <a:ext cx="619200" cy="257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5300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522936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Б)                                    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5589720"/>
            <a:ext cx="80661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6. Як зміниться сила взаємодії двох точкових електричних зарядів у разі зменшення відстані між ними у 2 раз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) Зменшиться у 2 рази.     Б)Не зміни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)Збільшиться в 4 рази   Г) Зменшиться в 4 раз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Розв’язання задач самостійно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Скільки електронів потрібно перенести з однієї порошинки на іншу, щоб сила кулонівської взаємодії між ними на відстані 1см дорівнювала 10 мкН ? ( 2109 електрон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На якій відстані потрібно розташувати два заряд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5 </a:t>
            </a:r>
            <a:r>
              <a:rPr b="0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uk-UA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л і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uk-UA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= 6 </a:t>
            </a:r>
            <a:r>
              <a:rPr b="0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uk-UA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л, щоб вони відштовхува-лися із силою 12</a:t>
            </a:r>
            <a:r>
              <a:rPr b="0" lang="uk-UA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∙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uk-UA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? (відповідь: 15 м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9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9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Поясни явищ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1.Рух гільзи між кульками електро-форної  маш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а) електрофорна машина незаряджена, гільза знаходиться в спокої між куль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б) надали заряд кулькам, гільза почала рухатись від одної кульки до іншої.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Як пояснити рух гільзи? Як довго буде тривати проце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2.Обертання дерев’яної ліні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а) Прикріпимо лінійку на стержень, вона знаходиться в споко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б)піднесемо заряджену ебонітову паличку, лінійка почала обертат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Чому рухається ліній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рацювати п.4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’язати  задачі 4, 5* сторінка 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вила техніки безпеки під час виконання і експериментальних завд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 початку робо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 Ознайомтеся з описом експериментального завдан­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  Будьте уважні й дисциплінова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  Розміщайте прилади й матеріали так, щоб уникнути їх паді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 час робо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  Не допускайте падіння приладів і матеріалів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  Будьте обережні зі скляними паличками й електро­мет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   Користуйтеся приладами за їхнім призначенн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4.   Під час виконання роботи не хвилюйтеся. Вологі до­лоні не дозволять якісно провести експериментальні завд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сля завершення робо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 Повідомте вчителеві про завершення робо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 Покладіть прилади й матеріали так, як вони були пок­ладені до початку робо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Електричний заряд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ізична величина, яка характеризує властивість частинок або тіл вступати в електромагнітну взаємоді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диницею електричного заряду в СІ є кулон (К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значають  символом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сновні властивості електричного заряд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Існує два роди заряді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озитивні та негативні заря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Тіла, що мають заряди одного знака, відштовхують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Тіла, що мають заряди протилежних знакі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ритягую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осієм електричного заряду є част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Електричний заряд є дискретн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айменший негативний заряд має електрон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 = -1,6</a:t>
            </a:r>
            <a:r>
              <a:rPr b="0" lang="uk-UA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10 </a:t>
            </a:r>
            <a:r>
              <a:rPr b="0" lang="uk-UA" sz="28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К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880"/>
                            </p:stCondLst>
                            <p:childTnLst>
                              <p:par>
                                <p:cTn id="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72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72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8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20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68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Експериментальні завда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 Електризація. Способи електризації тіл. Спостереження електризації паперу під час руху по ньому гумового ва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лади й матеріали: суха скляна пластинка, аркуш паперу, гумовий вал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.   Спостереження електризації піску й лійки як двох різнорідних тіл у процесі зіткне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лади й матеріали: пластмасова лійка, штатив, електроме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§ 1 прочита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готувати повідомлення «Застосування явища електризації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ласти  кросворд за §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нати експериментальні завдання сторінка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Електричне поле.</a:t>
            </a:r>
            <a:r>
              <a:rPr b="0" lang="uk-UA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Дискретність  електричного заряду.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Електрон. Будова атома.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кон  збереження електричного заряду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0" t="0" r="90" b="-122"/>
          <a:stretch/>
        </p:blipFill>
        <p:spPr>
          <a:xfrm>
            <a:off x="1619280" y="4168800"/>
            <a:ext cx="2808360" cy="207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0" t="0" r="-39" b="-1650"/>
          <a:stretch/>
        </p:blipFill>
        <p:spPr>
          <a:xfrm>
            <a:off x="5003640" y="4149720"/>
            <a:ext cx="2592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6:58:47Z</dcterms:created>
  <dc:creator>SamLab.ws</dc:creator>
  <dc:description/>
  <dc:language>en-US</dc:language>
  <cp:lastModifiedBy>SamLab.ws</cp:lastModifiedBy>
  <dcterms:modified xsi:type="dcterms:W3CDTF">2010-05-24T10:34:48Z</dcterms:modified>
  <cp:revision>33</cp:revision>
  <dc:subject/>
  <dc:title>Електризація тіл. Два роди  електричних зарядів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9000000000001024140</vt:lpwstr>
  </property>
</Properties>
</file>