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4.gif" ContentType="image/gif"/>
  <Override PartName="/ppt/media/image27.gif" ContentType="image/gif"/>
  <Override PartName="/ppt/media/image26.jpeg" ContentType="image/jpeg"/>
  <Override PartName="/ppt/media/image19.png" ContentType="image/png"/>
  <Override PartName="/ppt/media/image25.jpeg" ContentType="image/jpeg"/>
  <Override PartName="/ppt/media/image2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962-038B-4491-818F-3CCC22E7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AEB-EAAE-4507-97A9-389B5619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611-B283-4BBA-8CF6-DBA690EC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323-F9FF-4465-BF22-C6805176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9FD-0762-47A1-A57B-5815854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844-5EF9-45C0-9D33-70B65B89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D95-DDFD-4439-8198-23FF6A7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D8F-A8DF-4D60-939C-4D235CC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7B0-EF87-40F5-A4A4-EFF7994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29E-9C09-4FEE-9E3A-FACB36F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806-F313-41C0-B2E5-E0B36F5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9CE-A9F8-4CCE-942E-BBA28FD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7E65-3F9C-44E4-AD7F-F9C5FFA6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ий струм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в'язанн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6000" y="3886200"/>
            <a:ext cx="512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ум - це не тільки знання,          а й уміння застосувати ці знання на практи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(Арісто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нергозбереження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переджальне завдання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ідготувати повідомлення про використання електричних приладів вдома та розробити правила економної їх експлуа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Енергозбереження</a:t>
            </a:r>
            <a:br>
              <a:rPr sz="4000"/>
            </a:b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Лам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с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Холодиль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льна 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шу лампу розжар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емонстрував в 1872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сійський інженер Лодиг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1881р. запатент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Т.Еді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. з'яв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з вольфрамов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ом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64000" y="1557360"/>
            <a:ext cx="3581640" cy="4754520"/>
            <a:chOff x="5364000" y="1557360"/>
            <a:chExt cx="3581640" cy="4754520"/>
          </a:xfrm>
        </p:grpSpPr>
        <p:pic>
          <p:nvPicPr>
            <p:cNvPr id="90" name="" descr="Первая лампочка Эдисона"/>
            <p:cNvPicPr/>
            <p:nvPr/>
          </p:nvPicPr>
          <p:blipFill>
            <a:blip r:embed="rId1"/>
            <a:stretch/>
          </p:blipFill>
          <p:spPr>
            <a:xfrm>
              <a:off x="5364000" y="1557360"/>
              <a:ext cx="3581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495040" y="5811120"/>
              <a:ext cx="320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entury Schoolbook"/>
                </a:rPr>
                <a:t>ЛАМПА ЕДІС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1820880" cy="2417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2560" y="38624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59 р. перші кварц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логенні лампи розж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фото"/>
          <p:cNvPicPr/>
          <p:nvPr/>
        </p:nvPicPr>
        <p:blipFill>
          <a:blip r:embed="rId2"/>
          <a:stretch/>
        </p:blipFill>
        <p:spPr>
          <a:xfrm>
            <a:off x="826920" y="4941720"/>
            <a:ext cx="3451320" cy="155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3068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8 р. С.І. Вавилов перша люмінесцентна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0800000">
            <a:off x="5363640" y="4220640"/>
            <a:ext cx="2576520" cy="23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55736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13 р. для підвищ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ітлової віддачі тіло розжарювання стали  виготовляти у формі спіра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икайте світло, коли воно не потріб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ніть за принципом: ” Хто йде останній,той вимикає світло ”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овуйте одну потужну лампу замість декількох ламп меншої потужност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римуйте в чистоті лампи, плафони та іншу освітлювальну арм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и й стелі мають бути світлих т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7493"/>
                </a:moveTo>
                <a:lnTo>
                  <a:pt x="10893" y="7493"/>
                </a:lnTo>
                <a:lnTo>
                  <a:pt x="10893" y="12828"/>
                </a:lnTo>
                <a:cubicBezTo>
                  <a:pt x="10893" y="13751"/>
                  <a:pt x="11694" y="14482"/>
                  <a:pt x="12730" y="14482"/>
                </a:cubicBezTo>
                <a:lnTo>
                  <a:pt x="14392" y="14482"/>
                </a:lnTo>
                <a:cubicBezTo>
                  <a:pt x="15428" y="14482"/>
                  <a:pt x="16228" y="13751"/>
                  <a:pt x="16228" y="12828"/>
                </a:cubicBezTo>
                <a:lnTo>
                  <a:pt x="16228" y="7493"/>
                </a:lnTo>
                <a:lnTo>
                  <a:pt x="14392" y="7493"/>
                </a:lnTo>
                <a:lnTo>
                  <a:pt x="17900" y="3985"/>
                </a:lnTo>
                <a:lnTo>
                  <a:pt x="21573" y="7493"/>
                </a:lnTo>
                <a:lnTo>
                  <a:pt x="19736" y="7493"/>
                </a:lnTo>
                <a:lnTo>
                  <a:pt x="19736" y="12828"/>
                </a:lnTo>
                <a:cubicBezTo>
                  <a:pt x="19736" y="15596"/>
                  <a:pt x="17160" y="18155"/>
                  <a:pt x="14392" y="18155"/>
                </a:cubicBezTo>
                <a:lnTo>
                  <a:pt x="12730" y="18155"/>
                </a:lnTo>
                <a:cubicBezTo>
                  <a:pt x="9962" y="18155"/>
                  <a:pt x="7386" y="15596"/>
                  <a:pt x="73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34 р. – перша машин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льо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глієць Паркі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87 р. – перший домашн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ильник – француз Джон Лес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93 р. – холодильник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двигуном – Е. Том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Sharp – перший в світі холо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спеціальним відділення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орожування, розморожуванн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ігрівання і підтримки темп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рячих блюд до +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300400" cy="306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514520" cy="3284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іть терморегулятор на 4-5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свідчіться  в тому, що холодильник не торкається теплих с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магайтесь відчиняти холодильник якомога рід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ищайте від пилу задню стінку холоди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гасне лампочка всередині холодильника, коли зачинені две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добре прилягає по всьому периметру ущільнювач для две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6093000"/>
            <a:ext cx="934920" cy="5029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0141" h="21600">
                <a:moveTo>
                  <a:pt x="0" y="0"/>
                </a:moveTo>
                <a:lnTo>
                  <a:pt x="40141" y="0"/>
                </a:lnTo>
                <a:lnTo>
                  <a:pt x="40141" y="21600"/>
                </a:lnTo>
                <a:lnTo>
                  <a:pt x="0" y="21600"/>
                </a:lnTo>
                <a:close/>
              </a:path>
              <a:path fill="lightenLess" w="40141" h="21600">
                <a:moveTo>
                  <a:pt x="0" y="0"/>
                </a:moveTo>
                <a:lnTo>
                  <a:pt x="40141" y="0"/>
                </a:lnTo>
                <a:lnTo>
                  <a:pt x="38741" y="1400"/>
                </a:lnTo>
                <a:lnTo>
                  <a:pt x="1400" y="1400"/>
                </a:lnTo>
                <a:close/>
              </a:path>
              <a:path fill="darken" w="40141" h="21600">
                <a:moveTo>
                  <a:pt x="40141" y="0"/>
                </a:moveTo>
                <a:lnTo>
                  <a:pt x="40141" y="21600"/>
                </a:lnTo>
                <a:lnTo>
                  <a:pt x="38741" y="20200"/>
                </a:lnTo>
                <a:lnTo>
                  <a:pt x="38741" y="1400"/>
                </a:lnTo>
                <a:close/>
              </a:path>
              <a:path fill="darkenLess" w="40141" h="21600">
                <a:moveTo>
                  <a:pt x="40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41" y="20200"/>
                </a:lnTo>
                <a:close/>
              </a:path>
              <a:path fill="lighten" w="40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41" h="21600">
                <a:moveTo>
                  <a:pt x="13064" y="7493"/>
                </a:moveTo>
                <a:lnTo>
                  <a:pt x="16571" y="7493"/>
                </a:lnTo>
                <a:lnTo>
                  <a:pt x="16571" y="12828"/>
                </a:lnTo>
                <a:cubicBezTo>
                  <a:pt x="16571" y="13751"/>
                  <a:pt x="17372" y="14482"/>
                  <a:pt x="18408" y="14482"/>
                </a:cubicBezTo>
                <a:lnTo>
                  <a:pt x="20070" y="14482"/>
                </a:lnTo>
                <a:cubicBezTo>
                  <a:pt x="21106" y="14482"/>
                  <a:pt x="21907" y="13751"/>
                  <a:pt x="21907" y="12828"/>
                </a:cubicBezTo>
                <a:lnTo>
                  <a:pt x="21907" y="7493"/>
                </a:lnTo>
                <a:lnTo>
                  <a:pt x="20070" y="7493"/>
                </a:lnTo>
                <a:lnTo>
                  <a:pt x="23578" y="3985"/>
                </a:lnTo>
                <a:lnTo>
                  <a:pt x="27251" y="7493"/>
                </a:lnTo>
                <a:lnTo>
                  <a:pt x="25414" y="7493"/>
                </a:lnTo>
                <a:lnTo>
                  <a:pt x="25414" y="12828"/>
                </a:lnTo>
                <a:cubicBezTo>
                  <a:pt x="25414" y="15596"/>
                  <a:pt x="22838" y="18155"/>
                  <a:pt x="20070" y="18155"/>
                </a:cubicBezTo>
                <a:lnTo>
                  <a:pt x="18408" y="18155"/>
                </a:lnTo>
                <a:cubicBezTo>
                  <a:pt x="15640" y="18155"/>
                  <a:pt x="13064" y="15596"/>
                  <a:pt x="1306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9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7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3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9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История утюга"/>
          <p:cNvPicPr/>
          <p:nvPr/>
        </p:nvPicPr>
        <p:blipFill>
          <a:blip r:embed="rId1"/>
          <a:stretch/>
        </p:blipFill>
        <p:spPr>
          <a:xfrm>
            <a:off x="6516720" y="1341360"/>
            <a:ext cx="238104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55736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ина XVIII ст. – праска з вугіллям, що горить, усереди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нували і спиртові праски, які працювали за принципом гасової лампи. В невеликий бочонок заливався спирт і підпалювався. У 19 ст. за спиртову праску можна було виручити невелике стадо овець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3 рік Ерл Річардсон винайшов - полегшену праску з електричним нагрі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5 рік – удосконалив модель своєї п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1714320" cy="2266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8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8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8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ску з терморегуля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оптимальний режим пра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залишати  праску без догл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кінчення роботи вимикати з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573408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7493"/>
                </a:moveTo>
                <a:lnTo>
                  <a:pt x="10925" y="7493"/>
                </a:lnTo>
                <a:lnTo>
                  <a:pt x="10925" y="12828"/>
                </a:lnTo>
                <a:cubicBezTo>
                  <a:pt x="10925" y="13751"/>
                  <a:pt x="11726" y="14482"/>
                  <a:pt x="12762" y="14482"/>
                </a:cubicBezTo>
                <a:lnTo>
                  <a:pt x="14424" y="14482"/>
                </a:lnTo>
                <a:cubicBezTo>
                  <a:pt x="15460" y="14482"/>
                  <a:pt x="16260" y="13751"/>
                  <a:pt x="16260" y="12828"/>
                </a:cubicBezTo>
                <a:lnTo>
                  <a:pt x="16260" y="7493"/>
                </a:lnTo>
                <a:lnTo>
                  <a:pt x="14424" y="7493"/>
                </a:lnTo>
                <a:lnTo>
                  <a:pt x="17932" y="3985"/>
                </a:lnTo>
                <a:lnTo>
                  <a:pt x="21605" y="7493"/>
                </a:lnTo>
                <a:lnTo>
                  <a:pt x="19768" y="7493"/>
                </a:lnTo>
                <a:lnTo>
                  <a:pt x="19768" y="12828"/>
                </a:lnTo>
                <a:cubicBezTo>
                  <a:pt x="19768" y="15596"/>
                  <a:pt x="17192" y="18155"/>
                  <a:pt x="14424" y="18155"/>
                </a:cubicBezTo>
                <a:lnTo>
                  <a:pt x="12762" y="18155"/>
                </a:lnTo>
                <a:cubicBezTo>
                  <a:pt x="9994" y="18155"/>
                  <a:pt x="7418" y="15596"/>
                  <a:pt x="74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0464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1079280" cy="161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93080" y="4221000"/>
            <a:ext cx="1558800" cy="204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1800">
            <a:off x="891720" y="13546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оці електричних пральних машин  винахідник Алва Фіш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754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51 році у виробництво перших автоматичних пральних маш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40800">
            <a:off x="2842920" y="443376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78 роц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ли зробле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ш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автоматичні пральні машини контрольова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крочи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Завдання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итання теми “ Електричний струм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електричного струму в побуті та економне його використ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роботи з   електричними прилад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вильний температурн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овне завантаження барабана ма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еревантажувати маш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малопотужні пральні машини(ультразвуко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268360" cy="164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transd" descr="Электротранспорт"/>
          <p:cNvPicPr/>
          <p:nvPr/>
        </p:nvPicPr>
        <p:blipFill>
          <a:blip r:embed="rId1"/>
          <a:stretch/>
        </p:blipFill>
        <p:spPr>
          <a:xfrm>
            <a:off x="611280" y="1773360"/>
            <a:ext cx="1403280" cy="1528560"/>
          </a:xfrm>
          <a:prstGeom prst="rect">
            <a:avLst/>
          </a:prstGeom>
          <a:ln w="0">
            <a:noFill/>
          </a:ln>
        </p:spPr>
      </p:pic>
      <p:pic>
        <p:nvPicPr>
          <p:cNvPr id="124" name="s50d" descr="ЛЭП"/>
          <p:cNvPicPr/>
          <p:nvPr/>
        </p:nvPicPr>
        <p:blipFill>
          <a:blip r:embed="rId2"/>
          <a:stretch/>
        </p:blipFill>
        <p:spPr>
          <a:xfrm>
            <a:off x="2124000" y="155736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sprovd" descr="Проводка"/>
          <p:cNvPicPr/>
          <p:nvPr/>
        </p:nvPicPr>
        <p:blipFill>
          <a:blip r:embed="rId3"/>
          <a:stretch/>
        </p:blipFill>
        <p:spPr>
          <a:xfrm>
            <a:off x="3924360" y="1484280"/>
            <a:ext cx="1503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shomes" descr="Бытовые приборы"/>
          <p:cNvPicPr/>
          <p:nvPr/>
        </p:nvPicPr>
        <p:blipFill>
          <a:blip r:embed="rId4"/>
          <a:stretch/>
        </p:blipFill>
        <p:spPr>
          <a:xfrm>
            <a:off x="6804000" y="1844640"/>
            <a:ext cx="1461960" cy="1336680"/>
          </a:xfrm>
          <a:prstGeom prst="rect">
            <a:avLst/>
          </a:prstGeom>
          <a:ln w="0">
            <a:noFill/>
          </a:ln>
        </p:spPr>
      </p:pic>
      <p:pic>
        <p:nvPicPr>
          <p:cNvPr id="127" name="ssatd" descr="Спутниковая связь"/>
          <p:cNvPicPr/>
          <p:nvPr/>
        </p:nvPicPr>
        <p:blipFill>
          <a:blip r:embed="rId5"/>
          <a:stretch/>
        </p:blipFill>
        <p:spPr>
          <a:xfrm>
            <a:off x="539640" y="4292640"/>
            <a:ext cx="1498680" cy="1746360"/>
          </a:xfrm>
          <a:prstGeom prst="rect">
            <a:avLst/>
          </a:prstGeom>
          <a:ln w="0">
            <a:noFill/>
          </a:ln>
        </p:spPr>
      </p:pic>
      <p:pic>
        <p:nvPicPr>
          <p:cNvPr id="128" name="sceld" descr="Сотовая связь"/>
          <p:cNvPicPr/>
          <p:nvPr/>
        </p:nvPicPr>
        <p:blipFill>
          <a:blip r:embed="rId6"/>
          <a:stretch/>
        </p:blipFill>
        <p:spPr>
          <a:xfrm>
            <a:off x="2700360" y="4149720"/>
            <a:ext cx="1457280" cy="1744560"/>
          </a:xfrm>
          <a:prstGeom prst="rect">
            <a:avLst/>
          </a:prstGeom>
          <a:ln w="0">
            <a:noFill/>
          </a:ln>
        </p:spPr>
      </p:pic>
      <p:pic>
        <p:nvPicPr>
          <p:cNvPr id="129" name="sradd" descr="Радары"/>
          <p:cNvPicPr/>
          <p:nvPr/>
        </p:nvPicPr>
        <p:blipFill>
          <a:blip r:embed="rId7"/>
          <a:stretch/>
        </p:blipFill>
        <p:spPr>
          <a:xfrm>
            <a:off x="4932360" y="4149720"/>
            <a:ext cx="150984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spkd" descr="ПК"/>
          <p:cNvPicPr/>
          <p:nvPr/>
        </p:nvPicPr>
        <p:blipFill>
          <a:blip r:embed="rId8"/>
          <a:stretch/>
        </p:blipFill>
        <p:spPr>
          <a:xfrm>
            <a:off x="6948360" y="4437000"/>
            <a:ext cx="1575000" cy="167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83560" y="907920"/>
            <a:ext cx="136044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138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обхідно виключити тривале перебування (регулярно по декількох годин в день) в місцях підвищеного рівня електричного поля промислової часто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жко для нічного відпочинку максимально віддаляти від джерел тривалого опромінювання, відстань до розподільних щитових, силових електрокабелів повинні бути 2,5 –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ет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розміщенні в квартирі побутової техніки керуйтеся наступними принципами: розміщуйте побутові електроприлади по можливості далі від місць відпочинку, не розташовуйте побутові електроприлади поблизу і не ставте їх один на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користуйтеся стільниковим телефоном без необхідност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овляйте безперервно не більше 3 – 4 хвил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торити п. 21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ахувати витрату та вартість електричної енергії у своїй квартирі за рік. Запропонувати шляхи зменшення в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сти кросворд з теми «Електр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ір на тему:” Як  я зберігаю електроенергію в школі і вдом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сновне завдання в житті при використанні електричного струм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859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тримуватись правил ТБ під час роботи з електричним стр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режно ставитись до його викорис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3357720"/>
            <a:ext cx="4681080" cy="3063240"/>
            <a:chOff x="250920" y="3357720"/>
            <a:chExt cx="4681080" cy="3063240"/>
          </a:xfrm>
        </p:grpSpPr>
        <p:pic>
          <p:nvPicPr>
            <p:cNvPr id="154" name="deti4a" descr=""/>
            <p:cNvPicPr/>
            <p:nvPr/>
          </p:nvPicPr>
          <p:blipFill>
            <a:blip r:embed="rId1"/>
            <a:stretch/>
          </p:blipFill>
          <p:spPr>
            <a:xfrm>
              <a:off x="250920" y="4509360"/>
              <a:ext cx="160560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eti2a" descr=""/>
            <p:cNvPicPr/>
            <p:nvPr/>
          </p:nvPicPr>
          <p:blipFill>
            <a:blip r:embed="rId2"/>
            <a:stretch/>
          </p:blipFill>
          <p:spPr>
            <a:xfrm>
              <a:off x="1788480" y="3357720"/>
              <a:ext cx="1605600" cy="30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deti3a" descr=""/>
            <p:cNvPicPr/>
            <p:nvPr/>
          </p:nvPicPr>
          <p:blipFill>
            <a:blip r:embed="rId3"/>
            <a:stretch/>
          </p:blipFill>
          <p:spPr>
            <a:xfrm>
              <a:off x="3326400" y="4509360"/>
              <a:ext cx="1605600" cy="191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58156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932360" y="5210280"/>
            <a:ext cx="2143080" cy="164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12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20"/>
                            </p:stCondLst>
                            <p:childTnLst>
                              <p:par>
                                <p:cTn id="6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52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52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ьте уважні, точно виконуйте вказівки в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ітк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йте порядок і правила безпечного проведення експерим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складання електричного кола користуйтесь провідниками з клемами та міцною ізоляцією без видимих пошко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ючи електричне коло, уникайте перетину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струму в електричне коло вмикайте в останню че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ене електричне коло вмикайте після перевірки і з дозволу в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виконуйте повторн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днань у колах до вимикання джерела стр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сля закінчення роботи вимкніть джерел струму , а потім розберіть електричне ко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залишайте робоче місце без дозволу вчител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958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Тес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 вибором 1 правильної відповід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37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1.Електричний струм – ц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…хаотич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… упорядкова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… хаотич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2.Яке з математичних співвідношень є визначення сили стру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                Б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3. Яке співвідношення є  математичним записом закону Ома для ділянки ко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Б.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В.              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. Вкажіть прилад для вимірювання сили стру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 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5. Вкажіть прилад для вимірювання електричного о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Б. Амперметр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6.Одиницею роботи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7. Одиницею потужності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8.Як вмикають амперметр в електричне коло?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Послідовно зі споживачем       Б. Паралельно зі спожива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. Паралельно джерелу струму     Г. Правильної відповіді не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852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87640" y="292428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140360" y="285264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48360" y="2924280"/>
                <a:ext cx="1008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v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3789360"/>
                <a:ext cx="54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132000" y="3789360"/>
                <a:ext cx="419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11640" y="378936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19640" y="3933720"/>
                <a:ext cx="5810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Взаємопереві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. Ампер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Оммет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.1 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1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 Послідовно зі спожив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35280" y="2133720"/>
                <a:ext cx="10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19280" y="2637000"/>
                <a:ext cx="865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389720" y="392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Експериментальна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ити, чи залеж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потужність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лампочках від способу їхнього з'єдн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 послідовного  та паралельн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Задачі, практичного змі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Обчислити граничну напругу для людини, якщо опір її тіла, коли шкіра рук суха і неушкоджена 20 кОм, а сила струму вважається безпечною для людини 0,5 мА.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Довжина алюмінієвого дроту в освітлювальній мережі 100 м, площа поперечного перерізу 2 кв. мм. Чому дорівнює опір такого дроту?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значити яку роботу виконує комп’ютер за 5 годин роботи, якщо він споживає силу струму 2 А при напрузі 220 В. Скільки буде коштувати спожита електроенергія за місяць такої роботи, якщо 1 кВтгод коштує 24,5 копійки.(3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Яка кількість теплоти виділиться за 10 хв в електричному чайнику з опором 100 Ом, включеному в мережу 220 В? Скільки води можна нагріти від 200С до кипіння, використовуючи все тепло, яке виділяється струмом? (4б)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03:39Z</dcterms:created>
  <dc:creator>SamLab.ws</dc:creator>
  <dc:description/>
  <dc:language>en-US</dc:language>
  <cp:lastModifiedBy>Admin</cp:lastModifiedBy>
  <dcterms:modified xsi:type="dcterms:W3CDTF">2011-06-27T09:39:09Z</dcterms:modified>
  <cp:revision>31</cp:revision>
  <dc:subject/>
  <dc:title>Електричний струм. Розв'язання задач</dc:title>
</cp:coreProperties>
</file>