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2.wmf" ContentType="image/x-wmf"/>
  <Override PartName="/ppt/media/image6.jpeg" ContentType="image/jpeg"/>
  <Override PartName="/ppt/media/image4.gif" ContentType="image/gif"/>
  <Override PartName="/ppt/media/image27.gif" ContentType="image/gif"/>
  <Override PartName="/ppt/media/image26.jpeg" ContentType="image/jpeg"/>
  <Override PartName="/ppt/media/image19.png" ContentType="image/png"/>
  <Override PartName="/ppt/media/image25.jpeg" ContentType="image/jpeg"/>
  <Override PartName="/ppt/media/image2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1.gif" ContentType="image/gif"/>
  <Override PartName="/ppt/media/image3.jpeg" ContentType="image/jpeg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24A-7E42-4556-AFDF-3E16FF4D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5C4-62DE-405C-BD6B-09110130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4D9-CFEA-47F5-8D90-92BAE80E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DC1-F941-434D-A70E-3FDE18C6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09F2-4F9D-49ED-9C2E-F879B5BD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A8BB-EF37-4557-936F-A76A8994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E761-BF94-4975-998B-24B2FF2D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BD96-FBCF-4750-BCB9-A8F3699E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0C1E-6EF7-484C-8F34-1634947A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66E3-D34F-41DA-ACA3-A0A672FE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D23D-78C3-497F-ACCC-EDC6CBDD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C203-C68B-4891-B07C-77C8FEAC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4369-0B34-4104-9F03-5B00665D3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Електричний струм.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озв'язання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46000" y="3886200"/>
            <a:ext cx="512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Розум - це не тільки знання,          а й уміння застосувати ці знання на практиц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(Арістот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Енергозбереження у власному дом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переджальне завдання: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підготувати повідомлення про використання електричних приладів вдома та розробити правила економної їх експлуат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Енергозбереження</a:t>
            </a:r>
            <a:br>
              <a:rPr sz="4000"/>
            </a:b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 у власному дом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</a:rPr>
              <a:t>Лам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</a:rPr>
              <a:t>Праск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</a:rPr>
              <a:t>Холодильник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</a:rPr>
              <a:t>Пральна маш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шу лампу розжарюв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демонстрував в 1872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сійський інженер Лодигі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1881р. запатентов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ампа Т.Едіс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1910 р. з'яви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ампа з вольфрамов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ілом розжар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364000" y="1557360"/>
            <a:ext cx="3581640" cy="4754520"/>
            <a:chOff x="5364000" y="1557360"/>
            <a:chExt cx="3581640" cy="4754520"/>
          </a:xfrm>
        </p:grpSpPr>
        <p:pic>
          <p:nvPicPr>
            <p:cNvPr id="90" name="" descr="Первая лампочка Эдисона"/>
            <p:cNvPicPr/>
            <p:nvPr/>
          </p:nvPicPr>
          <p:blipFill>
            <a:blip r:embed="rId1"/>
            <a:stretch/>
          </p:blipFill>
          <p:spPr>
            <a:xfrm>
              <a:off x="5364000" y="1557360"/>
              <a:ext cx="3581640" cy="47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495040" y="5811120"/>
              <a:ext cx="320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entury Schoolbook"/>
                </a:rPr>
                <a:t>ЛАМПА ЕДІСО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500"/>
                            </p:stCondLst>
                            <p:childTnLst>
                              <p:par>
                                <p:cTn id="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00720" y="1628640"/>
            <a:ext cx="1820880" cy="2417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2560" y="3862440"/>
            <a:ext cx="38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1959 р. перші кварцо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алогенні лампи розжарю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фото"/>
          <p:cNvPicPr/>
          <p:nvPr/>
        </p:nvPicPr>
        <p:blipFill>
          <a:blip r:embed="rId2"/>
          <a:stretch/>
        </p:blipFill>
        <p:spPr>
          <a:xfrm>
            <a:off x="826920" y="4941720"/>
            <a:ext cx="3451320" cy="1554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6920" y="3068640"/>
            <a:ext cx="46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938 р. С.І. Вавилов перша люмінесцентна лам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10800000">
            <a:off x="5363640" y="4220640"/>
            <a:ext cx="2576520" cy="2305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1557360"/>
            <a:ext cx="50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1913 р. для підвище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вітлової віддачі тіло розжарювання стали  виготовляти у формі спірал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микайте світло, коли воно не потріб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ніть за принципом: ” Хто йде останній,той вимикає світло ”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ористовуйте одну потужну лампу замість декількох ламп меншої потужност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тримуйте в чистоті лампи, плафони та іншу освітлювальну армат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іни й стелі мають бути світлих то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9999"/>
                </a:solidFill>
                <a:uFillTx/>
                <a:latin typeface="Arial"/>
              </a:rPr>
              <a:t>Економне  використ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805360"/>
            <a:ext cx="863640" cy="64800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8784" h="21600">
                <a:moveTo>
                  <a:pt x="0" y="0"/>
                </a:moveTo>
                <a:lnTo>
                  <a:pt x="28784" y="0"/>
                </a:lnTo>
                <a:lnTo>
                  <a:pt x="28784" y="21600"/>
                </a:lnTo>
                <a:lnTo>
                  <a:pt x="0" y="21600"/>
                </a:lnTo>
                <a:close/>
              </a:path>
              <a:path fill="lightenLess" w="28784" h="21600">
                <a:moveTo>
                  <a:pt x="0" y="0"/>
                </a:moveTo>
                <a:lnTo>
                  <a:pt x="28784" y="0"/>
                </a:lnTo>
                <a:lnTo>
                  <a:pt x="27384" y="1400"/>
                </a:lnTo>
                <a:lnTo>
                  <a:pt x="1400" y="1400"/>
                </a:lnTo>
                <a:close/>
              </a:path>
              <a:path fill="darken" w="28784" h="21600">
                <a:moveTo>
                  <a:pt x="28784" y="0"/>
                </a:moveTo>
                <a:lnTo>
                  <a:pt x="28784" y="21600"/>
                </a:lnTo>
                <a:lnTo>
                  <a:pt x="27384" y="20200"/>
                </a:lnTo>
                <a:lnTo>
                  <a:pt x="27384" y="1400"/>
                </a:lnTo>
                <a:close/>
              </a:path>
              <a:path fill="darkenLess" w="28784" h="21600">
                <a:moveTo>
                  <a:pt x="28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4" y="20200"/>
                </a:lnTo>
                <a:close/>
              </a:path>
              <a:path fill="lighten" w="28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4" h="21600">
                <a:moveTo>
                  <a:pt x="7386" y="7493"/>
                </a:moveTo>
                <a:lnTo>
                  <a:pt x="10893" y="7493"/>
                </a:lnTo>
                <a:lnTo>
                  <a:pt x="10893" y="12828"/>
                </a:lnTo>
                <a:cubicBezTo>
                  <a:pt x="10893" y="13751"/>
                  <a:pt x="11694" y="14482"/>
                  <a:pt x="12730" y="14482"/>
                </a:cubicBezTo>
                <a:lnTo>
                  <a:pt x="14392" y="14482"/>
                </a:lnTo>
                <a:cubicBezTo>
                  <a:pt x="15428" y="14482"/>
                  <a:pt x="16228" y="13751"/>
                  <a:pt x="16228" y="12828"/>
                </a:cubicBezTo>
                <a:lnTo>
                  <a:pt x="16228" y="7493"/>
                </a:lnTo>
                <a:lnTo>
                  <a:pt x="14392" y="7493"/>
                </a:lnTo>
                <a:lnTo>
                  <a:pt x="17900" y="3985"/>
                </a:lnTo>
                <a:lnTo>
                  <a:pt x="21573" y="7493"/>
                </a:lnTo>
                <a:lnTo>
                  <a:pt x="19736" y="7493"/>
                </a:lnTo>
                <a:lnTo>
                  <a:pt x="19736" y="12828"/>
                </a:lnTo>
                <a:cubicBezTo>
                  <a:pt x="19736" y="15596"/>
                  <a:pt x="17160" y="18155"/>
                  <a:pt x="14392" y="18155"/>
                </a:cubicBezTo>
                <a:lnTo>
                  <a:pt x="12730" y="18155"/>
                </a:lnTo>
                <a:cubicBezTo>
                  <a:pt x="9962" y="18155"/>
                  <a:pt x="7386" y="15596"/>
                  <a:pt x="738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34 р. – перша машина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готовлення льоду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нглієць Паркін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87 р. – перший домашні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олодильник – француз Джон Лесл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93 р. – холодильник 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ичним двигуном – Е. Том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Sharp – перший в світі холоди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 спеціальним відділенням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морожування, розморожуванн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ігрівання і підтримки температу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арячих блюд до +6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2300400" cy="3068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1514520" cy="3284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9999"/>
                </a:solidFill>
                <a:uFillTx/>
                <a:latin typeface="Arial"/>
              </a:rPr>
              <a:t>Економне  використ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становіть терморегулятор на 4-5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свідчіться  в тому, що холодильник не торкається теплих сті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магайтесь відчиняти холодильник якомога рід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чищайте від пилу задню стінку холоди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вірте, чи гасне лампочка всередині холодильника, коли зачинені двер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вірте, чи добре прилягає по всьому периметру ущільнювач для двер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6093000"/>
            <a:ext cx="934920" cy="502920"/>
          </a:xfrm>
          <a:custGeom>
            <a:avLst/>
            <a:gdLst>
              <a:gd name="textAreaLeft" fmla="*/ 32400 w 934920"/>
              <a:gd name="textAreaRight" fmla="*/ 902520 w 934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0141" h="21600">
                <a:moveTo>
                  <a:pt x="0" y="0"/>
                </a:moveTo>
                <a:lnTo>
                  <a:pt x="40141" y="0"/>
                </a:lnTo>
                <a:lnTo>
                  <a:pt x="40141" y="21600"/>
                </a:lnTo>
                <a:lnTo>
                  <a:pt x="0" y="21600"/>
                </a:lnTo>
                <a:close/>
              </a:path>
              <a:path fill="lightenLess" w="40141" h="21600">
                <a:moveTo>
                  <a:pt x="0" y="0"/>
                </a:moveTo>
                <a:lnTo>
                  <a:pt x="40141" y="0"/>
                </a:lnTo>
                <a:lnTo>
                  <a:pt x="38741" y="1400"/>
                </a:lnTo>
                <a:lnTo>
                  <a:pt x="1400" y="1400"/>
                </a:lnTo>
                <a:close/>
              </a:path>
              <a:path fill="darken" w="40141" h="21600">
                <a:moveTo>
                  <a:pt x="40141" y="0"/>
                </a:moveTo>
                <a:lnTo>
                  <a:pt x="40141" y="21600"/>
                </a:lnTo>
                <a:lnTo>
                  <a:pt x="38741" y="20200"/>
                </a:lnTo>
                <a:lnTo>
                  <a:pt x="38741" y="1400"/>
                </a:lnTo>
                <a:close/>
              </a:path>
              <a:path fill="darkenLess" w="40141" h="21600">
                <a:moveTo>
                  <a:pt x="40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41" y="20200"/>
                </a:lnTo>
                <a:close/>
              </a:path>
              <a:path fill="lighten" w="40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41" h="21600">
                <a:moveTo>
                  <a:pt x="13064" y="7493"/>
                </a:moveTo>
                <a:lnTo>
                  <a:pt x="16571" y="7493"/>
                </a:lnTo>
                <a:lnTo>
                  <a:pt x="16571" y="12828"/>
                </a:lnTo>
                <a:cubicBezTo>
                  <a:pt x="16571" y="13751"/>
                  <a:pt x="17372" y="14482"/>
                  <a:pt x="18408" y="14482"/>
                </a:cubicBezTo>
                <a:lnTo>
                  <a:pt x="20070" y="14482"/>
                </a:lnTo>
                <a:cubicBezTo>
                  <a:pt x="21106" y="14482"/>
                  <a:pt x="21907" y="13751"/>
                  <a:pt x="21907" y="12828"/>
                </a:cubicBezTo>
                <a:lnTo>
                  <a:pt x="21907" y="7493"/>
                </a:lnTo>
                <a:lnTo>
                  <a:pt x="20070" y="7493"/>
                </a:lnTo>
                <a:lnTo>
                  <a:pt x="23578" y="3985"/>
                </a:lnTo>
                <a:lnTo>
                  <a:pt x="27251" y="7493"/>
                </a:lnTo>
                <a:lnTo>
                  <a:pt x="25414" y="7493"/>
                </a:lnTo>
                <a:lnTo>
                  <a:pt x="25414" y="12828"/>
                </a:lnTo>
                <a:cubicBezTo>
                  <a:pt x="25414" y="15596"/>
                  <a:pt x="22838" y="18155"/>
                  <a:pt x="20070" y="18155"/>
                </a:cubicBezTo>
                <a:lnTo>
                  <a:pt x="18408" y="18155"/>
                </a:lnTo>
                <a:cubicBezTo>
                  <a:pt x="15640" y="18155"/>
                  <a:pt x="13064" y="15596"/>
                  <a:pt x="1306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74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98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74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30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90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История утюга"/>
          <p:cNvPicPr/>
          <p:nvPr/>
        </p:nvPicPr>
        <p:blipFill>
          <a:blip r:embed="rId1"/>
          <a:stretch/>
        </p:blipFill>
        <p:spPr>
          <a:xfrm>
            <a:off x="6516720" y="1341360"/>
            <a:ext cx="2381040" cy="1981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360" y="1557360"/>
            <a:ext cx="5904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ередина XVIII ст. – праска з вугіллям, що горить, усередин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снували і спиртові праски, які працювали за принципом гасової лампи. В невеликий бочонок заливався спирт і підпалювався. У 19 ст. за спиртову праску можна було виручити невелике стадо овець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903 рік Ерл Річардсон винайшов - полегшену праску з електричним нагрі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905 рік – удосконалив модель своєї пра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659640" y="3789360"/>
            <a:ext cx="1714320" cy="2266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80"/>
                            </p:stCondLst>
                            <p:childTnLst>
                              <p:par>
                                <p:cTn id="2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80"/>
                            </p:stCondLst>
                            <p:childTnLst>
                              <p:par>
                                <p:cTn id="2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5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80"/>
                            </p:stCondLst>
                            <p:childTnLst>
                              <p:par>
                                <p:cTn id="2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9999"/>
                </a:solidFill>
                <a:uFillTx/>
                <a:latin typeface="Arial"/>
              </a:rPr>
              <a:t>Економне  використ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вати праску з терморегулят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вати оптимальний режим прас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е залишати  праску без догля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сля закінчення роботи вимикати з мереж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573408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8" h="21600">
                <a:moveTo>
                  <a:pt x="7418" y="7493"/>
                </a:moveTo>
                <a:lnTo>
                  <a:pt x="10925" y="7493"/>
                </a:lnTo>
                <a:lnTo>
                  <a:pt x="10925" y="12828"/>
                </a:lnTo>
                <a:cubicBezTo>
                  <a:pt x="10925" y="13751"/>
                  <a:pt x="11726" y="14482"/>
                  <a:pt x="12762" y="14482"/>
                </a:cubicBezTo>
                <a:lnTo>
                  <a:pt x="14424" y="14482"/>
                </a:lnTo>
                <a:cubicBezTo>
                  <a:pt x="15460" y="14482"/>
                  <a:pt x="16260" y="13751"/>
                  <a:pt x="16260" y="12828"/>
                </a:cubicBezTo>
                <a:lnTo>
                  <a:pt x="16260" y="7493"/>
                </a:lnTo>
                <a:lnTo>
                  <a:pt x="14424" y="7493"/>
                </a:lnTo>
                <a:lnTo>
                  <a:pt x="17932" y="3985"/>
                </a:lnTo>
                <a:lnTo>
                  <a:pt x="21605" y="7493"/>
                </a:lnTo>
                <a:lnTo>
                  <a:pt x="19768" y="7493"/>
                </a:lnTo>
                <a:lnTo>
                  <a:pt x="19768" y="12828"/>
                </a:lnTo>
                <a:cubicBezTo>
                  <a:pt x="19768" y="15596"/>
                  <a:pt x="17192" y="18155"/>
                  <a:pt x="14424" y="18155"/>
                </a:cubicBezTo>
                <a:lnTo>
                  <a:pt x="12762" y="18155"/>
                </a:lnTo>
                <a:cubicBezTo>
                  <a:pt x="9994" y="18155"/>
                  <a:pt x="7418" y="15596"/>
                  <a:pt x="74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093080" y="1989000"/>
            <a:ext cx="130464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1640" y="4581360"/>
            <a:ext cx="1079280" cy="1613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093080" y="4221000"/>
            <a:ext cx="1558800" cy="2044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 rot="10801800">
            <a:off x="891720" y="1354680"/>
            <a:ext cx="49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1910 році електричних пральних машин  винахідник Алва Фішер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2754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1951 році у виробництво перших автоматичних пральних маш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 rot="10840800">
            <a:off x="2842920" y="4433760"/>
            <a:ext cx="432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78 році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ули зроблен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ші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автоматичні пральні машини контрольован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крочип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Завдання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втор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новні питання теми “ Електричний струм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стосування електричного струму в побуті та економне його використ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авила техніки безпеки під час роботи з   електричними прилад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9999"/>
                </a:solidFill>
                <a:uFillTx/>
                <a:latin typeface="Arial"/>
              </a:rPr>
              <a:t>Економне  використ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вати правильний температурний реж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вати повне завантаження барабана маш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е перевантажувати машин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вати малопотужні пральні машини(ультразвукові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2997000"/>
            <a:ext cx="821844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ликає зменшення адаптивних резервів організму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ниження імунітету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ацездатності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 його впливом у людини розвивається синдром хронічної вто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ільшується ризик захворюва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268360" cy="1646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500"/>
                            </p:stCondLst>
                            <p:childTnLst>
                              <p:par>
                                <p:cTn id="4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4500"/>
                            </p:stCondLst>
                            <p:childTnLst>
                              <p:par>
                                <p:cTn id="4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transd" descr="Электротранспорт"/>
          <p:cNvPicPr/>
          <p:nvPr/>
        </p:nvPicPr>
        <p:blipFill>
          <a:blip r:embed="rId1"/>
          <a:stretch/>
        </p:blipFill>
        <p:spPr>
          <a:xfrm>
            <a:off x="611280" y="1773360"/>
            <a:ext cx="1403280" cy="1528560"/>
          </a:xfrm>
          <a:prstGeom prst="rect">
            <a:avLst/>
          </a:prstGeom>
          <a:ln w="0">
            <a:noFill/>
          </a:ln>
        </p:spPr>
      </p:pic>
      <p:pic>
        <p:nvPicPr>
          <p:cNvPr id="124" name="s50d" descr="ЛЭП"/>
          <p:cNvPicPr/>
          <p:nvPr/>
        </p:nvPicPr>
        <p:blipFill>
          <a:blip r:embed="rId2"/>
          <a:stretch/>
        </p:blipFill>
        <p:spPr>
          <a:xfrm>
            <a:off x="2124000" y="1557360"/>
            <a:ext cx="1441440" cy="1584360"/>
          </a:xfrm>
          <a:prstGeom prst="rect">
            <a:avLst/>
          </a:prstGeom>
          <a:ln w="0">
            <a:noFill/>
          </a:ln>
        </p:spPr>
      </p:pic>
      <p:pic>
        <p:nvPicPr>
          <p:cNvPr id="125" name="sprovd" descr="Проводка"/>
          <p:cNvPicPr/>
          <p:nvPr/>
        </p:nvPicPr>
        <p:blipFill>
          <a:blip r:embed="rId3"/>
          <a:stretch/>
        </p:blipFill>
        <p:spPr>
          <a:xfrm>
            <a:off x="3924360" y="1484280"/>
            <a:ext cx="1503360" cy="1800360"/>
          </a:xfrm>
          <a:prstGeom prst="rect">
            <a:avLst/>
          </a:prstGeom>
          <a:ln w="0">
            <a:noFill/>
          </a:ln>
        </p:spPr>
      </p:pic>
      <p:pic>
        <p:nvPicPr>
          <p:cNvPr id="126" name="shomes" descr="Бытовые приборы"/>
          <p:cNvPicPr/>
          <p:nvPr/>
        </p:nvPicPr>
        <p:blipFill>
          <a:blip r:embed="rId4"/>
          <a:stretch/>
        </p:blipFill>
        <p:spPr>
          <a:xfrm>
            <a:off x="6804000" y="1844640"/>
            <a:ext cx="1461960" cy="1336680"/>
          </a:xfrm>
          <a:prstGeom prst="rect">
            <a:avLst/>
          </a:prstGeom>
          <a:ln w="0">
            <a:noFill/>
          </a:ln>
        </p:spPr>
      </p:pic>
      <p:pic>
        <p:nvPicPr>
          <p:cNvPr id="127" name="ssatd" descr="Спутниковая связь"/>
          <p:cNvPicPr/>
          <p:nvPr/>
        </p:nvPicPr>
        <p:blipFill>
          <a:blip r:embed="rId5"/>
          <a:stretch/>
        </p:blipFill>
        <p:spPr>
          <a:xfrm>
            <a:off x="539640" y="4292640"/>
            <a:ext cx="1498680" cy="1746360"/>
          </a:xfrm>
          <a:prstGeom prst="rect">
            <a:avLst/>
          </a:prstGeom>
          <a:ln w="0">
            <a:noFill/>
          </a:ln>
        </p:spPr>
      </p:pic>
      <p:pic>
        <p:nvPicPr>
          <p:cNvPr id="128" name="sceld" descr="Сотовая связь"/>
          <p:cNvPicPr/>
          <p:nvPr/>
        </p:nvPicPr>
        <p:blipFill>
          <a:blip r:embed="rId6"/>
          <a:stretch/>
        </p:blipFill>
        <p:spPr>
          <a:xfrm>
            <a:off x="2700360" y="4149720"/>
            <a:ext cx="1457280" cy="1744560"/>
          </a:xfrm>
          <a:prstGeom prst="rect">
            <a:avLst/>
          </a:prstGeom>
          <a:ln w="0">
            <a:noFill/>
          </a:ln>
        </p:spPr>
      </p:pic>
      <p:pic>
        <p:nvPicPr>
          <p:cNvPr id="129" name="sradd" descr="Радары"/>
          <p:cNvPicPr/>
          <p:nvPr/>
        </p:nvPicPr>
        <p:blipFill>
          <a:blip r:embed="rId7"/>
          <a:stretch/>
        </p:blipFill>
        <p:spPr>
          <a:xfrm>
            <a:off x="4932360" y="4149720"/>
            <a:ext cx="1509840" cy="1657440"/>
          </a:xfrm>
          <a:prstGeom prst="rect">
            <a:avLst/>
          </a:prstGeom>
          <a:ln w="0">
            <a:noFill/>
          </a:ln>
        </p:spPr>
      </p:pic>
      <p:pic>
        <p:nvPicPr>
          <p:cNvPr id="130" name="spkd" descr="ПК"/>
          <p:cNvPicPr/>
          <p:nvPr/>
        </p:nvPicPr>
        <p:blipFill>
          <a:blip r:embed="rId8"/>
          <a:stretch/>
        </p:blipFill>
        <p:spPr>
          <a:xfrm>
            <a:off x="6948360" y="4437000"/>
            <a:ext cx="1575000" cy="1673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00"/>
                </a:solidFill>
                <a:latin typeface="Arial"/>
              </a:rPr>
              <a:t>Дані про рівні випромінювання деяких побутових прила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мериканські і шведські учені незалежно один від одного встановили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безпечну для здоров'я людин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меж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тенсивності електромагнітних полів -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0,2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кТл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 (мікротес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Холодильник (оснащений системо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rost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на відстані 1 м від дверець) - 0,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динкова електропроводка - перевищує 0,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ктричний чайник - 0,6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альна машина - 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ктроплита - 1-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 на відстані 20 -30 см від передньої панелі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вч - піч - 8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на відстані 30 с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илосос - 1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83560" y="907920"/>
            <a:ext cx="1360440" cy="1727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372360" y="4941720"/>
            <a:ext cx="1728720" cy="1528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0"/>
                            </p:stCondLst>
                            <p:childTnLst>
                              <p:par>
                                <p:cTn id="4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000"/>
                            </p:stCondLst>
                            <p:childTnLst>
                              <p:par>
                                <p:cTn id="4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7000"/>
                            </p:stCondLst>
                            <p:childTnLst>
                              <p:par>
                                <p:cTn id="4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9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8000"/>
                            </p:stCondLst>
                            <p:childTnLst>
                              <p:par>
                                <p:cTn id="5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9000"/>
                            </p:stCondLst>
                            <p:childTnLst>
                              <p:par>
                                <p:cTn id="5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9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9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9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900000" y="260280"/>
            <a:ext cx="7848720" cy="6609960"/>
            <a:chOff x="900000" y="260280"/>
            <a:chExt cx="7848720" cy="6609960"/>
          </a:xfrm>
        </p:grpSpPr>
        <p:grpSp>
          <p:nvGrpSpPr>
            <p:cNvPr id="138" name=""/>
            <p:cNvGrpSpPr/>
            <p:nvPr/>
          </p:nvGrpSpPr>
          <p:grpSpPr>
            <a:xfrm>
              <a:off x="1585800" y="260280"/>
              <a:ext cx="7162920" cy="6597720"/>
              <a:chOff x="1585800" y="260280"/>
              <a:chExt cx="7162920" cy="659772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1585800" y="549360"/>
                <a:ext cx="5581800" cy="6308640"/>
                <a:chOff x="1585800" y="549360"/>
                <a:chExt cx="5581800" cy="6308640"/>
              </a:xfrm>
            </p:grpSpPr>
            <p:pic>
              <p:nvPicPr>
                <p:cNvPr id="14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85800" y="549360"/>
                  <a:ext cx="5581800" cy="630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" name=""/>
                <p:cNvSpPr/>
                <p:nvPr/>
              </p:nvSpPr>
              <p:spPr>
                <a:xfrm>
                  <a:off x="3203640" y="692280"/>
                  <a:ext cx="11523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4284720" y="404640"/>
                <a:ext cx="3095640" cy="245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4788000" y="260280"/>
                <a:ext cx="3960720" cy="1600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ЯК ВИПРОМІНЮВАННЯ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ТЕЛЕФОНУ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ВПЛИВАЄ НА МОЗОК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67280" y="2852640"/>
                <a:ext cx="2808360" cy="155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400" spc="-1" strike="noStrike">
                    <a:solidFill>
                      <a:srgbClr val="000000"/>
                    </a:solidFill>
                    <a:latin typeface="Arial"/>
                  </a:rPr>
                  <a:t>- ділянка головного мозку на яку діє випромінюванн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084720" y="4437000"/>
              <a:ext cx="136692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6516720" y="4653000"/>
              <a:ext cx="1784160" cy="59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доросл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людин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00000" y="5122800"/>
              <a:ext cx="2987640" cy="174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По даним групи “Мобільний зв’язок і здоров’я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Великобритані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обхідно виключити тривале перебування (регулярно по декількох годин в день) в місцях підвищеного рівня електричного поля промислової часто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ліжко для нічного відпочинку максимально віддаляти від джерел тривалого опромінювання, відстань до розподільних щитових, силових електрокабелів повинні бути 2,5 – </a:t>
            </a: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метр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 розміщенні в квартирі побутової техніки керуйтеся наступними принципами: розміщуйте побутові електроприлади по можливості далі від місць відпочинку, не розташовуйте побутові електроприлади поблизу і не ставте їх один на од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 користуйтеся стільниковим телефоном без необхідності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мовляйте безперервно не більше 3 – 4 хвил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вторити п. 21-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драхувати витрату та вартість електричної енергії у своїй квартирі за рік. Запропонувати шляхи зменшення вт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ласти кросворд з теми «Електр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вір на тему:” Як  я зберігаю електроенергію в школі і вдом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Основне завдання в житті при використанні електричного струм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7859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тримуватись правил ТБ під час роботи з електричним стру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режно ставитись до його використ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50920" y="3357720"/>
            <a:ext cx="4681080" cy="3063240"/>
            <a:chOff x="250920" y="3357720"/>
            <a:chExt cx="4681080" cy="3063240"/>
          </a:xfrm>
        </p:grpSpPr>
        <p:pic>
          <p:nvPicPr>
            <p:cNvPr id="154" name="deti4a" descr=""/>
            <p:cNvPicPr/>
            <p:nvPr/>
          </p:nvPicPr>
          <p:blipFill>
            <a:blip r:embed="rId1"/>
            <a:stretch/>
          </p:blipFill>
          <p:spPr>
            <a:xfrm>
              <a:off x="250920" y="4509360"/>
              <a:ext cx="1605600" cy="18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deti2a" descr=""/>
            <p:cNvPicPr/>
            <p:nvPr/>
          </p:nvPicPr>
          <p:blipFill>
            <a:blip r:embed="rId2"/>
            <a:stretch/>
          </p:blipFill>
          <p:spPr>
            <a:xfrm>
              <a:off x="1788480" y="3357720"/>
              <a:ext cx="1605600" cy="30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deti3a" descr=""/>
            <p:cNvPicPr/>
            <p:nvPr/>
          </p:nvPicPr>
          <p:blipFill>
            <a:blip r:embed="rId3"/>
            <a:stretch/>
          </p:blipFill>
          <p:spPr>
            <a:xfrm>
              <a:off x="3326400" y="4509360"/>
              <a:ext cx="1605600" cy="191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227640" y="1844640"/>
            <a:ext cx="2581560" cy="3097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932360" y="5210280"/>
            <a:ext cx="2143080" cy="1647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120"/>
                            </p:stCondLst>
                            <p:childTnLst>
                              <p:par>
                                <p:cTn id="6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520"/>
                            </p:stCondLst>
                            <p:childTnLst>
                              <p:par>
                                <p:cTn id="6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520"/>
                            </p:stCondLst>
                            <p:childTnLst>
                              <p:par>
                                <p:cTn id="6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6520"/>
                            </p:stCondLst>
                            <p:childTnLst>
                              <p:par>
                                <p:cTn id="6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Техніка безпе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удьте уважні, точно виконуйте вказівки вч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ітко 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суйте порядок і правила безпечного проведення експеримен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ля складання електричного кола користуйтесь провідниками з клемами та міцною ізоляцією без видимих пошко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ладаючи електричне коло, уникайте перетину провідни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Техніка безпе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1471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жерело струму в електричне коло вмикайте в останню чер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ладене електричне коло вмикайте після перевірки і з дозволу в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 виконуйте повторно 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єднань у колах до вимикання джерела стру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сля закінчення роботи вимкніть джерел струму , а потім розберіть електричне ко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 залишайте робоче місце без дозволу вчител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7958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Тести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з вибором 1 правильної відповід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8037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1.Електричний струм – це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…упорядкований рух заряджених части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…хаотичний рух заряджених части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… упорядкований рух атомів і молеку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Г… хаотичний рух атомів і молеку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2.Яке з математичних співвідношень є визначення сили стру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.                 Б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3. Яке співвідношення є  математичним записом закону Ома для ділянки кол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Б.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В.              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. Вкажіть прилад для вимірювання сили стру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. Вольтметр       В.Омметр    Г. Реост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5. Вкажіть прилад для вимірювання електричного опор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. Вольтметр  Б. Амперметр    В.Омметр    Г. Реост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6.Одиницею роботи в СІ є: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А.1Вт     Б.1Кл    В.1В    Г.1 Д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7. Одиницею потужності в СІ є: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А.1Вт     Б.1Кл    В.1В    Г.1 Д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8.Як вмикають амперметр в електричне коло?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. Послідовно зі споживачем       Б. Паралельно зі споживач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. Паралельно джерелу струму     Г. Правильної відповіді нема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908000" y="2852640"/>
                <a:ext cx="390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987640" y="2924280"/>
                <a:ext cx="419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140360" y="2852640"/>
                <a:ext cx="419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148360" y="2924280"/>
                <a:ext cx="10080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v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908000" y="3789360"/>
                <a:ext cx="543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60" y="38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132000" y="3789360"/>
                <a:ext cx="419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60" y="38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211640" y="3789360"/>
                <a:ext cx="390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219640" y="3933720"/>
                <a:ext cx="58104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Взаємопереві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…упорядкований рух заряджених части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. Ампер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.Омметр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.1 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.1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. Послідовно зі спожива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835280" y="2133720"/>
                <a:ext cx="1081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619280" y="2637000"/>
                <a:ext cx="8650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7389720" y="3920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Експериментальна 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слідити, чи залеж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гальна потужність стру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 лампочках від способу їхнього з'єдна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 послідовного  та паралельног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Arial"/>
              </a:rPr>
              <a:t>Задачі, практичного зміс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 Обчислити граничну напругу для людини, якщо опір її тіла, коли шкіра рук суха і неушкоджена 20 кОм, а сила струму вважається безпечною для людини 0,5 мА.(2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 Довжина алюмінієвого дроту в освітлювальній мережі 100 м, площа поперечного перерізу 2 кв. мм. Чому дорівнює опір такого дроту?(2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 Визначити яку роботу виконує комп’ютер за 5 годин роботи, якщо він споживає силу струму 2 А при напрузі 220 В. Скільки буде коштувати спожита електроенергія за місяць такої роботи, якщо 1 кВтгод коштує 24,5 копійки.(3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. Яка кількість теплоти виділиться за 10 хв в електричному чайнику з опором 100 Ом, включеному в мережу 220 В? Скільки води можна нагріти від 200С до кипіння, використовуючи все тепло, яке виділяється струмом? (4б)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06:03:39Z</dcterms:created>
  <dc:creator>SamLab.ws</dc:creator>
  <dc:description/>
  <dc:language>en-US</dc:language>
  <cp:lastModifiedBy>Admin</cp:lastModifiedBy>
  <dcterms:modified xsi:type="dcterms:W3CDTF">2011-06-27T09:39:09Z</dcterms:modified>
  <cp:revision>31</cp:revision>
  <dc:subject/>
  <dc:title>Електричний струм. Розв'язання задач</dc:title>
</cp:coreProperties>
</file>