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6.jpeg" ContentType="image/jpeg"/>
  <Override PartName="/ppt/media/image4.gif" ContentType="image/gif"/>
  <Override PartName="/ppt/media/image27.gif" ContentType="image/gif"/>
  <Override PartName="/ppt/media/image26.jpeg" ContentType="image/jpeg"/>
  <Override PartName="/ppt/media/image19.png" ContentType="image/png"/>
  <Override PartName="/ppt/media/image25.jpeg" ContentType="image/jpeg"/>
  <Override PartName="/ppt/media/image2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68A-7DCB-4DCC-9A74-B2B7A1A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95F-9DA2-469D-8E93-236DF602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AF6-0436-485D-ABBD-A3BF9590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2B9-5212-4583-866C-4FA2ED13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8C5-0923-4F74-9398-0B84E75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F85-BDE7-43BD-B479-951AE64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C65-72CE-4B4B-9151-99FBBFE3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0B7-9080-4989-8904-157F2971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9BD-568B-4D3D-ABFF-73FA2776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7DF-AE82-4073-9FAF-589BA3D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AFE-3DA5-4BB2-9ADF-24274E89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093-E4EB-4959-9885-2DC287D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8C4-0822-4FF2-A3BA-54DCD6656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ий струм.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в'язанн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46000" y="3886200"/>
            <a:ext cx="512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озум - це не тільки знання,          а й уміння застосувати ці знання на практи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(Арісто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нергозбереження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переджальне завдання: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ідготувати повідомлення про використання електричних приладів вдома та розробити правила економної їх експлуат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Енергозбереження</a:t>
            </a:r>
            <a:br>
              <a:rPr sz="4000"/>
            </a:b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у власному дом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Лам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с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Холодиль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Пральна 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шу лампу розжарю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емонстрував в 1872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сійський інженер Лодиг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1881р. запатент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Т.Еді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. з'яви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ампа з вольфрамов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ілом розжар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64000" y="1557360"/>
            <a:ext cx="3581640" cy="4754520"/>
            <a:chOff x="5364000" y="1557360"/>
            <a:chExt cx="3581640" cy="4754520"/>
          </a:xfrm>
        </p:grpSpPr>
        <p:pic>
          <p:nvPicPr>
            <p:cNvPr id="90" name="" descr="Первая лампочка Эдисона"/>
            <p:cNvPicPr/>
            <p:nvPr/>
          </p:nvPicPr>
          <p:blipFill>
            <a:blip r:embed="rId1"/>
            <a:stretch/>
          </p:blipFill>
          <p:spPr>
            <a:xfrm>
              <a:off x="5364000" y="1557360"/>
              <a:ext cx="358164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495040" y="5811120"/>
              <a:ext cx="320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entury Schoolbook"/>
                </a:rPr>
                <a:t>ЛАМПА ЕДІС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1820880" cy="2417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2560" y="386244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59 р. перші кварц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логенні лампи розжарю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фото"/>
          <p:cNvPicPr/>
          <p:nvPr/>
        </p:nvPicPr>
        <p:blipFill>
          <a:blip r:embed="rId2"/>
          <a:stretch/>
        </p:blipFill>
        <p:spPr>
          <a:xfrm>
            <a:off x="826920" y="4941720"/>
            <a:ext cx="3451320" cy="1554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306864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38 р. С.І. Вавилов перша люмінесцентна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0800000">
            <a:off x="5363640" y="4220640"/>
            <a:ext cx="2576520" cy="23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557360"/>
            <a:ext cx="50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1913 р. для підвище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ітлової віддачі тіло розжарювання стали  виготовляти у формі спіра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икайте світло, коли воно не потріб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ніть за принципом: ” Хто йде останній,той вимикає світло ”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овуйте одну потужну лампу замість декількох ламп меншої потужност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тримуйте в чистоті лампи, плафони та іншу освітлювальну арм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іни й стелі мають бути світлих т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80536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4" h="21600">
                <a:moveTo>
                  <a:pt x="7386" y="7493"/>
                </a:moveTo>
                <a:lnTo>
                  <a:pt x="10893" y="7493"/>
                </a:lnTo>
                <a:lnTo>
                  <a:pt x="10893" y="12828"/>
                </a:lnTo>
                <a:cubicBezTo>
                  <a:pt x="10893" y="13751"/>
                  <a:pt x="11694" y="14482"/>
                  <a:pt x="12730" y="14482"/>
                </a:cubicBezTo>
                <a:lnTo>
                  <a:pt x="14392" y="14482"/>
                </a:lnTo>
                <a:cubicBezTo>
                  <a:pt x="15428" y="14482"/>
                  <a:pt x="16228" y="13751"/>
                  <a:pt x="16228" y="12828"/>
                </a:cubicBezTo>
                <a:lnTo>
                  <a:pt x="16228" y="7493"/>
                </a:lnTo>
                <a:lnTo>
                  <a:pt x="14392" y="7493"/>
                </a:lnTo>
                <a:lnTo>
                  <a:pt x="17900" y="3985"/>
                </a:lnTo>
                <a:lnTo>
                  <a:pt x="21573" y="7493"/>
                </a:lnTo>
                <a:lnTo>
                  <a:pt x="19736" y="7493"/>
                </a:lnTo>
                <a:lnTo>
                  <a:pt x="19736" y="12828"/>
                </a:lnTo>
                <a:cubicBezTo>
                  <a:pt x="19736" y="15596"/>
                  <a:pt x="17160" y="18155"/>
                  <a:pt x="14392" y="18155"/>
                </a:cubicBezTo>
                <a:lnTo>
                  <a:pt x="12730" y="18155"/>
                </a:lnTo>
                <a:cubicBezTo>
                  <a:pt x="9962" y="18155"/>
                  <a:pt x="7386" y="15596"/>
                  <a:pt x="73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34 р. – перша машин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льо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глієць Паркі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87 р. – перший домашні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лодильник – француз Джон Лесл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93 р. – холодильник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лектричним двигуном – Е. Том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Sharp – перший в світі холод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 спеціальним відділення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морожування, розморожуванн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ігрівання і підтримки температ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рячих блюд до +6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300400" cy="306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514520" cy="3284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іть терморегулятор на 4-5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свідчіться  в тому, що холодильник не торкається теплих с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магайтесь відчиняти холодильник якомога рід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чищайте від пилу задню стінку холоди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гасне лампочка всередині холодильника, коли зачинені двер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вірте, чи добре прилягає по всьому периметру ущільнювач для две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6093000"/>
            <a:ext cx="934920" cy="50292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0141" h="21600">
                <a:moveTo>
                  <a:pt x="0" y="0"/>
                </a:moveTo>
                <a:lnTo>
                  <a:pt x="40141" y="0"/>
                </a:lnTo>
                <a:lnTo>
                  <a:pt x="40141" y="21600"/>
                </a:lnTo>
                <a:lnTo>
                  <a:pt x="0" y="21600"/>
                </a:lnTo>
                <a:close/>
              </a:path>
              <a:path fill="lightenLess" w="40141" h="21600">
                <a:moveTo>
                  <a:pt x="0" y="0"/>
                </a:moveTo>
                <a:lnTo>
                  <a:pt x="40141" y="0"/>
                </a:lnTo>
                <a:lnTo>
                  <a:pt x="38741" y="1400"/>
                </a:lnTo>
                <a:lnTo>
                  <a:pt x="1400" y="1400"/>
                </a:lnTo>
                <a:close/>
              </a:path>
              <a:path fill="darken" w="40141" h="21600">
                <a:moveTo>
                  <a:pt x="40141" y="0"/>
                </a:moveTo>
                <a:lnTo>
                  <a:pt x="40141" y="21600"/>
                </a:lnTo>
                <a:lnTo>
                  <a:pt x="38741" y="20200"/>
                </a:lnTo>
                <a:lnTo>
                  <a:pt x="38741" y="1400"/>
                </a:lnTo>
                <a:close/>
              </a:path>
              <a:path fill="darkenLess" w="40141" h="21600">
                <a:moveTo>
                  <a:pt x="40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41" y="20200"/>
                </a:lnTo>
                <a:close/>
              </a:path>
              <a:path fill="lighten" w="40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41" h="21600">
                <a:moveTo>
                  <a:pt x="13064" y="7493"/>
                </a:moveTo>
                <a:lnTo>
                  <a:pt x="16571" y="7493"/>
                </a:lnTo>
                <a:lnTo>
                  <a:pt x="16571" y="12828"/>
                </a:lnTo>
                <a:cubicBezTo>
                  <a:pt x="16571" y="13751"/>
                  <a:pt x="17372" y="14482"/>
                  <a:pt x="18408" y="14482"/>
                </a:cubicBezTo>
                <a:lnTo>
                  <a:pt x="20070" y="14482"/>
                </a:lnTo>
                <a:cubicBezTo>
                  <a:pt x="21106" y="14482"/>
                  <a:pt x="21907" y="13751"/>
                  <a:pt x="21907" y="12828"/>
                </a:cubicBezTo>
                <a:lnTo>
                  <a:pt x="21907" y="7493"/>
                </a:lnTo>
                <a:lnTo>
                  <a:pt x="20070" y="7493"/>
                </a:lnTo>
                <a:lnTo>
                  <a:pt x="23578" y="3985"/>
                </a:lnTo>
                <a:lnTo>
                  <a:pt x="27251" y="7493"/>
                </a:lnTo>
                <a:lnTo>
                  <a:pt x="25414" y="7493"/>
                </a:lnTo>
                <a:lnTo>
                  <a:pt x="25414" y="12828"/>
                </a:lnTo>
                <a:cubicBezTo>
                  <a:pt x="25414" y="15596"/>
                  <a:pt x="22838" y="18155"/>
                  <a:pt x="20070" y="18155"/>
                </a:cubicBezTo>
                <a:lnTo>
                  <a:pt x="18408" y="18155"/>
                </a:lnTo>
                <a:cubicBezTo>
                  <a:pt x="15640" y="18155"/>
                  <a:pt x="13064" y="15596"/>
                  <a:pt x="1306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98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74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3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90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История утюга"/>
          <p:cNvPicPr/>
          <p:nvPr/>
        </p:nvPicPr>
        <p:blipFill>
          <a:blip r:embed="rId1"/>
          <a:stretch/>
        </p:blipFill>
        <p:spPr>
          <a:xfrm>
            <a:off x="6516720" y="1341360"/>
            <a:ext cx="238104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1557360"/>
            <a:ext cx="590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ередина XVIII ст. – праска з вугіллям, що горить, усередин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снували і спиртові праски, які працювали за принципом гасової лампи. В невеликий бочонок заливався спирт і підпалювався. У 19 ст. за спиртову праску можна було виручити невелике стадо овець 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3 рік Ерл Річардсон винайшов - полегшену праску з електричним нагрів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905 рік – удосконалив модель своєї пра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1714320" cy="2266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8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8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80"/>
                            </p:stCondLst>
                            <p:childTnLst>
                              <p:par>
                                <p:cTn id="2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8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ску з терморегуля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оптимальний режим прас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залишати  праску без догл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сля закінчення роботи вимикати з мереж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573408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7493"/>
                </a:moveTo>
                <a:lnTo>
                  <a:pt x="10925" y="7493"/>
                </a:lnTo>
                <a:lnTo>
                  <a:pt x="10925" y="12828"/>
                </a:lnTo>
                <a:cubicBezTo>
                  <a:pt x="10925" y="13751"/>
                  <a:pt x="11726" y="14482"/>
                  <a:pt x="12762" y="14482"/>
                </a:cubicBezTo>
                <a:lnTo>
                  <a:pt x="14424" y="14482"/>
                </a:lnTo>
                <a:cubicBezTo>
                  <a:pt x="15460" y="14482"/>
                  <a:pt x="16260" y="13751"/>
                  <a:pt x="16260" y="12828"/>
                </a:cubicBezTo>
                <a:lnTo>
                  <a:pt x="16260" y="7493"/>
                </a:lnTo>
                <a:lnTo>
                  <a:pt x="14424" y="7493"/>
                </a:lnTo>
                <a:lnTo>
                  <a:pt x="17932" y="3985"/>
                </a:lnTo>
                <a:lnTo>
                  <a:pt x="21605" y="7493"/>
                </a:lnTo>
                <a:lnTo>
                  <a:pt x="19768" y="7493"/>
                </a:lnTo>
                <a:lnTo>
                  <a:pt x="19768" y="12828"/>
                </a:lnTo>
                <a:cubicBezTo>
                  <a:pt x="19768" y="15596"/>
                  <a:pt x="17192" y="18155"/>
                  <a:pt x="14424" y="18155"/>
                </a:cubicBezTo>
                <a:lnTo>
                  <a:pt x="12762" y="18155"/>
                </a:lnTo>
                <a:cubicBezTo>
                  <a:pt x="9994" y="18155"/>
                  <a:pt x="7418" y="15596"/>
                  <a:pt x="74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93080" y="1989000"/>
            <a:ext cx="130464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1079280" cy="161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093080" y="4221000"/>
            <a:ext cx="1558800" cy="204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1800">
            <a:off x="891720" y="1354680"/>
            <a:ext cx="49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10 році електричних пральних машин  винахідник Алва Фіше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754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1951 році у виробництво перших автоматичних пральних маш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840800">
            <a:off x="2842920" y="443376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78 роц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ли зробле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ш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автоматичні пральні машини контрольован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крочип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Завдання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овні питання теми “ Електричний струм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ування електричного струму в побуті та економне його використ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роботи з   електричними прилад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</a:rPr>
              <a:t>Економне  використ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равильний температурний 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повне завантаження барабана маш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 перевантажувати маш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вати малопотужні пральні машини(ультразвуков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2184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268360" cy="164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transd" descr="Электротранспорт"/>
          <p:cNvPicPr/>
          <p:nvPr/>
        </p:nvPicPr>
        <p:blipFill>
          <a:blip r:embed="rId1"/>
          <a:stretch/>
        </p:blipFill>
        <p:spPr>
          <a:xfrm>
            <a:off x="611280" y="1773360"/>
            <a:ext cx="1403280" cy="1528560"/>
          </a:xfrm>
          <a:prstGeom prst="rect">
            <a:avLst/>
          </a:prstGeom>
          <a:ln w="0">
            <a:noFill/>
          </a:ln>
        </p:spPr>
      </p:pic>
      <p:pic>
        <p:nvPicPr>
          <p:cNvPr id="124" name="s50d" descr="ЛЭП"/>
          <p:cNvPicPr/>
          <p:nvPr/>
        </p:nvPicPr>
        <p:blipFill>
          <a:blip r:embed="rId2"/>
          <a:stretch/>
        </p:blipFill>
        <p:spPr>
          <a:xfrm>
            <a:off x="2124000" y="1557360"/>
            <a:ext cx="1441440" cy="1584360"/>
          </a:xfrm>
          <a:prstGeom prst="rect">
            <a:avLst/>
          </a:prstGeom>
          <a:ln w="0">
            <a:noFill/>
          </a:ln>
        </p:spPr>
      </p:pic>
      <p:pic>
        <p:nvPicPr>
          <p:cNvPr id="125" name="sprovd" descr="Проводка"/>
          <p:cNvPicPr/>
          <p:nvPr/>
        </p:nvPicPr>
        <p:blipFill>
          <a:blip r:embed="rId3"/>
          <a:stretch/>
        </p:blipFill>
        <p:spPr>
          <a:xfrm>
            <a:off x="3924360" y="1484280"/>
            <a:ext cx="1503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shomes" descr="Бытовые приборы"/>
          <p:cNvPicPr/>
          <p:nvPr/>
        </p:nvPicPr>
        <p:blipFill>
          <a:blip r:embed="rId4"/>
          <a:stretch/>
        </p:blipFill>
        <p:spPr>
          <a:xfrm>
            <a:off x="6804000" y="1844640"/>
            <a:ext cx="1461960" cy="1336680"/>
          </a:xfrm>
          <a:prstGeom prst="rect">
            <a:avLst/>
          </a:prstGeom>
          <a:ln w="0">
            <a:noFill/>
          </a:ln>
        </p:spPr>
      </p:pic>
      <p:pic>
        <p:nvPicPr>
          <p:cNvPr id="127" name="ssatd" descr="Спутниковая связь"/>
          <p:cNvPicPr/>
          <p:nvPr/>
        </p:nvPicPr>
        <p:blipFill>
          <a:blip r:embed="rId5"/>
          <a:stretch/>
        </p:blipFill>
        <p:spPr>
          <a:xfrm>
            <a:off x="539640" y="4292640"/>
            <a:ext cx="1498680" cy="1746360"/>
          </a:xfrm>
          <a:prstGeom prst="rect">
            <a:avLst/>
          </a:prstGeom>
          <a:ln w="0">
            <a:noFill/>
          </a:ln>
        </p:spPr>
      </p:pic>
      <p:pic>
        <p:nvPicPr>
          <p:cNvPr id="128" name="sceld" descr="Сотовая связь"/>
          <p:cNvPicPr/>
          <p:nvPr/>
        </p:nvPicPr>
        <p:blipFill>
          <a:blip r:embed="rId6"/>
          <a:stretch/>
        </p:blipFill>
        <p:spPr>
          <a:xfrm>
            <a:off x="2700360" y="4149720"/>
            <a:ext cx="1457280" cy="1744560"/>
          </a:xfrm>
          <a:prstGeom prst="rect">
            <a:avLst/>
          </a:prstGeom>
          <a:ln w="0">
            <a:noFill/>
          </a:ln>
        </p:spPr>
      </p:pic>
      <p:pic>
        <p:nvPicPr>
          <p:cNvPr id="129" name="sradd" descr="Радары"/>
          <p:cNvPicPr/>
          <p:nvPr/>
        </p:nvPicPr>
        <p:blipFill>
          <a:blip r:embed="rId7"/>
          <a:stretch/>
        </p:blipFill>
        <p:spPr>
          <a:xfrm>
            <a:off x="4932360" y="4149720"/>
            <a:ext cx="1509840" cy="1657440"/>
          </a:xfrm>
          <a:prstGeom prst="rect">
            <a:avLst/>
          </a:prstGeom>
          <a:ln w="0">
            <a:noFill/>
          </a:ln>
        </p:spPr>
      </p:pic>
      <p:pic>
        <p:nvPicPr>
          <p:cNvPr id="130" name="spkd" descr="ПК"/>
          <p:cNvPicPr/>
          <p:nvPr/>
        </p:nvPicPr>
        <p:blipFill>
          <a:blip r:embed="rId8"/>
          <a:stretch/>
        </p:blipFill>
        <p:spPr>
          <a:xfrm>
            <a:off x="6948360" y="4437000"/>
            <a:ext cx="1575000" cy="1673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83560" y="907920"/>
            <a:ext cx="1360440" cy="172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0"/>
                            </p:stCondLst>
                            <p:childTnLst>
                              <p:par>
                                <p:cTn id="4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00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138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обхідно виключити тривале перебування (регулярно по декількох годин в день) в місцях підвищеного рівня електричного поля промислової часто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жко для нічного відпочинку максимально віддаляти від джерел тривалого опромінювання, відстань до розподільних щитових, силових електрокабелів повинні бути 2,5 –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етр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 розміщенні в квартирі побутової техніки керуйтеся наступними принципами: розміщуйте побутові електроприлади по можливості далі від місць відпочинку, не розташовуйте побутові електроприлади поблизу і не ставте їх один на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 користуйтеся стільниковим телефоном без необхідності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мовляйте безперервно не більше 3 – 4 хвил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торити п. 21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ахувати витрату та вартість електричної енергії у своїй квартирі за рік. Запропонувати шляхи зменшення в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сти кросворд з теми «Електр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ір на тему:” Як  я зберігаю електроенергію в школі і вдом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сновне завдання в житті при використанні електричного струм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859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тримуватись правил ТБ під час роботи з електричним стру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режно ставитись до його використ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3357720"/>
            <a:ext cx="4681080" cy="3063240"/>
            <a:chOff x="250920" y="3357720"/>
            <a:chExt cx="4681080" cy="3063240"/>
          </a:xfrm>
        </p:grpSpPr>
        <p:pic>
          <p:nvPicPr>
            <p:cNvPr id="154" name="deti4a" descr=""/>
            <p:cNvPicPr/>
            <p:nvPr/>
          </p:nvPicPr>
          <p:blipFill>
            <a:blip r:embed="rId1"/>
            <a:stretch/>
          </p:blipFill>
          <p:spPr>
            <a:xfrm>
              <a:off x="250920" y="4509360"/>
              <a:ext cx="1605600" cy="18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deti2a" descr=""/>
            <p:cNvPicPr/>
            <p:nvPr/>
          </p:nvPicPr>
          <p:blipFill>
            <a:blip r:embed="rId2"/>
            <a:stretch/>
          </p:blipFill>
          <p:spPr>
            <a:xfrm>
              <a:off x="1788480" y="3357720"/>
              <a:ext cx="1605600" cy="30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deti3a" descr=""/>
            <p:cNvPicPr/>
            <p:nvPr/>
          </p:nvPicPr>
          <p:blipFill>
            <a:blip r:embed="rId3"/>
            <a:stretch/>
          </p:blipFill>
          <p:spPr>
            <a:xfrm>
              <a:off x="3326400" y="4509360"/>
              <a:ext cx="1605600" cy="191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227640" y="1844640"/>
            <a:ext cx="2581560" cy="3097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932360" y="5210280"/>
            <a:ext cx="2143080" cy="1647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120"/>
                            </p:stCondLst>
                            <p:childTnLst>
                              <p:par>
                                <p:cTn id="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52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52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52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ьте уважні, точно виконуйте вказівки в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ітк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суйте порядок і правила безпечного проведення експерим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ля складання електричного кола користуйтесь провідниками з клемами та міцною ізоляцією без видимих пошкодж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ючи електричне коло, уникайте перетину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Техніка безпе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струму в електричне коло вмикайте в останню чер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ене електричне коло вмикайте після перевірки і з дозволу в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виконуйте повторно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днань у колах до вимикання джерела стр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сля закінчення роботи вимкніть джерел струму , а потім розберіть електричне ко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залишайте робоче місце без дозволу вчител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958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Тест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з вибором 1 правильної відповід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197000"/>
            <a:ext cx="8037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1.Електричний струм – це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…хаотичний рух заряджених час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… упорядкова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… хаотичний рух атомів і молеку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2.Яке з математичних співвідношень є визначення сили стру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                Б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.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3. Яке співвідношення є  математичним записом закону Ома для ділянки кол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Б.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В.              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. Вкажіть прилад для вимірювання сили стру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 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5. Вкажіть прилад для вимірювання електричного о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Вольтметр  Б. Амперметр    В.Омметр    Г. Реос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6.Одиницею роботи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7. Одиницею потужності в СІ є: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А.1Вт     Б.1Кл    В.1В    Г.1 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8.Як вмикають амперметр в електричне коло?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. Послідовно зі споживачем       Б. Паралельно зі спожива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. Паралельно джерелу струму     Г. Правильної відповіді нема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852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87640" y="292428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140360" y="2852640"/>
                <a:ext cx="419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48360" y="2924280"/>
                <a:ext cx="1008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nv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08000" y="3789360"/>
                <a:ext cx="54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132000" y="3789360"/>
                <a:ext cx="419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60" y="389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11640" y="378936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19640" y="3933720"/>
                <a:ext cx="5810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Взаємопереві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…упорядкований рух заряджених части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. Ампер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.Оммет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.1 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1В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 Послідовно зі спожива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835280" y="2133720"/>
                <a:ext cx="10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19280" y="2637000"/>
                <a:ext cx="865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389720" y="392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Експериментальна 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лідити, чи залеж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 потужність стру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лампочках від способу їхнього з'єдн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 послідовного  та паралельн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Задачі, практичного змі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Обчислити граничну напругу для людини, якщо опір її тіла, коли шкіра рук суха і неушкоджена 20 кОм, а сила струму вважається безпечною для людини 0,5 мА.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Довжина алюмінієвого дроту в освітлювальній мережі 100 м, площа поперечного перерізу 2 кв. мм. Чому дорівнює опір такого дроту?(2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Визначити яку роботу виконує комп’ютер за 5 годин роботи, якщо він споживає силу струму 2 А при напрузі 220 В. Скільки буде коштувати спожита електроенергія за місяць такої роботи, якщо 1 кВтгод коштує 24,5 копійки.(3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Яка кількість теплоти виділиться за 10 хв в електричному чайнику з опором 100 Ом, включеному в мережу 220 В? Скільки води можна нагріти від 200С до кипіння, використовуючи все тепло, яке виділяється струмом? (4б)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6:03:39Z</dcterms:created>
  <dc:creator>SamLab.ws</dc:creator>
  <dc:description/>
  <dc:language>en-US</dc:language>
  <cp:lastModifiedBy>Admin</cp:lastModifiedBy>
  <dcterms:modified xsi:type="dcterms:W3CDTF">2011-06-27T09:39:09Z</dcterms:modified>
  <cp:revision>31</cp:revision>
  <dc:subject/>
  <dc:title>Електричний струм. Розв'язання задач</dc:title>
</cp:coreProperties>
</file>