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7DCD-2651-423B-9B81-0C31C326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E12-94B7-4E46-9607-5501A11E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F834-91A7-4883-A024-19C6D481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355-AF13-454C-BED0-A8D3D3EF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CE75-BFEB-4EA1-87B3-08173F36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C2CA-A9E4-47EB-BE27-75BDA4AE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B1D-F446-4984-96DA-BA4B0A7D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FB1D-0068-486B-AC1F-C9537CF6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E4B-615F-4DA2-B4DB-77501EE0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A048-C569-42BA-BC9B-B0410392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64DD-C4CE-482D-88EB-BC5B3E6F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D12-C9E8-44B6-ABCD-18F3E545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31F9-9829-4ED1-B386-8646A45D1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реєстрації електромагнітних хвиль в перших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вукових коливань в електрич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Величини, які визначають положення тіла у просторі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електричних коливань  в звуков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зображення об’єкта в електричні сигна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перетворення відеосигналу в видиме зображе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ампа для отрима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визначення концентрації речов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коливальний контур, забезпечений антен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відкритого коливального конту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ій для випромінювання і приймання відбитих хвиль в радіолокаторі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демодуляції  в радіоприймач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33:22Z</dcterms:modified>
  <cp:revision>3</cp:revision>
  <dc:subject/>
  <dc:title>Слайд 1</dc:title>
</cp:coreProperties>
</file>