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E1FE-04A7-4183-B766-628CCF9BB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4B52-53DA-4A48-96BA-CCD35105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27A-AD36-465E-A1B7-E4E05ADA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FB0F-A59F-41EC-A33E-C8B2EB6D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AAF-F55B-4F49-BCBC-7CE6AE2E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B8E5-0F89-4889-8E6E-C5E13A79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873-FB1F-44F2-8749-7AD6D5FF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8522-CC4F-4468-90DC-EB94A8B6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4B6-129F-40B7-AA1B-4C9C78E4C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86BB-8420-420B-9892-6DDA25F5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57D-C499-40A5-8695-2853EAF5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D702-3FA7-40F5-AA2E-8FED7999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C01D-C09F-4E44-A93B-F0CA3333BC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т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падаючим і відбитим променем 4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ової хвилі в  середовищі з абсолютним показником n=2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омлення світлових променів з земній атмосфе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явище лежить в основі будови світловод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падає на поверхню під кутом 6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Чому дорівнює кут паді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показник заломлення, якщо світло заломлюється на межі «вакуум – прозоре середовище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кут заломлення, якщо кут падіння 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відбуваються зміщення променя, що падає з повітря під кутом 30</a:t>
            </a:r>
            <a:r>
              <a:rPr b="0" lang="uk-UA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на скляну плоскопаралельну пластин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залежить граничний кут повного внутрішнь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речовина є оптично більш густ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чого вимірюють кут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довжина світлової хвилі під час переходу з вакууму в прозоре середовище з абсолютним показником заломлення n=1,5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8:22Z</dcterms:modified>
  <cp:revision>3</cp:revision>
  <dc:subject/>
  <dc:title>Слайд 1</dc:title>
</cp:coreProperties>
</file>