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903-A8E6-40CB-96C4-5DCC8511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3991-38B1-4442-BE0B-7583B9C8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455-D639-4B62-AA7F-F8EC29B5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D2B-9D84-425A-A429-9EC5ADDB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13B5-69EB-4101-B254-F3AEC71D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E011-1B5E-416B-92AC-733C59FF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7A6-671A-4100-9C6E-0126F5AD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5A3F-7DF1-47FF-803F-3A1D2415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BEE-2BD3-4F7E-BAEF-3D986556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6153-C168-4802-85C2-724FE4A2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D376-4BF5-43B7-A9B9-53233925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772-687A-41D6-9F3C-D6EB056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20C1-C99F-4A41-AF90-D30795A58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ількість коливань за одиницю час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ифракційна гратка має  100 штрихів на один міліметр. Яка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буде спостерігатися, коли в різниці ходу поміщається непарне число пів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застосував дифракційну ґратку для дослідження спектр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– сукупність багатьох дуже вузьких щілин, розділених непрозорими смужками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чого застосовують дифракційну ґрат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ума ширини прозорої і непрозорої смуг дифракційної ґратк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стала дифракційної гра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 коли  екран віддалити від решіт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вигляд має дифракційна картина при  освітленні дифракційної ґратки монохроматичним світл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можна визначити максимальний порядок дифракційного спектр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максимумами дифракційного спектра, коли збільшити  довжину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23:36Z</dcterms:modified>
  <cp:revision>4</cp:revision>
  <dc:subject/>
  <dc:title>Слайд 1</dc:title>
</cp:coreProperties>
</file>