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29E6-A435-466B-9ADF-AAA5C7EF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659-5A71-485D-B5E2-9996AC70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B6D1-4677-490C-B59A-4094D850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557-B692-4690-9598-CF398A75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1D7D-DB04-472E-876F-0AFA190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3FF7-FDB4-4EF1-B830-68F8482A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D314-65A7-4BA4-8459-13B32266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85D6-6D0F-48A7-B9B2-526807D9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7D2-A441-4EFF-8CB5-A9F7E97A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36EC-DEEC-400F-83C5-EDEB863D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A62-DCE3-4888-A5F9-2A6FF68A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792-15D0-4511-9B3A-6CAF6405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81B6-6AF7-402D-9D60-A11634230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исперсі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алежить показник заломлення середовища від дов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пропускає червоне скл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отримаємо, якщо скласти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є тіло, що поглинає всі кольор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е явище в атмосфері, що являє собою одну, дві чи декілька різнокольорових ду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фотографування спект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перв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и бачимо із зовнішнього боку вторинної весел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найменше заломлюється в тригранній призм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розташоване в спектрі між жовтим і червоним кольор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41:11Z</dcterms:modified>
  <cp:revision>3</cp:revision>
  <dc:subject/>
  <dc:title>Слайд 1</dc:title>
</cp:coreProperties>
</file>