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2FC9-88F0-4984-ABC2-77FCB534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3888-18A4-471B-942F-8D776528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95D4-1BF5-42C8-95AF-428C3E07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3EE-0244-47AB-85A0-0B46DBDF9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407-E387-45B6-B23C-B7A6F7F3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D78-2266-4BFD-94EA-3B72FD453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8E8-9868-459C-AC68-56EFA7D0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2FB9-B72B-43F5-84A1-61A50051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75A-85CD-4216-9A4A-2C078FA0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5BB5-ACE0-48E5-9B8C-F6EB6633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F4D4-431B-46EB-9AD8-83B50101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5B01-295F-435E-B64D-34140D7C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C7BD-B433-448A-AC63-5E45BA4E1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хвилі одна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ення прозорості лінз та об’єктивів для світла певної довжини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колір мають лінзи з просвітленою оптико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світлення оптики підвищує прозорість лінз для якого кольору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вилі, що мають однакову частоту та постійну різницю фаз в кожній точці простор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артина чергування максимумів і мінімумів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спостерігати інтерференцію від вмикання двох електричних лампоч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мінімальна відстань між сусідніми максимумами при інтерференції хвиль з довжиною 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від освітлення синім кольором перейти до використання червоног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иться відстань між інтерференційними максимумами, які утворені за допомогою біпризми, якщо занурити всю установку в вод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мериканський вчений, конструктор інтерферометра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нахідник бідзеркал та біпризм для дослідження інтерференц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54Z</dcterms:modified>
  <cp:revision>4</cp:revision>
  <dc:subject/>
  <dc:title>Слайд 1</dc:title>
</cp:coreProperties>
</file>