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CFFB-93C4-4690-AAF7-4C00812FF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09D6-675D-4900-8192-A7F9F740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CF0B-E31B-4DBA-ADD3-5AEEE356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2AB-21A1-4D88-ABFD-61774E167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C21-82EE-4671-9F4D-FD7A794C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0914-4814-4E6C-8713-F11E335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D073-A48C-4559-9912-10EC2D91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49E8-4B7F-4061-A4E9-53C5AA5A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F47C-0274-4F9E-8CC1-9D99FBD8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5869-583D-440F-9D06-87585A76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F00-26C1-479C-841C-ADB70954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7D9-B4D3-4C10-B68E-73A76062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FDDD-D817-4B1B-9CAC-349CC4D2C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електромагнітної теорії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вперше дослідив дисперсію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мецький вчений, автор відкриття Х-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перше здійснив дослідження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чений, який експериментально довів існування електромагнітних хвиль і досліди їд властивост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радіоприймач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першого патенту на застосування електромагнітних хвиль для бездротового зв’яз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му належить перша спроба визначити швидкість світла прямим методо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визначив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Голандський фізик, автор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ранцузький математик та фізик, автор  закону заломлення світ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який відкрив спосіб просвітлення опт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3:53Z</dcterms:modified>
  <cp:revision>6</cp:revision>
  <dc:subject/>
  <dc:title>Слайд 1</dc:title>
</cp:coreProperties>
</file>