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197-A94B-45AD-A193-3A7C91BA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A3A-2F41-418F-9DB6-9721B5F01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ADA8-8662-45BB-996D-9B9D05D5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71B-ADF1-4BD6-938F-C16A2E51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C196-44C3-4262-8FC9-D88374BE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95A-F877-4A46-8CEE-B1680799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B06-8BFC-4CBC-81AF-6DDF0E66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068-6180-4D6E-949D-CDCDC760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FA6-5A9E-43C2-96C8-2BF61303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6346-104F-4B86-A33E-78C31C05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CADE-1BF0-4827-97EB-3673A8A6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5F4B-F255-4775-87E3-359D44FA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686E-9E57-4D98-B354-BC1006E42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 яких речовин добре відбиваються електромагнітні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промінь світло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виникнення весел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м пояснюється забарвлення мильних бульбашок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накладання когерент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вище огинання хвилями  країв перешкод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лектромагнітні хвилі поздовжні чи поперечн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лежність показника заломлення від довжини світлової хви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, в якого електричні коливання здійснюються весь час в одній і лише одній площин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магнітні коли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лощина, в якій здійснюються електричні кол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найменше заломлюються в тригранній приз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9:28:36Z</dcterms:modified>
  <cp:revision>8</cp:revision>
  <dc:subject/>
  <dc:title>Слайд 1</dc:title>
</cp:coreProperties>
</file>