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FC86-70B9-4C8D-98F7-FA1832C00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8D34-A5C4-413E-B90A-A722B12A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39C-AF51-434B-BC34-40E6E0EEB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5E2-962F-4B58-80E3-CD102992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C7EC-15D7-45D2-9804-5D223BCF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21A5-A89C-4951-858F-C39CBA1A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5449-987F-4626-A29E-5D6BE9CD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B9E3-52B0-45BE-BF48-268C9C52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EE7C-493D-46A7-A8DC-7E350583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32C2-E736-49E8-882E-1CA20FBF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2F7-6732-4F4A-8A7B-E39E7C22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A9D5-B396-4446-988F-6DBF0F94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7308-F261-44DF-844E-C317B9644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хвилі застосовуються для  радіолокації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промені застосовуються для сушіння матеріалів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хвилі застосовуються для космічного зв’язк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сполука в атмосфері Землі захищає її від космічних ультрафіолетов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промені використовуються для руйнування злоякісних пухлин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мені, що  мають сильну бактерицидну дію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 якого матеріалу виготовляють лінзи та призми для дослідження ультрафіолетов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 якого матеріалу виготовляють лінзи та призми для дослідження інфрачервоних промен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хвилі застосовуються для передачі телевізійних сигналів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визначення змін в організмі за допомогою рентгенівських 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етод виявлення дефектів у деталях машин за допомогою рентгенівських промен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и, які трансформують інфрачервоне зображення в види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02:42Z</dcterms:modified>
  <cp:revision>3</cp:revision>
  <dc:subject/>
  <dc:title>Слайд 1</dc:title>
</cp:coreProperties>
</file>