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AA8D-F1BA-421E-B201-1BB189B19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28BC-88F6-4BC1-8320-0D21247F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626A-FA74-4180-968D-F98095AD2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E30F-4F5C-4F08-B9DB-CEA81D62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CFA-ABA9-474B-86F3-8CF17F8A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2E90-0836-4E0E-AE85-D3F4713D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07D9-8589-467F-B674-49B6CFB3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49A-A09B-4D75-B2BA-D0DF2EB1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4EB-A55A-47AE-A230-3A0FF43B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D0A-39CA-4C43-9DF3-2B5A07FA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5DAE-82A9-47C8-885B-BB6B0251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8CFF-45B1-4F01-961F-17DA7415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570E-7672-406C-A60B-224122867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для спостереження за небесними світи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кришталика змінювати свою кривизну в разі зміни відстані до предме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Лінія, що вказує, напрямок поширення світлового пу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більшуване скл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птичний прилад  біолог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 базі лінзов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елескоп, побудований на базі дзеркальної оптичної систе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то вперше побудував телескоп-рефлекто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зоре тіло, обмежене з двох боків сферичними поверхн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оптичну сил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від оптичного центра лінзи до фоку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5:17Z</dcterms:modified>
  <cp:revision>3</cp:revision>
  <dc:subject/>
  <dc:title>Слайд 1</dc:title>
</cp:coreProperties>
</file>