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087-C342-41D8-A9C8-554D0529B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9E31-EF3C-47AB-8CB3-19DCB33C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C12-42A0-4D10-8B16-BAA6B3BA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B37-FA4A-4538-9116-CEC01B59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3271-963B-4462-B2A2-481BF0CF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6314-B42F-4C8F-9DE9-D008504B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5A4-BB9D-4B5A-A18E-01BA92C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C111-D653-474C-9411-4BFA9A31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B7D-16CA-4A9E-8EB6-D628FC8B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234-D3E6-489D-8BB9-50A5358E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5013-2BD2-429E-922B-9EF9BFAC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A74F-39E5-4E67-A777-FBA29ED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A03D-EBA8-432F-BD05-530334039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скільки кольорів поділив Ньютон суцільний спектр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який перетворює природне неполяризоване світло в поляризован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датність ока пристосовуватися до різної яскравості предмет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вигляд неба при підніманні вгор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Між якими кольорами у смужці спектра розміщений зелений колір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 якого кольору відбиває зелений виноград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ому середовищі  промінь світла може поширюватися криволінійн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ми бачимо тіла, які є навколо нас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а найбільша довжина хвиль видимого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е природне явище допомогло О.Ремеру визначити швидкість світл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ідстань між найближчими  точками світлової  хвилі, які коливаються в однаковій фаз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вітлові промені якого кольору мають найменшу довжину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17:40:57Z</dcterms:modified>
  <cp:revision>3</cp:revision>
  <dc:subject/>
  <dc:title>Слайд 1</dc:title>
</cp:coreProperties>
</file>