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51B-9C82-43C8-9FD8-35DF3277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E2F-55C4-421A-BB9B-35DEBDB8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4DDB-3D8B-4CE3-89EB-D77CA8FFE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94D6-BB1C-42B2-A88E-9693051F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BBB-2A19-4FEE-826C-159C6598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13D-05AD-4E92-BAE1-4D564E64F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4CF8-A426-4843-96F2-40D7629F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3649-4B6F-4200-ACC9-8DB21372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A410-33D3-4D07-93BD-F5FD3C26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CF98-97DE-4E08-ACDD-ED12C519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F35-84DA-4751-B281-AAB84FE4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8355-A62E-4DA2-B6B2-5D5DC350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9867-874B-4D9D-A72D-3C69BB752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 одного повного коливання поля електромагнітної хвил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и можна здійснити радіозв’язок  між  двома підводними човнами, розташованими на глибині в океані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 електроємність конденсатора при переході на прийом станції, що веде  передачу на довших хвиля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Який діапазон довжин хвиль ультракоротких  радіохвил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міна  амплітуди високочастотних коливань коливаннями звукової часто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оцес виділення інформації з модульованих колива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втор формули для визначення періоду власних коливань в коливальному контур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ередача мови та музики з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значення місцезнаходження об’єктів за допомогою радіохвил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радіолокатор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призначений для демонстрації нерухомих і рухомих зображень із звуковим супровод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утруднений радіозв’язок  на коротких хвилях у гірській місцевост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Роман</cp:lastModifiedBy>
  <dcterms:modified xsi:type="dcterms:W3CDTF">2008-02-12T20:52:03Z</dcterms:modified>
  <cp:revision>5</cp:revision>
  <dc:subject/>
  <dc:title>Слайд 1</dc:title>
</cp:coreProperties>
</file>