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02D-3C17-4120-BA1A-81F9AD25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52C-6A26-4C88-B82C-4CC4786C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E2AE-51C2-4F53-BD91-6F93FB7B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3E76-BD53-4D21-83BD-861D00133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46E7-7301-47F8-BF09-84A0C59D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1E8C-7CBB-4609-B9EC-3AAC61D70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AF8-3018-4F83-8071-340C6F02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8047-ACF0-4258-8938-ECBDAB98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C862-1E76-496A-8D1F-644A328E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686D-D7B2-4BE0-83B2-9BA5D54F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B693-5127-4AA7-833B-55F9DBCC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B9FF-1C78-4214-8DEC-93E9FBE2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F91B-FEC6-417C-BF55-D8C2C3DEB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довжина електромагнітних хви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 якою формулою визначають граничний кут повного відби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електроємніст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індукція магнітного поля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дорівнює швидкість поширення світла в вакуум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 яких одиницях вимірюється частота випромінювання?</a:t>
            </a:r>
            <a:r>
              <a:rPr b="0" i="1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швидкість світла під час переходу  з вакууму в прозоре середовищ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відносний показник заломле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ою буквою позначають довжину світлової хвил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ється енергія електромагнітної хвилі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ою буквою позначають частоту випромінюванн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ють різницю  ходу світлових хвиль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51:13Z</dcterms:created>
  <dc:creator>Роман</dc:creator>
  <dc:description/>
  <dc:language>en-US</dc:language>
  <cp:lastModifiedBy>roman</cp:lastModifiedBy>
  <dcterms:modified xsi:type="dcterms:W3CDTF">2008-02-15T08:41:34Z</dcterms:modified>
  <cp:revision>10</cp:revision>
  <dc:subject/>
  <dc:title>Слайд 1</dc:title>
</cp:coreProperties>
</file>