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627-4456-4FF8-A328-FEBE4898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F83F-B3DD-4B18-AD5A-334928A0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118-0F79-43F8-9EB3-28859F3F8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E5AF-0C19-4AC1-B349-795F9789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B6C3-E66B-4630-B9FC-05EB852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111-DAEF-47EE-8928-B0E5356F5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EFCA-D144-4890-8F0F-7CB1BA2C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CC81-298B-41E4-9B8E-4A283B0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86B-B009-4888-9CE6-96BE861E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7CB-A015-423F-8DCA-B8419918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6AA5-02B2-4B5F-A23D-6B18932A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7D7-0A6A-40A2-9EE9-40B2BC1E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9FE9-91D4-4FF5-A41C-6E92857C0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Arial"/>
              </a:rPr>
              <a:t>Відбірковий т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1413000"/>
            <a:ext cx="489600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яких одиницях вимірюють індуктивність котушк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Фа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Те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еб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Генр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Чим можна пояснити різнобарвні смуги  на плівці бензину на мокрому асфальт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промені називають теплови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видиме світ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інфрачервон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рентгенівськ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ультрафіолетові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проме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Формула для визначення періоду вільних електромагнітних коливань в коливальному контур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0920" y="4076640"/>
                <a:ext cx="72396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720" y="465480"/>
            <a:ext cx="26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644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6300720" y="4076640"/>
                <a:ext cx="7333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1080" y="-10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195640" y="5661000"/>
                <a:ext cx="7999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LC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-13680" y="532440"/>
            <a:ext cx="16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443640" y="5589720"/>
                <a:ext cx="7333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прилад для контролю якості поверхні шліфованих виробі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інтерфе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когер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віді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ифракційна гра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2. Як змінюється частота світла під час переходу з вакууму в прозоре середовище 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абсолютним показником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2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збіль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залежить ві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ута падінн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залиша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змінно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зменшуєть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удвіч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. В яких одиницях вимірюється густина енергії електромагнітної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Д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Дж/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безрозмір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елич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Дж/м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За якою формулою визначається густина потоку випромінюва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  J=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w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sinφ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=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λ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Δd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і  межі довжин хвиль видимого світ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0,4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8 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λ≥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0,4 – 0,77 м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0,76∙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- 3,5·10</a:t>
            </a:r>
            <a:r>
              <a:rPr b="1" lang="uk-UA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ою буквою позначають показник заломленн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Як називається залежність показника заломлення світла від дожини хвилі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дифрак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поляриза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інтерференц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 дисперсіє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739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836640"/>
            <a:ext cx="82296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В  якому році було сконструйовано перший  генератор незатухаючих електромагнітних колива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16000" y="3860640"/>
            <a:ext cx="2664000" cy="100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А) 1894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64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   1913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530064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) 1902р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64000" y="3789360"/>
            <a:ext cx="266400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Б)  1897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17:14:21Z</dcterms:created>
  <dc:creator>Роман</dc:creator>
  <dc:description/>
  <dc:language>en-US</dc:language>
  <cp:lastModifiedBy>Роман</cp:lastModifiedBy>
  <dcterms:modified xsi:type="dcterms:W3CDTF">2008-02-12T16:40:28Z</dcterms:modified>
  <cp:revision>8</cp:revision>
  <dc:subject/>
  <dc:title>Слайд 1</dc:title>
</cp:coreProperties>
</file>