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F03-DF07-4E33-8955-3538DE69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DAD7-2C32-4EBA-A4FF-ABE8FA7E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DF9-AF8E-4B19-A2F7-A30662055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278E-F1F7-419D-B581-5015FE6D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6924-920F-4EC9-BB21-90161E76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2FE4-E840-4FA6-A08C-DAB499F4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E7DE-9717-4FCA-92FC-91E61A17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F7B1-095C-45CE-8589-C20095C5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E10D-019B-4200-A6AC-630B29F7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CC35-54E9-4048-96A5-7599EAFF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2BD3-D8C5-4BDB-930C-85AD4D0F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C102-1D2B-4136-A936-E7BD90A4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993A-0997-46C8-84A3-C551A1DDAD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, що дозволяє комп’ютеру передавати та отримувати дані по телефонній лінії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Роман</cp:lastModifiedBy>
  <dcterms:modified xsi:type="dcterms:W3CDTF">2008-02-12T19:29:32Z</dcterms:modified>
  <cp:revision>2</cp:revision>
  <dc:subject/>
  <dc:title>Слайд 1</dc:title>
</cp:coreProperties>
</file>