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E7D-74D5-4456-A984-C4452A89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ACF-0B04-40BE-8507-944671FC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2C27-7A96-4B0F-A925-FE3160AF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5E99-7BF8-46CA-955A-DF7F8AF9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152-7D7C-4808-B739-5F176FE97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D61-3B1B-4ACD-B14B-E210E889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F1D6-874D-420A-B21C-36F99980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5836-635F-4422-A213-11B19D2B4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0DC3-966E-44CB-A69D-AD6DB85F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C286-C923-4D80-BEAF-549C23E45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F1ED-75AE-477A-BAD4-F4CFC744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6B4-E52B-43DE-9A6B-AD11DBD6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66A77-8A2A-4F26-A74F-7A33E0AE5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 яких приладах використовується  повне відбивання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16Z</dcterms:modified>
  <cp:revision>2</cp:revision>
  <dc:subject/>
  <dc:title>Слайд 1</dc:title>
</cp:coreProperties>
</file>