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EB3-81B6-46B6-A10B-7A729B88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0601-0161-4F05-B9D6-20BA8C30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4CCF-E6B7-4701-9F64-6B839BAB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BE0-62F7-4954-993D-22CE42DA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E3F-8C62-4ADF-93C2-412BDC39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3B20-0A4B-441F-87BF-5FBB2466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BD90-640A-4DEB-9C5D-4CD469B4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EBBF-BF4A-4C49-BED7-8003AA9F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684-AA34-4A33-9DEE-C25A7EB6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994-337E-4D06-836D-61B19AB6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2217-16BB-4EF9-91FA-178C7CAB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6047-E89F-4EA2-BF67-082EEB49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02BD-3188-4F56-BC99-53D6E8CB3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ля яких хвиль спостерігається явище поляризаці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20Z</dcterms:modified>
  <cp:revision>2</cp:revision>
  <dc:subject/>
  <dc:title>Слайд 1</dc:title>
</cp:coreProperties>
</file>